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50.wmf" ContentType="image/x-wmf"/>
  <Override PartName="/ppt/media/image29.png" ContentType="image/png"/>
  <Override PartName="/ppt/media/image6.png" ContentType="image/png"/>
  <Override PartName="/ppt/media/image38.wmf" ContentType="image/x-wmf"/>
  <Override PartName="/ppt/media/image55.png" ContentType="image/png"/>
  <Override PartName="/ppt/media/image39.wmf" ContentType="image/x-wmf"/>
  <Override PartName="/ppt/media/image56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37.wmf" ContentType="image/x-wmf"/>
  <Override PartName="/ppt/media/image54.png" ContentType="image/png"/>
  <Override PartName="/ppt/media/image49.wmf" ContentType="image/x-wmf"/>
  <Override PartName="/ppt/media/image11.png" ContentType="image/png"/>
  <Override PartName="/ppt/media/image51.wmf" ContentType="image/x-wmf"/>
  <Override PartName="/ppt/media/image43.wmf" ContentType="image/x-wmf"/>
  <Override PartName="/ppt/media/image36.wmf" ContentType="image/x-wmf"/>
  <Override PartName="/ppt/media/image35.wmf" ContentType="image/x-wmf"/>
  <Override PartName="/ppt/media/image33.png" ContentType="image/png"/>
  <Override PartName="/ppt/media/image41.wmf" ContentType="image/x-wmf"/>
  <Override PartName="/ppt/media/image8.png" ContentType="image/png"/>
  <Override PartName="/ppt/media/image32.png" ContentType="image/png"/>
  <Override PartName="/ppt/media/image40.wmf" ContentType="image/x-wmf"/>
  <Override PartName="/ppt/media/image7.png" ContentType="image/png"/>
  <Override PartName="/ppt/media/image42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C69-66A4-4659-A109-2C43A694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9AF-6E27-4977-A83D-B3E3C9C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542-3DF1-428B-A733-6C15975C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5D0-ED6D-4C11-8CB8-FD52CC7E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D1F-CFFB-4E0F-94A5-AED8B5A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C78-12FE-4EEC-80DD-81803214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AF5-5717-4A71-8EA1-EB8EAA78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2E1-AF03-4C28-9CFC-0A9A0ABD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A53-6DF0-46CF-B374-F811431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4BE-A7A3-444E-A505-F28543A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FE2-FAAB-4320-B6B8-3A09F45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E9C-12B5-4BB3-8A3C-911E1F7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A44C-2813-40F1-A679-BC0AE8849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http://www.toshiba-elevator.co.jp/elv/newsnavi/volumes/28/news/index.html" TargetMode="External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HG行書体"/>
              </a:rPr>
              <a:t>貴方の足に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HG行書体"/>
              </a:rPr>
              <a:t>上られた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行書体"/>
              </a:rPr>
              <a:t>～階段利用のススメ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3284640"/>
            <a:ext cx="431640" cy="380880"/>
          </a:xfrm>
          <a:prstGeom prst="wedgeEllipseCallout">
            <a:avLst>
              <a:gd name="adj1" fmla="val -33453"/>
              <a:gd name="adj2" fmla="val 80416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HG行書体"/>
              </a:rPr>
              <a:t>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41640" y="4343400"/>
            <a:ext cx="25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HG行書体"/>
              </a:rPr>
              <a:t>都市計画実習　社会的ジレンマ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4923000"/>
            <a:ext cx="36576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担当教官：谷口　綾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T</a:t>
            </a: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A </a:t>
            </a: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：高田　智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横手　 翼 　　吉村　聡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山室　寛明　  奥山　有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加藤　 務 　　池田　俊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行書体"/>
                <a:ea typeface="HG行書体"/>
              </a:rPr>
              <a:t>中村　 頌 　　ブイティエンキ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170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d2fe4"/>
                </a:solidFill>
                <a:latin typeface="Arial"/>
                <a:ea typeface="HG行書体"/>
              </a:rPr>
              <a:t>の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HG行書体"/>
              </a:rPr>
              <a:t>構造的方略案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HG行書体"/>
              </a:rPr>
              <a:t>～ディベートを通して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762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階段の幅を広げ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階段のデザインを変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階段の場所を変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階段を増や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を減ら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前にゲートを設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吹き抜けのある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55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を有料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カードを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階段利用者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得する制度を設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前で監視を行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階段利用を促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構造的方略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いずれも大きなコストがかかるため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学生主体で構造的方略を実践するのは難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86900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心理的方略を実施（次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新しい校舎の構造を提案（発表後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3860640"/>
            <a:ext cx="649440" cy="790560"/>
          </a:xfrm>
          <a:prstGeom prst="downArrow">
            <a:avLst>
              <a:gd name="adj1" fmla="val 50000"/>
              <a:gd name="adj2" fmla="val 304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7560" y="29242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そこで・・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P行書体"/>
              </a:rPr>
              <a:t>今回の心理的方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大きく分けて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の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コミュニケーションツー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いて心理的方略を実施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　　　　①リーフレッ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　　　　②ポスタ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108000" y="406440"/>
            <a:ext cx="309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心理的方略の流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5520" y="174960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3280" y="3044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920" y="25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476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実験群につい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26920" y="1341360"/>
          <a:ext cx="7993080" cy="3476880"/>
        </p:xfrm>
        <a:graphic>
          <a:graphicData uri="http://schemas.openxmlformats.org/drawingml/2006/table">
            <a:tbl>
              <a:tblPr/>
              <a:tblGrid>
                <a:gridCol w="2024280"/>
                <a:gridCol w="1649520"/>
                <a:gridCol w="1439640"/>
                <a:gridCol w="1424160"/>
                <a:gridCol w="1455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リーフレット＆ポスター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ポスター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リーフレット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制御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,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クラ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社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クラ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応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教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障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ポスタ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ーフレッ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779640" y="5013360"/>
            <a:ext cx="4392360" cy="1180440"/>
            <a:chOff x="3779640" y="5013360"/>
            <a:chExt cx="4392360" cy="1180440"/>
          </a:xfrm>
        </p:grpSpPr>
        <p:sp>
          <p:nvSpPr>
            <p:cNvPr id="183" name=""/>
            <p:cNvSpPr/>
            <p:nvPr/>
          </p:nvSpPr>
          <p:spPr>
            <a:xfrm rot="5400000">
              <a:off x="4283640" y="4509360"/>
              <a:ext cx="647640" cy="165564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25"/>
                  </a:lnTo>
                  <a:cubicBezTo>
                    <a:pt x="10800" y="10125"/>
                    <a:pt x="16200" y="11025"/>
                    <a:pt x="21600" y="11025"/>
                  </a:cubicBezTo>
                  <a:cubicBezTo>
                    <a:pt x="16200" y="11025"/>
                    <a:pt x="10800" y="11925"/>
                    <a:pt x="10800" y="1282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7020360" y="4509360"/>
              <a:ext cx="647640" cy="165564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25"/>
                  </a:lnTo>
                  <a:cubicBezTo>
                    <a:pt x="10800" y="10125"/>
                    <a:pt x="16200" y="11025"/>
                    <a:pt x="21600" y="11025"/>
                  </a:cubicBezTo>
                  <a:cubicBezTo>
                    <a:pt x="16200" y="11025"/>
                    <a:pt x="10800" y="11925"/>
                    <a:pt x="10800" y="1282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0360" y="5734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リーフレットの効果の比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35280" y="4869000"/>
            <a:ext cx="4392720" cy="1396080"/>
            <a:chOff x="3635280" y="4869000"/>
            <a:chExt cx="4392720" cy="1396080"/>
          </a:xfrm>
        </p:grpSpPr>
        <p:sp>
          <p:nvSpPr>
            <p:cNvPr id="187" name=""/>
            <p:cNvSpPr/>
            <p:nvPr/>
          </p:nvSpPr>
          <p:spPr>
            <a:xfrm flipH="1">
              <a:off x="7740720" y="4869000"/>
              <a:ext cx="287280" cy="79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5280" y="4869000"/>
              <a:ext cx="432000" cy="865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356000" y="4869000"/>
              <a:ext cx="2376720" cy="79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2720" y="4869000"/>
              <a:ext cx="2374920" cy="79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4360" y="580536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ポスターの効果の比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26920" y="51577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計２回のアンケート、現地調査を通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用状況の変化を見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115920"/>
            <a:ext cx="475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１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、予備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6000" y="2565360"/>
            <a:ext cx="1584000" cy="266400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2664000"/>
              <a:gd name="textAreaBottom" fmla="*/ 2586960 h 2664000"/>
            </a:gdLst>
            <a:ahLst/>
            <a:rect l="textAreaLeft" t="textAreaTop" r="textAreaRight" b="textAreaBottom"/>
            <a:pathLst>
              <a:path w="21600" h="36324">
                <a:moveTo>
                  <a:pt x="3600" y="0"/>
                </a:moveTo>
                <a:arcTo wR="3600" hR="3600" stAng="16200000" swAng="-5400000"/>
                <a:lnTo>
                  <a:pt x="0" y="32724"/>
                </a:lnTo>
                <a:arcTo wR="3600" hR="3600" stAng="10800000" swAng="-5400000"/>
                <a:lnTo>
                  <a:pt x="18000" y="363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平行調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91628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事前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162864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234936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720" y="1628640"/>
            <a:ext cx="215640" cy="936720"/>
          </a:xfrm>
          <a:prstGeom prst="downArrow">
            <a:avLst>
              <a:gd name="adj1" fmla="val 50000"/>
              <a:gd name="adj2" fmla="val 1085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85080" y="5229360"/>
            <a:ext cx="287280" cy="936360"/>
          </a:xfrm>
          <a:prstGeom prst="down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5229360"/>
            <a:ext cx="288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544500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000" y="5445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後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587700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520" y="160956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000" y="2905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8920" y="2401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3480" y="46080"/>
            <a:ext cx="4825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１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5520" y="174960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3280" y="3044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920" y="25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3476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１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341360"/>
            <a:ext cx="8351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６つの学類のフレッシュマンセミナーを対象に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アンケート調査を実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質問項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・自身の健康について関心があります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　・食生活全般に気を使っています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　　（５段階評価で回答）　　　　　　　　　　　　　など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→被験者の健康意識の計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１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質問項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環境問題に関心がありま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節電を心がけていま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エコバックを利用していま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５段階評価で回答）　　　　　　　　　　　　など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→被験者の環境意識の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１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質問項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エレベータの位置をどの程度把握して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各棟ごとの３段階評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何階分の移動をするときエレベータを利用しようと思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上り、下りごとに階数を記入）　　　　　　　　    など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エレベータ利用状況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71640" y="5157720"/>
            <a:ext cx="403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59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社会的ジレンマ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7129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短期的・利己的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に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メリッ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のある行動　　　　　（非協力行動）を行う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長期的・社会的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デメリッ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大きくなる社会的状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700280"/>
            <a:ext cx="7488000" cy="28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5229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社会的ジレン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-255600" y="190440"/>
            <a:ext cx="3675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リーフレット</a:t>
            </a:r>
            <a:br>
              <a:rPr sz="4400"/>
            </a:b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（冊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5520" y="174960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3280" y="3044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5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3476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リーフレット（冊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配布時期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回目アンケート調査の直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方法：社工（１，２，３クラ）</a:t>
            </a: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『ポスター＆リーフレット群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心理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『リーフレット群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の学生に配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社工（４，５クラ）、応理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『ポスター群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教育、障害、人文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『制御群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には配布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目的：リーフレットによる効果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-598320" y="-33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598320" y="-33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598680" y="-252360"/>
            <a:ext cx="359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entury"/>
              </a:rPr>
              <a:t>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598320" y="9994680"/>
            <a:ext cx="390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360600" cy="3360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916360" y="60480"/>
            <a:ext cx="3360600" cy="3340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802480" y="260280"/>
            <a:ext cx="3341520" cy="33339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8440" y="3489480"/>
            <a:ext cx="3360960" cy="3327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2927520" y="3551400"/>
            <a:ext cx="3352680" cy="3333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5796000" y="3489480"/>
            <a:ext cx="3354480" cy="33336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-36360" y="3573360"/>
            <a:ext cx="91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05928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行書体"/>
              </a:rPr>
              <a:t>リーフレット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-6480" y="239760"/>
            <a:ext cx="3354480" cy="3333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076560" y="198360"/>
            <a:ext cx="3346560" cy="33339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348240" y="239760"/>
            <a:ext cx="2795760" cy="3279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4280" y="3454560"/>
            <a:ext cx="3191040" cy="3267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336840" y="3625920"/>
            <a:ext cx="2606760" cy="3232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165720" y="3592440"/>
            <a:ext cx="2932200" cy="3265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3573360"/>
            <a:ext cx="91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276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7236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HG行書体"/>
              </a:rPr>
              <a:t>リーフレット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255600" y="190440"/>
            <a:ext cx="3675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5520" y="174960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3280" y="3044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920" y="25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3476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ポスター</a:t>
            </a:r>
            <a:r>
              <a:rPr b="0" lang="en-US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掲載期間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30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設置場所：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各階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階段踊り場、階段蹴上げ部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エレベータ外側、内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      →『</a:t>
            </a:r>
            <a:r>
              <a:rPr b="0" lang="zh-CN" sz="2800" spc="-1" strike="noStrike">
                <a:solidFill>
                  <a:srgbClr val="00ffff"/>
                </a:solidFill>
                <a:latin typeface="Arial"/>
              </a:rPr>
              <a:t>ポスター＆リーフレット群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ポスター群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』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目的：ポスター設置による効果の計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→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群棟には設置せず、ポスターの有無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効果がどれだけ違うか計測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553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Arial"/>
              </a:rPr>
              <a:t>・踊り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「ドクター塚本の階段健康法」より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医学的メリットを掲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各階ごと異なる内容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341360" y="1600200"/>
            <a:ext cx="6459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社会的ジレンマの解決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構造的方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周囲の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環境を変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させることによっ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行動変容を促す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 →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改築、罰金など。後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36572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933720"/>
            <a:ext cx="7345440" cy="21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心理的方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道徳心など人々の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心理的要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に働きか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行動変容を促す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→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ポスターの貼付など。後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4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347840" y="1600200"/>
            <a:ext cx="64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351080" y="1600200"/>
            <a:ext cx="644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642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347840" y="1600200"/>
            <a:ext cx="64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368360" y="1600200"/>
            <a:ext cx="640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踊り場部分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背景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・レジ袋有料化　・ゴミ問題　・違法駐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・高速料金１０００円問題　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68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身近な社会的ジレンマ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79280" y="3499560"/>
            <a:ext cx="3241800" cy="7923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57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もっとも身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4720" y="3789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心理的方略の効果見やす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3645000"/>
            <a:ext cx="1800360" cy="1800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587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エレベータ利用に関する調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989000"/>
            <a:ext cx="7128000" cy="136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3500280"/>
            <a:ext cx="3995640" cy="158436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4508640"/>
            <a:ext cx="3456000" cy="12952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5805360"/>
            <a:ext cx="655308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0600" y="4594320"/>
            <a:ext cx="167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利己的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も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蹴上げ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Arial"/>
              </a:rPr>
              <a:t>・蹴上げ（階段の側面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リーフレットと対応させ、階段を擬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ストーリー性を持た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階段蹴上げ部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・階段の心の声をお伝え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・最近見なかったけ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どうしてた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・エレベータに浮気してないよね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・あれ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もう疲れた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だらしない人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・…でも本当は、あなたに上っ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もらえて、うれしいんだ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・お疲れさま。また上って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３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・階段の心の声をお伝え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・今日は上ってくれるんだ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・最近、あんまり上ってくれないよ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・エレベータの方が楽だもんね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・もっとあなたに上っ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　　　　　　　　　　　　　もらいたいな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・おつかれさま。また上って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エレベータ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・外側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各階ごとに、行き先を質問する形式のもの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視覚的にわかりやすいものの２パターンを掲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・内側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移動中に読める程度の情報量を載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インパクトを与え階段利用を促し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エレベータ外側部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4920" y="2421000"/>
            <a:ext cx="446580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572000" y="2359080"/>
            <a:ext cx="4608360" cy="3446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0" y="2276640"/>
            <a:ext cx="4572000" cy="35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2276640"/>
            <a:ext cx="4572000" cy="35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47640" y="1603440"/>
            <a:ext cx="15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１階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40760" y="1603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２階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エレベータ外側部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360" y="2276640"/>
            <a:ext cx="4572000" cy="35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08360" y="2276640"/>
            <a:ext cx="4572000" cy="35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1603440"/>
            <a:ext cx="15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３階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40760" y="1603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４階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4920" y="2349360"/>
            <a:ext cx="4464000" cy="3338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44262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エレベータ外側部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51080" y="898560"/>
            <a:ext cx="44085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HG行書体"/>
              </a:rPr>
              <a:t>ポスター（エレベータ内側部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565880" cy="5976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268360" y="620640"/>
            <a:ext cx="4751640" cy="623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4920" y="44280"/>
            <a:ext cx="4827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２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5520" y="174960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3280" y="3044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920" y="25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3476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２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1341360"/>
            <a:ext cx="8351640" cy="49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コミュニケーションツールの効果を見るためのアンケート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意識の変化を読み取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＝パネル調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質問項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健康意識の計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・環境意識の計測　　　　　　　　　第１回と対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・エレベータ利用状況の計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388620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第２回アンケー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質問項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ポスターを見て、エレベータの利用を控えよう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思いました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・リーフレットをみて、エレベータ利用を控えよう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思いました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各場所のポスターごとに、５段階評価）　　など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コミュニケーションツールの効果を測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筑波大学院人間総合学科の鍋倉賢治准教授の研究によると、筑波大生の運動量は日本人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８０歳の歩行量に相当する運動しかしてい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背景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983280" y="3357720"/>
            <a:ext cx="4321440" cy="264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4530960" cy="302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43640" y="3645000"/>
            <a:ext cx="1297080" cy="2377800"/>
          </a:xfrm>
          <a:prstGeom prst="wedgeEllipseCallout">
            <a:avLst>
              <a:gd name="adj1" fmla="val -74726"/>
              <a:gd name="adj2" fmla="val -2236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1480" y="3860640"/>
            <a:ext cx="9118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気持ちいぃ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64040" y="3860640"/>
            <a:ext cx="2100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筑波大生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運動量を改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807E-006 C -0.00035 -0.00787 -0.00035 -0.01573 -0.00122 -0.02337 C -0.00278 -0.03586 -0.01944 -0.04072 -0.02708 -0.04234 C -0.03837 -0.04187 -0.04983 -0.04164 -0.06111 -0.04072 C -0.07413 -0.03956 -0.06944 -0.00694 -0.06944 -0.00139 E">
                                      <p:cBhvr>
                                        <p:cTn id="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44 -0.00139 C -0.06979 -0.00532 -0.07014 -0.01874 -0.07292 -0.02337 C -0.07812 -0.03216 -0.08993 -0.03378 -0.09757 -0.03748 C -0.11007 -0.03702 -0.12274 -0.03725 -0.13524 -0.03586 C -0.14444 -0.03493 -0.14236 -0.00301 -0.14236 0.00162 E">
                                      <p:cBhvr>
                                        <p:cTn id="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36 0.00162 C -0.1434 -0.00856 -0.14392 -0.01689 -0.15174 -0.02036 C -0.15382 -0.02799 -0.15174 -0.02452 -0.1599 -0.02822 C -0.16128 -0.02892 -0.16215 -0.03054 -0.16337 -0.03146 C -0.17049 -0.03609 -0.17934 -0.03771 -0.18698 -0.0391 C -0.19635 -0.03863 -0.2059 -0.0384 -0.21528 -0.03771 C -0.2184 -0.03748 -0.22153 -0.03702 -0.22465 -0.03609 C -0.22708 -0.0354 -0.23177 -0.03285 -0.23177 -0.03262 C -0.23229 -0.03031 -0.23646 -0.01967 -0.23646 -0.01874 C -0.23715 -0.01157 -0.23646 -0.00417 -0.23646 0.00323 E">
                                      <p:cBhvr>
                                        <p:cTn id="1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00323 C -0.23872 -0.0037 -0.23785 -0.02152 -0.24253 -0.02661 C -0.2474 -0.03193 -0.24983 -0.03239 -0.25521 -0.03447 C -0.31094 -0.03262 -0.30677 -0.04789 -0.30677 0.00462 E">
                                      <p:cBhvr>
                                        <p:cTn id="1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4920" y="44280"/>
            <a:ext cx="4827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実態調査（事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5520" y="174960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3280" y="3044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8920" y="2540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9280" y="3476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平行調査結果（</a:t>
            </a:r>
            <a:r>
              <a:rPr b="0" lang="en-US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15</a:t>
            </a: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分間調査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68360" y="1628640"/>
          <a:ext cx="8136000" cy="44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13600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196360" y="530064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9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8360" y="530064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3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7800" y="530064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20560" y="530064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34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220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68360" y="1628640"/>
          <a:ext cx="8136000" cy="44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13600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平行調査結果（</a:t>
            </a:r>
            <a:r>
              <a:rPr b="0" lang="en-US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15</a:t>
            </a: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分間調査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9920" y="21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96360" y="522936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9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8360" y="522936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3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7800" y="522936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20560" y="522936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34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HG行書体"/>
              </a:rPr>
              <a:t>実態調査（１５分間調査）の考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ポスターを掲示した第３エリアでは、掲示していない第２エリアと比較して、平均利用者数が減少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ポスターの有無で、ムダ利用の割合は大きな変化が見られなか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HG行書体"/>
              </a:rPr>
              <a:t>実態調査結果（１日調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52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実施日時：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２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8:20~18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93960" y="6416640"/>
            <a:ext cx="63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※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合計授業時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時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、合計休み時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時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84360" y="1844640"/>
          <a:ext cx="7777080" cy="4449960"/>
        </p:xfrm>
        <a:graphic>
          <a:graphicData uri="http://schemas.openxmlformats.org/drawingml/2006/table">
            <a:tbl>
              <a:tblPr/>
              <a:tblGrid>
                <a:gridCol w="2087280"/>
                <a:gridCol w="266544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稼働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停止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長稼働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限後休み時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限後休み時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長停止時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限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限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実態調査（１日調査）の考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休み時間だけではなく、授業中も多く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エレベータ利用があることが分か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・エレベータの長時間の連続停止はな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エレベータの稼動を停止する時間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確保することは困難なことが分か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87280" y="141300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ポス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リーフレ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88000" y="141300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ポス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リーフレ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87280" y="278136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ポス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88000" y="278136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ポス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87280" y="414972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リーフレ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88000" y="414972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リーフレ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187280" y="551664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制御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88000" y="5516640"/>
            <a:ext cx="20876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制御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1773360"/>
            <a:ext cx="1511280" cy="360360"/>
          </a:xfrm>
          <a:prstGeom prst="leftRightArrow">
            <a:avLst>
              <a:gd name="adj1" fmla="val 50000"/>
              <a:gd name="adj2" fmla="val 834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141720"/>
            <a:ext cx="1511280" cy="360360"/>
          </a:xfrm>
          <a:prstGeom prst="leftRightArrow">
            <a:avLst>
              <a:gd name="adj1" fmla="val 50000"/>
              <a:gd name="adj2" fmla="val 834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76720" y="5877000"/>
            <a:ext cx="1511280" cy="360360"/>
          </a:xfrm>
          <a:prstGeom prst="leftRightArrow">
            <a:avLst>
              <a:gd name="adj1" fmla="val 50000"/>
              <a:gd name="adj2" fmla="val 834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4508640"/>
            <a:ext cx="1511280" cy="360360"/>
          </a:xfrm>
          <a:prstGeom prst="leftRightArrow">
            <a:avLst>
              <a:gd name="adj1" fmla="val 50000"/>
              <a:gd name="adj2" fmla="val 834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51640" y="2492280"/>
            <a:ext cx="431640" cy="289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51640" y="5229360"/>
            <a:ext cx="431640" cy="288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495" idx="3"/>
            <a:endCxn id="491" idx="3"/>
          </p:cNvCxnSpPr>
          <p:nvPr/>
        </p:nvCxnSpPr>
        <p:spPr>
          <a:xfrm flipV="1">
            <a:off x="6875640" y="1953360"/>
            <a:ext cx="2160" cy="2737800"/>
          </a:xfrm>
          <a:prstGeom prst="bentConnector3">
            <a:avLst>
              <a:gd name="adj1" fmla="val 42800000"/>
            </a:avLst>
          </a:prstGeom>
          <a:ln w="10152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5" name=""/>
          <p:cNvCxnSpPr/>
          <p:nvPr/>
        </p:nvCxnSpPr>
        <p:spPr>
          <a:xfrm flipV="1">
            <a:off x="6877080" y="3284640"/>
            <a:ext cx="2160" cy="2737080"/>
          </a:xfrm>
          <a:prstGeom prst="bentConnector3">
            <a:avLst>
              <a:gd name="adj1" fmla="val 42000000"/>
            </a:avLst>
          </a:prstGeom>
          <a:ln w="10152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3635280" y="1557360"/>
            <a:ext cx="792360" cy="48960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HG明朝E"/>
              </a:rPr>
              <a:t>段階比較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740720" y="1557360"/>
            <a:ext cx="792000" cy="4824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  <a:ea typeface="HG明朝E"/>
              </a:rPr>
              <a:t>群間比較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3860640"/>
            <a:ext cx="431640" cy="289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145200"/>
                <a:gridCol w="20844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質問項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尺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自身の健康について関心がありますか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健康関心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自身の健康に配慮した生活をしようと思いますか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健康配慮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環境問題について関心がありますか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環境関心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環境に配慮した生活をしようと思いますか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環境配慮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何階分の移動をするときにエレベータを利用しよう　　　　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　　　　　　　　　　　　　　　　と思いますか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エレベー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　　　利用階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どのくらいの頻度でエレベータを使いますか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エレベー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  <a:ea typeface="HG創英角ﾎﾟｯﾌﾟ体"/>
                        </a:rPr>
                        <a:t>　　　利用頻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187280" y="1268280"/>
          <a:ext cx="7058160" cy="50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705816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5600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57080" y="464040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36360" y="465300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44360" y="465300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97080" y="465300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05080" y="465300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187280" y="1268280"/>
          <a:ext cx="6985080" cy="502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98508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557080" y="45813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6360" y="459432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44360" y="459432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25440" y="45813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05080" y="45813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・エレベータの</a:t>
            </a:r>
            <a:r>
              <a:rPr b="0" lang="zh-CN" sz="3600" spc="-1" strike="noStrike">
                <a:solidFill>
                  <a:srgbClr val="33ccff"/>
                </a:solidFill>
                <a:latin typeface="Arial"/>
              </a:rPr>
              <a:t>ムダ利用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ccff"/>
                </a:solidFill>
                <a:latin typeface="Arial"/>
              </a:rPr>
              <a:t>心理的方略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を用いることで</a:t>
            </a:r>
            <a:r>
              <a:rPr b="0" lang="zh-CN" sz="3600" spc="-1" strike="noStrike">
                <a:solidFill>
                  <a:srgbClr val="33ccff"/>
                </a:solidFill>
                <a:latin typeface="Arial"/>
              </a:rPr>
              <a:t>削減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・今回の調査を通じて、筑波大生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ccff"/>
                </a:solidFill>
                <a:latin typeface="Arial"/>
              </a:rPr>
              <a:t>環境意識・健康意識を改善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0" lang="zh-CN" sz="3600" spc="-1" strike="noStrike">
                <a:solidFill>
                  <a:srgbClr val="33ccff"/>
                </a:solidFill>
                <a:latin typeface="Arial"/>
              </a:rPr>
              <a:t>構造的方略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として筑波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　第３エリア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棟階段の</a:t>
            </a:r>
            <a:r>
              <a:rPr b="0" lang="zh-CN" sz="3600" spc="-1" strike="noStrike">
                <a:solidFill>
                  <a:srgbClr val="33ccff"/>
                </a:solidFill>
                <a:latin typeface="Arial"/>
              </a:rPr>
              <a:t>改善提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を行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258920" y="1268280"/>
          <a:ext cx="685008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685008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2557080" y="45086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36360" y="45212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44360" y="45212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8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25440" y="45086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33800" y="45086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187280" y="1268280"/>
          <a:ext cx="6851880" cy="492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851880" cy="49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2485440" y="45086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65080" y="45212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3080" y="45212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8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2720" y="45086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60720" y="450864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16000" y="1268280"/>
          <a:ext cx="6923160" cy="49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692316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3492360" y="1989000"/>
            <a:ext cx="1295640" cy="720720"/>
          </a:xfrm>
          <a:prstGeom prst="wedgeRectCallout">
            <a:avLst>
              <a:gd name="adj1" fmla="val 32842"/>
              <a:gd name="adj2" fmla="val 7180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あ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48360" y="1916280"/>
            <a:ext cx="1295280" cy="720720"/>
          </a:xfrm>
          <a:prstGeom prst="wedgeRectCallout">
            <a:avLst>
              <a:gd name="adj1" fmla="val -6861"/>
              <a:gd name="adj2" fmla="val 68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あ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32720" y="1628640"/>
            <a:ext cx="1295280" cy="720720"/>
          </a:xfrm>
          <a:prstGeom prst="wedgeRectCallout">
            <a:avLst>
              <a:gd name="adj1" fmla="val -38601"/>
              <a:gd name="adj2" fmla="val 73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あ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12360" y="45561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00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0000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8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5272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6072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87280" y="1268280"/>
          <a:ext cx="6923160" cy="49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92316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5003640" y="1773360"/>
            <a:ext cx="1295640" cy="720720"/>
          </a:xfrm>
          <a:prstGeom prst="wedgeRectCallout">
            <a:avLst>
              <a:gd name="adj1" fmla="val -49634"/>
              <a:gd name="adj2" fmla="val 933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あ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85440" y="45561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6508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7308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7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2544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73380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258920" y="1197000"/>
          <a:ext cx="705636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70563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2601360" y="45561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8100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900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84136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9720" y="4568760"/>
            <a:ext cx="45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段階比較分析の考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ポスター群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応理のみ）では、エレベータ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利用階数で前後に有意差が見られ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リーフレット群と制御群では、エレベータの利用階数（上りのみ）で前後に有意差が見られ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他の全群でも有意差は見られなかったが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エレベータ利用階数は正の変化が見られ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403280" y="1197000"/>
          <a:ext cx="648180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97000"/>
                    <a:ext cx="64818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403280" y="1197000"/>
          <a:ext cx="649152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97000"/>
                    <a:ext cx="649152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476360" y="1268280"/>
          <a:ext cx="649116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68280"/>
                    <a:ext cx="6491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547640" y="1197000"/>
          <a:ext cx="648036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48036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5920"/>
            <a:ext cx="309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調査の流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5520" y="112536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3280" y="24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9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85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476360" y="1211400"/>
          <a:ext cx="6335640" cy="50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11400"/>
                    <a:ext cx="633564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619280" y="1268280"/>
          <a:ext cx="633744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268280"/>
                    <a:ext cx="633744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116000" y="1268280"/>
          <a:ext cx="7345440" cy="48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734544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116000" y="1268280"/>
          <a:ext cx="721044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721044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4572000" y="2349360"/>
            <a:ext cx="1295280" cy="720720"/>
          </a:xfrm>
          <a:prstGeom prst="wedgeRectCallout">
            <a:avLst>
              <a:gd name="adj1" fmla="val -32967"/>
              <a:gd name="adj2" fmla="val 11343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あ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187280" y="1268280"/>
          <a:ext cx="7272360" cy="479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7272360" cy="47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7672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分析方法・・・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による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検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116000" y="1268280"/>
          <a:ext cx="7272360" cy="47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727236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群間比較分析の考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リーフレット効果の測定で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　　　　　　　　有意差はみられなか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ポスター効果の測定では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　　　　　有意差はみられなか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ポスター群内での比較では、応理の方が社工よりもポスターの効果があったことを示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パス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析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各コミュニケーションツールが</a:t>
            </a: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意識・行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どのような影響を与えているのかを調査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析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による重回帰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析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各コミュニケーションツールに関する質問項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エレベータの利用状況に関する質問項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1280" y="5084640"/>
            <a:ext cx="215640" cy="100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行動変容のプロセ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1484280"/>
            <a:ext cx="2305080" cy="1150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踊り場ポスター閲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2852640"/>
            <a:ext cx="2376360" cy="1152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蹴上げポスター閲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920" y="4221000"/>
            <a:ext cx="2376360" cy="1152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エレベータ内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ポスター閲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4800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エレベータ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に対する意識の変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意識変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37236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行動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771640" y="407664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940360" y="407664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0920" y="5516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リーフレット閲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8000" y="1268280"/>
            <a:ext cx="2663640" cy="5589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パス解析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コミュニケーションツール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内容把握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説得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興味・関心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がエレベータ利用の意識に変化を与えている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意識の変容）を分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81080" y="260280"/>
            <a:ext cx="3097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実態調査（事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1159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テーマ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1052640"/>
            <a:ext cx="6264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既存研究の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199080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565360"/>
            <a:ext cx="3959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１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335772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リーフレット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6165720"/>
            <a:ext cx="6337080" cy="5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データ集計・考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4797360"/>
            <a:ext cx="3960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第２回アンケート配布・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414972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ポスター掲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692280"/>
            <a:ext cx="43164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1628640"/>
            <a:ext cx="288720" cy="936720"/>
          </a:xfrm>
          <a:prstGeom prst="downArrow">
            <a:avLst>
              <a:gd name="adj1" fmla="val 50000"/>
              <a:gd name="adj2" fmla="val 811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6720" y="1628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31417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3068640"/>
            <a:ext cx="215640" cy="1728720"/>
          </a:xfrm>
          <a:prstGeom prst="downArrow">
            <a:avLst>
              <a:gd name="adj1" fmla="val 50000"/>
              <a:gd name="adj2" fmla="val 20041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4508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3789360"/>
            <a:ext cx="215640" cy="1008000"/>
          </a:xfrm>
          <a:prstGeom prst="downArrow">
            <a:avLst>
              <a:gd name="adj1" fmla="val 50000"/>
              <a:gd name="adj2" fmla="val 11686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3068640"/>
            <a:ext cx="217440" cy="1081080"/>
          </a:xfrm>
          <a:prstGeom prst="downArrow">
            <a:avLst>
              <a:gd name="adj1" fmla="val 50000"/>
              <a:gd name="adj2" fmla="val 124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217440" cy="287280"/>
          </a:xfrm>
          <a:prstGeom prst="downArrow">
            <a:avLst>
              <a:gd name="adj1" fmla="val 50000"/>
              <a:gd name="adj2" fmla="val 33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5229360"/>
            <a:ext cx="288720" cy="936360"/>
          </a:xfrm>
          <a:prstGeom prst="downArrow">
            <a:avLst>
              <a:gd name="adj1" fmla="val 50000"/>
              <a:gd name="adj2" fmla="val 81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040" y="167652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リーフレット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ff"/>
                </a:solidFill>
                <a:latin typeface="Arial"/>
                <a:ea typeface="HGP創英角ﾎﾟｯﾌﾟ体"/>
              </a:rPr>
              <a:t>　　　　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160" y="2971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Arial"/>
                <a:ea typeface="HGP創英角ﾎﾟｯﾌﾟ体"/>
              </a:rPr>
              <a:t>リーフレット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5440" y="2467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HGP創英角ﾎﾟｯﾌﾟ体"/>
              </a:rPr>
              <a:t>ポスター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3403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HGP創英角ﾎﾟｯﾌﾟ体"/>
              </a:rPr>
              <a:t>なし（制御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4654440"/>
            <a:ext cx="1512720" cy="115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実態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事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5080" y="5805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踊り場ポスターの効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24000" y="335592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説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221440" y="335592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意識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16360" y="414828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29080" y="2779560"/>
            <a:ext cx="1079640" cy="86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124000" y="1628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内容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500720" y="4652640"/>
            <a:ext cx="108108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24000" y="50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興味・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716360" y="2779560"/>
            <a:ext cx="457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716360" y="4795920"/>
            <a:ext cx="4572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蹴上げポスターの効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79640" y="335592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説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76720" y="335592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意識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0" y="414828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84720" y="2779560"/>
            <a:ext cx="1079280" cy="86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79640" y="1628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内容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356000" y="4652640"/>
            <a:ext cx="108108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979640" y="50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興味・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0" y="2779560"/>
            <a:ext cx="457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0" y="4795920"/>
            <a:ext cx="4572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エレベータ内外ポスターの効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964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説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7672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意識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07664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84720" y="2708280"/>
            <a:ext cx="107928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979640" y="155736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内容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356000" y="4581000"/>
            <a:ext cx="108108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79640" y="501336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興味・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0" y="3645000"/>
            <a:ext cx="4572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0" y="4724280"/>
            <a:ext cx="457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リーフレットの効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79640" y="321156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説得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076720" y="321156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意識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0" y="400356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84720" y="2635200"/>
            <a:ext cx="1079280" cy="86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79640" y="148428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内容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356000" y="4508280"/>
            <a:ext cx="108108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79640" y="494028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興味・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0" y="2635200"/>
            <a:ext cx="457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0" y="4651200"/>
            <a:ext cx="457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パス解析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コミュニケーションツールを見た事に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エレベータ利用の意識変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が、実際の行動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影響を与えているか（行動の変容）を分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行動変容のプロセ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920" y="155736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コミュニケ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ツールの内容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092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コミュニケ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ツールの説得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0920" y="501336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コミュニ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ツールに対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興味・関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34800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意識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72360" y="3284640"/>
            <a:ext cx="259236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行動変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627280" y="2708280"/>
            <a:ext cx="1008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771640" y="4581360"/>
            <a:ext cx="1008360" cy="9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43280" y="40766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0360" y="407664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940360" y="3573360"/>
            <a:ext cx="36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ＭＳ Ｐゴシック"/>
              </a:rPr>
              <a:t>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パス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踊り場ポスター、蹴上げポスター、リーフレット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33ccff"/>
                </a:solidFill>
                <a:latin typeface="Arial"/>
              </a:rPr>
              <a:t>説得力があ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と感じた人ほど、エレベータの利用に対する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意識の変容が大き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エレベータの内外部ポスターは、</a:t>
            </a:r>
            <a:r>
              <a:rPr b="0" lang="zh-CN" sz="2800" spc="-1" strike="noStrike">
                <a:solidFill>
                  <a:srgbClr val="33ccff"/>
                </a:solidFill>
                <a:latin typeface="Arial"/>
              </a:rPr>
              <a:t>内容を把握してい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ほど、エレベータの利用に対する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意識の変容が大き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しかし、意識の変容が見られても、それが実際の行動変容には結びつかなかっ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総括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現地調査の結果によると、</a:t>
            </a:r>
            <a:r>
              <a:rPr b="0" lang="zh-CN" sz="2800" spc="-1" strike="noStrike">
                <a:solidFill>
                  <a:srgbClr val="33ccff"/>
                </a:solidFill>
                <a:latin typeface="Arial"/>
              </a:rPr>
              <a:t>ポスター掲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の前後でエレベータのムダ利用率の大きな変化は見られなかったが、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平均利用者数は減少傾向が見られ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ポスター掲示によってエレベータの利用者が減少した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アンケートを行うことのみによっても、　意識変化を起こす効果があることが分かっ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00720" y="2924280"/>
            <a:ext cx="431640" cy="433440"/>
          </a:xfrm>
          <a:prstGeom prst="downArrow">
            <a:avLst>
              <a:gd name="adj1" fmla="val 50000"/>
              <a:gd name="adj2" fmla="val 25104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HG行書体"/>
                <a:ea typeface="HG行書体"/>
              </a:rPr>
              <a:t>総括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ネル調査の結果から</a:t>
            </a:r>
            <a:r>
              <a:rPr b="0" lang="zh-CN" sz="2800" spc="-1" strike="noStrike">
                <a:solidFill>
                  <a:srgbClr val="33ccff"/>
                </a:solidFill>
                <a:latin typeface="Arial"/>
              </a:rPr>
              <a:t>コミュニケーションツール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用いた心理的方略では、対象者の意識を変容させることはできたものの、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行動変容を起こすことはできなかっ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11640" y="328464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42920" y="407664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構造的方略が必要なのではないか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11640" y="472428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58920" y="5589720"/>
            <a:ext cx="64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理想の階段構造を提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11640" y="472428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改善フロアの提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842160" cy="5133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050920" y="63388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棟（一部）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実態調査（事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実習テーマ決定後、大学内のエレベータ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実際に乗り込み実際の利用状況を調査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3867120"/>
            <a:ext cx="865080" cy="576360"/>
          </a:xfrm>
          <a:prstGeom prst="leftArrow">
            <a:avLst>
              <a:gd name="adj1" fmla="val 50000"/>
              <a:gd name="adj2" fmla="val 37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379584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約半数がムダ利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0400" y="5451480"/>
            <a:ext cx="29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エリアのエレベータ調査にお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930400"/>
          <a:ext cx="4608360" cy="304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30400"/>
                    <a:ext cx="460836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改善フロアの提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07852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908000" y="63388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模型（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階段部分）拡大写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HG行書体"/>
              </a:rPr>
              <a:t>さらなる階段利用を促すには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コミュニケーションツール等を用いた心理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　　　　　　　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33ccff"/>
                </a:solidFill>
                <a:latin typeface="Arial"/>
              </a:rPr>
              <a:t>新しい階段のスタイルを造る等の構造的方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　　　　　　　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Let’s</a:t>
            </a:r>
            <a:r>
              <a:rPr b="0" lang="zh-CN" sz="4400" spc="-1" strike="noStrike">
                <a:solidFill>
                  <a:srgbClr val="66ff33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START</a:t>
            </a:r>
            <a:r>
              <a:rPr b="0" lang="zh-CN" sz="4400" spc="-1" strike="noStrike">
                <a:solidFill>
                  <a:srgbClr val="66ff33"/>
                </a:solidFill>
                <a:latin typeface="Arial"/>
              </a:rPr>
              <a:t>　階段生活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班員の体重変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重　　    増加…      ４人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   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減少…   ５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    変化なし…０人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脂肪　   増加…      ３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　 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減少…    ５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　  変化なし…１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最大変化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体重…　　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8.0kg →  66.7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　　体脂肪…　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5.9%→ 13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　　内臓脂肪レベル…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  → 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　　　　　　　　　　　　　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→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3716280"/>
            <a:ext cx="1584360" cy="792360"/>
          </a:xfrm>
          <a:prstGeom prst="wedgeEllipseCallout">
            <a:avLst>
              <a:gd name="adj1" fmla="val -28958"/>
              <a:gd name="adj2" fmla="val 74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3k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867280" y="3213000"/>
            <a:ext cx="2808000" cy="1800000"/>
            <a:chOff x="5867280" y="3213000"/>
            <a:chExt cx="2808000" cy="1800000"/>
          </a:xfrm>
        </p:grpSpPr>
        <p:sp>
          <p:nvSpPr>
            <p:cNvPr id="716" name=""/>
            <p:cNvSpPr/>
            <p:nvPr/>
          </p:nvSpPr>
          <p:spPr>
            <a:xfrm>
              <a:off x="5867280" y="3213000"/>
              <a:ext cx="2808000" cy="1800000"/>
            </a:xfrm>
            <a:prstGeom prst="wedgeEllipseCallout">
              <a:avLst>
                <a:gd name="adj1" fmla="val -51356"/>
                <a:gd name="adj2" fmla="val 5502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27640" y="3717720"/>
              <a:ext cx="208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-2.2%!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85656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784920" y="1201680"/>
            <a:ext cx="4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784920" y="120168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78492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284720" y="1628640"/>
            <a:ext cx="5113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臓脂肪レベル   増加…      ０人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減少…   ２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変化なし…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おま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アンケート珍（？）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複数選択質問のその他自由記述項目、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感想記述項目から一部回答を抜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★その１：現在所持している交通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→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インラインスケ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★その２：エレベータを使う理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→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階段が見つから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 　　気分で階段と使い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おま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その３：踊り場ポスターを見た感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→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合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 　消費カロリーが信じられ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その４：蹴上げポスターを見た感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→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ガッテ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 　喋っていて驚い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 　もっとツンデレに徹するべ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 　階段の性格に一貫性が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おま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その５：リーフレットを見た感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→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がって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　 足がよ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　 表紙の人が美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　 面白いけど女性には少し不快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　　 安っぽ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おま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0785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059280" y="63388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棟４階エレベ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参考文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杉浦淳吉・・・ナカニシヤ出版「環境配慮の社会心理学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東芝エレベータ株式会社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DESIGN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都市と交通の未来形」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oshiba-elevator.co.jp/elv/newsnavi/volumes/28/news/index.html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本オーチス・エレベータ株式会社「エレベータ交通量計算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塚本令三・・・講談社出版「ドクター塚本の『階段健康法』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95280" y="2924280"/>
            <a:ext cx="82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HG行書体"/>
              </a:rPr>
              <a:t>ご静聴ありがとうございまし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8:37:44Z</dcterms:created>
  <dc:creator>社会工学類</dc:creator>
  <dc:description/>
  <dc:language>en-US</dc:language>
  <cp:lastModifiedBy>社会工学類</cp:lastModifiedBy>
  <dcterms:modified xsi:type="dcterms:W3CDTF">2009-06-18T20:30:14Z</dcterms:modified>
  <cp:revision>104</cp:revision>
  <dc:subject/>
  <dc:title>あなたの足に上られたい</dc:title>
</cp:coreProperties>
</file>