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E26-51FF-4247-A430-5CA8A583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DEA-1C10-4E60-BC8E-754FACC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95A-2DB4-4BF6-9242-0DC0E4D2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2CE-F6CE-4242-9D94-B7ACF653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956-7F7C-496E-8AAC-B3D31D95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1FD-4314-4BDD-9E47-AE90B9F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CF3-B26C-4F77-B30B-974D813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D69-2C0D-4057-9055-EA64453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4DC-C528-47FE-B372-82A4523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E8D-856B-46C3-BD39-AB59BE6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621-713D-4760-885D-3D1799A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A10-88D1-40D6-AE44-C707749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932D-ABBA-4DE4-8F92-FF1D5BF1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oshiba-elevator.co.jp/elv/newsnavi/volumes/28/news/index.html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HG行書体"/>
              </a:rPr>
              <a:t>貴方の足に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HG行書体"/>
              </a:rPr>
              <a:t>上られた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行書体"/>
              </a:rPr>
              <a:t>～階段利用のススメ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3284640"/>
            <a:ext cx="431640" cy="380880"/>
          </a:xfrm>
          <a:prstGeom prst="wedgeEllipseCallout">
            <a:avLst>
              <a:gd name="adj1" fmla="val -33453"/>
              <a:gd name="adj2" fmla="val 80416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行書体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41640" y="4343400"/>
            <a:ext cx="25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G行書体"/>
              </a:rPr>
              <a:t>都市計画実習　社会的ジレンマ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4923000"/>
            <a:ext cx="36576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担当教官：谷口　綾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T</a:t>
            </a: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A </a:t>
            </a: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：高田　智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横手　 翼 　　吉村　聡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山室　寛明　  奥山　有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加藤　 務 　　池田　俊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中村　 頌 　　ブイティエンキ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17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d2fe4"/>
                </a:solidFill>
                <a:latin typeface="Arial"/>
                <a:ea typeface="HG行書体"/>
              </a:rPr>
              <a:t>の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33360"/>
            <a:ext cx="309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33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38560" y="1268280"/>
            <a:ext cx="417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573360"/>
            <a:ext cx="1584000" cy="50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2997360"/>
            <a:ext cx="3888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133720"/>
            <a:ext cx="3708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アンケート・リーフレット作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3789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5877000"/>
            <a:ext cx="266544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5229360"/>
            <a:ext cx="388944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581360"/>
            <a:ext cx="388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4560" y="909720"/>
            <a:ext cx="43200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18446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781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56720" y="1844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4076640"/>
            <a:ext cx="215640" cy="1800360"/>
          </a:xfrm>
          <a:prstGeom prst="downArrow">
            <a:avLst>
              <a:gd name="adj1" fmla="val 50000"/>
              <a:gd name="adj2" fmla="val 208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3500280"/>
            <a:ext cx="215640" cy="1729080"/>
          </a:xfrm>
          <a:prstGeom prst="downArrow">
            <a:avLst>
              <a:gd name="adj1" fmla="val 50000"/>
              <a:gd name="adj2" fmla="val 20045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941720"/>
            <a:ext cx="215640" cy="287640"/>
          </a:xfrm>
          <a:prstGeom prst="downArrow">
            <a:avLst>
              <a:gd name="adj1" fmla="val 50000"/>
              <a:gd name="adj2" fmla="val 33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4221000"/>
            <a:ext cx="215640" cy="1008360"/>
          </a:xfrm>
          <a:prstGeom prst="downArrow">
            <a:avLst>
              <a:gd name="adj1" fmla="val 50000"/>
              <a:gd name="adj2" fmla="val 1169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50028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4941720"/>
            <a:ext cx="217440" cy="287640"/>
          </a:xfrm>
          <a:prstGeom prst="downArrow">
            <a:avLst>
              <a:gd name="adj1" fmla="val 50000"/>
              <a:gd name="adj2" fmla="val 330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56610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516720" y="1844640"/>
            <a:ext cx="2627280" cy="1698840"/>
            <a:chOff x="6516720" y="1844640"/>
            <a:chExt cx="2627280" cy="1698840"/>
          </a:xfrm>
        </p:grpSpPr>
        <p:sp>
          <p:nvSpPr>
            <p:cNvPr id="113" name=""/>
            <p:cNvSpPr/>
            <p:nvPr/>
          </p:nvSpPr>
          <p:spPr>
            <a:xfrm>
              <a:off x="7201080" y="1844640"/>
              <a:ext cx="1942920" cy="574560"/>
            </a:xfrm>
            <a:prstGeom prst="wedgeEllipseCallout">
              <a:avLst>
                <a:gd name="adj1" fmla="val -16912"/>
                <a:gd name="adj2" fmla="val 6270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Verdana"/>
                  <a:ea typeface="HGｺﾞｼｯｸE"/>
                </a:rPr>
                <a:t>ココだよ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516720" y="2421000"/>
              <a:ext cx="1647720" cy="11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62160" y="1628640"/>
            <a:ext cx="213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A</a:t>
            </a: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群→リーフレッ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02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C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群→リーフレ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4240" y="2421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群→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D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群→な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現地調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毎週３回、実際にエレベータに乗り込んで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利用状況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間計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場所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棟の各エレベー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/28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から、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回計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今後も計測を続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利用状況（棟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268280"/>
          <a:ext cx="806472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806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09520" y="1628640"/>
            <a:ext cx="91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9520" y="2708280"/>
            <a:ext cx="91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860640"/>
            <a:ext cx="91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9520" y="4941720"/>
            <a:ext cx="91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0760" y="5810400"/>
            <a:ext cx="1843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472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524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252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144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3080" y="573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6216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416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452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8520" y="17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9800" y="1700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2781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27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90520" y="501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5800" y="501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1052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80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997360"/>
            <a:ext cx="2592360" cy="1871640"/>
          </a:xfrm>
          <a:prstGeom prst="wedgeRoundRectCallout">
            <a:avLst>
              <a:gd name="adj1" fmla="val -98500"/>
              <a:gd name="adj2" fmla="val 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３エリア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ムダ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47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※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計６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(4/28~5/15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の調査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利用状況（性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利用状況（性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26920" y="1341360"/>
          <a:ext cx="8172720" cy="551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341360"/>
                    <a:ext cx="8172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5200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200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200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2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888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580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380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6144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7088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5088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888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652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3240" y="573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54600" y="5734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10160" y="198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9440" y="342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2520" y="4797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70520" y="4797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2520" y="342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3440" y="198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2781360"/>
            <a:ext cx="2232000" cy="1368360"/>
          </a:xfrm>
          <a:prstGeom prst="wedgeRoundRectCallout">
            <a:avLst>
              <a:gd name="adj1" fmla="val -64791"/>
              <a:gd name="adj2" fmla="val -78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性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ムダ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637000"/>
            <a:ext cx="3168720" cy="1871640"/>
          </a:xfrm>
          <a:prstGeom prst="wedgeRoundRectCallout">
            <a:avLst>
              <a:gd name="adj1" fmla="val -70592"/>
              <a:gd name="adj2" fmla="val 81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約半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ム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54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※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計６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(4/28~5/15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ＭＳ Ｐ明朝"/>
              </a:rPr>
              <a:t>の調査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333360"/>
            <a:ext cx="309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333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38560" y="1268280"/>
            <a:ext cx="417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3573360"/>
            <a:ext cx="1584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7280" y="2997360"/>
            <a:ext cx="388800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2133720"/>
            <a:ext cx="3708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アンケート・リーフレット作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9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5877000"/>
            <a:ext cx="266544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5229360"/>
            <a:ext cx="388944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4581360"/>
            <a:ext cx="388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4560" y="909720"/>
            <a:ext cx="43200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18446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781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56720" y="1844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076640"/>
            <a:ext cx="215640" cy="1800360"/>
          </a:xfrm>
          <a:prstGeom prst="downArrow">
            <a:avLst>
              <a:gd name="adj1" fmla="val 50000"/>
              <a:gd name="adj2" fmla="val 208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3500280"/>
            <a:ext cx="215640" cy="1729080"/>
          </a:xfrm>
          <a:prstGeom prst="downArrow">
            <a:avLst>
              <a:gd name="adj1" fmla="val 50000"/>
              <a:gd name="adj2" fmla="val 20045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4941720"/>
            <a:ext cx="215640" cy="287640"/>
          </a:xfrm>
          <a:prstGeom prst="downArrow">
            <a:avLst>
              <a:gd name="adj1" fmla="val 50000"/>
              <a:gd name="adj2" fmla="val 33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4221000"/>
            <a:ext cx="215640" cy="1008360"/>
          </a:xfrm>
          <a:prstGeom prst="downArrow">
            <a:avLst>
              <a:gd name="adj1" fmla="val 50000"/>
              <a:gd name="adj2" fmla="val 1169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50028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4941720"/>
            <a:ext cx="217440" cy="287640"/>
          </a:xfrm>
          <a:prstGeom prst="downArrow">
            <a:avLst>
              <a:gd name="adj1" fmla="val 50000"/>
              <a:gd name="adj2" fmla="val 330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56610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516720" y="1844640"/>
            <a:ext cx="2627280" cy="1698840"/>
            <a:chOff x="6516720" y="1844640"/>
            <a:chExt cx="2627280" cy="1698840"/>
          </a:xfrm>
        </p:grpSpPr>
        <p:sp>
          <p:nvSpPr>
            <p:cNvPr id="201" name=""/>
            <p:cNvSpPr/>
            <p:nvPr/>
          </p:nvSpPr>
          <p:spPr>
            <a:xfrm>
              <a:off x="7201080" y="1844640"/>
              <a:ext cx="1942920" cy="574560"/>
            </a:xfrm>
            <a:prstGeom prst="wedgeEllipseCallout">
              <a:avLst>
                <a:gd name="adj1" fmla="val -16912"/>
                <a:gd name="adj2" fmla="val 6270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Verdana"/>
                  <a:ea typeface="HGｺﾞｼｯｸE"/>
                </a:rPr>
                <a:t>ココだよ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6516720" y="2421000"/>
              <a:ext cx="1647720" cy="11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362160" y="1628640"/>
            <a:ext cx="213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A</a:t>
            </a: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群→リーフレッ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02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C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群→リーフレ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4240" y="2421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群→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D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群→な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341360"/>
            <a:ext cx="835164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６つの学類のフレッシュマンセミナーを対象に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アンケート調査を実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質問項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被験者の健康意識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被験者の環境意識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エレベータの利用状況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各項目の詳細はレジュメ参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933720"/>
            <a:ext cx="1944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333360"/>
            <a:ext cx="309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33336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38560" y="1268280"/>
            <a:ext cx="417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3573360"/>
            <a:ext cx="1584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997360"/>
            <a:ext cx="3888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2133720"/>
            <a:ext cx="3708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アンケート・リーフレット作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3789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877000"/>
            <a:ext cx="266544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5229360"/>
            <a:ext cx="388944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4581360"/>
            <a:ext cx="388944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4560" y="909720"/>
            <a:ext cx="43200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1844640"/>
            <a:ext cx="28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781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56720" y="1844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4076640"/>
            <a:ext cx="215640" cy="1800360"/>
          </a:xfrm>
          <a:prstGeom prst="downArrow">
            <a:avLst>
              <a:gd name="adj1" fmla="val 50000"/>
              <a:gd name="adj2" fmla="val 2087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3500280"/>
            <a:ext cx="215640" cy="1729080"/>
          </a:xfrm>
          <a:prstGeom prst="downArrow">
            <a:avLst>
              <a:gd name="adj1" fmla="val 50000"/>
              <a:gd name="adj2" fmla="val 20045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6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4941720"/>
            <a:ext cx="215640" cy="287640"/>
          </a:xfrm>
          <a:prstGeom prst="downArrow">
            <a:avLst>
              <a:gd name="adj1" fmla="val 50000"/>
              <a:gd name="adj2" fmla="val 33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8360" y="350028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221000"/>
            <a:ext cx="215640" cy="1008360"/>
          </a:xfrm>
          <a:prstGeom prst="downArrow">
            <a:avLst>
              <a:gd name="adj1" fmla="val 50000"/>
              <a:gd name="adj2" fmla="val 1169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350028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4941720"/>
            <a:ext cx="217440" cy="287640"/>
          </a:xfrm>
          <a:prstGeom prst="downArrow">
            <a:avLst>
              <a:gd name="adj1" fmla="val 50000"/>
              <a:gd name="adj2" fmla="val 330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56610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16720" y="1844640"/>
            <a:ext cx="2627280" cy="1698840"/>
            <a:chOff x="6516720" y="1844640"/>
            <a:chExt cx="2627280" cy="1698840"/>
          </a:xfrm>
        </p:grpSpPr>
        <p:sp>
          <p:nvSpPr>
            <p:cNvPr id="236" name=""/>
            <p:cNvSpPr/>
            <p:nvPr/>
          </p:nvSpPr>
          <p:spPr>
            <a:xfrm>
              <a:off x="7201080" y="1844640"/>
              <a:ext cx="1942920" cy="574560"/>
            </a:xfrm>
            <a:prstGeom prst="wedgeEllipseCallout">
              <a:avLst>
                <a:gd name="adj1" fmla="val -16912"/>
                <a:gd name="adj2" fmla="val 6270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Verdana"/>
                  <a:ea typeface="HGｺﾞｼｯｸE"/>
                </a:rPr>
                <a:t>ココだよ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516720" y="2421000"/>
              <a:ext cx="1647720" cy="11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362160" y="1628640"/>
            <a:ext cx="213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A</a:t>
            </a: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群→リーフレッ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02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C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群→リーフレ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4240" y="2421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B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群→ポス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D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群→な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3068640"/>
          <a:ext cx="8291520" cy="3573360"/>
        </p:xfrm>
        <a:graphic>
          <a:graphicData uri="http://schemas.openxmlformats.org/drawingml/2006/table">
            <a:tbl>
              <a:tblPr/>
              <a:tblGrid>
                <a:gridCol w="2135160"/>
                <a:gridCol w="1724040"/>
                <a:gridCol w="1722600"/>
                <a:gridCol w="1314360"/>
                <a:gridCol w="139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,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応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教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障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ポスタ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ーフレッ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466560" y="1557360"/>
            <a:ext cx="8425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対象を制限し、ポスター貼付、リーフレット配布を行い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後日同じ対象に２度目のアンケート調査を実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理的方略の効果を検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6000" y="331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コミュニケーションツ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リーフレッ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配布時期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アンケート調査の直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方法：社工（１，２，３クラ）、教育の学生に配布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目的：リーフレットによる効果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→同じアンケート調査をしている社工（４，５クラ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応理、心理、障害、人文には配布せず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効果の違いをはか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98640" y="4981680"/>
            <a:ext cx="37594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あなたの足にのぼられたい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1906560" cy="3313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979640" y="907920"/>
            <a:ext cx="503856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　利己的な行動によるエネルギーの大量消費→環境問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筑波大生の１日平均歩行量＝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60~80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歳レベル→健康問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筑波大生は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ムダ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エレベータを利用しているのではない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666880"/>
            <a:ext cx="1143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86040" y="5016600"/>
            <a:ext cx="452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3434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・最も身近な社会的ジレン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・現状把握が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・結果も得やすいので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・個人（健康）面からのアプローチも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150800" y="5013360"/>
            <a:ext cx="694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最近あの人来ないわね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2495520" cy="348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08000" y="981000"/>
            <a:ext cx="50389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54200" y="4581360"/>
            <a:ext cx="396396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久しぶり！あら？ちょっと太っ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きゃ〜、重い！まさ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600360" cy="2390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35280" y="981000"/>
            <a:ext cx="503856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611440" y="5126040"/>
            <a:ext cx="443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あなた、エレベータ使っていたのね！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21904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25800" y="1054080"/>
            <a:ext cx="503856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654280" y="1517760"/>
            <a:ext cx="17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040" y="1569960"/>
            <a:ext cx="1900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あんな娘使ったっ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66680" y="4705200"/>
            <a:ext cx="280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太るし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電気を使うし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結局、時間の短縮にはならないのよ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711600" y="2135160"/>
            <a:ext cx="1649520" cy="244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54160" y="982800"/>
            <a:ext cx="5038920" cy="503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295880" cy="4276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050920" y="838080"/>
            <a:ext cx="50389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353120" cy="4552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4160" y="911160"/>
            <a:ext cx="50389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600440" cy="44769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195640" y="907920"/>
            <a:ext cx="503856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00040" y="1228680"/>
            <a:ext cx="1900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それに比べて私なら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86160" y="4484520"/>
            <a:ext cx="2631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ダイエットになるし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電気代の節約になるし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ストレス解消だってできちゃうのよ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57760" y="1916280"/>
            <a:ext cx="1589040" cy="2449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050920" y="836640"/>
            <a:ext cx="5038920" cy="503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430520" cy="371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42480" y="1420920"/>
            <a:ext cx="2059560" cy="16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 vert="eaVer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ＤＦＰ行書体"/>
              </a:rPr>
              <a:t>そう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ＤＦＰ行書体"/>
              </a:rPr>
              <a:t>階段、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ＤＦＰ行書体"/>
              </a:rPr>
              <a:t>行こう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3640" y="5300640"/>
            <a:ext cx="187344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ＭＳ Ｐ明朝"/>
              </a:rPr>
              <a:t>京都：仏野念仏寺への階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981000"/>
            <a:ext cx="50389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72000" y="1370160"/>
            <a:ext cx="122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そして彼は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5280" y="4697280"/>
            <a:ext cx="2014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僕が悪かった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これからは君を使うよ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419640" y="1844640"/>
            <a:ext cx="1823760" cy="2833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79640" y="907920"/>
            <a:ext cx="503856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エレベータの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ムダ利用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を減少させ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環境への負荷を減らすことが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階段を利用することで、個人の健康も維持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環境配慮行動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0" lang="zh-CN" sz="3300" spc="-1" strike="noStrike">
                <a:solidFill>
                  <a:srgbClr val="ffffff"/>
                </a:solidFill>
                <a:latin typeface="Arial"/>
              </a:rPr>
              <a:t>健康意識行動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への</a:t>
            </a:r>
            <a:r>
              <a:rPr b="0" lang="zh-CN" sz="3300" spc="-1" strike="noStrike">
                <a:solidFill>
                  <a:srgbClr val="ff0000"/>
                </a:solidFill>
                <a:latin typeface="Arial"/>
              </a:rPr>
              <a:t>変化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を促進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5909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754800" y="1989000"/>
            <a:ext cx="809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続きは階段で…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29080" y="4365720"/>
            <a:ext cx="298764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ＭＳ Ｐ明朝"/>
              </a:rPr>
              <a:t>筑波大学社会工学類　都市計画実習４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911160"/>
            <a:ext cx="5038920" cy="503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ポスター</a:t>
            </a:r>
            <a:r>
              <a:rPr b="0" lang="en-US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掲載期間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22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に掲載の予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方法：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の階段、エレベータ付近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貼り付け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目的：ポスター設置による効果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→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群棟には設置せず、ポスターの有無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効果がどれだけ違うか計測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26920" y="1600200"/>
          <a:ext cx="7859880" cy="3294000"/>
        </p:xfrm>
        <a:graphic>
          <a:graphicData uri="http://schemas.openxmlformats.org/drawingml/2006/table">
            <a:tbl>
              <a:tblPr/>
              <a:tblGrid>
                <a:gridCol w="2024280"/>
                <a:gridCol w="1633320"/>
                <a:gridCol w="1635120"/>
                <a:gridCol w="1244880"/>
                <a:gridCol w="132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,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応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教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障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ポスタ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ーフレッ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3779640" y="5013360"/>
            <a:ext cx="4392360" cy="1180440"/>
            <a:chOff x="3779640" y="5013360"/>
            <a:chExt cx="4392360" cy="1180440"/>
          </a:xfrm>
        </p:grpSpPr>
        <p:sp>
          <p:nvSpPr>
            <p:cNvPr id="297" name=""/>
            <p:cNvSpPr/>
            <p:nvPr/>
          </p:nvSpPr>
          <p:spPr>
            <a:xfrm rot="5400000">
              <a:off x="4283640" y="4509360"/>
              <a:ext cx="647640" cy="165564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25"/>
                  </a:lnTo>
                  <a:cubicBezTo>
                    <a:pt x="10800" y="10125"/>
                    <a:pt x="16200" y="11025"/>
                    <a:pt x="21600" y="11025"/>
                  </a:cubicBezTo>
                  <a:cubicBezTo>
                    <a:pt x="16200" y="11025"/>
                    <a:pt x="10800" y="11925"/>
                    <a:pt x="10800" y="128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7020360" y="4509360"/>
              <a:ext cx="647640" cy="165564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25"/>
                  </a:lnTo>
                  <a:cubicBezTo>
                    <a:pt x="10800" y="10125"/>
                    <a:pt x="16200" y="11025"/>
                    <a:pt x="21600" y="11025"/>
                  </a:cubicBezTo>
                  <a:cubicBezTo>
                    <a:pt x="16200" y="11025"/>
                    <a:pt x="10800" y="11925"/>
                    <a:pt x="10800" y="128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40360" y="5734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リーフレットの効果の比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635280" y="4869000"/>
            <a:ext cx="4392720" cy="1396080"/>
            <a:chOff x="3635280" y="4869000"/>
            <a:chExt cx="4392720" cy="1396080"/>
          </a:xfrm>
        </p:grpSpPr>
        <p:sp>
          <p:nvSpPr>
            <p:cNvPr id="301" name=""/>
            <p:cNvSpPr/>
            <p:nvPr/>
          </p:nvSpPr>
          <p:spPr>
            <a:xfrm flipH="1">
              <a:off x="7740720" y="4869000"/>
              <a:ext cx="28728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35280" y="4869000"/>
              <a:ext cx="432000" cy="865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356000" y="4869000"/>
              <a:ext cx="237672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92720" y="4869000"/>
              <a:ext cx="237492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580536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ポスターの効果の比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26920" y="51577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計２回のアンケート、現地調査を通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用状況の変化を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（木）・・・教育・心理・障害科学学類を対象にし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のアンケート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（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（金）・・・人文学類を対象にし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アンケート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は未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ポスターの作成・掲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結果分析・考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参考文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杉浦淳吉・・・ナカニシヤ出版「環境配慮の社会心理学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東芝エレベータ株式会社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DESIGN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都市と交通の未来形」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oshiba-elevator.co.jp/elv/newsnavi/volumes/28/news/index.html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本オーチス・エレベータ株式会社「エレベータ交通量計算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塚本令三・・・講談社出版「ドクター塚本の『階段健康法』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P創英角ﾎﾟｯﾌﾟ体"/>
              </a:rPr>
              <a:t>ご清聴ありがとうございまし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3212640"/>
            <a:ext cx="71992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cc"/>
                </a:solidFill>
                <a:latin typeface="Arial"/>
                <a:ea typeface="HG行書体"/>
              </a:rPr>
              <a:t>続き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HG行書体"/>
              </a:rPr>
              <a:t>は階段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67640" y="3645000"/>
            <a:ext cx="1224000" cy="792000"/>
          </a:xfrm>
          <a:custGeom>
            <a:avLst/>
            <a:gdLst>
              <a:gd name="textAreaLeft" fmla="*/ 287640 w 1224000"/>
              <a:gd name="textAreaRight" fmla="*/ 935640 w 1224000"/>
              <a:gd name="textAreaTop" fmla="*/ 92880 h 792000"/>
              <a:gd name="textAreaBottom" fmla="*/ 496800 h 79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ed2f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エレベーターを使用する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階上がった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=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ッ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階下りたり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ダウ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であれば、階段を利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ことによってビルの消費電力の削減を目指したも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3440" y="3048120"/>
            <a:ext cx="908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適度な運動も行え、健康増進にも繋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→</a:t>
            </a:r>
            <a:r>
              <a:rPr b="0" lang="zh-CN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ドクター塚本の「階段健康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149720"/>
            <a:ext cx="7862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エレベーターの無駄な使用を減らすことによっ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エレベーターやビルの耐用年数を延ばす可能性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3520" y="5229360"/>
            <a:ext cx="73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今回の調査では、</a:t>
            </a:r>
            <a:r>
              <a:rPr b="0" lang="en-US" sz="2800" spc="-1" strike="noStrike">
                <a:solidFill>
                  <a:srgbClr val="fffd2e"/>
                </a:solidFill>
                <a:latin typeface="Arial"/>
              </a:rPr>
              <a:t>2UP3DOWN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　　　　　　　　　　　　　ムダな利用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境界線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Lucida Calligraphy"/>
                <a:ea typeface="ＤＦＰ教科書体W3"/>
              </a:rPr>
              <a:t>２</a:t>
            </a:r>
            <a:r>
              <a:rPr b="0" lang="en-US" sz="4400" spc="-1" strike="noStrike">
                <a:solidFill>
                  <a:srgbClr val="ffffff"/>
                </a:solidFill>
                <a:latin typeface="Lucida Calligraphy"/>
                <a:ea typeface="ＤＦＰ教科書体W3"/>
              </a:rPr>
              <a:t>UP 3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社会的ジレンマ・・・とは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41300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短期的・利己的にメリットのある行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　　　　　　（非協力行動）を行う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長期的・社会的にデメリットが大き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　　　　社会的状況のことをさ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733920"/>
            <a:ext cx="2210040" cy="113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22936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エレベーターの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ムダ利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非協力行動）を行う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環境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被害が大き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3716280"/>
            <a:ext cx="2376360" cy="1152720"/>
          </a:xfrm>
          <a:prstGeom prst="cloudCallout">
            <a:avLst>
              <a:gd name="adj1" fmla="val -70175"/>
              <a:gd name="adj2" fmla="val -2135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HG行書体"/>
              </a:rPr>
              <a:t>今回の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341360"/>
            <a:ext cx="7272360" cy="208764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5157720"/>
            <a:ext cx="7417080" cy="1152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HGS行書体"/>
              </a:rPr>
              <a:t>エレベータ利用における</a:t>
            </a:r>
            <a:br>
              <a:rPr sz="4000"/>
            </a:b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HGS行書体"/>
              </a:rPr>
              <a:t>社会的ジレンマ状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205000"/>
            <a:ext cx="24260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利己的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8920" y="3231000"/>
            <a:ext cx="4033080" cy="165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階段を上らないで済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階段よりも速く上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移動が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924280"/>
            <a:ext cx="3962520" cy="23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大きな電気代がか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環境負荷がか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本当に必要な人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　使えない場合が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205000"/>
            <a:ext cx="28209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社会的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1844640"/>
            <a:ext cx="1457280" cy="471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社会的ジレン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解決策～壱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行書体"/>
              </a:rPr>
              <a:t>構造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エレベータを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有料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階段利用者が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得する制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設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エレベータの前で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監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行い、階段利用を促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36572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これらの解決策はいずれ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実施する際に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コス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がかか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学という様々な人がいるなか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このような案を実施することは</a:t>
            </a:r>
            <a:r>
              <a:rPr b="0" lang="zh-CN" sz="2800" spc="-1" strike="noStrike">
                <a:solidFill>
                  <a:srgbClr val="fffd2e"/>
                </a:solidFill>
                <a:latin typeface="Arial"/>
              </a:rPr>
              <a:t>難し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3213000"/>
            <a:ext cx="26654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HG行書体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1197000"/>
            <a:ext cx="8712000" cy="187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292640"/>
            <a:ext cx="7848360" cy="230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解決策～弐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行書体"/>
              </a:rPr>
              <a:t>心理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階段利用を呼びかけるポスターを設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（心理的方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のエレベータ付近に貼り付け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エレベータを利用しようとする人の目に入りやすいように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リーフレットの配布（心理的方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階段利用のメリットなどを記載したリーフレット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配布し、階段利用を勧め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解決策の検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構造的戦略は、コスト面・大学内であるという点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実現が難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ポスター、リーフレッ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などの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心理的戦略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に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 エレベータ利用促進が効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ンケートや現地調査と平行して、班員はエレベータ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 使わない生活を送る。体重・体脂肪を定期的に測定し、階段利用が健康にもたらす効果を実証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8:37:44Z</dcterms:created>
  <dc:creator>社会工学類</dc:creator>
  <dc:description/>
  <dc:language>en-US</dc:language>
  <cp:lastModifiedBy>社会工学類</cp:lastModifiedBy>
  <dcterms:modified xsi:type="dcterms:W3CDTF">2009-05-18T13:07:39Z</dcterms:modified>
  <cp:revision>24</cp:revision>
  <dc:subject/>
  <dc:title>あなたの足に上られたい</dc:title>
</cp:coreProperties>
</file>