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0.png" ContentType="image/png"/>
  <Override PartName="/ppt/media/image6.jpeg" ContentType="image/jpeg"/>
  <Override PartName="/ppt/media/image13.wmf" ContentType="image/x-wmf"/>
  <Override PartName="/ppt/media/image8.wmf" ContentType="image/x-wmf"/>
  <Override PartName="/ppt/media/image7.jpeg" ContentType="image/jpeg"/>
  <Override PartName="/ppt/media/image12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7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AF81-A6A2-42C3-8256-D799AFB4704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入れない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主婦は水道水に対して不満を持っていることが分か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グラフの文字を大きくす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写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メージ先行とかく根拠が必要　　　　　市民の声というページを前に作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あくまで現状把握のまとめ　　　　　　　結論に結びつくアンケート結果を載せ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おいしい水を飲みた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Times New Roman"/>
              </a:rPr>
              <a:t>安全といえる根拠（マクロ的視点）　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332-0250-48D2-A572-135CD4A6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680-1169-4552-BF8F-8E1AF367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7E0-844C-4883-BC2C-BB27D144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837-1876-4752-B938-0275756D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A7EE-264F-4A48-B605-17FE4A39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10EB-4712-4A36-B471-1EBD0FFE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72C6-870A-4D94-891B-A0AAD78F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B346-BA63-406F-8977-11F2672C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1ABD-3F53-44BC-93F4-EE867E50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03FC-933C-4428-9C98-C6404956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0219-20B1-4074-AB6E-3EF86A53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769-FDB5-43D6-9EE7-94C98118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6041-47D4-456A-AD10-9E33BCCE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A36A-EA60-49EE-844B-4F29F97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BF90-AEC6-4C56-BEC3-CF33F830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7409-AD77-4DCD-81C5-9651BB95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126F-EBBC-429D-B232-77647BEC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98C-C1A9-41A5-9A5D-7F86DBB9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B2B-FA31-420B-AF38-F76F8A11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5F5-4B78-4646-BBA6-F05C9046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F84-8A27-4366-9FA7-EDADAF9B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C8F-B8AB-4C73-B200-097DFB32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404-3FE9-4993-9A0E-136F0F0B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C4F-7954-41B2-BF04-81943F3E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29BA-869F-4FE6-9903-1AB44144B0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1605-E136-428C-956B-B423210962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221304"/>
                </a:solidFill>
                <a:latin typeface="Times New Roman"/>
              </a:rPr>
              <a:t>都市計画実習</a:t>
            </a:r>
            <a:br>
              <a:rPr sz="3600"/>
            </a:br>
            <a:r>
              <a:rPr b="0" lang="ja-JP" sz="3600" spc="-1" strike="noStrike">
                <a:solidFill>
                  <a:srgbClr val="221304"/>
                </a:solidFill>
                <a:latin typeface="Times New Roman"/>
              </a:rPr>
              <a:t>～生活安全環境班～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25142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水の品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ーおいしい水を求めて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34340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担当教員：吉野邦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A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班長：佐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班員：今村　久保田　箕浦　柳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予備調査内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調査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水の利用実態の調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 水の需要調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対象：①ヒアリング調査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　　筑波大学生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　　つくば市内の主婦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　　県南水道事務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②アンケート調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筑波大学生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     つくば市内の主婦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2286000"/>
            <a:ext cx="228600" cy="838080"/>
          </a:xfrm>
          <a:custGeom>
            <a:avLst/>
            <a:gdLst>
              <a:gd name="textAreaLeft" fmla="*/ 66960 w 228600"/>
              <a:gd name="textAreaRight" fmla="*/ 228960 w 228600"/>
              <a:gd name="textAreaTop" fmla="*/ 56520 h 838080"/>
              <a:gd name="textAreaBottom" fmla="*/ 7815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63"/>
                  <a:pt x="0" y="2925"/>
                </a:cubicBezTo>
                <a:lnTo>
                  <a:pt x="0" y="18675"/>
                </a:lnTo>
                <a:cubicBezTo>
                  <a:pt x="0" y="20138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1752480"/>
            <a:ext cx="3047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調査項目　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上水道について　　　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浄水器について　　　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給水サービスについて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水の需要について　　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2209680"/>
            <a:ext cx="152280" cy="1524240"/>
          </a:xfrm>
          <a:custGeom>
            <a:avLst/>
            <a:gdLst>
              <a:gd name="textAreaLeft" fmla="*/ 44640 w 152280"/>
              <a:gd name="textAreaRight" fmla="*/ 152640 w 15228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水道水の安全性を信頼して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いますか？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23880" y="2057400"/>
            <a:ext cx="6858000" cy="2971800"/>
            <a:chOff x="1523880" y="2057400"/>
            <a:chExt cx="6858000" cy="2971800"/>
          </a:xfrm>
        </p:grpSpPr>
        <p:graphicFrame>
          <p:nvGraphicFramePr>
            <p:cNvPr id="205" name=""/>
            <p:cNvGraphicFramePr/>
            <p:nvPr/>
          </p:nvGraphicFramePr>
          <p:xfrm>
            <a:off x="1523880" y="2057400"/>
            <a:ext cx="3218040" cy="293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2057400"/>
                      <a:ext cx="3218040" cy="293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5181480" y="2057400"/>
            <a:ext cx="3200400" cy="2971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81480" y="2057400"/>
                      <a:ext cx="320040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9" name=""/>
          <p:cNvSpPr/>
          <p:nvPr/>
        </p:nvSpPr>
        <p:spPr>
          <a:xfrm>
            <a:off x="1447920" y="5562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541008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主婦・学生両方とも安全性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不安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水道行政方針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2" name="6-1-1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562720" cy="4754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429000" y="6019920"/>
            <a:ext cx="4648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pref.ibaraki.jp/bukyoku/hoken/seiei/suido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水道局に対するヒアリン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水の安全性につい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必要水量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2L/day/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人と仮定し、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Times New Roman"/>
              </a:rPr>
              <a:t>健康に害がない程度の安全性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追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水のおいしさについ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粒状活性炭層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2m50cm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水をろ過する方法を検討中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5257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コスト面の課題が足枷となってい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533412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意見の相違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86000" y="3986280"/>
            <a:ext cx="3814920" cy="701640"/>
          </a:xfrm>
          <a:custGeom>
            <a:avLst/>
            <a:gdLst>
              <a:gd name="textAreaLeft" fmla="*/ 595800 w 3814920"/>
              <a:gd name="textAreaRight" fmla="*/ 3540960 w 3814920"/>
              <a:gd name="textAreaTop" fmla="*/ 201960 h 701640"/>
              <a:gd name="textAreaBottom" fmla="*/ 499680 h 701640"/>
            </a:gdLst>
            <a:ahLst/>
            <a:rect l="textAreaLeft" t="textAreaTop" r="textAreaRight" b="textAreaBottom"/>
            <a:pathLst>
              <a:path w="21600" h="21600">
                <a:moveTo>
                  <a:pt x="3375" y="6218"/>
                </a:moveTo>
                <a:lnTo>
                  <a:pt x="17940" y="6218"/>
                </a:lnTo>
                <a:lnTo>
                  <a:pt x="17940" y="0"/>
                </a:lnTo>
                <a:lnTo>
                  <a:pt x="21600" y="10800"/>
                </a:lnTo>
                <a:lnTo>
                  <a:pt x="17940" y="21600"/>
                </a:lnTo>
                <a:lnTo>
                  <a:pt x="17940" y="15382"/>
                </a:lnTo>
                <a:lnTo>
                  <a:pt x="3375" y="15382"/>
                </a:lnTo>
                <a:close/>
              </a:path>
              <a:path w="21600" h="21600">
                <a:moveTo>
                  <a:pt x="0" y="6218"/>
                </a:moveTo>
                <a:lnTo>
                  <a:pt x="675" y="6218"/>
                </a:lnTo>
                <a:lnTo>
                  <a:pt x="675" y="15382"/>
                </a:lnTo>
                <a:lnTo>
                  <a:pt x="0" y="15382"/>
                </a:lnTo>
                <a:close/>
              </a:path>
              <a:path w="21600" h="21600">
                <a:moveTo>
                  <a:pt x="1350" y="6218"/>
                </a:moveTo>
                <a:lnTo>
                  <a:pt x="2700" y="6218"/>
                </a:lnTo>
                <a:lnTo>
                  <a:pt x="2700" y="15382"/>
                </a:lnTo>
                <a:lnTo>
                  <a:pt x="1350" y="1538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安全性追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4600" y="3855960"/>
            <a:ext cx="520560" cy="1406520"/>
          </a:xfrm>
          <a:prstGeom prst="ellipse">
            <a:avLst/>
          </a:prstGeom>
          <a:solidFill>
            <a:srgbClr val="3694b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3240" y="3914640"/>
            <a:ext cx="520560" cy="1406520"/>
          </a:xfrm>
          <a:prstGeom prst="ellipse">
            <a:avLst/>
          </a:prstGeom>
          <a:solidFill>
            <a:srgbClr val="a1bd6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3034800" y="4557240"/>
            <a:ext cx="3816360" cy="646200"/>
          </a:xfrm>
          <a:custGeom>
            <a:avLst/>
            <a:gdLst>
              <a:gd name="textAreaLeft" fmla="*/ 596160 w 3816360"/>
              <a:gd name="textAreaRight" fmla="*/ 3568320 w 3816360"/>
              <a:gd name="textAreaTop" fmla="*/ 179640 h 646200"/>
              <a:gd name="textAreaBottom" fmla="*/ 466560 h 646200"/>
            </a:gdLst>
            <a:ahLst/>
            <a:rect l="textAreaLeft" t="textAreaTop" r="textAreaRight" b="textAreaBottom"/>
            <a:pathLst>
              <a:path w="21600" h="21600">
                <a:moveTo>
                  <a:pt x="3375" y="6013"/>
                </a:moveTo>
                <a:lnTo>
                  <a:pt x="18429" y="6013"/>
                </a:lnTo>
                <a:lnTo>
                  <a:pt x="18429" y="0"/>
                </a:lnTo>
                <a:lnTo>
                  <a:pt x="21600" y="10800"/>
                </a:lnTo>
                <a:lnTo>
                  <a:pt x="18429" y="21600"/>
                </a:lnTo>
                <a:lnTo>
                  <a:pt x="18429" y="15587"/>
                </a:lnTo>
                <a:lnTo>
                  <a:pt x="3375" y="15587"/>
                </a:lnTo>
                <a:close/>
              </a:path>
              <a:path w="21600" h="21600">
                <a:moveTo>
                  <a:pt x="0" y="6013"/>
                </a:moveTo>
                <a:lnTo>
                  <a:pt x="675" y="6013"/>
                </a:lnTo>
                <a:lnTo>
                  <a:pt x="675" y="15587"/>
                </a:lnTo>
                <a:lnTo>
                  <a:pt x="0" y="15587"/>
                </a:lnTo>
                <a:close/>
              </a:path>
              <a:path w="21600" h="21600">
                <a:moveTo>
                  <a:pt x="1350" y="6013"/>
                </a:moveTo>
                <a:lnTo>
                  <a:pt x="2700" y="6013"/>
                </a:lnTo>
                <a:lnTo>
                  <a:pt x="2700" y="15587"/>
                </a:lnTo>
                <a:lnTo>
                  <a:pt x="1350" y="15587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安全性への不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94400" y="2819520"/>
            <a:ext cx="1658880" cy="1309680"/>
          </a:xfrm>
          <a:prstGeom prst="wedgeEllipseCallout">
            <a:avLst>
              <a:gd name="adj1" fmla="val -151370"/>
              <a:gd name="adj2" fmla="val 4381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安全性を伝えられていない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788600">
            <a:off x="2894760" y="5231880"/>
            <a:ext cx="2102040" cy="1167120"/>
          </a:xfrm>
          <a:prstGeom prst="wedgeEllipseCallout">
            <a:avLst>
              <a:gd name="adj1" fmla="val -139546"/>
              <a:gd name="adj2" fmla="val 5906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過剰意識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勘違い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676520"/>
            <a:ext cx="746784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水道部は安全性を重視　　　　　　　　　　　　　　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0788600">
            <a:off x="2894760" y="5257080"/>
            <a:ext cx="2102040" cy="1166760"/>
          </a:xfrm>
          <a:prstGeom prst="wedgeEllipseCallout">
            <a:avLst>
              <a:gd name="adj1" fmla="val -138342"/>
              <a:gd name="adj2" fmla="val 59611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浄水器、給水サービス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利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浄水器を使用しているか？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590920"/>
            <a:ext cx="746784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コスト：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初期投資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380000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円    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　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濾財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円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月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809880"/>
            <a:ext cx="746784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効果：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カルキ・臭気・悪味・有機物の除去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　　　薬の服用時等に適した中性の水に転化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1828800"/>
            <a:ext cx="358128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浄水器の実態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295280" y="1828800"/>
            <a:ext cx="6958080" cy="4267080"/>
            <a:chOff x="1295280" y="1828800"/>
            <a:chExt cx="6958080" cy="4267080"/>
          </a:xfrm>
        </p:grpSpPr>
        <p:grpSp>
          <p:nvGrpSpPr>
            <p:cNvPr id="233" name=""/>
            <p:cNvGrpSpPr/>
            <p:nvPr/>
          </p:nvGrpSpPr>
          <p:grpSpPr>
            <a:xfrm>
              <a:off x="1676520" y="1828800"/>
              <a:ext cx="6576840" cy="3065400"/>
              <a:chOff x="1676520" y="1828800"/>
              <a:chExt cx="6576840" cy="3065400"/>
            </a:xfrm>
          </p:grpSpPr>
          <p:graphicFrame>
            <p:nvGraphicFramePr>
              <p:cNvPr id="234" name=""/>
              <p:cNvGraphicFramePr/>
              <p:nvPr/>
            </p:nvGraphicFramePr>
            <p:xfrm>
              <a:off x="1676520" y="1828800"/>
              <a:ext cx="3129120" cy="30654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23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76520" y="1828800"/>
                        <a:ext cx="3129120" cy="306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6" name=""/>
              <p:cNvGraphicFramePr/>
              <p:nvPr/>
            </p:nvGraphicFramePr>
            <p:xfrm>
              <a:off x="5105520" y="1828800"/>
              <a:ext cx="3147840" cy="303840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105520" y="1828800"/>
                        <a:ext cx="3147840" cy="303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38" name=""/>
            <p:cNvSpPr/>
            <p:nvPr/>
          </p:nvSpPr>
          <p:spPr>
            <a:xfrm>
              <a:off x="1295280" y="5410080"/>
              <a:ext cx="762120" cy="609840"/>
            </a:xfrm>
            <a:prstGeom prst="rightArrow">
              <a:avLst>
                <a:gd name="adj1" fmla="val 50000"/>
                <a:gd name="adj2" fmla="val 31243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62320" y="5257800"/>
              <a:ext cx="4724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0000"/>
                  </a:solidFill>
                  <a:latin typeface="Times New Roman"/>
                </a:rPr>
                <a:t>半数以上の人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0000"/>
                  </a:solidFill>
                  <a:latin typeface="Times New Roman"/>
                </a:rPr>
                <a:t>浄水器を利用してい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浄水器においしさと安全性の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どちらを求めているか？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752480" y="2057400"/>
            <a:ext cx="6781680" cy="3200400"/>
            <a:chOff x="1752480" y="2057400"/>
            <a:chExt cx="6781680" cy="3200400"/>
          </a:xfrm>
        </p:grpSpPr>
        <p:graphicFrame>
          <p:nvGraphicFramePr>
            <p:cNvPr id="242" name=""/>
            <p:cNvGraphicFramePr/>
            <p:nvPr/>
          </p:nvGraphicFramePr>
          <p:xfrm>
            <a:off x="1752480" y="2057400"/>
            <a:ext cx="3352680" cy="3200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057400"/>
                      <a:ext cx="335268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5410080" y="2057400"/>
            <a:ext cx="3124080" cy="3200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12408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6" name=""/>
          <p:cNvSpPr/>
          <p:nvPr/>
        </p:nvSpPr>
        <p:spPr>
          <a:xfrm>
            <a:off x="1371600" y="5638680"/>
            <a:ext cx="762120" cy="533520"/>
          </a:xfrm>
          <a:prstGeom prst="rightArrow">
            <a:avLst>
              <a:gd name="adj1" fmla="val 35713"/>
              <a:gd name="adj2" fmla="val 514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0" y="54864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浄水器は安全性を確保するための手段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あると市民が考えていることが読み取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給水サービスとは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3276720"/>
            <a:ext cx="7391160" cy="2057400"/>
          </a:xfrm>
          <a:prstGeom prst="rect">
            <a:avLst/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コスト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初期投資　容器代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L50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円前後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水質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逆浸透膜ろ過システムにより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限りなく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近い水を提供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1676520"/>
            <a:ext cx="7391160" cy="144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給水サービス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スーパーにおいて純水の「準」無料提供が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行われている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給水サービスを利用しているか？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752480" y="1906560"/>
            <a:ext cx="6553440" cy="3886200"/>
            <a:chOff x="1752480" y="1906560"/>
            <a:chExt cx="6553440" cy="3886200"/>
          </a:xfrm>
        </p:grpSpPr>
        <p:grpSp>
          <p:nvGrpSpPr>
            <p:cNvPr id="253" name=""/>
            <p:cNvGrpSpPr/>
            <p:nvPr/>
          </p:nvGrpSpPr>
          <p:grpSpPr>
            <a:xfrm>
              <a:off x="1752480" y="1906560"/>
              <a:ext cx="6553440" cy="2971800"/>
              <a:chOff x="1752480" y="1906560"/>
              <a:chExt cx="6553440" cy="2971800"/>
            </a:xfrm>
          </p:grpSpPr>
          <p:graphicFrame>
            <p:nvGraphicFramePr>
              <p:cNvPr id="254" name=""/>
              <p:cNvGraphicFramePr/>
              <p:nvPr/>
            </p:nvGraphicFramePr>
            <p:xfrm>
              <a:off x="1752480" y="1906560"/>
              <a:ext cx="3124440" cy="29718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52480" y="1906560"/>
                        <a:ext cx="3124440" cy="297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6" name=""/>
              <p:cNvGraphicFramePr/>
              <p:nvPr/>
            </p:nvGraphicFramePr>
            <p:xfrm>
              <a:off x="5181480" y="1906560"/>
              <a:ext cx="3124440" cy="297180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2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181480" y="1906560"/>
                        <a:ext cx="3124440" cy="297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58" name=""/>
            <p:cNvSpPr/>
            <p:nvPr/>
          </p:nvSpPr>
          <p:spPr>
            <a:xfrm>
              <a:off x="1905120" y="5030640"/>
              <a:ext cx="6248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0000"/>
                  </a:solidFill>
                  <a:latin typeface="Times New Roman"/>
                </a:rPr>
                <a:t>なぜ、利用者が少ないのか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371600" y="1752480"/>
            <a:ext cx="7070760" cy="4802400"/>
            <a:chOff x="1371600" y="1752480"/>
            <a:chExt cx="7070760" cy="4802400"/>
          </a:xfrm>
        </p:grpSpPr>
        <p:graphicFrame>
          <p:nvGraphicFramePr>
            <p:cNvPr id="260" name=""/>
            <p:cNvGraphicFramePr/>
            <p:nvPr/>
          </p:nvGraphicFramePr>
          <p:xfrm>
            <a:off x="4645080" y="1752480"/>
            <a:ext cx="3797280" cy="46339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45080" y="1752480"/>
                      <a:ext cx="3797280" cy="46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"/>
            <p:cNvSpPr/>
            <p:nvPr/>
          </p:nvSpPr>
          <p:spPr>
            <a:xfrm>
              <a:off x="1371600" y="4649760"/>
              <a:ext cx="3124080" cy="1143000"/>
            </a:xfrm>
            <a:prstGeom prst="wedgeRoundRectCallout">
              <a:avLst>
                <a:gd name="adj1" fmla="val 74643"/>
                <a:gd name="adj2" fmla="val -133750"/>
                <a:gd name="adj3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アンケート結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か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52880" y="1754280"/>
              <a:ext cx="1143000" cy="41148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47560" y="6021360"/>
              <a:ext cx="441972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給水サービスについての不満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371600" y="4648320"/>
            <a:ext cx="3124080" cy="1143000"/>
          </a:xfrm>
          <a:prstGeom prst="wedgeRoundRectCallout">
            <a:avLst>
              <a:gd name="adj1" fmla="val 73782"/>
              <a:gd name="adj2" fmla="val -132916"/>
              <a:gd name="adj3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面倒だと思う人が非常に多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水道水はおいしいか？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600200" y="1905120"/>
            <a:ext cx="6858000" cy="2971800"/>
            <a:chOff x="1600200" y="1905120"/>
            <a:chExt cx="6858000" cy="2971800"/>
          </a:xfrm>
        </p:grpSpPr>
        <p:graphicFrame>
          <p:nvGraphicFramePr>
            <p:cNvPr id="268" name=""/>
            <p:cNvGraphicFramePr/>
            <p:nvPr/>
          </p:nvGraphicFramePr>
          <p:xfrm>
            <a:off x="1600200" y="1905120"/>
            <a:ext cx="3276720" cy="2971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905120"/>
                      <a:ext cx="327672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"/>
            <p:cNvGraphicFramePr/>
            <p:nvPr/>
          </p:nvGraphicFramePr>
          <p:xfrm>
            <a:off x="5105520" y="1905120"/>
            <a:ext cx="3352680" cy="2971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1905120"/>
                      <a:ext cx="335268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2" name=""/>
          <p:cNvSpPr/>
          <p:nvPr/>
        </p:nvSpPr>
        <p:spPr>
          <a:xfrm>
            <a:off x="1447920" y="54864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0920" y="533412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ほとんどの人が水道水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おいしいとは思ってい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362320"/>
            <a:ext cx="3886200" cy="144756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33412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提案・方向付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426708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考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129528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背景・疑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362320"/>
            <a:ext cx="1905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水源の現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362320"/>
            <a:ext cx="198108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上水道の実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438280"/>
            <a:ext cx="236232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調査動機ニツイ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報告セヨ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1295280"/>
            <a:ext cx="6858000" cy="4724280"/>
            <a:chOff x="1828800" y="1295280"/>
            <a:chExt cx="6858000" cy="4724280"/>
          </a:xfrm>
        </p:grpSpPr>
        <p:sp>
          <p:nvSpPr>
            <p:cNvPr id="111" name=""/>
            <p:cNvSpPr/>
            <p:nvPr/>
          </p:nvSpPr>
          <p:spPr>
            <a:xfrm>
              <a:off x="1828800" y="1295280"/>
              <a:ext cx="2438280" cy="6858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efde3"/>
                  </a:solidFill>
                  <a:latin typeface="Times New Roman"/>
                  <a:ea typeface="HGS創英角ｺﾞｼｯｸUB"/>
                </a:rPr>
                <a:t>背景・疑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5000" y="2057400"/>
              <a:ext cx="2666880" cy="3048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5486400" y="5181120"/>
              <a:ext cx="3200400" cy="838440"/>
            </a:xfrm>
            <a:prstGeom prst="flowChartManualOperation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１．背景・疑問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828800" y="3048120"/>
            <a:ext cx="25146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市民の現状把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市民の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霞ヶ浦の印象が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昔の霞ヶ浦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きれいだっ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信用しないとやっ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いけないか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一応信用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水道水について）　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　　　　　・・・な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KIF_2121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276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221304"/>
                </a:solidFill>
                <a:latin typeface="Times New Roman"/>
              </a:rPr>
              <a:t>⑥</a:t>
            </a:r>
            <a:r>
              <a:rPr b="0" lang="ja-JP" sz="4000" spc="-1" strike="noStrike">
                <a:solidFill>
                  <a:srgbClr val="221304"/>
                </a:solidFill>
                <a:latin typeface="Times New Roman"/>
              </a:rPr>
              <a:t>今よりおいしい水を</a:t>
            </a:r>
            <a:br>
              <a:rPr sz="4000"/>
            </a:br>
            <a:r>
              <a:rPr b="0" lang="ja-JP" sz="4000" spc="-1" strike="noStrike">
                <a:solidFill>
                  <a:srgbClr val="221304"/>
                </a:solidFill>
                <a:latin typeface="Times New Roman"/>
              </a:rPr>
              <a:t>飲みたい・使いたい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676520" y="2057400"/>
            <a:ext cx="6553080" cy="3149640"/>
            <a:chOff x="1676520" y="2057400"/>
            <a:chExt cx="6553080" cy="3149640"/>
          </a:xfrm>
        </p:grpSpPr>
        <p:graphicFrame>
          <p:nvGraphicFramePr>
            <p:cNvPr id="279" name=""/>
            <p:cNvGraphicFramePr/>
            <p:nvPr/>
          </p:nvGraphicFramePr>
          <p:xfrm>
            <a:off x="1676520" y="2057400"/>
            <a:ext cx="3200400" cy="3124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3200400" cy="31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"/>
            <p:cNvGraphicFramePr/>
            <p:nvPr/>
          </p:nvGraphicFramePr>
          <p:xfrm>
            <a:off x="5105520" y="2057400"/>
            <a:ext cx="3124080" cy="31496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2057400"/>
                      <a:ext cx="3124080" cy="31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3" name=""/>
          <p:cNvSpPr/>
          <p:nvPr/>
        </p:nvSpPr>
        <p:spPr>
          <a:xfrm>
            <a:off x="1371600" y="54100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5257800"/>
            <a:ext cx="52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おいしい水の需要があ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1828800"/>
            <a:ext cx="5029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次善案：ミネラルウォータ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2590920"/>
            <a:ext cx="7238880" cy="167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飲み水として購入している人が多い　　　 　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市場規模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年　約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万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700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トン（前年比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3.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　年々、市場規模が拡大している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43000" y="2362320"/>
            <a:ext cx="3886200" cy="144756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533412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提案・方向付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26708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考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129528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背景・疑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2362320"/>
            <a:ext cx="1905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水源の現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2362320"/>
            <a:ext cx="198108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上水道の実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8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1320" y="2286000"/>
            <a:ext cx="220968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現状ヲ踏マエ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考察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報告セヨ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828800" y="1905120"/>
            <a:ext cx="6705720" cy="3962160"/>
            <a:chOff x="1828800" y="1905120"/>
            <a:chExt cx="6705720" cy="3962160"/>
          </a:xfrm>
        </p:grpSpPr>
        <p:sp>
          <p:nvSpPr>
            <p:cNvPr id="298" name=""/>
            <p:cNvSpPr/>
            <p:nvPr/>
          </p:nvSpPr>
          <p:spPr>
            <a:xfrm>
              <a:off x="1828800" y="4267080"/>
              <a:ext cx="2438280" cy="6858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efde3"/>
                  </a:solidFill>
                  <a:latin typeface="Times New Roman"/>
                  <a:ea typeface="HG創英角ｺﾞｼｯｸUB"/>
                </a:rPr>
                <a:t>考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62720" y="1905120"/>
              <a:ext cx="2666880" cy="3047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0800000">
              <a:off x="5334120" y="5029200"/>
              <a:ext cx="3200400" cy="838080"/>
            </a:xfrm>
            <a:prstGeom prst="flowChartManualOperation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５．考察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905120" y="3048120"/>
            <a:ext cx="22860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市民の現状把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221304"/>
                </a:solidFill>
                <a:latin typeface="Times New Roman"/>
              </a:rPr>
              <a:t>現状把握から考えられる</a:t>
            </a:r>
            <a:br>
              <a:rPr sz="3600"/>
            </a:br>
            <a:r>
              <a:rPr b="0" lang="ja-JP" sz="3600" spc="-1" strike="noStrike">
                <a:solidFill>
                  <a:srgbClr val="221304"/>
                </a:solidFill>
                <a:latin typeface="Times New Roman"/>
              </a:rPr>
              <a:t>水サービスに対する意識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57400" y="3886200"/>
            <a:ext cx="1219320" cy="838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水道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95480" y="2057400"/>
            <a:ext cx="13716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給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サービ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1905120"/>
            <a:ext cx="3657600" cy="2057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浄水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3600" y="1981080"/>
            <a:ext cx="1828800" cy="12193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ミネラ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ウォータ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676520" y="1828800"/>
            <a:ext cx="0" cy="4191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1752480"/>
            <a:ext cx="30456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76520" y="6019920"/>
            <a:ext cx="6248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86600" y="6172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おいし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77120" y="3276720"/>
            <a:ext cx="1218960" cy="2361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湧き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3733920"/>
            <a:ext cx="1523880" cy="838080"/>
          </a:xfrm>
          <a:prstGeom prst="wedgeRoundRectCallout">
            <a:avLst>
              <a:gd name="adj1" fmla="val 57708"/>
              <a:gd name="adj2" fmla="val 70453"/>
              <a:gd name="adj3" fmla="val 1666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危険性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細菌の存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752480" y="4800600"/>
            <a:ext cx="6096240" cy="533520"/>
            <a:chOff x="1752480" y="4800600"/>
            <a:chExt cx="6096240" cy="533520"/>
          </a:xfrm>
        </p:grpSpPr>
        <p:sp>
          <p:nvSpPr>
            <p:cNvPr id="314" name=""/>
            <p:cNvSpPr/>
            <p:nvPr/>
          </p:nvSpPr>
          <p:spPr>
            <a:xfrm>
              <a:off x="1752480" y="4800600"/>
              <a:ext cx="6096240" cy="0"/>
            </a:xfrm>
            <a:prstGeom prst="line">
              <a:avLst/>
            </a:prstGeom>
            <a:ln w="316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4876920"/>
              <a:ext cx="220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3333cc"/>
                  </a:solidFill>
                  <a:latin typeface="Times New Roman"/>
                </a:rPr>
                <a:t>水質基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221304"/>
                </a:solidFill>
                <a:latin typeface="Times New Roman"/>
              </a:rPr>
              <a:t>現状把握のまとめ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半数以上の人が浄水器を利用してい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水道水の安全性に対して不満を持ってい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給水サービスについての不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おいしい水の需要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ミネラルウォーターはコスト面の負担が大き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年間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146000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円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by2002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年度生活安全環境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05120" y="5410080"/>
            <a:ext cx="6172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487692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5562720"/>
            <a:ext cx="5638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ここから水の価値を定義付ける要素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見出せるのではなかろう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43000" y="2362320"/>
            <a:ext cx="3886200" cy="144756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533412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提案・方向付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426708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考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129528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背景・疑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2362320"/>
            <a:ext cx="1905120" cy="761760"/>
          </a:xfrm>
          <a:prstGeom prst="ellipse">
            <a:avLst/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水源の現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2362320"/>
            <a:ext cx="1981080" cy="761760"/>
          </a:xfrm>
          <a:prstGeom prst="ellipse">
            <a:avLst/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上水道の実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812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2720" y="2286000"/>
            <a:ext cx="220968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現状ヲ打破ス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新プロジェクト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方向性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　明確ニセヨ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600200" y="1905120"/>
            <a:ext cx="6933960" cy="4114800"/>
            <a:chOff x="1600200" y="1905120"/>
            <a:chExt cx="6933960" cy="4114800"/>
          </a:xfrm>
        </p:grpSpPr>
        <p:sp>
          <p:nvSpPr>
            <p:cNvPr id="332" name=""/>
            <p:cNvSpPr/>
            <p:nvPr/>
          </p:nvSpPr>
          <p:spPr>
            <a:xfrm>
              <a:off x="1600200" y="5334120"/>
              <a:ext cx="2971800" cy="6858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efde3"/>
                  </a:solidFill>
                  <a:latin typeface="Times New Roman"/>
                  <a:ea typeface="HG創英角ｺﾞｼｯｸUB"/>
                </a:rPr>
                <a:t>提案・方向付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905120"/>
              <a:ext cx="2666880" cy="3047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0800000">
              <a:off x="4952520" y="5029200"/>
              <a:ext cx="3581640" cy="838080"/>
            </a:xfrm>
            <a:prstGeom prst="flowChartManualOperation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６．提案・方向付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905120" y="3048120"/>
            <a:ext cx="22860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市民の現状把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展望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37" name="PE01832_" descr=""/>
          <p:cNvPicPr/>
          <p:nvPr/>
        </p:nvPicPr>
        <p:blipFill>
          <a:blip r:embed="rId1"/>
          <a:stretch/>
        </p:blipFill>
        <p:spPr>
          <a:xfrm>
            <a:off x="4495680" y="4952880"/>
            <a:ext cx="1752840" cy="1602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638680" y="2209680"/>
            <a:ext cx="914400" cy="838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安全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10280" y="2133720"/>
            <a:ext cx="914400" cy="838080"/>
          </a:xfrm>
          <a:prstGeom prst="ellipse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おいし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581280"/>
            <a:ext cx="838080" cy="83844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コス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38880" y="3581280"/>
            <a:ext cx="838440" cy="7621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即時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295280" y="1676520"/>
            <a:ext cx="7467840" cy="3276360"/>
            <a:chOff x="1295280" y="1676520"/>
            <a:chExt cx="7467840" cy="3276360"/>
          </a:xfrm>
        </p:grpSpPr>
        <p:grpSp>
          <p:nvGrpSpPr>
            <p:cNvPr id="343" name=""/>
            <p:cNvGrpSpPr/>
            <p:nvPr/>
          </p:nvGrpSpPr>
          <p:grpSpPr>
            <a:xfrm>
              <a:off x="5181480" y="1676520"/>
              <a:ext cx="3581640" cy="3276360"/>
              <a:chOff x="5181480" y="1676520"/>
              <a:chExt cx="3581640" cy="3276360"/>
            </a:xfrm>
          </p:grpSpPr>
          <p:sp>
            <p:nvSpPr>
              <p:cNvPr id="344" name=""/>
              <p:cNvSpPr/>
              <p:nvPr/>
            </p:nvSpPr>
            <p:spPr>
              <a:xfrm>
                <a:off x="6216480" y="2666880"/>
                <a:ext cx="1287720" cy="1219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Times New Roman"/>
                  </a:rPr>
                  <a:t>水の四要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181480" y="1676520"/>
                <a:ext cx="3581640" cy="3276360"/>
              </a:xfrm>
              <a:prstGeom prst="cloudCallout">
                <a:avLst>
                  <a:gd name="adj1" fmla="val -32625"/>
                  <a:gd name="adj2" fmla="val 5440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1295280" y="1676520"/>
              <a:ext cx="3505320" cy="2895480"/>
            </a:xfrm>
            <a:prstGeom prst="wedgeEllipseCallout">
              <a:avLst>
                <a:gd name="adj1" fmla="val 54893"/>
                <a:gd name="adj2" fmla="val 7181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　　　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676520" y="251460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市民が水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求めているもの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95280" y="1676520"/>
            <a:ext cx="3505320" cy="2895480"/>
          </a:xfrm>
          <a:prstGeom prst="wedgeEllipseCallout">
            <a:avLst>
              <a:gd name="adj1" fmla="val 55615"/>
              <a:gd name="adj2" fmla="val 723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予備調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結果か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95280" y="1676520"/>
            <a:ext cx="3505320" cy="2895480"/>
          </a:xfrm>
          <a:prstGeom prst="wedgeEllipseCallout">
            <a:avLst>
              <a:gd name="adj1" fmla="val 55074"/>
              <a:gd name="adj2" fmla="val 71875"/>
            </a:avLst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四つ全てを備えた水を飲める方法を考えよ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目標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47920" y="1905120"/>
            <a:ext cx="7086240" cy="3352680"/>
            <a:chOff x="1447920" y="1905120"/>
            <a:chExt cx="7086240" cy="3352680"/>
          </a:xfrm>
        </p:grpSpPr>
        <p:grpSp>
          <p:nvGrpSpPr>
            <p:cNvPr id="352" name=""/>
            <p:cNvGrpSpPr/>
            <p:nvPr/>
          </p:nvGrpSpPr>
          <p:grpSpPr>
            <a:xfrm>
              <a:off x="1454040" y="1907640"/>
              <a:ext cx="7072920" cy="3346560"/>
              <a:chOff x="1454040" y="1907640"/>
              <a:chExt cx="7072920" cy="334656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1454040" y="1907640"/>
                <a:ext cx="1536120" cy="614880"/>
                <a:chOff x="1454040" y="1907640"/>
                <a:chExt cx="1536120" cy="6148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590120" y="1907640"/>
                  <a:ext cx="126432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54040" y="1907640"/>
                  <a:ext cx="15361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990520" y="1907640"/>
                <a:ext cx="1289520" cy="614880"/>
                <a:chOff x="2990520" y="1907640"/>
                <a:chExt cx="1289520" cy="6148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3126600" y="1907640"/>
                  <a:ext cx="101772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0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安全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990520" y="1907640"/>
                  <a:ext cx="12895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4280400" y="1907640"/>
                <a:ext cx="1412640" cy="614880"/>
                <a:chOff x="4280400" y="1907640"/>
                <a:chExt cx="1412640" cy="6148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416480" y="1907640"/>
                  <a:ext cx="114084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0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おいしさ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280400" y="1907640"/>
                  <a:ext cx="141264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693760" y="1907640"/>
                <a:ext cx="1416240" cy="614880"/>
                <a:chOff x="5693760" y="1907640"/>
                <a:chExt cx="1416240" cy="6148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829840" y="1907640"/>
                  <a:ext cx="114372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4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コスト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693760" y="1907640"/>
                  <a:ext cx="141624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7110720" y="1907640"/>
                <a:ext cx="1416240" cy="614880"/>
                <a:chOff x="7110720" y="1907640"/>
                <a:chExt cx="1416240" cy="6148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246800" y="1907640"/>
                  <a:ext cx="114372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4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即時性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110720" y="1907640"/>
                  <a:ext cx="141624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1454040" y="2522520"/>
                <a:ext cx="1536120" cy="500400"/>
                <a:chOff x="1454040" y="2522520"/>
                <a:chExt cx="1536120" cy="5004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590120" y="2522520"/>
                  <a:ext cx="126432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0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水道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454040" y="2522520"/>
                  <a:ext cx="153612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2990520" y="2522520"/>
                <a:ext cx="1289520" cy="500400"/>
                <a:chOff x="2990520" y="2522520"/>
                <a:chExt cx="1289520" cy="5004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126600" y="2522520"/>
                  <a:ext cx="101772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8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  </a:t>
                  </a:r>
                  <a:r>
                    <a:rPr b="0" lang="ja-JP" sz="28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○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990520" y="2522520"/>
                  <a:ext cx="128952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4280400" y="2522520"/>
                <a:ext cx="1412640" cy="500400"/>
                <a:chOff x="4280400" y="2522520"/>
                <a:chExt cx="1412640" cy="5004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280400" y="2522520"/>
                  <a:ext cx="1412640" cy="500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4280400" y="2522520"/>
                  <a:ext cx="1412280" cy="500400"/>
                  <a:chOff x="4280400" y="2522520"/>
                  <a:chExt cx="1412280" cy="50040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4416480" y="2522520"/>
                    <a:ext cx="1140480" cy="500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2800" spc="-1" strike="noStrike">
                        <a:solidFill>
                          <a:srgbClr val="000000"/>
                        </a:solidFill>
                        <a:latin typeface="Century"/>
                        <a:ea typeface="HGPｺﾞｼｯｸE"/>
                      </a:rPr>
                      <a:t>   </a:t>
                    </a:r>
                    <a:r>
                      <a:rPr b="0" lang="ja-JP" sz="2800" spc="-1" strike="noStrike">
                        <a:solidFill>
                          <a:srgbClr val="000000"/>
                        </a:solidFill>
                        <a:latin typeface="Century"/>
                        <a:ea typeface="HGPｺﾞｼｯｸE"/>
                      </a:rPr>
                      <a:t>×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280400" y="2522520"/>
                    <a:ext cx="141228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" name=""/>
              <p:cNvGrpSpPr/>
              <p:nvPr/>
            </p:nvGrpSpPr>
            <p:grpSpPr>
              <a:xfrm>
                <a:off x="5693760" y="2522520"/>
                <a:ext cx="1416240" cy="500400"/>
                <a:chOff x="5693760" y="2522520"/>
                <a:chExt cx="1416240" cy="5004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829840" y="2522520"/>
                  <a:ext cx="114372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4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　低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693760" y="2522520"/>
                  <a:ext cx="141624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110720" y="2522520"/>
                <a:ext cx="1416240" cy="500400"/>
                <a:chOff x="7110720" y="2522520"/>
                <a:chExt cx="1416240" cy="5004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246800" y="2522520"/>
                  <a:ext cx="114372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400" spc="-1" strike="noStrike">
                      <a:solidFill>
                        <a:srgbClr val="000000"/>
                      </a:solidFill>
                      <a:latin typeface="Century"/>
                      <a:ea typeface="HGSｺﾞｼｯｸE"/>
                    </a:rPr>
                    <a:t>  </a:t>
                  </a:r>
                  <a:r>
                    <a:rPr b="0" lang="ja-JP" sz="2400" spc="-1" strike="noStrike">
                      <a:solidFill>
                        <a:srgbClr val="000000"/>
                      </a:solidFill>
                      <a:latin typeface="Century"/>
                      <a:ea typeface="HGSｺﾞｼｯｸE"/>
                    </a:rPr>
                    <a:t>高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110720" y="2522520"/>
                  <a:ext cx="141624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1454040" y="3023280"/>
                <a:ext cx="1536120" cy="500040"/>
                <a:chOff x="1454040" y="3023280"/>
                <a:chExt cx="1536120" cy="5000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1590120" y="3023280"/>
                  <a:ext cx="1264320" cy="5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0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浄水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454040" y="3023280"/>
                  <a:ext cx="1536120" cy="50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2990520" y="3023280"/>
                <a:ext cx="1289520" cy="500040"/>
                <a:chOff x="2990520" y="3023280"/>
                <a:chExt cx="1289520" cy="5000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3126600" y="3023280"/>
                  <a:ext cx="1017720" cy="5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800" spc="-1" strike="noStrike">
                      <a:solidFill>
                        <a:srgbClr val="000000"/>
                      </a:solidFill>
                      <a:latin typeface="Times New Roman"/>
                      <a:ea typeface="HGPｺﾞｼｯｸE"/>
                    </a:rPr>
                    <a:t>  ○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990520" y="3023280"/>
                  <a:ext cx="1289520" cy="50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280400" y="3023280"/>
                <a:ext cx="1412640" cy="500040"/>
                <a:chOff x="4280400" y="3023280"/>
                <a:chExt cx="1412640" cy="5000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4280400" y="3023280"/>
                  <a:ext cx="1412640" cy="5000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" name=""/>
                <p:cNvGrpSpPr/>
                <p:nvPr/>
              </p:nvGrpSpPr>
              <p:grpSpPr>
                <a:xfrm>
                  <a:off x="4280400" y="3023280"/>
                  <a:ext cx="1412280" cy="500040"/>
                  <a:chOff x="4280400" y="3023280"/>
                  <a:chExt cx="1412280" cy="50004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4416480" y="3023280"/>
                    <a:ext cx="1140480" cy="5000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2800" spc="-1" strike="noStrike">
                        <a:solidFill>
                          <a:srgbClr val="000000"/>
                        </a:solidFill>
                        <a:latin typeface="Century"/>
                        <a:ea typeface="HGPｺﾞｼｯｸE"/>
                      </a:rPr>
                      <a:t>  ○</a:t>
                    </a:r>
                    <a:r>
                      <a:rPr b="0" lang="ja-JP" sz="2800" spc="-1" strike="noStrike">
                        <a:solidFill>
                          <a:srgbClr val="000000"/>
                        </a:solidFill>
                        <a:latin typeface="Century"/>
                        <a:ea typeface="HGPｺﾞｼｯｸE"/>
                      </a:rPr>
                      <a:t>？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280400" y="3023280"/>
                    <a:ext cx="1412280" cy="500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" name=""/>
              <p:cNvGrpSpPr/>
              <p:nvPr/>
            </p:nvGrpSpPr>
            <p:grpSpPr>
              <a:xfrm>
                <a:off x="5693760" y="3023280"/>
                <a:ext cx="1416240" cy="500040"/>
                <a:chOff x="5693760" y="3023280"/>
                <a:chExt cx="1416240" cy="5000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5693760" y="3023280"/>
                  <a:ext cx="1416240" cy="500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5693760" y="3023280"/>
                  <a:ext cx="1415880" cy="500040"/>
                  <a:chOff x="5693760" y="3023280"/>
                  <a:chExt cx="1415880" cy="50004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5829840" y="3023280"/>
                    <a:ext cx="1143360" cy="500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2400" spc="-1" strike="noStrike">
                        <a:solidFill>
                          <a:srgbClr val="000000"/>
                        </a:solidFill>
                        <a:latin typeface="Century"/>
                        <a:ea typeface="HGPｺﾞｼｯｸE"/>
                      </a:rPr>
                      <a:t>　高い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693760" y="3023280"/>
                    <a:ext cx="1415880" cy="500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7110720" y="3023280"/>
                <a:ext cx="1416240" cy="500040"/>
                <a:chOff x="7110720" y="3023280"/>
                <a:chExt cx="1416240" cy="5000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246800" y="3023280"/>
                  <a:ext cx="1143720" cy="5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4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  </a:t>
                  </a:r>
                  <a:r>
                    <a:rPr b="0" lang="ja-JP" sz="24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高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110720" y="3023280"/>
                  <a:ext cx="1416240" cy="50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1454040" y="3523320"/>
                <a:ext cx="1536120" cy="614880"/>
                <a:chOff x="1454040" y="3523320"/>
                <a:chExt cx="1536120" cy="6148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590120" y="3523320"/>
                  <a:ext cx="126432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0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給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0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ｻｰﾋﾞｽ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454040" y="3523320"/>
                  <a:ext cx="15361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2990520" y="3523320"/>
                <a:ext cx="1289520" cy="614880"/>
                <a:chOff x="2990520" y="3523320"/>
                <a:chExt cx="1289520" cy="6148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3126600" y="3523320"/>
                  <a:ext cx="101772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　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HGPｺﾞｼｯｸE"/>
                    </a:rPr>
                    <a:t>◎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990520" y="3523320"/>
                  <a:ext cx="12895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4280400" y="3523320"/>
                <a:ext cx="1412640" cy="614880"/>
                <a:chOff x="4280400" y="3523320"/>
                <a:chExt cx="1412640" cy="6148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4280400" y="3523320"/>
                  <a:ext cx="1412640" cy="6148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"/>
                <p:cNvGrpSpPr/>
                <p:nvPr/>
              </p:nvGrpSpPr>
              <p:grpSpPr>
                <a:xfrm>
                  <a:off x="4280400" y="3523320"/>
                  <a:ext cx="1412280" cy="614880"/>
                  <a:chOff x="4280400" y="3523320"/>
                  <a:chExt cx="1412280" cy="61488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4416480" y="3523320"/>
                    <a:ext cx="1140480" cy="6148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2800" spc="-1" strike="noStrike">
                        <a:solidFill>
                          <a:srgbClr val="000000"/>
                        </a:solidFill>
                        <a:latin typeface="Century"/>
                        <a:ea typeface="HGPｺﾞｼｯｸE"/>
                      </a:rPr>
                      <a:t>  ○</a:t>
                    </a:r>
                    <a:r>
                      <a:rPr b="0" lang="ja-JP" sz="2800" spc="-1" strike="noStrike">
                        <a:solidFill>
                          <a:srgbClr val="000000"/>
                        </a:solidFill>
                        <a:latin typeface="Century"/>
                        <a:ea typeface="HGPｺﾞｼｯｸE"/>
                      </a:rPr>
                      <a:t>？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280400" y="3523320"/>
                    <a:ext cx="1412280" cy="614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5693760" y="3523320"/>
                <a:ext cx="1416240" cy="614880"/>
                <a:chOff x="5693760" y="3523320"/>
                <a:chExt cx="1416240" cy="614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5829840" y="3523320"/>
                  <a:ext cx="114372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4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　低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693760" y="3523320"/>
                  <a:ext cx="141624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110720" y="3523320"/>
                <a:ext cx="1416240" cy="614880"/>
                <a:chOff x="7110720" y="3523320"/>
                <a:chExt cx="1416240" cy="6148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110720" y="3523320"/>
                  <a:ext cx="1416240" cy="614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7110720" y="3523320"/>
                  <a:ext cx="1415880" cy="614880"/>
                  <a:chOff x="7110720" y="3523320"/>
                  <a:chExt cx="1415880" cy="6148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7246800" y="3523320"/>
                    <a:ext cx="1143360" cy="614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2400" spc="-1" strike="noStrike">
                        <a:solidFill>
                          <a:srgbClr val="000000"/>
                        </a:solidFill>
                        <a:latin typeface="Times New Roman"/>
                        <a:ea typeface="HGPｺﾞｼｯｸE"/>
                      </a:rPr>
                      <a:t>  </a:t>
                    </a:r>
                    <a:r>
                      <a:rPr b="0" lang="ja-JP" sz="2400" spc="-1" strike="noStrike">
                        <a:solidFill>
                          <a:srgbClr val="000000"/>
                        </a:solidFill>
                        <a:latin typeface="Times New Roman"/>
                        <a:ea typeface="HGPｺﾞｼｯｸE"/>
                      </a:rPr>
                      <a:t>低い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110720" y="3523320"/>
                    <a:ext cx="1415880" cy="614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3" name=""/>
              <p:cNvGrpSpPr/>
              <p:nvPr/>
            </p:nvGrpSpPr>
            <p:grpSpPr>
              <a:xfrm>
                <a:off x="1454040" y="4138560"/>
                <a:ext cx="1536120" cy="500400"/>
                <a:chOff x="1454040" y="4138560"/>
                <a:chExt cx="1536120" cy="500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590120" y="4138560"/>
                  <a:ext cx="126432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0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湧き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454040" y="4138560"/>
                  <a:ext cx="153612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2990520" y="4138560"/>
                <a:ext cx="1289520" cy="500400"/>
                <a:chOff x="2990520" y="4138560"/>
                <a:chExt cx="1289520" cy="50040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990520" y="4138560"/>
                  <a:ext cx="1289520" cy="500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2990520" y="4138560"/>
                  <a:ext cx="1289160" cy="500400"/>
                  <a:chOff x="2990520" y="4138560"/>
                  <a:chExt cx="1289160" cy="5004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126600" y="4138560"/>
                    <a:ext cx="1017360" cy="500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2800" spc="-1" strike="noStrike">
                        <a:solidFill>
                          <a:srgbClr val="000000"/>
                        </a:solidFill>
                        <a:latin typeface="Century"/>
                        <a:ea typeface="HGPｺﾞｼｯｸE"/>
                      </a:rPr>
                      <a:t>  △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990520" y="4138560"/>
                    <a:ext cx="128916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4280400" y="4138560"/>
                <a:ext cx="1412640" cy="500400"/>
                <a:chOff x="4280400" y="4138560"/>
                <a:chExt cx="1412640" cy="5004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416480" y="4138560"/>
                  <a:ext cx="114084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8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   ◎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280400" y="4138560"/>
                  <a:ext cx="141264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5693760" y="4138560"/>
                <a:ext cx="1416240" cy="500400"/>
                <a:chOff x="5693760" y="4138560"/>
                <a:chExt cx="1416240" cy="5004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829840" y="4138560"/>
                  <a:ext cx="1143720" cy="50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4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　低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693760" y="4138560"/>
                  <a:ext cx="1416240" cy="50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7110720" y="4138560"/>
                <a:ext cx="1416240" cy="500400"/>
                <a:chOff x="7110720" y="4138560"/>
                <a:chExt cx="1416240" cy="5004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7110720" y="4138560"/>
                  <a:ext cx="1416240" cy="500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7110720" y="4138560"/>
                  <a:ext cx="1415880" cy="500400"/>
                  <a:chOff x="7110720" y="4138560"/>
                  <a:chExt cx="1415880" cy="5004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7246800" y="4138560"/>
                    <a:ext cx="1143360" cy="500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2400" spc="-1" strike="noStrike">
                        <a:solidFill>
                          <a:srgbClr val="000000"/>
                        </a:solidFill>
                        <a:latin typeface="HGPｺﾞｼｯｸE"/>
                        <a:ea typeface="HGPｺﾞｼｯｸE"/>
                      </a:rPr>
                      <a:t>  </a:t>
                    </a:r>
                    <a:r>
                      <a:rPr b="0" lang="ja-JP" sz="2400" spc="-1" strike="noStrike">
                        <a:solidFill>
                          <a:srgbClr val="000000"/>
                        </a:solidFill>
                        <a:latin typeface="HGPｺﾞｼｯｸE"/>
                        <a:ea typeface="HGPｺﾞｼｯｸE"/>
                      </a:rPr>
                      <a:t>低い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110720" y="4138560"/>
                    <a:ext cx="141588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1454040" y="4639320"/>
                <a:ext cx="1536120" cy="614880"/>
                <a:chOff x="1454040" y="4639320"/>
                <a:chExt cx="1536120" cy="6148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1590120" y="4639320"/>
                  <a:ext cx="126432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8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ミネラル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8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ウォータ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454040" y="4639320"/>
                  <a:ext cx="15361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2990520" y="4639320"/>
                <a:ext cx="1289520" cy="614880"/>
                <a:chOff x="2990520" y="4639320"/>
                <a:chExt cx="1289520" cy="6148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126600" y="4639320"/>
                  <a:ext cx="101772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800" spc="-1" strike="noStrike">
                      <a:solidFill>
                        <a:srgbClr val="000000"/>
                      </a:solidFill>
                      <a:latin typeface="Century"/>
                      <a:ea typeface="HGPｺﾞｼｯｸE"/>
                    </a:rPr>
                    <a:t>  ◎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990520" y="4639320"/>
                  <a:ext cx="12895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280400" y="4639320"/>
                <a:ext cx="1412640" cy="614880"/>
                <a:chOff x="4280400" y="4639320"/>
                <a:chExt cx="1412640" cy="6148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416480" y="4639320"/>
                  <a:ext cx="114084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800" spc="-1" strike="noStrike">
                      <a:solidFill>
                        <a:srgbClr val="000000"/>
                      </a:solidFill>
                      <a:latin typeface="Times New Roman"/>
                      <a:ea typeface="HGPｺﾞｼｯｸE"/>
                    </a:rPr>
                    <a:t>　 ◎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280400" y="4639320"/>
                  <a:ext cx="141264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693760" y="4639320"/>
                <a:ext cx="1416240" cy="614880"/>
                <a:chOff x="5693760" y="4639320"/>
                <a:chExt cx="1416240" cy="6148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693760" y="4639320"/>
                  <a:ext cx="1416240" cy="614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5693760" y="4639320"/>
                  <a:ext cx="1415880" cy="614880"/>
                  <a:chOff x="5693760" y="4639320"/>
                  <a:chExt cx="1415880" cy="6148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5829840" y="4639320"/>
                    <a:ext cx="1143360" cy="614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2400" spc="-1" strike="noStrike">
                        <a:solidFill>
                          <a:srgbClr val="000000"/>
                        </a:solidFill>
                        <a:latin typeface="Century"/>
                        <a:ea typeface="HGPｺﾞｼｯｸE"/>
                      </a:rPr>
                      <a:t>　高い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693760" y="4639320"/>
                    <a:ext cx="1415880" cy="614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7110720" y="4639320"/>
                <a:ext cx="1416240" cy="614880"/>
                <a:chOff x="7110720" y="4639320"/>
                <a:chExt cx="1416240" cy="6148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110720" y="4639320"/>
                  <a:ext cx="1416240" cy="614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7110720" y="4639320"/>
                  <a:ext cx="1415880" cy="614880"/>
                  <a:chOff x="7110720" y="4639320"/>
                  <a:chExt cx="1415880" cy="6148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7246800" y="4639320"/>
                    <a:ext cx="1143360" cy="614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2400" spc="-1" strike="noStrike">
                        <a:solidFill>
                          <a:srgbClr val="000000"/>
                        </a:solidFill>
                        <a:latin typeface="Century"/>
                        <a:ea typeface="HGPｺﾞｼｯｸE"/>
                      </a:rPr>
                      <a:t>  </a:t>
                    </a:r>
                    <a:r>
                      <a:rPr b="0" lang="ja-JP" sz="2400" spc="-1" strike="noStrike">
                        <a:solidFill>
                          <a:srgbClr val="000000"/>
                        </a:solidFill>
                        <a:latin typeface="Century"/>
                        <a:ea typeface="HGPｺﾞｼｯｸE"/>
                      </a:rPr>
                      <a:t>低い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110720" y="4639320"/>
                    <a:ext cx="1415880" cy="614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61" name=""/>
            <p:cNvSpPr/>
            <p:nvPr/>
          </p:nvSpPr>
          <p:spPr>
            <a:xfrm>
              <a:off x="1447920" y="1905120"/>
              <a:ext cx="7086240" cy="33526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1447920" y="5257800"/>
            <a:ext cx="15238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プロジェクト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71800" y="5257800"/>
            <a:ext cx="129528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PｺﾞｼｯｸE"/>
              </a:rPr>
              <a:t>◎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PｺﾞｼｯｸE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5257800"/>
            <a:ext cx="137160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PｺﾞｼｯｸE"/>
              </a:rPr>
              <a:t>◎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PｺﾞｼｯｸE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38680" y="5257800"/>
            <a:ext cx="14479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PｺﾞｼｯｸE"/>
              </a:rPr>
              <a:t>低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86600" y="5257800"/>
            <a:ext cx="13716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PｺﾞｼｯｸE"/>
              </a:rPr>
              <a:t>高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　　　　　今後の方向性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5880" y="1981080"/>
            <a:ext cx="2286000" cy="1295640"/>
          </a:xfrm>
          <a:prstGeom prst="ellipse">
            <a:avLst/>
          </a:prstGeom>
          <a:noFill/>
          <a:ln w="63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新プロジェクト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562520" y="3285720"/>
            <a:ext cx="266760" cy="1353960"/>
          </a:xfrm>
          <a:prstGeom prst="line">
            <a:avLst/>
          </a:prstGeom>
          <a:ln w="63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283440" y="3289320"/>
            <a:ext cx="691920" cy="1193760"/>
          </a:xfrm>
          <a:prstGeom prst="line">
            <a:avLst/>
          </a:prstGeom>
          <a:ln w="63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272920" y="3154320"/>
            <a:ext cx="1188720" cy="700920"/>
          </a:xfrm>
          <a:prstGeom prst="line">
            <a:avLst/>
          </a:prstGeom>
          <a:ln w="63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40680" y="2404080"/>
            <a:ext cx="2451600" cy="74880"/>
          </a:xfrm>
          <a:prstGeom prst="line">
            <a:avLst/>
          </a:prstGeom>
          <a:ln w="63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806000" y="2932200"/>
            <a:ext cx="1360800" cy="230760"/>
          </a:xfrm>
          <a:prstGeom prst="line">
            <a:avLst/>
          </a:prstGeom>
          <a:ln w="63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4600" y="2743200"/>
            <a:ext cx="2514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霞ヶ浦の浄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24080" y="35812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安全性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もっとアピ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9880" y="4419720"/>
            <a:ext cx="3124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給水サービス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積極利用促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46483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おいしい水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配送サービ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PE01753_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408320" cy="1828800"/>
          </a:xfrm>
          <a:prstGeom prst="rect">
            <a:avLst/>
          </a:prstGeom>
          <a:ln w="0">
            <a:noFill/>
          </a:ln>
        </p:spPr>
      </p:pic>
      <p:grpSp>
        <p:nvGrpSpPr>
          <p:cNvPr id="479" name=""/>
          <p:cNvGrpSpPr/>
          <p:nvPr/>
        </p:nvGrpSpPr>
        <p:grpSpPr>
          <a:xfrm>
            <a:off x="2819520" y="5562720"/>
            <a:ext cx="3276360" cy="533160"/>
            <a:chOff x="2819520" y="5562720"/>
            <a:chExt cx="3276360" cy="533160"/>
          </a:xfrm>
        </p:grpSpPr>
        <p:sp>
          <p:nvSpPr>
            <p:cNvPr id="480" name=""/>
            <p:cNvSpPr/>
            <p:nvPr/>
          </p:nvSpPr>
          <p:spPr>
            <a:xfrm>
              <a:off x="2895480" y="5638680"/>
              <a:ext cx="3048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3300"/>
                  </a:solidFill>
                  <a:latin typeface="Times New Roman"/>
                </a:rPr>
                <a:t>実現可能性を探ってい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19520" y="5562720"/>
              <a:ext cx="3276360" cy="533160"/>
            </a:xfrm>
            <a:prstGeom prst="wedgeRoundRectCallout">
              <a:avLst>
                <a:gd name="adj1" fmla="val -55763"/>
                <a:gd name="adj2" fmla="val -107439"/>
                <a:gd name="adj3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219320" y="20574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浄水場へ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オゾン殺菌の導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参考資料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つくば市役所ホームペー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〈株〉テラオカホームペー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J.Nakanishi Home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ミネラルウォーターストアホームペー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大阪府ホームペー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茨城県保健福祉部生活衛生課水道整備グループホームページ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981080"/>
            <a:ext cx="685800" cy="39625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3352680"/>
            <a:ext cx="6858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495680"/>
            <a:ext cx="1295280" cy="609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気のせい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505320"/>
            <a:ext cx="129564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上水道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514600"/>
            <a:ext cx="10666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水源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1905120"/>
            <a:ext cx="761760" cy="4647960"/>
          </a:xfrm>
          <a:custGeom>
            <a:avLst/>
            <a:gdLst>
              <a:gd name="textAreaLeft" fmla="*/ 37080 w 761760"/>
              <a:gd name="textAreaRight" fmla="*/ 724680 w 761760"/>
              <a:gd name="textAreaTop" fmla="*/ 37080 h 4647960"/>
              <a:gd name="textAreaBottom" fmla="*/ 4610880 h 4647960"/>
            </a:gdLst>
            <a:ahLst/>
            <a:rect l="textAreaLeft" t="textAreaTop" r="textAreaRight" b="textAreaBottom"/>
            <a:pathLst>
              <a:path w="21600" h="131743">
                <a:moveTo>
                  <a:pt x="3600" y="0"/>
                </a:moveTo>
                <a:arcTo wR="3600" hR="3600" stAng="16200000" swAng="-5400000"/>
                <a:lnTo>
                  <a:pt x="0" y="128143"/>
                </a:lnTo>
                <a:arcTo wR="3600" hR="3600" stAng="10800000" swAng="-5400000"/>
                <a:lnTo>
                  <a:pt x="18000" y="131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浄水器・給水サービスでの対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3505320"/>
            <a:ext cx="2895480" cy="838080"/>
          </a:xfrm>
          <a:prstGeom prst="rightArrow">
            <a:avLst>
              <a:gd name="adj1" fmla="val 50000"/>
              <a:gd name="adj2" fmla="val 8637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352680"/>
            <a:ext cx="6858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447920"/>
            <a:ext cx="2743200" cy="1523880"/>
          </a:xfrm>
          <a:prstGeom prst="cloudCallout">
            <a:avLst>
              <a:gd name="adj1" fmla="val -43750"/>
              <a:gd name="adj2" fmla="val 111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住民は満足しているの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800600"/>
            <a:ext cx="3200400" cy="1676520"/>
          </a:xfrm>
          <a:prstGeom prst="cloudCallout">
            <a:avLst>
              <a:gd name="adj1" fmla="val 6745"/>
              <a:gd name="adj2" fmla="val -9630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っ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おいしい水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飲めないの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514600" y="1905120"/>
            <a:ext cx="1523880" cy="4190400"/>
            <a:chOff x="2514600" y="1905120"/>
            <a:chExt cx="1523880" cy="4190400"/>
          </a:xfrm>
        </p:grpSpPr>
        <p:sp>
          <p:nvSpPr>
            <p:cNvPr id="128" name=""/>
            <p:cNvSpPr/>
            <p:nvPr/>
          </p:nvSpPr>
          <p:spPr>
            <a:xfrm>
              <a:off x="2514600" y="1981080"/>
              <a:ext cx="1523880" cy="411444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3200" y="1905120"/>
              <a:ext cx="1143000" cy="380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原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疑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1" name="PE0183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828800" cy="1698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71600" y="1676520"/>
            <a:ext cx="6477120" cy="3124080"/>
          </a:xfrm>
          <a:prstGeom prst="cloudCallout">
            <a:avLst>
              <a:gd name="adj1" fmla="val 52134"/>
              <a:gd name="adj2" fmla="val 4624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つくばの水っておいしくないけど、本当のところ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どうなっているのでしょうかね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2362320"/>
            <a:ext cx="3886200" cy="144756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533412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提案・方向付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426708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考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129528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背景・疑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362320"/>
            <a:ext cx="1905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水源の現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2362320"/>
            <a:ext cx="198108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上水道の実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2286000"/>
            <a:ext cx="220968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霞ヶ浦ノ詳細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報告セヨ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66680" y="1905120"/>
            <a:ext cx="7391520" cy="3962160"/>
            <a:chOff x="1066680" y="1905120"/>
            <a:chExt cx="7391520" cy="3962160"/>
          </a:xfrm>
        </p:grpSpPr>
        <p:sp>
          <p:nvSpPr>
            <p:cNvPr id="144" name=""/>
            <p:cNvSpPr/>
            <p:nvPr/>
          </p:nvSpPr>
          <p:spPr>
            <a:xfrm>
              <a:off x="1066680" y="2362320"/>
              <a:ext cx="1905120" cy="7617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efde3"/>
                  </a:solidFill>
                  <a:latin typeface="Times New Roman"/>
                  <a:ea typeface="HG創英角ｺﾞｼｯｸUB"/>
                </a:rPr>
                <a:t>水源の現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1905120"/>
              <a:ext cx="2666880" cy="3047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5257800" y="5029200"/>
              <a:ext cx="3200400" cy="838080"/>
            </a:xfrm>
            <a:prstGeom prst="flowChartManualOperation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２．水源の現状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905120" y="3048120"/>
            <a:ext cx="22860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市民の現状把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_8b_9b_82_cc_8e_80_82T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24840" cy="6094440"/>
          </a:xfrm>
          <a:prstGeom prst="rect">
            <a:avLst/>
          </a:prstGeom>
          <a:ln w="0">
            <a:noFill/>
          </a:ln>
        </p:spPr>
      </p:pic>
      <p:pic>
        <p:nvPicPr>
          <p:cNvPr id="149" name="_83S_83_7e3_8eO_91_ba_91O0402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4114800" cy="3143160"/>
          </a:xfrm>
          <a:prstGeom prst="rect">
            <a:avLst/>
          </a:prstGeom>
          <a:ln w="0">
            <a:noFill/>
          </a:ln>
        </p:spPr>
      </p:pic>
      <p:pic>
        <p:nvPicPr>
          <p:cNvPr id="150" name="940428_83_7e_83W_83_93_83R_83E_83L_83N_83T_90_ce_90_ec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51" name="bmp-Knet_b1_b5_ba9407" descr=""/>
          <p:cNvPicPr/>
          <p:nvPr/>
        </p:nvPicPr>
        <p:blipFill>
          <a:blip r:embed="rId4"/>
          <a:stretch/>
        </p:blipFill>
        <p:spPr>
          <a:xfrm>
            <a:off x="4724280" y="350532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61722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efde3"/>
                </a:solidFill>
                <a:latin typeface="Times New Roman"/>
              </a:rPr>
              <a:t>             </a:t>
            </a:r>
            <a:r>
              <a:rPr b="0" lang="ja-JP" sz="2000" spc="-1" strike="noStrike">
                <a:solidFill>
                  <a:srgbClr val="fefde3"/>
                </a:solidFill>
                <a:latin typeface="Times New Roman"/>
              </a:rPr>
              <a:t>Copyright@ yasuo suzu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　　　</a:t>
            </a:r>
            <a:r>
              <a:rPr b="0" lang="ja-JP" sz="4400" spc="-1" strike="noStrike">
                <a:solidFill>
                  <a:srgbClr val="fefde3"/>
                </a:solidFill>
                <a:latin typeface="Times New Roman"/>
              </a:rPr>
              <a:t>水源・霞ヶ浦の現状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752480"/>
            <a:ext cx="7391520" cy="1752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水源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霞ヶ浦）の水質の低さ　　　　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⇒霞ヶ浦の水質は水源基準を満たしていない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OD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有機物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、全リン、全窒素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 rot="10800000">
            <a:off x="1066680" y="1675800"/>
            <a:ext cx="15264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3581280"/>
            <a:ext cx="73915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藻類の多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⇒有機物の増加の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⇒悪臭の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49528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5562720"/>
            <a:ext cx="579132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efde3"/>
                </a:solidFill>
                <a:latin typeface="Times New Roman"/>
              </a:rPr>
              <a:t>提供される水は大丈夫なの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2362320"/>
            <a:ext cx="3886200" cy="144756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533412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提案・方向付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426708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考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129528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背景・疑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362320"/>
            <a:ext cx="190512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水源の現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2362320"/>
            <a:ext cx="198108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上水道の実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362320"/>
            <a:ext cx="221004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つくば市ニオケ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上水道実態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報告セヨ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48120" y="1981080"/>
            <a:ext cx="5714640" cy="3962520"/>
            <a:chOff x="3048120" y="1981080"/>
            <a:chExt cx="5714640" cy="3962520"/>
          </a:xfrm>
        </p:grpSpPr>
        <p:sp>
          <p:nvSpPr>
            <p:cNvPr id="170" name=""/>
            <p:cNvSpPr/>
            <p:nvPr/>
          </p:nvSpPr>
          <p:spPr>
            <a:xfrm>
              <a:off x="3048120" y="2362320"/>
              <a:ext cx="1981080" cy="7617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efde3"/>
                  </a:solidFill>
                  <a:latin typeface="Times New Roman"/>
                  <a:ea typeface="HG創英角ｺﾞｼｯｸUB"/>
                </a:rPr>
                <a:t>上水道の実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38680" y="1981080"/>
              <a:ext cx="2667240" cy="3048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5257440" y="5105520"/>
              <a:ext cx="3505320" cy="838080"/>
            </a:xfrm>
            <a:prstGeom prst="flowChartManualOperation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３．上水道の実態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828800" y="3048120"/>
            <a:ext cx="22860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市民の現状把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221304"/>
                </a:solidFill>
                <a:latin typeface="Times New Roman"/>
              </a:rPr>
              <a:t>水道水の実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2209680"/>
            <a:ext cx="7543800" cy="2667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上水道水の水質基準をクリア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　　　　　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基準をすべてクリア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by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つくば市役所水道部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水道料金は他地域に比べ格安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　　　　　　　　　　　　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 　　　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⇒つくば市平均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94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円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　　茨城県平均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009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円　　　　　　　　　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　　　　　　　　　　　　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571500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一体市民はどのように感じているの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209680"/>
            <a:ext cx="7772400" cy="2819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蒸発残留物　　　　　　　　　　・有機物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⇒おいしい水の条件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30~200mg/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  ⇒全国で高いほうから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0%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つくば市学園都市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00mg/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以上              カビ臭さの原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 金属臭さの原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・トリハロメタン（発ガン性物質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⇒全国で高いほうから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浄水場出口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0.019m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1676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</a:rPr>
              <a:t>マクロ的視点からみる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1676520"/>
            <a:ext cx="449604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fde3"/>
                </a:solidFill>
                <a:latin typeface="HGP創英角ｺﾞｼｯｸUB"/>
                <a:ea typeface="HGP創英角ｺﾞｼｯｸUB"/>
              </a:rPr>
              <a:t>　　</a:t>
            </a:r>
            <a:r>
              <a:rPr b="0" lang="en-US" sz="2800" spc="-1" strike="noStrike">
                <a:solidFill>
                  <a:srgbClr val="fefde3"/>
                </a:solidFill>
                <a:latin typeface="HGP創英角ｺﾞｼｯｸUB"/>
                <a:ea typeface="HGP創英角ｺﾞｼｯｸUB"/>
              </a:rPr>
              <a:t>BUT</a:t>
            </a:r>
            <a:r>
              <a:rPr b="0" lang="zh-CN" sz="2800" spc="-1" strike="noStrike">
                <a:solidFill>
                  <a:srgbClr val="fefde3"/>
                </a:solidFill>
                <a:latin typeface="HGP創英角ｺﾞｼｯｸUB"/>
                <a:ea typeface="HGP創英角ｺﾞｼｯｸUB"/>
              </a:rPr>
              <a:t>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1676520"/>
            <a:ext cx="44960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efde3"/>
                </a:solidFill>
                <a:latin typeface="Times New Roman"/>
              </a:rPr>
              <a:t>ミクロ的視点から見ると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5257800"/>
            <a:ext cx="8380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2362320"/>
            <a:ext cx="3886200" cy="144756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533412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提案・方向付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426708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考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129528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背景・疑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362320"/>
            <a:ext cx="1905120" cy="761760"/>
          </a:xfrm>
          <a:prstGeom prst="ellipse">
            <a:avLst/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水源の現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2362320"/>
            <a:ext cx="1981080" cy="761760"/>
          </a:xfrm>
          <a:prstGeom prst="ellipse">
            <a:avLst/>
          </a:prstGeom>
          <a:solidFill>
            <a:srgbClr val="fefd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上水道の実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8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2362320"/>
            <a:ext cx="220968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つくば市民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水ニ対ス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意識ヲ調査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efde3"/>
                </a:solidFill>
                <a:latin typeface="Times New Roman"/>
              </a:rPr>
              <a:t>報告セヨ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3048120"/>
            <a:ext cx="22860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市民の現状把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905120" y="1981080"/>
            <a:ext cx="6857640" cy="3962520"/>
            <a:chOff x="1905120" y="1981080"/>
            <a:chExt cx="6857640" cy="3962520"/>
          </a:xfrm>
        </p:grpSpPr>
        <p:sp>
          <p:nvSpPr>
            <p:cNvPr id="194" name=""/>
            <p:cNvSpPr/>
            <p:nvPr/>
          </p:nvSpPr>
          <p:spPr>
            <a:xfrm rot="10800000">
              <a:off x="5181120" y="5105520"/>
              <a:ext cx="3581640" cy="838080"/>
            </a:xfrm>
            <a:prstGeom prst="flowChartManualOperation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４．市民の現状把握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05120" y="1981080"/>
              <a:ext cx="6324480" cy="3048120"/>
              <a:chOff x="1905120" y="1981080"/>
              <a:chExt cx="6324480" cy="3048120"/>
            </a:xfrm>
          </p:grpSpPr>
          <p:sp>
            <p:nvSpPr>
              <p:cNvPr id="196" name=""/>
              <p:cNvSpPr/>
              <p:nvPr/>
            </p:nvSpPr>
            <p:spPr>
              <a:xfrm>
                <a:off x="5562720" y="1981080"/>
                <a:ext cx="2666880" cy="3048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05120" y="3048120"/>
                <a:ext cx="2286000" cy="7617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fefde3"/>
                    </a:solidFill>
                    <a:latin typeface="Times New Roman"/>
                    <a:ea typeface="HG創英角ｺﾞｼｯｸUB"/>
                  </a:rPr>
                  <a:t>市民の現状把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7:27:51Z</dcterms:created>
  <dc:creator>yanagi40</dc:creator>
  <dc:description/>
  <dc:language>en-US</dc:language>
  <cp:lastModifiedBy>yanagi40</cp:lastModifiedBy>
  <dcterms:modified xsi:type="dcterms:W3CDTF">2006-05-16T18:15:05Z</dcterms:modified>
  <cp:revision>79</cp:revision>
  <dc:subject/>
  <dc:title>都市計画実習 ～生活安全環境班～</dc:title>
</cp:coreProperties>
</file>