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2.png" ContentType="image/png"/>
  <Override PartName="/ppt/media/image7.wmf" ContentType="image/x-wmf"/>
  <Override PartName="/ppt/media/image11.wmf" ContentType="image/x-wmf"/>
  <Override PartName="/ppt/media/image9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A8E-6D1E-4532-BE12-1043E4FC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A38-8AD1-4594-B798-A8739B58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928-39FC-4B5E-91C5-E451D0CD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608-7241-47CE-8181-88EDB1BF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41FA4-8D34-4C52-8228-756600F3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A206C-8574-4244-BFE0-227AD44A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B2D1F-6316-4A72-873B-F897FE30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E830B-80D2-4DA7-B9BA-56CCB0E1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90154-2042-41F4-915D-FC82DCC6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ABA9D-7FBE-4813-9B5C-EC0A0DB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84DF0-E81D-4E0D-8EA9-322E11C7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28B-6879-4D4D-B9D0-9379F67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39E82-69D4-4E78-A0A5-D64DABBF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722F0-C339-40BD-9EA4-3EA73E1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71744-A0A7-40F6-BF33-9FCFD8A5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104F9-8B43-428E-A5EB-26654741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5A4CB-333B-48E9-A60B-6CA5F71A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805-9DE9-4FE7-9007-4E6FA85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C4B-275D-4FE7-8AD2-3D530227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ECA-507B-449A-AF88-11AF4EE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318-9904-43EE-8B65-C362EC42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284-8051-4A4C-A9BF-3299469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915-A111-4110-99B7-BA7E84AE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7F7-E3DF-4B99-9639-06A2A715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8753-58F6-43AC-9EEC-3593BF3BB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8AB-3E6F-4D83-9B2B-3957D63430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つくばの水</a:t>
            </a:r>
            <a:br>
              <a:rPr sz="44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</a:t>
            </a:r>
            <a:br>
              <a:rPr sz="28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～つくばの水道水に対する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　利用者の不満解消策～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0" y="3809880"/>
            <a:ext cx="4572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生活安全環境班最終発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担当教員　吉野邦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徐　鳳教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班長　佐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班員　今村　久保田　箕浦　柳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71640" y="1341360"/>
            <a:ext cx="734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霞ヶ浦の悪いイメー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　　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水質に不安があ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35280" y="115920"/>
            <a:ext cx="5356080" cy="612720"/>
            <a:chOff x="3635280" y="115920"/>
            <a:chExt cx="5356080" cy="612720"/>
          </a:xfrm>
        </p:grpSpPr>
        <p:sp>
          <p:nvSpPr>
            <p:cNvPr id="181" name=""/>
            <p:cNvSpPr/>
            <p:nvPr/>
          </p:nvSpPr>
          <p:spPr>
            <a:xfrm>
              <a:off x="4746240" y="115920"/>
              <a:ext cx="878760" cy="6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浄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5280" y="115920"/>
              <a:ext cx="87732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霞ヶ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73400" y="115920"/>
              <a:ext cx="8794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92640" y="115920"/>
              <a:ext cx="8794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/>
            <p:nvPr/>
          </p:nvCxnSpPr>
          <p:spPr>
            <a:xfrm>
              <a:off x="7871760" y="42012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6" name=""/>
            <p:cNvCxnSpPr/>
            <p:nvPr/>
          </p:nvCxnSpPr>
          <p:spPr>
            <a:xfrm>
              <a:off x="4513680" y="420120"/>
              <a:ext cx="2408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87" name=""/>
            <p:cNvSpPr/>
            <p:nvPr/>
          </p:nvSpPr>
          <p:spPr>
            <a:xfrm>
              <a:off x="8111880" y="115920"/>
              <a:ext cx="8794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/>
            <p:nvPr/>
          </p:nvCxnSpPr>
          <p:spPr>
            <a:xfrm>
              <a:off x="5632920" y="420120"/>
              <a:ext cx="2408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/>
            <p:nvPr/>
          </p:nvCxnSpPr>
          <p:spPr>
            <a:xfrm>
              <a:off x="6752520" y="42012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600360" cy="4680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32360" y="6093000"/>
            <a:ext cx="403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霞ヶ浦浄水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8600" y="1371600"/>
            <a:ext cx="8686800" cy="4952880"/>
            <a:chOff x="228600" y="1371600"/>
            <a:chExt cx="8686800" cy="4952880"/>
          </a:xfrm>
        </p:grpSpPr>
        <p:sp>
          <p:nvSpPr>
            <p:cNvPr id="193" name=""/>
            <p:cNvSpPr/>
            <p:nvPr/>
          </p:nvSpPr>
          <p:spPr>
            <a:xfrm>
              <a:off x="228600" y="1371600"/>
              <a:ext cx="3048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塩素臭がす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3200400" y="1981080"/>
            <a:ext cx="5715000" cy="43434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00400" y="1981080"/>
                      <a:ext cx="571500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4038480" y="3962520"/>
              <a:ext cx="3557880" cy="533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5120" y="2362320"/>
              <a:ext cx="2057400" cy="1752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35280" y="115920"/>
            <a:ext cx="5356080" cy="609480"/>
            <a:chOff x="3635280" y="115920"/>
            <a:chExt cx="5356080" cy="609480"/>
          </a:xfrm>
        </p:grpSpPr>
        <p:sp>
          <p:nvSpPr>
            <p:cNvPr id="199" name=""/>
            <p:cNvSpPr/>
            <p:nvPr/>
          </p:nvSpPr>
          <p:spPr>
            <a:xfrm>
              <a:off x="4754520" y="115920"/>
              <a:ext cx="8776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浄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35280" y="115920"/>
              <a:ext cx="8776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霞ヶ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73760" y="115920"/>
              <a:ext cx="879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配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92640" y="115920"/>
              <a:ext cx="8794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/>
            <p:nvPr/>
          </p:nvCxnSpPr>
          <p:spPr>
            <a:xfrm>
              <a:off x="787248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>
              <a:off x="451476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5" name=""/>
            <p:cNvSpPr/>
            <p:nvPr/>
          </p:nvSpPr>
          <p:spPr>
            <a:xfrm>
              <a:off x="8112240" y="115920"/>
              <a:ext cx="87912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/>
            <p:nvPr/>
          </p:nvCxnSpPr>
          <p:spPr>
            <a:xfrm>
              <a:off x="563400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/>
            <p:nvPr/>
          </p:nvCxnSpPr>
          <p:spPr>
            <a:xfrm>
              <a:off x="675288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635280" y="115920"/>
            <a:ext cx="5356080" cy="609480"/>
            <a:chOff x="3635280" y="115920"/>
            <a:chExt cx="5356080" cy="609480"/>
          </a:xfrm>
        </p:grpSpPr>
        <p:sp>
          <p:nvSpPr>
            <p:cNvPr id="209" name=""/>
            <p:cNvSpPr/>
            <p:nvPr/>
          </p:nvSpPr>
          <p:spPr>
            <a:xfrm>
              <a:off x="4754520" y="115920"/>
              <a:ext cx="8776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浄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35280" y="115920"/>
              <a:ext cx="8776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霞ヶ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73760" y="115920"/>
              <a:ext cx="87912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2640" y="115920"/>
              <a:ext cx="8794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配水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/>
            <p:nvPr/>
          </p:nvCxnSpPr>
          <p:spPr>
            <a:xfrm>
              <a:off x="787248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/>
            <p:nvPr/>
          </p:nvCxnSpPr>
          <p:spPr>
            <a:xfrm>
              <a:off x="451476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>
              <a:off x="8112240" y="115920"/>
              <a:ext cx="87912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6" name=""/>
            <p:cNvCxnSpPr/>
            <p:nvPr/>
          </p:nvCxnSpPr>
          <p:spPr>
            <a:xfrm>
              <a:off x="563400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/>
            <p:nvPr/>
          </p:nvCxnSpPr>
          <p:spPr>
            <a:xfrm>
              <a:off x="675288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50920" y="3751200"/>
            <a:ext cx="8497800" cy="2773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0920" y="1268280"/>
            <a:ext cx="4392360" cy="7207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水道管の衛生・老朽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2133720"/>
            <a:ext cx="4392360" cy="6476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サビの臭いがす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2924280"/>
            <a:ext cx="4392360" cy="649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ひび割れが心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19051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3716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26920" y="4941720"/>
            <a:ext cx="7202520" cy="792360"/>
            <a:chOff x="826920" y="4941720"/>
            <a:chExt cx="7202520" cy="792360"/>
          </a:xfrm>
        </p:grpSpPr>
        <p:sp>
          <p:nvSpPr>
            <p:cNvPr id="225" name=""/>
            <p:cNvSpPr/>
            <p:nvPr/>
          </p:nvSpPr>
          <p:spPr>
            <a:xfrm>
              <a:off x="826920" y="5013360"/>
              <a:ext cx="792360" cy="647640"/>
            </a:xfrm>
            <a:prstGeom prst="rightArrow">
              <a:avLst>
                <a:gd name="adj1" fmla="val 50000"/>
                <a:gd name="adj2" fmla="val 30586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00360" y="4941720"/>
              <a:ext cx="5329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市民は、何が問題で何が問題で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ないのかが分からず不安になってい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5280" y="1844640"/>
            <a:ext cx="7920000" cy="2808360"/>
            <a:chOff x="395280" y="1844640"/>
            <a:chExt cx="7920000" cy="2808360"/>
          </a:xfrm>
        </p:grpSpPr>
        <p:sp>
          <p:nvSpPr>
            <p:cNvPr id="228" name=""/>
            <p:cNvSpPr/>
            <p:nvPr/>
          </p:nvSpPr>
          <p:spPr>
            <a:xfrm>
              <a:off x="826920" y="1844640"/>
              <a:ext cx="7488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タンクの中にゴミや不純物が溜まっているので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ないかという不安　　　　　　　　　　　　　　　　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　　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5280" y="2852640"/>
              <a:ext cx="7488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タンクのサビや毒性のある物質が溜まっ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いないかという不安　　　　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　　　　　　　　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58920" y="3645000"/>
              <a:ext cx="6551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浄水器のフィルターの変えどきが良く分からない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635280" y="115920"/>
            <a:ext cx="5356080" cy="609480"/>
            <a:chOff x="3635280" y="115920"/>
            <a:chExt cx="5356080" cy="609480"/>
          </a:xfrm>
        </p:grpSpPr>
        <p:sp>
          <p:nvSpPr>
            <p:cNvPr id="232" name=""/>
            <p:cNvSpPr/>
            <p:nvPr/>
          </p:nvSpPr>
          <p:spPr>
            <a:xfrm>
              <a:off x="4754520" y="115920"/>
              <a:ext cx="8776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浄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5280" y="115920"/>
              <a:ext cx="8776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霞ヶ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73760" y="115920"/>
              <a:ext cx="87912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2640" y="115920"/>
              <a:ext cx="8794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/>
            <p:nvPr/>
          </p:nvCxnSpPr>
          <p:spPr>
            <a:xfrm>
              <a:off x="787248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/>
            <p:nvPr/>
          </p:nvCxnSpPr>
          <p:spPr>
            <a:xfrm>
              <a:off x="451476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38" name=""/>
            <p:cNvSpPr/>
            <p:nvPr/>
          </p:nvSpPr>
          <p:spPr>
            <a:xfrm>
              <a:off x="8112240" y="115920"/>
              <a:ext cx="879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9" name=""/>
            <p:cNvCxnSpPr/>
            <p:nvPr/>
          </p:nvCxnSpPr>
          <p:spPr>
            <a:xfrm>
              <a:off x="563400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/>
            <p:nvPr/>
          </p:nvCxnSpPr>
          <p:spPr>
            <a:xfrm>
              <a:off x="675288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50920" y="1916280"/>
            <a:ext cx="52578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水道水供給側にこのよう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問題はあるのだろうか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調査対象　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県南水道事務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　　　　　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つくば市役所水道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茨城県住宅管理協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調査目的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水道施設自体の問題の探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ボトルネックの探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　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調査内容　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各事業所における業務内容の詳細調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457200"/>
            <a:ext cx="698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ヒアリングの実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627280" y="4941720"/>
            <a:ext cx="3809880" cy="1916280"/>
            <a:chOff x="2627280" y="4941720"/>
            <a:chExt cx="3809880" cy="1916280"/>
          </a:xfrm>
        </p:grpSpPr>
        <p:sp>
          <p:nvSpPr>
            <p:cNvPr id="245" name=""/>
            <p:cNvSpPr/>
            <p:nvPr/>
          </p:nvSpPr>
          <p:spPr>
            <a:xfrm>
              <a:off x="4067280" y="4941720"/>
              <a:ext cx="914400" cy="914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27280" y="5791320"/>
              <a:ext cx="3809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良質な水の提供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　　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95280" y="1557360"/>
            <a:ext cx="10872720" cy="2921040"/>
            <a:chOff x="395280" y="1557360"/>
            <a:chExt cx="10872720" cy="2921040"/>
          </a:xfrm>
        </p:grpSpPr>
        <p:sp>
          <p:nvSpPr>
            <p:cNvPr id="248" name=""/>
            <p:cNvSpPr/>
            <p:nvPr/>
          </p:nvSpPr>
          <p:spPr>
            <a:xfrm>
              <a:off x="755640" y="1557360"/>
              <a:ext cx="810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生物処理による水質改善　　　　　　　　　　　　　　　　　　　　　　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　　　　　　　　　　　　　　　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OD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：８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g/L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（最低限度）→５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g/L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（水産用水）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　　　　　　　　　　　　　　　　　　　　　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5280" y="4005360"/>
              <a:ext cx="81043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においや味に関しては人が感じない段階まで浄化を行う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5280" y="2637000"/>
              <a:ext cx="810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霞ヶ浦の水質に関わらず、水質基準を満たした水道水を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　　　　　 供給している　　　　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　　　　　　　　　　　　　　　　　　　　　　　　　　　　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64040" y="3429000"/>
              <a:ext cx="8103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水質基準よりも厳しい目標値を設定している　　　　　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　　　　　　　　　　　　　　　　　　　　　　　　　　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635280" y="115920"/>
            <a:ext cx="5356080" cy="647640"/>
            <a:chOff x="3635280" y="115920"/>
            <a:chExt cx="5356080" cy="647640"/>
          </a:xfrm>
        </p:grpSpPr>
        <p:sp>
          <p:nvSpPr>
            <p:cNvPr id="253" name=""/>
            <p:cNvSpPr/>
            <p:nvPr/>
          </p:nvSpPr>
          <p:spPr>
            <a:xfrm>
              <a:off x="5873040" y="152280"/>
              <a:ext cx="88812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54880" y="152280"/>
              <a:ext cx="87696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浄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93360" y="152280"/>
              <a:ext cx="87804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/>
            <p:nvPr/>
          </p:nvCxnSpPr>
          <p:spPr>
            <a:xfrm>
              <a:off x="7871400" y="45684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/>
            <p:nvPr/>
          </p:nvCxnSpPr>
          <p:spPr>
            <a:xfrm>
              <a:off x="4514760" y="45684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8111520" y="152280"/>
              <a:ext cx="87984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/>
            <p:nvPr/>
          </p:nvCxnSpPr>
          <p:spPr>
            <a:xfrm>
              <a:off x="5632920" y="45684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/>
            <p:nvPr/>
          </p:nvCxnSpPr>
          <p:spPr>
            <a:xfrm>
              <a:off x="6753240" y="45684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>
              <a:off x="3635280" y="152280"/>
              <a:ext cx="86328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霞ヶ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711240" y="115920"/>
              <a:ext cx="1802160" cy="647640"/>
              <a:chOff x="3711240" y="115920"/>
              <a:chExt cx="1802160" cy="647640"/>
            </a:xfrm>
          </p:grpSpPr>
          <p:sp>
            <p:nvSpPr>
              <p:cNvPr id="263" name=""/>
              <p:cNvSpPr/>
              <p:nvPr/>
            </p:nvSpPr>
            <p:spPr>
              <a:xfrm>
                <a:off x="3711240" y="115920"/>
                <a:ext cx="677880" cy="647640"/>
              </a:xfrm>
              <a:prstGeom prst="donut">
                <a:avLst>
                  <a:gd name="adj" fmla="val 13481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35520" y="115920"/>
                <a:ext cx="677880" cy="647640"/>
              </a:xfrm>
              <a:prstGeom prst="donut">
                <a:avLst>
                  <a:gd name="adj" fmla="val 13481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2057400"/>
            <a:ext cx="44960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1197000"/>
            <a:ext cx="7272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・地域によって残留塩素量に差異が見られるのは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配水末端部でも基準値である０．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g/L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を下回らないよ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にするためであり、配水場近隣で濃度が高くなること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事実だが、安全上は問題がない 　　　　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　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916360" y="2830680"/>
          <a:ext cx="5999040" cy="40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2830680"/>
                    <a:ext cx="599904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3809880" y="3886200"/>
            <a:ext cx="617760" cy="2135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4005360"/>
            <a:ext cx="1800000" cy="2232000"/>
          </a:xfrm>
          <a:prstGeom prst="ellipse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35280" y="189000"/>
            <a:ext cx="5356080" cy="647640"/>
            <a:chOff x="3635280" y="189000"/>
            <a:chExt cx="5356080" cy="647640"/>
          </a:xfrm>
        </p:grpSpPr>
        <p:sp>
          <p:nvSpPr>
            <p:cNvPr id="272" name=""/>
            <p:cNvSpPr/>
            <p:nvPr/>
          </p:nvSpPr>
          <p:spPr>
            <a:xfrm>
              <a:off x="5873040" y="189000"/>
              <a:ext cx="888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配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54880" y="189000"/>
              <a:ext cx="87696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浄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93360" y="189000"/>
              <a:ext cx="87804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75" name=""/>
            <p:cNvCxnSpPr/>
            <p:nvPr/>
          </p:nvCxnSpPr>
          <p:spPr>
            <a:xfrm>
              <a:off x="7871400" y="49320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6" name=""/>
            <p:cNvCxnSpPr/>
            <p:nvPr/>
          </p:nvCxnSpPr>
          <p:spPr>
            <a:xfrm>
              <a:off x="4514760" y="49320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8111520" y="189000"/>
              <a:ext cx="87984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78" name=""/>
            <p:cNvCxnSpPr/>
            <p:nvPr/>
          </p:nvCxnSpPr>
          <p:spPr>
            <a:xfrm>
              <a:off x="5632920" y="49320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9" name=""/>
            <p:cNvCxnSpPr/>
            <p:nvPr/>
          </p:nvCxnSpPr>
          <p:spPr>
            <a:xfrm>
              <a:off x="6753240" y="49320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3635280" y="189000"/>
              <a:ext cx="8632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霞ヶ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4040" y="189000"/>
              <a:ext cx="677880" cy="647640"/>
            </a:xfrm>
            <a:prstGeom prst="donut">
              <a:avLst>
                <a:gd name="adj" fmla="val 13481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324000" y="1773360"/>
            <a:ext cx="8207280" cy="3528720"/>
            <a:chOff x="324000" y="1773360"/>
            <a:chExt cx="8207280" cy="3528720"/>
          </a:xfrm>
        </p:grpSpPr>
        <p:sp>
          <p:nvSpPr>
            <p:cNvPr id="283" name=""/>
            <p:cNvSpPr/>
            <p:nvPr/>
          </p:nvSpPr>
          <p:spPr>
            <a:xfrm>
              <a:off x="755640" y="3502080"/>
              <a:ext cx="5334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さびにくい配水管の使用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4360" y="2638440"/>
              <a:ext cx="5333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耐用年数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年      　　　　　　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　　　（建設年数：昭和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49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年～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53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年）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42920" y="1773360"/>
              <a:ext cx="67820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配水管は水質に影響を与えない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         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4000" y="4221000"/>
              <a:ext cx="82072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さびは水質ではなく、水量に影響を及ぼ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　　　　　－配水管の洗浄は水量確保のために行われてい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635280" y="115920"/>
            <a:ext cx="5356080" cy="647640"/>
            <a:chOff x="3635280" y="115920"/>
            <a:chExt cx="5356080" cy="647640"/>
          </a:xfrm>
        </p:grpSpPr>
        <p:sp>
          <p:nvSpPr>
            <p:cNvPr id="288" name=""/>
            <p:cNvSpPr/>
            <p:nvPr/>
          </p:nvSpPr>
          <p:spPr>
            <a:xfrm>
              <a:off x="5873400" y="152280"/>
              <a:ext cx="88740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54160" y="152280"/>
              <a:ext cx="87732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浄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92640" y="152280"/>
              <a:ext cx="87948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配水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/>
            <p:nvPr/>
          </p:nvCxnSpPr>
          <p:spPr>
            <a:xfrm>
              <a:off x="7871760" y="45684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/>
            <p:nvPr/>
          </p:nvCxnSpPr>
          <p:spPr>
            <a:xfrm>
              <a:off x="4513680" y="456840"/>
              <a:ext cx="2408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8111880" y="152280"/>
              <a:ext cx="87948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/>
            <p:nvPr/>
          </p:nvCxnSpPr>
          <p:spPr>
            <a:xfrm>
              <a:off x="5632920" y="456840"/>
              <a:ext cx="2408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/>
            <p:nvPr/>
          </p:nvCxnSpPr>
          <p:spPr>
            <a:xfrm>
              <a:off x="6752520" y="45684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96" name=""/>
            <p:cNvSpPr/>
            <p:nvPr/>
          </p:nvSpPr>
          <p:spPr>
            <a:xfrm>
              <a:off x="3635280" y="152280"/>
              <a:ext cx="86256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霞ヶ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13600" y="115920"/>
              <a:ext cx="678600" cy="647640"/>
            </a:xfrm>
            <a:prstGeom prst="donut">
              <a:avLst>
                <a:gd name="adj" fmla="val 13481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258920" y="170028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集合住宅でも直圧方式が増えてい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タンク自体設置されていない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タンクのある集合住宅でも、年に１回専門業者が掃除し、その後薬剤師会が衛生状態を点検してい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自治会などで安全性が実際に問題にされたことはな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般住宅では、貯水タンク・敷地内の配管は土地所有者の責任で管理することになってい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浄水器は正しく管理すれば、良質な水を提供す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　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635280" y="115920"/>
            <a:ext cx="5356080" cy="647640"/>
            <a:chOff x="3635280" y="115920"/>
            <a:chExt cx="5356080" cy="647640"/>
          </a:xfrm>
        </p:grpSpPr>
        <p:sp>
          <p:nvSpPr>
            <p:cNvPr id="300" name=""/>
            <p:cNvSpPr/>
            <p:nvPr/>
          </p:nvSpPr>
          <p:spPr>
            <a:xfrm>
              <a:off x="5873400" y="152280"/>
              <a:ext cx="88740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54160" y="152280"/>
              <a:ext cx="87732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浄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92640" y="152280"/>
              <a:ext cx="87948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03" name=""/>
            <p:cNvCxnSpPr/>
            <p:nvPr/>
          </p:nvCxnSpPr>
          <p:spPr>
            <a:xfrm>
              <a:off x="7871760" y="45684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04" name=""/>
            <p:cNvCxnSpPr/>
            <p:nvPr/>
          </p:nvCxnSpPr>
          <p:spPr>
            <a:xfrm>
              <a:off x="4513680" y="456840"/>
              <a:ext cx="2408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05" name=""/>
            <p:cNvSpPr/>
            <p:nvPr/>
          </p:nvSpPr>
          <p:spPr>
            <a:xfrm>
              <a:off x="8111880" y="152280"/>
              <a:ext cx="87948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06" name=""/>
            <p:cNvCxnSpPr/>
            <p:nvPr/>
          </p:nvCxnSpPr>
          <p:spPr>
            <a:xfrm>
              <a:off x="5632920" y="456840"/>
              <a:ext cx="2408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/>
            <p:nvPr/>
          </p:nvCxnSpPr>
          <p:spPr>
            <a:xfrm>
              <a:off x="6752520" y="456840"/>
              <a:ext cx="2401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08" name=""/>
            <p:cNvSpPr/>
            <p:nvPr/>
          </p:nvSpPr>
          <p:spPr>
            <a:xfrm>
              <a:off x="3635280" y="152280"/>
              <a:ext cx="862560" cy="609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霞ヶ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23120" y="115920"/>
              <a:ext cx="678240" cy="647640"/>
            </a:xfrm>
            <a:prstGeom prst="donut">
              <a:avLst>
                <a:gd name="adj" fmla="val 13481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95640" y="549360"/>
            <a:ext cx="468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調査動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628640"/>
            <a:ext cx="748836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Ａ：普段、あまり水道について意識しないけど・・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708280"/>
            <a:ext cx="748836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Ｂ：あれっ、よくよく考えると何かつくばにきてか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道水飲まなくなったなぁ　　　　　　　　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4005360"/>
            <a:ext cx="295272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Ｃ：なんでだろう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869000"/>
            <a:ext cx="777744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Ｄ：そういえば、水道水についてあまり知らないな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805360"/>
            <a:ext cx="698508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じゃあ、調べてみよ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0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入りにく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438280" y="228600"/>
            <a:ext cx="42674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66ffff"/>
                </a:solidFill>
                <a:latin typeface="Times New Roman"/>
              </a:rPr>
              <a:t>？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2421000"/>
            <a:ext cx="6769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あれっ？水道水供給側に問題なん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ないんじゃないの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27280" y="2852640"/>
            <a:ext cx="381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実際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2852640"/>
            <a:ext cx="410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つくばフェスタ内で水道部がミネラルウォータ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水道水の利き水アンケートを行ったとこ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57200" y="426960"/>
            <a:ext cx="4035600" cy="352260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1676520" y="1676160"/>
            <a:ext cx="3200040" cy="1836360"/>
            <a:chOff x="1676520" y="1676160"/>
            <a:chExt cx="3200040" cy="1836360"/>
          </a:xfrm>
        </p:grpSpPr>
        <p:sp>
          <p:nvSpPr>
            <p:cNvPr id="316" name=""/>
            <p:cNvSpPr/>
            <p:nvPr/>
          </p:nvSpPr>
          <p:spPr>
            <a:xfrm rot="16200000">
              <a:off x="1292400" y="2301840"/>
              <a:ext cx="1594440" cy="826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640600" y="1676160"/>
              <a:ext cx="2235960" cy="740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987800" y="838080"/>
            <a:ext cx="4156200" cy="1384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判断できなかった人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約半数を占め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191120"/>
            <a:ext cx="35272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道水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ミネラルウォーターに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が感知できるほど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差はな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4191120"/>
            <a:ext cx="3527640" cy="2447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住民は水道水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イメージ主体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捉えているのでは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4952880"/>
            <a:ext cx="1066680" cy="9144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219320" y="2666880"/>
            <a:ext cx="701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そこで、水道水につい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イメージ調査を行ったとこ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26920" y="2205000"/>
            <a:ext cx="7948800" cy="3457080"/>
            <a:chOff x="826920" y="2205000"/>
            <a:chExt cx="7948800" cy="3457080"/>
          </a:xfrm>
        </p:grpSpPr>
        <p:grpSp>
          <p:nvGrpSpPr>
            <p:cNvPr id="325" name=""/>
            <p:cNvGrpSpPr/>
            <p:nvPr/>
          </p:nvGrpSpPr>
          <p:grpSpPr>
            <a:xfrm>
              <a:off x="826920" y="2781000"/>
              <a:ext cx="7948800" cy="2881080"/>
              <a:chOff x="826920" y="2781000"/>
              <a:chExt cx="7948800" cy="2881080"/>
            </a:xfrm>
          </p:grpSpPr>
          <p:sp>
            <p:nvSpPr>
              <p:cNvPr id="326" name=""/>
              <p:cNvSpPr/>
              <p:nvPr/>
            </p:nvSpPr>
            <p:spPr>
              <a:xfrm rot="20181600">
                <a:off x="7289640" y="3875040"/>
                <a:ext cx="1370160" cy="863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826920" y="2780280"/>
                <a:ext cx="5616720" cy="2881080"/>
              </a:xfrm>
              <a:prstGeom prst="wedgeRoundRectCallout">
                <a:avLst>
                  <a:gd name="adj1" fmla="val 66958"/>
                  <a:gd name="adj2" fmla="val 3166"/>
                  <a:gd name="adj3" fmla="val 16667"/>
                </a:avLst>
              </a:prstGeom>
              <a:solidFill>
                <a:srgbClr val="ffffff"/>
              </a:solidFill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690560" y="2205000"/>
              <a:ext cx="1729080" cy="4597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主成分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258920" y="2997360"/>
            <a:ext cx="4755960" cy="2469960"/>
            <a:chOff x="1258920" y="2997360"/>
            <a:chExt cx="4755960" cy="2469960"/>
          </a:xfrm>
        </p:grpSpPr>
        <p:sp>
          <p:nvSpPr>
            <p:cNvPr id="330" name=""/>
            <p:cNvSpPr/>
            <p:nvPr/>
          </p:nvSpPr>
          <p:spPr>
            <a:xfrm>
              <a:off x="1258920" y="3068640"/>
              <a:ext cx="1371600" cy="121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おいしさ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43280" y="3068640"/>
              <a:ext cx="1371600" cy="1219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安全性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11280" y="4653000"/>
              <a:ext cx="2901960" cy="814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関係性があ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27280" y="3789360"/>
              <a:ext cx="2016000" cy="0"/>
            </a:xfrm>
            <a:prstGeom prst="line">
              <a:avLst/>
            </a:prstGeom>
            <a:ln w="4428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35280" y="3789360"/>
              <a:ext cx="0" cy="863640"/>
            </a:xfrm>
            <a:prstGeom prst="line">
              <a:avLst/>
            </a:prstGeom>
            <a:ln w="442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43280" y="2997360"/>
              <a:ext cx="15843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相関係数</a:t>
              </a:r>
              <a:r>
                <a:rPr b="1" lang="en-US" sz="2400" spc="-1" strike="noStrike">
                  <a:solidFill>
                    <a:srgbClr val="33cccc"/>
                  </a:solidFill>
                  <a:latin typeface="Times New Roman"/>
                </a:rPr>
                <a:t> 　　　　　　</a:t>
              </a:r>
              <a:r>
                <a:rPr b="1" lang="en-US" sz="2200" spc="-1" strike="noStrike">
                  <a:solidFill>
                    <a:srgbClr val="33cccc"/>
                  </a:solidFill>
                  <a:latin typeface="Times New Roman"/>
                </a:rPr>
                <a:t>0.5</a:t>
              </a:r>
              <a:r>
                <a:rPr b="1" lang="zh-CN" sz="2200" spc="-1" strike="noStrike">
                  <a:solidFill>
                    <a:srgbClr val="33cccc"/>
                  </a:solidFill>
                  <a:latin typeface="Times New Roman"/>
                </a:rPr>
                <a:t>～</a:t>
              </a:r>
              <a:r>
                <a:rPr b="1" lang="en-US" sz="2200" spc="-1" strike="noStrike">
                  <a:solidFill>
                    <a:srgbClr val="33cccc"/>
                  </a:solidFill>
                  <a:latin typeface="Times New Roman"/>
                </a:rPr>
                <a:t>0.7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995640" y="1125360"/>
            <a:ext cx="4724640" cy="1524240"/>
          </a:xfrm>
          <a:prstGeom prst="wedgeRectCallout">
            <a:avLst>
              <a:gd name="adj1" fmla="val -23657"/>
              <a:gd name="adj2" fmla="val 781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実際の味は変わらなくても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安全性への不安がおいしくないと感じる一因となってい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14600" y="2819520"/>
            <a:ext cx="4495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では、逆に水道水に不安がない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思っている人はどういった点から不安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ないと思っているのか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4005360"/>
            <a:ext cx="654984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信用は「水道基準」や「行政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]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とい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明確な事実によって得られ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4000" y="260280"/>
            <a:ext cx="5395680" cy="3797280"/>
            <a:chOff x="324000" y="260280"/>
            <a:chExt cx="5395680" cy="3797280"/>
          </a:xfrm>
        </p:grpSpPr>
        <p:graphicFrame>
          <p:nvGraphicFramePr>
            <p:cNvPr id="340" name=""/>
            <p:cNvGraphicFramePr/>
            <p:nvPr/>
          </p:nvGraphicFramePr>
          <p:xfrm>
            <a:off x="324000" y="260280"/>
            <a:ext cx="5395680" cy="37972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00" y="260280"/>
                      <a:ext cx="5395680" cy="379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1619280" y="1413000"/>
              <a:ext cx="2305080" cy="863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042920" y="5300640"/>
            <a:ext cx="5905440" cy="1081080"/>
            <a:chOff x="1042920" y="5300640"/>
            <a:chExt cx="5905440" cy="1081080"/>
          </a:xfrm>
        </p:grpSpPr>
        <p:sp>
          <p:nvSpPr>
            <p:cNvPr id="344" name=""/>
            <p:cNvSpPr/>
            <p:nvPr/>
          </p:nvSpPr>
          <p:spPr>
            <a:xfrm>
              <a:off x="1042920" y="5516640"/>
              <a:ext cx="50472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47640" y="5300640"/>
              <a:ext cx="5400720" cy="1081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住民は情報を知らないから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信用していないのでは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24000" y="620640"/>
            <a:ext cx="864072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道水が安全であり、味覚的に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違いがないのにも関わらず、住民たち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0920" y="1844640"/>
            <a:ext cx="8713800" cy="1944360"/>
            <a:chOff x="250920" y="1844640"/>
            <a:chExt cx="8713800" cy="1944360"/>
          </a:xfrm>
        </p:grpSpPr>
        <p:grpSp>
          <p:nvGrpSpPr>
            <p:cNvPr id="348" name=""/>
            <p:cNvGrpSpPr/>
            <p:nvPr/>
          </p:nvGrpSpPr>
          <p:grpSpPr>
            <a:xfrm>
              <a:off x="4932360" y="1844640"/>
              <a:ext cx="4032360" cy="1944360"/>
              <a:chOff x="4932360" y="1844640"/>
              <a:chExt cx="4032360" cy="1944360"/>
            </a:xfrm>
          </p:grpSpPr>
          <p:sp>
            <p:nvSpPr>
              <p:cNvPr id="349" name=""/>
              <p:cNvSpPr/>
              <p:nvPr/>
            </p:nvSpPr>
            <p:spPr>
              <a:xfrm>
                <a:off x="5508720" y="1844640"/>
                <a:ext cx="2881080" cy="5713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浄水器の使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92720" y="2530440"/>
                <a:ext cx="3313080" cy="5713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給水サービスの使用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32360" y="3217680"/>
                <a:ext cx="4032360" cy="5713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ミネラルウォーターの購入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3851280" y="2716560"/>
              <a:ext cx="1152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0920" y="1844640"/>
              <a:ext cx="3457440" cy="187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安全性と味の良さ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求めて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187280" y="5589720"/>
            <a:ext cx="66978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資源・コスト・手間の無駄遣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195640" y="4005360"/>
            <a:ext cx="4680000" cy="720720"/>
            <a:chOff x="2195640" y="4005360"/>
            <a:chExt cx="4680000" cy="720720"/>
          </a:xfrm>
        </p:grpSpPr>
        <p:sp>
          <p:nvSpPr>
            <p:cNvPr id="356" name=""/>
            <p:cNvSpPr/>
            <p:nvPr/>
          </p:nvSpPr>
          <p:spPr>
            <a:xfrm>
              <a:off x="3419640" y="4005360"/>
              <a:ext cx="2087280" cy="7207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95640" y="4076640"/>
              <a:ext cx="4680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水道水を使う場合に比べ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187280" y="4869000"/>
            <a:ext cx="66978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安全性のリスクが高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1844640"/>
            <a:ext cx="432108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実態調査か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79640" y="1844640"/>
            <a:ext cx="540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こういった問題点の結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4360" y="4653000"/>
            <a:ext cx="2925720" cy="1881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411280" y="620640"/>
            <a:ext cx="4465800" cy="180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市民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76720" y="1557360"/>
            <a:ext cx="1440000" cy="2158560"/>
            <a:chOff x="5076720" y="1557360"/>
            <a:chExt cx="1440000" cy="2158560"/>
          </a:xfrm>
        </p:grpSpPr>
        <p:grpSp>
          <p:nvGrpSpPr>
            <p:cNvPr id="364" name=""/>
            <p:cNvGrpSpPr/>
            <p:nvPr/>
          </p:nvGrpSpPr>
          <p:grpSpPr>
            <a:xfrm>
              <a:off x="5076720" y="1557360"/>
              <a:ext cx="720720" cy="2158560"/>
              <a:chOff x="5076720" y="1557360"/>
              <a:chExt cx="720720" cy="2158560"/>
            </a:xfrm>
          </p:grpSpPr>
          <p:sp>
            <p:nvSpPr>
              <p:cNvPr id="365" name=""/>
              <p:cNvSpPr/>
              <p:nvPr/>
            </p:nvSpPr>
            <p:spPr>
              <a:xfrm>
                <a:off x="5076720" y="1557360"/>
                <a:ext cx="648000" cy="6645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076720" y="2221920"/>
                <a:ext cx="720720" cy="1494000"/>
              </a:xfrm>
              <a:custGeom>
                <a:avLst/>
                <a:gdLst>
                  <a:gd name="textAreaLeft" fmla="*/ 34920 w 720720"/>
                  <a:gd name="textAreaRight" fmla="*/ 685800 w 720720"/>
                  <a:gd name="textAreaTop" fmla="*/ 34920 h 1494000"/>
                  <a:gd name="textAreaBottom" fmla="*/ 1459080 h 1494000"/>
                </a:gdLst>
                <a:ahLst/>
                <a:rect l="textAreaLeft" t="textAreaTop" r="textAreaRight" b="textAreaBottom"/>
                <a:pathLst>
                  <a:path w="21600" h="44764">
                    <a:moveTo>
                      <a:pt x="3600" y="0"/>
                    </a:moveTo>
                    <a:arcTo wR="3600" hR="3600" stAng="16200000" swAng="-5400000"/>
                    <a:lnTo>
                      <a:pt x="0" y="41164"/>
                    </a:lnTo>
                    <a:arcTo wR="3600" hR="3600" stAng="10800000" swAng="-5400000"/>
                    <a:lnTo>
                      <a:pt x="18000" y="4476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情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報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不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足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796000" y="1557360"/>
              <a:ext cx="720720" cy="2158560"/>
              <a:chOff x="5796000" y="1557360"/>
              <a:chExt cx="720720" cy="21585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96000" y="1557360"/>
                <a:ext cx="648000" cy="6645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96000" y="2221920"/>
                <a:ext cx="720720" cy="1494000"/>
              </a:xfrm>
              <a:custGeom>
                <a:avLst/>
                <a:gdLst>
                  <a:gd name="textAreaLeft" fmla="*/ 34920 w 720720"/>
                  <a:gd name="textAreaRight" fmla="*/ 685800 w 720720"/>
                  <a:gd name="textAreaTop" fmla="*/ 34920 h 1494000"/>
                  <a:gd name="textAreaBottom" fmla="*/ 1459080 h 1494000"/>
                </a:gdLst>
                <a:ahLst/>
                <a:rect l="textAreaLeft" t="textAreaTop" r="textAreaRight" b="textAreaBottom"/>
                <a:pathLst>
                  <a:path w="21600" h="44764">
                    <a:moveTo>
                      <a:pt x="3600" y="0"/>
                    </a:moveTo>
                    <a:arcTo wR="3600" hR="3600" stAng="16200000" swAng="-5400000"/>
                    <a:lnTo>
                      <a:pt x="0" y="41164"/>
                    </a:lnTo>
                    <a:arcTo wR="3600" hR="3600" stAng="10800000" swAng="-5400000"/>
                    <a:lnTo>
                      <a:pt x="18000" y="4476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固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定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観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念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3648240" y="4149720"/>
            <a:ext cx="820440" cy="98100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4140360" y="4365720"/>
            <a:ext cx="5003280" cy="2320920"/>
            <a:chOff x="4140360" y="4365720"/>
            <a:chExt cx="5003280" cy="2320920"/>
          </a:xfrm>
        </p:grpSpPr>
        <p:grpSp>
          <p:nvGrpSpPr>
            <p:cNvPr id="372" name=""/>
            <p:cNvGrpSpPr/>
            <p:nvPr/>
          </p:nvGrpSpPr>
          <p:grpSpPr>
            <a:xfrm>
              <a:off x="4424760" y="4365720"/>
              <a:ext cx="4718880" cy="2320920"/>
              <a:chOff x="4424760" y="4365720"/>
              <a:chExt cx="4718880" cy="2320920"/>
            </a:xfrm>
          </p:grpSpPr>
          <p:sp>
            <p:nvSpPr>
              <p:cNvPr id="373" name=""/>
              <p:cNvSpPr/>
              <p:nvPr/>
            </p:nvSpPr>
            <p:spPr>
              <a:xfrm>
                <a:off x="4681440" y="4365720"/>
                <a:ext cx="4033440" cy="698400"/>
              </a:xfrm>
              <a:prstGeom prst="rect">
                <a:avLst/>
              </a:prstGeom>
              <a:solidFill>
                <a:srgbClr val="3366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浄水システムの性能・性質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81440" y="5158080"/>
                <a:ext cx="4030200" cy="677880"/>
              </a:xfrm>
              <a:prstGeom prst="rect">
                <a:avLst/>
              </a:prstGeom>
              <a:solidFill>
                <a:srgbClr val="3366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配水管の性能・性質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81440" y="5950080"/>
                <a:ext cx="4462200" cy="736560"/>
              </a:xfrm>
              <a:prstGeom prst="rect">
                <a:avLst/>
              </a:prstGeom>
              <a:solidFill>
                <a:srgbClr val="3366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良質な水を提供している事実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4424760" y="4714920"/>
                <a:ext cx="256680" cy="1603800"/>
                <a:chOff x="4424760" y="4714920"/>
                <a:chExt cx="256680" cy="1603800"/>
              </a:xfrm>
            </p:grpSpPr>
            <p:cxnSp>
              <p:nvCxnSpPr>
                <p:cNvPr id="377" name=""/>
                <p:cNvCxnSpPr>
                  <a:stCxn id="373" idx="1"/>
                  <a:endCxn id="375" idx="1"/>
                </p:cNvCxnSpPr>
                <p:nvPr/>
              </p:nvCxnSpPr>
              <p:spPr>
                <a:xfrm flipH="1" flipV="1" rot="10800000">
                  <a:off x="4662000" y="4714560"/>
                  <a:ext cx="2160" cy="1604160"/>
                </a:xfrm>
                <a:prstGeom prst="bentConnector3">
                  <a:avLst>
                    <a:gd name="adj1" fmla="val -13200000"/>
                  </a:avLst>
                </a:prstGeom>
                <a:ln w="50760">
                  <a:solidFill>
                    <a:srgbClr val="ffffff"/>
                  </a:solidFill>
                  <a:miter/>
                </a:ln>
              </p:spPr>
            </p:cxnSp>
            <p:sp>
              <p:nvSpPr>
                <p:cNvPr id="378" name=""/>
                <p:cNvSpPr/>
                <p:nvPr/>
              </p:nvSpPr>
              <p:spPr>
                <a:xfrm>
                  <a:off x="4465800" y="5518440"/>
                  <a:ext cx="21564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9" name=""/>
            <p:cNvSpPr/>
            <p:nvPr/>
          </p:nvSpPr>
          <p:spPr>
            <a:xfrm flipH="1" flipV="1">
              <a:off x="4140360" y="4436640"/>
              <a:ext cx="325440" cy="10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788000" y="4724280"/>
            <a:ext cx="3960720" cy="1729080"/>
          </a:xfrm>
          <a:prstGeom prst="wedgeRectCallout">
            <a:avLst>
              <a:gd name="adj1" fmla="val 1745"/>
              <a:gd name="adj2" fmla="val -8884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市民の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・安全性への不安　　　　　　　　　　　　　　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・水道設備に対する不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・においが強いという不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>
            <a:lum bright="42000"/>
          </a:blip>
          <a:stretch/>
        </p:blipFill>
        <p:spPr>
          <a:xfrm>
            <a:off x="755640" y="1916280"/>
            <a:ext cx="1625760" cy="21096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124000" y="2781360"/>
            <a:ext cx="4896000" cy="1295280"/>
          </a:xfrm>
          <a:prstGeom prst="wedgeRectCallout">
            <a:avLst>
              <a:gd name="adj1" fmla="val -55351"/>
              <a:gd name="adj2" fmla="val -78555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問題がないのに、あなた達のせいで水道水に問題があると市民に思われているのだ。レッドカード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4653000"/>
            <a:ext cx="649080" cy="647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03280" y="1628640"/>
            <a:ext cx="6553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今の水道水の現状をサッカー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例えるな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347 -0.00046 0.00694 -0.00046 0.01041 -0.00162 C 0.01371 -0.00255 0.01979 -0.00625 0.01979 -0.00625 C 0.02361 -0.01412 0.03663 -0.02431 0.04305 -0.02963 C 0.04861 -0.03426 0.05381 -0.04005 0.0592 -0.04514 C 0.06232 -0.04792 0.06631 -0.04815 0.06979 -0.04977 C 0.07482 -0.05208 0.08142 -0.0581 0.08593 -0.06204 C 0.09218 -0.06736 0.09687 -0.07338 0.10347 -0.07755 C 0.10763 -0.08357 0.11284 -0.08773 0.11736 -0.09306 C 0.12256 -0.09908 0.12725 -0.10579 0.13246 -0.11181 C 0.1368 -0.1169 0.13941 -0.12292 0.14409 -0.12732 C 0.14774 -0.13634 0.15312 -0.14283 0.15816 -0.15046 C 0.1651 -0.16088 0.17066 -0.17315 0.17777 -0.1831 C 0.18194 -0.19884 0.19218 -0.2088 0.19756 -0.22338 C 0.2026 -0.23658 0.19305 -0.2169 0.20225 -0.23426 C 0.20381 -0.23727 0.20694 -0.24352 0.20694 -0.24352 C 0.20885 -0.25301 0.21423 -0.25833 0.21736 -0.26667 C 0.21927 -0.27176 0.21996 -0.27523 0.22326 -0.27917 C 0.22326 -0.2794 0.22534 -0.28843 0.22552 -0.28843 C 0.22673 -0.28843 0.22604 -0.28519 0.22673 -0.2838 C 0.22986 -0.27662 0.23281 -0.26921 0.23593 -0.26204 C 0.24479 -0.24213 0.24566 -0.21852 0.25104 -0.19699 C 0.25329 -0.18796 0.2552 -0.17986 0.25694 -0.1706 C 0.25729 -0.16852 0.25816 -0.16435 0.25816 -0.16435 C 0.2592 -0.15023 0.25954 -0.13634 0.26267 -0.12269 C 0.27361 -0.12408 0.28454 -0.12616 0.29531 -0.12871 C 0.30972 -0.13681 0.32413 -0.14421 0.33941 -0.14884 C 0.34062 -0.14838 0.34253 -0.14908 0.34305 -0.14746 C 0.34531 -0.14028 0.33368 -0.12732 0.33246 -0.1257 C 0.31892 -0.10764 0.33993 -0.13472 0.3243 -0.11783 C 0.31441 -0.10718 0.3052 -0.09445 0.29652 -0.08218 C 0.29131 -0.07477 0.28559 -0.06921 0.2802 -0.06204 C 0.2776 -0.05857 0.27656 -0.05903 0.27899 -0.05903 E">
                                      <p:cBhvr>
                                        <p:cTn id="26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981080" y="274320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つまり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1905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水道水の安全性には</a:t>
            </a: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「問題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がないのに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利用者が水道水に</a:t>
            </a:r>
            <a:r>
              <a:rPr b="0" lang="zh-CN" sz="4000" spc="-1" strike="noStrike">
                <a:solidFill>
                  <a:srgbClr val="ffcc00"/>
                </a:solidFill>
                <a:latin typeface="Times New Roman"/>
              </a:rPr>
              <a:t>「問題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がある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思っている事実に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「問題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がある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4360" y="2565360"/>
            <a:ext cx="7991280" cy="23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より多くの人に情報を提供できれば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水道水の安全性への信用は高まるので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42920" y="692280"/>
            <a:ext cx="58341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この問題を解決するために・・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調査対象　つくば市在住の主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調査目的　・情報提供前後における水道水に対す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　　　　   　意識変化の調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　　　　　 ・水道水についての情報認知度調査　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53352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追加調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684360" y="1557360"/>
          <a:ext cx="7921440" cy="230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557360"/>
                    <a:ext cx="7921440" cy="230508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1476360" y="40464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アンケート結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50920" y="4004280"/>
            <a:ext cx="6335640" cy="1009080"/>
            <a:chOff x="250920" y="4004280"/>
            <a:chExt cx="6335640" cy="1009080"/>
          </a:xfrm>
        </p:grpSpPr>
        <p:sp>
          <p:nvSpPr>
            <p:cNvPr id="396" name=""/>
            <p:cNvSpPr/>
            <p:nvPr/>
          </p:nvSpPr>
          <p:spPr>
            <a:xfrm>
              <a:off x="1632240" y="4004280"/>
              <a:ext cx="418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説明前水道水を信頼していなかった人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8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％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0920" y="4437000"/>
              <a:ext cx="6335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説明後水道水を信頼していない人が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6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％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1835280" y="5734080"/>
            <a:ext cx="561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報提示前後で信頼している人の割合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変化することが言え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916360" y="5013360"/>
            <a:ext cx="4968360" cy="576360"/>
            <a:chOff x="2916360" y="5013360"/>
            <a:chExt cx="4968360" cy="576360"/>
          </a:xfrm>
        </p:grpSpPr>
        <p:sp>
          <p:nvSpPr>
            <p:cNvPr id="400" name=""/>
            <p:cNvSpPr/>
            <p:nvPr/>
          </p:nvSpPr>
          <p:spPr>
            <a:xfrm>
              <a:off x="2916360" y="5013360"/>
              <a:ext cx="647640" cy="57636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35280" y="5013360"/>
              <a:ext cx="4249440" cy="431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検定の結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468360" y="26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アンケートの中身（後述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プレゼンテーションの流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600200"/>
            <a:ext cx="22096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背景・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886200"/>
            <a:ext cx="2667240" cy="137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問題の根本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所存確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2120" y="2286000"/>
            <a:ext cx="4343400" cy="2057400"/>
            <a:chOff x="762120" y="2286000"/>
            <a:chExt cx="4343400" cy="2057400"/>
          </a:xfrm>
        </p:grpSpPr>
        <p:sp>
          <p:nvSpPr>
            <p:cNvPr id="96" name=""/>
            <p:cNvSpPr/>
            <p:nvPr/>
          </p:nvSpPr>
          <p:spPr>
            <a:xfrm>
              <a:off x="762120" y="3276720"/>
              <a:ext cx="220968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</a:rPr>
                <a:t>住民の意識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9520" y="2286000"/>
              <a:ext cx="228600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</a:rPr>
                <a:t>「水」の実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-119160" y="1428840"/>
            <a:ext cx="8425080" cy="3861000"/>
            <a:chOff x="-119160" y="1428840"/>
            <a:chExt cx="8425080" cy="3861000"/>
          </a:xfrm>
        </p:grpSpPr>
        <p:sp>
          <p:nvSpPr>
            <p:cNvPr id="99" name=""/>
            <p:cNvSpPr/>
            <p:nvPr/>
          </p:nvSpPr>
          <p:spPr>
            <a:xfrm rot="20239200">
              <a:off x="-6120" y="2482920"/>
              <a:ext cx="5819760" cy="175248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2209680"/>
              <a:ext cx="2286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Times New Roman"/>
                </a:rPr>
                <a:t>実態調査の報告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52480" y="2362320"/>
            <a:ext cx="1143000" cy="914400"/>
            <a:chOff x="1752480" y="2362320"/>
            <a:chExt cx="1143000" cy="914400"/>
          </a:xfrm>
        </p:grpSpPr>
        <p:sp>
          <p:nvSpPr>
            <p:cNvPr id="102" name=""/>
            <p:cNvSpPr/>
            <p:nvPr/>
          </p:nvSpPr>
          <p:spPr>
            <a:xfrm>
              <a:off x="1752480" y="2666880"/>
              <a:ext cx="76320" cy="60984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0" y="2362320"/>
              <a:ext cx="609480" cy="30456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743200" y="3200400"/>
            <a:ext cx="990720" cy="914400"/>
            <a:chOff x="2743200" y="3200400"/>
            <a:chExt cx="990720" cy="914400"/>
          </a:xfrm>
        </p:grpSpPr>
        <p:sp>
          <p:nvSpPr>
            <p:cNvPr id="105" name=""/>
            <p:cNvSpPr/>
            <p:nvPr/>
          </p:nvSpPr>
          <p:spPr>
            <a:xfrm>
              <a:off x="2971800" y="3429000"/>
              <a:ext cx="762120" cy="685800"/>
            </a:xfrm>
            <a:prstGeom prst="line">
              <a:avLst/>
            </a:prstGeom>
            <a:ln w="1080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743200" y="3200400"/>
              <a:ext cx="60948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400800" y="5181480"/>
            <a:ext cx="22860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今後の提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24360" y="5943600"/>
            <a:ext cx="2476440" cy="648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40000" y="5013360"/>
            <a:ext cx="1676520" cy="1498680"/>
            <a:chOff x="2340000" y="5013360"/>
            <a:chExt cx="1676520" cy="1498680"/>
          </a:xfrm>
        </p:grpSpPr>
        <p:sp>
          <p:nvSpPr>
            <p:cNvPr id="110" name=""/>
            <p:cNvSpPr/>
            <p:nvPr/>
          </p:nvSpPr>
          <p:spPr>
            <a:xfrm>
              <a:off x="2340000" y="5445000"/>
              <a:ext cx="1676520" cy="106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9900"/>
                  </a:solidFill>
                  <a:latin typeface="Times New Roman"/>
                </a:rPr>
                <a:t>考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563640" y="5013360"/>
              <a:ext cx="431640" cy="57636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050920" y="333360"/>
            <a:ext cx="54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調査内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95640" y="1628640"/>
            <a:ext cx="554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はじめに、何の情報も与えず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道水の安全性についての印象を聞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476360" y="2637000"/>
            <a:ext cx="6840720" cy="2160360"/>
            <a:chOff x="1476360" y="2637000"/>
            <a:chExt cx="6840720" cy="2160360"/>
          </a:xfrm>
        </p:grpSpPr>
        <p:sp>
          <p:nvSpPr>
            <p:cNvPr id="406" name=""/>
            <p:cNvSpPr/>
            <p:nvPr/>
          </p:nvSpPr>
          <p:spPr>
            <a:xfrm>
              <a:off x="4572000" y="2637000"/>
              <a:ext cx="720720" cy="504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76360" y="3284640"/>
              <a:ext cx="6840720" cy="720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利き水アンケートの結果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76360" y="4076640"/>
              <a:ext cx="6840720" cy="720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浄水場の目標水質基準の高さ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979640" y="4941720"/>
            <a:ext cx="6264360" cy="1727280"/>
            <a:chOff x="1979640" y="4941720"/>
            <a:chExt cx="6264360" cy="1727280"/>
          </a:xfrm>
        </p:grpSpPr>
        <p:sp>
          <p:nvSpPr>
            <p:cNvPr id="410" name=""/>
            <p:cNvSpPr/>
            <p:nvPr/>
          </p:nvSpPr>
          <p:spPr>
            <a:xfrm>
              <a:off x="4572000" y="4941720"/>
              <a:ext cx="720720" cy="505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79640" y="5589720"/>
              <a:ext cx="62643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市民の水道水に対する安全性の印象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どのように変化する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5280" y="270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具体的デー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8288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332000" y="2997360"/>
            <a:ext cx="676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よっ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1989000"/>
            <a:ext cx="8136000" cy="2159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道水の安全性に対する信用度の向上の手段とし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報の提供は有効な手段といえ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676520" y="3049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情報をどういったカタチで提供するか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88000" y="1700280"/>
            <a:ext cx="2879640" cy="576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段階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戦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80000" y="2421000"/>
            <a:ext cx="5148000" cy="115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Pro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多くの人が手に取りやすい小規模媒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－詳細ではなく端的な表現で住民の興味を引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5146920" y="3788280"/>
            <a:ext cx="1008000" cy="8636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80000" y="4869000"/>
            <a:ext cx="5148000" cy="136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Pro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より多くの情報を提供できる大規模媒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－これを見ればつくば市の水道水につい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すべて分かるようにする　　　　　　　　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227640" y="3500280"/>
            <a:ext cx="2376720" cy="1079640"/>
            <a:chOff x="6227640" y="3500280"/>
            <a:chExt cx="2376720" cy="1079640"/>
          </a:xfrm>
        </p:grpSpPr>
        <p:sp>
          <p:nvSpPr>
            <p:cNvPr id="422" name=""/>
            <p:cNvSpPr/>
            <p:nvPr/>
          </p:nvSpPr>
          <p:spPr>
            <a:xfrm>
              <a:off x="6227640" y="3931920"/>
              <a:ext cx="2376720" cy="648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RL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の提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16720" y="3500280"/>
              <a:ext cx="142920" cy="431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311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201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情報の提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水源から蛇口まで、どのようにして水が提供されているの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個人・建物所有者管理の情報は大切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　 （貯水タンク、浄水器の管理方法）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追加調査の結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その他味やにおいに関する対処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（どうしても気になる人のために･･･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Tahoma"/>
              </a:rPr>
              <a:t>　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50920" y="1844640"/>
            <a:ext cx="720720" cy="4392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80000" y="2637000"/>
            <a:ext cx="3382920" cy="9349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ＰＥＴボトルの廃棄量削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0" y="5084640"/>
            <a:ext cx="3382920" cy="107964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浄水器や水道管の誤っ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管理方法の抑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32000" y="2133720"/>
            <a:ext cx="331128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道水の安全性に対す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信用度の上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71640" y="2708280"/>
            <a:ext cx="360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32000" y="3645000"/>
            <a:ext cx="3382920" cy="1224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道水の高度使用の拡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87640" y="328464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71640" y="5589720"/>
            <a:ext cx="360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620640"/>
            <a:ext cx="4066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見込まれる直接的効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80000" y="5013360"/>
            <a:ext cx="3402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財政の回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2" idx="3"/>
            <a:endCxn id="428" idx="1"/>
          </p:cNvCxnSpPr>
          <p:nvPr/>
        </p:nvCxnSpPr>
        <p:spPr>
          <a:xfrm flipV="1">
            <a:off x="4714560" y="3104640"/>
            <a:ext cx="865800" cy="1153440"/>
          </a:xfrm>
          <a:prstGeom prst="bentConnector3">
            <a:avLst>
              <a:gd name="adj1" fmla="val 49875"/>
            </a:avLst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2" idx="3"/>
            <a:endCxn id="436" idx="1"/>
          </p:cNvCxnSpPr>
          <p:nvPr/>
        </p:nvCxnSpPr>
        <p:spPr>
          <a:xfrm>
            <a:off x="4714560" y="4257360"/>
            <a:ext cx="865800" cy="1289880"/>
          </a:xfrm>
          <a:prstGeom prst="bentConnector3">
            <a:avLst>
              <a:gd name="adj1" fmla="val 49875"/>
            </a:avLst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11280" y="1484280"/>
            <a:ext cx="489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追加調査の結果か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を行うこと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より高い信用が得られ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77080" y="476280"/>
            <a:ext cx="720720" cy="489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3280" y="5373720"/>
            <a:ext cx="4969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安全性への信用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質基準や行政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によっ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確保されてい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8360" y="2492280"/>
            <a:ext cx="3743280" cy="165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多くの人が安全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についての情報を知らな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8000" y="189000"/>
            <a:ext cx="417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解決方法への手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27640" y="2924280"/>
            <a:ext cx="2232000" cy="649080"/>
          </a:xfrm>
          <a:prstGeom prst="rightArrow">
            <a:avLst>
              <a:gd name="adj1" fmla="val 50120"/>
              <a:gd name="adj2" fmla="val 7264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9640" y="450864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900000" y="4221000"/>
          <a:ext cx="3743280" cy="252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4221000"/>
                    <a:ext cx="37432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851280" y="549360"/>
            <a:ext cx="489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見込まれる間接的効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5280" y="1773360"/>
            <a:ext cx="3402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財政の回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3141720"/>
            <a:ext cx="3456000" cy="100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霞ヶ浦の浄化プロジェク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の促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50920" y="285264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280" y="4581360"/>
            <a:ext cx="352908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霞ヶ浦の浄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50920" y="414972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19640" y="3213000"/>
            <a:ext cx="32418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源のイメージ改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52" idx="3"/>
            <a:endCxn id="454" idx="2"/>
          </p:cNvCxnSpPr>
          <p:nvPr/>
        </p:nvCxnSpPr>
        <p:spPr>
          <a:xfrm flipV="1">
            <a:off x="3924360" y="4075920"/>
            <a:ext cx="2916720" cy="1081800"/>
          </a:xfrm>
          <a:prstGeom prst="bentConnector2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>
            <a:off x="4716360" y="1989000"/>
            <a:ext cx="403236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道水問題の根本的解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877080" y="292428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692360" y="2852640"/>
            <a:ext cx="60483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具体的な方向性・実施案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今後検討していくこととす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44240" y="403200"/>
            <a:ext cx="643428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協力してくれた方々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多くの主婦の方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県水道事務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つくば市水道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茨城県住宅管理協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59280" y="476280"/>
            <a:ext cx="5497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参考文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0320" y="2181240"/>
            <a:ext cx="78501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霞ヶ浦水源調査報告書（平成１５年度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調査背景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「水」が注目される時代に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住民の水に対する意識向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つくばの水道水は本当にまずいのか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水道水の実態がわからない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東京・大阪の先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09588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調査目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724280"/>
            <a:ext cx="4537080" cy="865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市民の不満や疑問を探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557360"/>
            <a:ext cx="3887640" cy="8650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問題発見・問題解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141720"/>
            <a:ext cx="4537080" cy="86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水道設備の実態を把握す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494172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17733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7080" y="335772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49417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アンケート調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33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ヒアリング調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1773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具体案の提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09160" y="1903320"/>
            <a:ext cx="7550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調査日時　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5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月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30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日～６月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調査方法　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直接訪問による留め置き調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調査対象　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つくば市在住のご家庭１３４世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調査内容　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・水道水に対する意識調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 　　　　　　　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・水道水以外の「水」サービス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　　　　　　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利用実態の調査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476280"/>
            <a:ext cx="705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実態調査アンケートの実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アンケートよ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浄水器の利用率：つくば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％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全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9.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　　　　　　　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16002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水道水の安全性に不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619280" y="2276640"/>
            <a:ext cx="6324480" cy="4390920"/>
            <a:chOff x="1619280" y="2276640"/>
            <a:chExt cx="6324480" cy="4390920"/>
          </a:xfrm>
        </p:grpSpPr>
        <p:graphicFrame>
          <p:nvGraphicFramePr>
            <p:cNvPr id="129" name=""/>
            <p:cNvGraphicFramePr/>
            <p:nvPr/>
          </p:nvGraphicFramePr>
          <p:xfrm>
            <a:off x="1619280" y="2276640"/>
            <a:ext cx="6324480" cy="43909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2276640"/>
                      <a:ext cx="6324480" cy="43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4572000" y="2565360"/>
              <a:ext cx="312408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99"/>
                  </a:solidFill>
                  <a:latin typeface="Times New Roman"/>
                </a:rPr>
                <a:t>水道水の安全性を信頼していますか？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143000" y="17524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81440" y="14130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ja-JP" sz="3600" spc="-1" strike="noStrike">
                <a:solidFill>
                  <a:srgbClr val="ffffff"/>
                </a:solidFill>
                <a:latin typeface="Tahoma"/>
              </a:rPr>
              <a:t>From Kasumigaura to our mouth</a:t>
            </a:r>
            <a:r>
              <a:rPr b="0" lang="ja-JP" sz="44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0" lang="ja-JP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648320"/>
            <a:ext cx="609840" cy="106668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257080" y="4472640"/>
            <a:ext cx="430200" cy="2663640"/>
          </a:xfrm>
          <a:custGeom>
            <a:avLst/>
            <a:gdLst>
              <a:gd name="textAreaLeft" fmla="*/ 275040 w 430200"/>
              <a:gd name="textAreaRight" fmla="*/ 430560 w 4302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6095880"/>
            <a:ext cx="216828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水道部の管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4360" y="5619240"/>
            <a:ext cx="3488760" cy="1083240"/>
            <a:chOff x="684360" y="5619240"/>
            <a:chExt cx="3488760" cy="1083240"/>
          </a:xfrm>
        </p:grpSpPr>
        <p:sp>
          <p:nvSpPr>
            <p:cNvPr id="138" name=""/>
            <p:cNvSpPr/>
            <p:nvPr/>
          </p:nvSpPr>
          <p:spPr>
            <a:xfrm rot="16167600">
              <a:off x="2844720" y="4743000"/>
              <a:ext cx="380880" cy="21531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6160 h 2153160"/>
                <a:gd name="textAreaBottom" fmla="*/ 2097000 h 215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360" y="6093000"/>
              <a:ext cx="3488760" cy="60948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県南水道事務所の管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79280" y="2286000"/>
            <a:ext cx="9003600" cy="2362320"/>
            <a:chOff x="179280" y="2286000"/>
            <a:chExt cx="9003600" cy="2362320"/>
          </a:xfrm>
        </p:grpSpPr>
        <p:sp>
          <p:nvSpPr>
            <p:cNvPr id="141" name=""/>
            <p:cNvSpPr/>
            <p:nvPr/>
          </p:nvSpPr>
          <p:spPr>
            <a:xfrm>
              <a:off x="179280" y="2971800"/>
              <a:ext cx="1900800" cy="1295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霞ヶ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080080" y="2286000"/>
              <a:ext cx="922320" cy="2362320"/>
              <a:chOff x="2080080" y="2286000"/>
              <a:chExt cx="922320" cy="2362320"/>
            </a:xfrm>
          </p:grpSpPr>
          <p:sp>
            <p:nvSpPr>
              <p:cNvPr id="143" name=""/>
              <p:cNvSpPr/>
              <p:nvPr/>
            </p:nvSpPr>
            <p:spPr>
              <a:xfrm>
                <a:off x="2464200" y="2286000"/>
                <a:ext cx="538200" cy="23623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霞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ヶ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浦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浄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水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場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0080" y="3581280"/>
                <a:ext cx="384120" cy="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003480" y="2895480"/>
              <a:ext cx="2483640" cy="1447920"/>
              <a:chOff x="3003480" y="2895480"/>
              <a:chExt cx="2483640" cy="1447920"/>
            </a:xfrm>
          </p:grpSpPr>
          <p:sp>
            <p:nvSpPr>
              <p:cNvPr id="146" name=""/>
              <p:cNvSpPr/>
              <p:nvPr/>
            </p:nvSpPr>
            <p:spPr>
              <a:xfrm>
                <a:off x="3003480" y="3276720"/>
                <a:ext cx="1164240" cy="728640"/>
              </a:xfrm>
              <a:prstGeom prst="rightArrow">
                <a:avLst>
                  <a:gd name="adj1" fmla="val 50000"/>
                  <a:gd name="adj2" fmla="val 39946"/>
                </a:avLst>
              </a:prstGeom>
              <a:solidFill>
                <a:srgbClr val="00c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送水管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67720" y="2895480"/>
                <a:ext cx="1319400" cy="14479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</a:rPr>
                  <a:t>配水場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488200" y="2421000"/>
              <a:ext cx="2057760" cy="1584360"/>
              <a:chOff x="5488200" y="2421000"/>
              <a:chExt cx="2057760" cy="158436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5488200" y="3047760"/>
                <a:ext cx="1593360" cy="957600"/>
                <a:chOff x="5488200" y="3047760"/>
                <a:chExt cx="1593360" cy="9576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488200" y="3276720"/>
                  <a:ext cx="1275120" cy="728640"/>
                </a:xfrm>
                <a:prstGeom prst="rightArrow">
                  <a:avLst>
                    <a:gd name="adj1" fmla="val 50000"/>
                    <a:gd name="adj2" fmla="val 43750"/>
                  </a:avLst>
                </a:prstGeom>
                <a:solidFill>
                  <a:srgbClr val="00c6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配水管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0800000">
                  <a:off x="6523920" y="3047760"/>
                  <a:ext cx="557640" cy="53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5963040" y="2421000"/>
                <a:ext cx="15829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止水栓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941520" y="3429000"/>
              <a:ext cx="1461960" cy="304920"/>
            </a:xfrm>
            <a:prstGeom prst="rightArrow">
              <a:avLst>
                <a:gd name="adj1" fmla="val 50000"/>
                <a:gd name="adj2" fmla="val 119864"/>
              </a:avLst>
            </a:prstGeom>
            <a:solidFill>
              <a:srgbClr val="00c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668720" y="2844000"/>
              <a:ext cx="1514160" cy="1514880"/>
              <a:chOff x="7668720" y="2844000"/>
              <a:chExt cx="1514160" cy="1514880"/>
            </a:xfrm>
          </p:grpSpPr>
          <p:sp>
            <p:nvSpPr>
              <p:cNvPr id="155" name="PubPieSlice"/>
              <p:cNvSpPr/>
              <p:nvPr/>
            </p:nvSpPr>
            <p:spPr>
              <a:xfrm rot="13369200">
                <a:off x="7892280" y="3062880"/>
                <a:ext cx="1066680" cy="10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1752" y="42"/>
                    </a:moveTo>
                    <a:arcTo wR="10800" hR="10800" stAng="-5096651" swAng="-16503349"/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875600">
                <a:off x="8474040" y="3353760"/>
                <a:ext cx="89640" cy="8892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6732720" y="5577840"/>
            <a:ext cx="2015640" cy="1124640"/>
            <a:chOff x="6732720" y="5577840"/>
            <a:chExt cx="2015640" cy="1124640"/>
          </a:xfrm>
        </p:grpSpPr>
        <p:sp>
          <p:nvSpPr>
            <p:cNvPr id="158" name=""/>
            <p:cNvSpPr/>
            <p:nvPr/>
          </p:nvSpPr>
          <p:spPr>
            <a:xfrm rot="16249200">
              <a:off x="7440840" y="4956120"/>
              <a:ext cx="380880" cy="16473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2840 h 1647360"/>
                <a:gd name="textAreaBottom" fmla="*/ 1604520 h 164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32720" y="6093000"/>
              <a:ext cx="2015640" cy="609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個人の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495680" y="4343400"/>
            <a:ext cx="609840" cy="129528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600"/>
                </a:solidFill>
                <a:latin typeface="Times New Roman"/>
              </a:rPr>
              <a:t>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47628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いかにして水道水は私たちの口に入るの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4343400"/>
            <a:ext cx="289584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道水への不信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276720" y="1752480"/>
          <a:ext cx="5867280" cy="454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752480"/>
                    <a:ext cx="586728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343400" y="4572000"/>
            <a:ext cx="4495680" cy="50796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648320"/>
            <a:ext cx="11430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752480"/>
            <a:ext cx="2438640" cy="13716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富栄養化　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質の汚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3429000"/>
            <a:ext cx="576360" cy="57636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635280" y="115920"/>
            <a:ext cx="5356080" cy="609480"/>
            <a:chOff x="3635280" y="115920"/>
            <a:chExt cx="5356080" cy="609480"/>
          </a:xfrm>
        </p:grpSpPr>
        <p:sp>
          <p:nvSpPr>
            <p:cNvPr id="170" name=""/>
            <p:cNvSpPr/>
            <p:nvPr/>
          </p:nvSpPr>
          <p:spPr>
            <a:xfrm>
              <a:off x="4754520" y="115920"/>
              <a:ext cx="8776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浄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35280" y="115920"/>
              <a:ext cx="8776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cccc"/>
                  </a:solidFill>
                  <a:latin typeface="Times New Roman"/>
                </a:rPr>
                <a:t>霞ヶ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73760" y="115920"/>
              <a:ext cx="87912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92640" y="115920"/>
              <a:ext cx="87948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配水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/>
            <p:nvPr/>
          </p:nvCxnSpPr>
          <p:spPr>
            <a:xfrm>
              <a:off x="787248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/>
            <p:nvPr/>
          </p:nvCxnSpPr>
          <p:spPr>
            <a:xfrm>
              <a:off x="451476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8112240" y="115920"/>
              <a:ext cx="879120" cy="60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管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/>
            <p:nvPr/>
          </p:nvCxnSpPr>
          <p:spPr>
            <a:xfrm>
              <a:off x="563400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/>
            <p:nvPr/>
          </p:nvCxnSpPr>
          <p:spPr>
            <a:xfrm>
              <a:off x="6752880" y="420120"/>
              <a:ext cx="2404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6:21:43Z</dcterms:created>
  <dc:creator>yanagi40</dc:creator>
  <dc:description/>
  <dc:language>en-US</dc:language>
  <cp:lastModifiedBy>satou41</cp:lastModifiedBy>
  <dcterms:modified xsi:type="dcterms:W3CDTF">2006-06-15T21:56:56Z</dcterms:modified>
  <cp:revision>73</cp:revision>
  <dc:subject/>
  <dc:title> つくばの水 　　 　　～水道に潜む課題と 　　　　　　新世代への方向性～ </dc:title>
</cp:coreProperties>
</file>