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266CD-C9AE-44F0-B236-69AAE5C8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EAA26-0866-4409-98D0-F27088BE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BC5E-46A5-414D-9014-45291353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35B0-F582-4840-A2C2-2C6B861A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ACED-EAFE-4590-AEF4-5A12056B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7DCF-EA6B-4EE0-9914-218C6444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084D-E940-4410-BB98-A10EF071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B819-1A8E-4C7B-AF55-D330AE9C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FC81-A2B5-4B00-BE42-A1CBCAF9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C8AD-0E73-4744-9A5E-08377227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59DF-90C3-4096-902B-E6702010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FEE52-4B9B-48A4-BA7B-1EC4D802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06EA-603F-4BA1-8A68-268DFFBC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1361-3FEF-40C6-9382-A558BFCB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0989-D066-459E-B9E1-E9E092AC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8E9E-098A-4347-838A-AE18743B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12FD-07D0-4612-818E-1BD90D00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9D37-7D12-4703-947B-20F82EA2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6EB4A-1F38-4B16-AAAD-DD424D4C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BB2E-301E-4BA4-B3D9-DF21041C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B2AAD-AE2A-4AD6-9BA4-BF9E7EC0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B4A40-F68E-45E7-BF02-A2C77B4E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1ABCD-6F9E-4D03-AA5F-CE148FEF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85A02-5098-4998-92B9-ECF527F6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987640" y="624852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都市計画実習　交通班　最終発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5FF3-C63C-42FF-8E69-8C1CDDC031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/06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/06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7975-BEB8-499A-99D5-6A5D90933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35280" y="1844280"/>
            <a:ext cx="640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新学内交通システム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事後評価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219280" y="4149360"/>
            <a:ext cx="353052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度交通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担当教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石田東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.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市橋尭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71440" y="5661000"/>
            <a:ext cx="42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池田泰彦　成澤晶浩　宇野寛子　大植仁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橋本英樹　猪瀬真宏　尾崎哲生　古波蔵嵩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29A3-014A-4B35-806F-0F16435540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1974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プレゼンテーションの流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87280" y="1341360"/>
            <a:ext cx="676944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１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研究の背景・目的・調査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84400" y="2062080"/>
            <a:ext cx="6769080" cy="574920"/>
          </a:xfrm>
          <a:prstGeom prst="roundRect">
            <a:avLst>
              <a:gd name="adj" fmla="val 16667"/>
            </a:avLst>
          </a:prstGeom>
          <a:solidFill>
            <a:srgbClr val="ffe5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２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システム導入による効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84400" y="2782800"/>
            <a:ext cx="676908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３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三者視点からの評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84400" y="3500280"/>
            <a:ext cx="676908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４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結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4221000"/>
            <a:ext cx="676944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５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改善策の提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4400" y="4940280"/>
            <a:ext cx="6769080" cy="57456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６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今後の展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C28D2-FA4B-4B6E-AD29-AEF00973E9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システム導入による効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299880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Trebuchet MS"/>
              </a:rPr>
              <a:t>　学内バスに乗る際の負担感の軽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9640" y="42242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③</a:t>
            </a:r>
            <a:r>
              <a:rPr b="0" lang="zh-CN" sz="3600" spc="-1" strike="noStrike">
                <a:solidFill>
                  <a:srgbClr val="000000"/>
                </a:solidFill>
                <a:latin typeface="Trebuchet MS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rebuchet MS"/>
              </a:rPr>
              <a:t>２</a:t>
            </a:r>
            <a:r>
              <a:rPr b="0" lang="zh-CN" sz="3600" spc="-1" strike="noStrike">
                <a:solidFill>
                  <a:srgbClr val="000000"/>
                </a:solidFill>
                <a:latin typeface="Trebuchet MS"/>
              </a:rPr>
              <a:t>排出量削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551808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④</a:t>
            </a:r>
            <a:r>
              <a:rPr b="0" lang="zh-CN" sz="3600" spc="-1" strike="noStrike">
                <a:solidFill>
                  <a:srgbClr val="000000"/>
                </a:solidFill>
                <a:latin typeface="Trebuchet MS"/>
              </a:rPr>
              <a:t>　大学のコスト削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9640" y="177480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Trebuchet MS"/>
              </a:rPr>
              <a:t>　学内バス利用者の増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F6E93-2170-4723-B1A7-4CF5077A61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07920" y="5445000"/>
            <a:ext cx="225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便当り平均乗客数の比較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（乗り込み調査より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2880" y="31903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乗客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52600" y="2776680"/>
            <a:ext cx="518940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52600" y="4537080"/>
            <a:ext cx="518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52600" y="4281480"/>
            <a:ext cx="518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52600" y="4035600"/>
            <a:ext cx="518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52600" y="3780000"/>
            <a:ext cx="518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52600" y="3533760"/>
            <a:ext cx="518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52600" y="3278160"/>
            <a:ext cx="518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52600" y="3032280"/>
            <a:ext cx="518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52600" y="2776680"/>
            <a:ext cx="518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52600" y="2776680"/>
            <a:ext cx="5189400" cy="2006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52600" y="4782960"/>
            <a:ext cx="5189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052880" y="4730400"/>
            <a:ext cx="144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8360" y="4048200"/>
            <a:ext cx="1044720" cy="736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59280" y="3009960"/>
            <a:ext cx="1033560" cy="1771560"/>
          </a:xfrm>
          <a:prstGeom prst="rect">
            <a:avLst/>
          </a:prstGeom>
          <a:solidFill>
            <a:srgbClr val="ff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50920" y="4570560"/>
            <a:ext cx="17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50920" y="4324320"/>
            <a:ext cx="17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50920" y="4068720"/>
            <a:ext cx="17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50920" y="3822840"/>
            <a:ext cx="17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50920" y="3567240"/>
            <a:ext cx="17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23120" y="332100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23120" y="306540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23120" y="281952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23120" y="256392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40080" y="49258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49258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76680" y="2229480"/>
            <a:ext cx="4852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59280" y="1268280"/>
            <a:ext cx="3529080" cy="1008360"/>
          </a:xfrm>
          <a:prstGeom prst="wedgeRoundRectCallout">
            <a:avLst>
              <a:gd name="adj1" fmla="val -27731"/>
              <a:gd name="adj2" fmla="val 11850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平均乗客数</a:t>
            </a:r>
            <a:r>
              <a:rPr b="0" lang="en-US" sz="3600" spc="-1" strike="noStrike">
                <a:solidFill>
                  <a:srgbClr val="ff0000"/>
                </a:solidFill>
                <a:latin typeface="HGP創英角ﾎﾟｯﾌﾟ体"/>
                <a:ea typeface="HGP創英角ﾎﾟｯﾌﾟ体"/>
              </a:rPr>
              <a:t>2.4</a:t>
            </a: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倍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309840" y="3009600"/>
            <a:ext cx="1546200" cy="10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418800" y="4997520"/>
            <a:ext cx="2046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004</a:t>
            </a: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年の学内バス及び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006</a:t>
            </a: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年の循環バスは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乗客数を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分割し、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便として計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学内バス利用者の増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24960" y="414972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9440" y="35877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4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31B99-2B21-438C-ADD9-E797335F0E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876680" y="5916600"/>
            <a:ext cx="56318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ＭＳ Ｐゴシック"/>
              </a:rPr>
              <a:t>つくばセンターへの交通手段の比較</a:t>
            </a:r>
            <a:r>
              <a:rPr b="0" lang="zh-CN" sz="2500" spc="-1" strike="noStrike">
                <a:solidFill>
                  <a:srgbClr val="000000"/>
                </a:solidFill>
                <a:latin typeface="ＭＳ Ｐゴシック"/>
              </a:rPr>
              <a:t>（アンケート調査より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042920" y="5084640"/>
            <a:ext cx="6553440" cy="792360"/>
            <a:chOff x="1042920" y="5084640"/>
            <a:chExt cx="6553440" cy="792360"/>
          </a:xfrm>
        </p:grpSpPr>
        <p:sp>
          <p:nvSpPr>
            <p:cNvPr id="282" name=""/>
            <p:cNvSpPr/>
            <p:nvPr/>
          </p:nvSpPr>
          <p:spPr>
            <a:xfrm>
              <a:off x="1042920" y="5084640"/>
              <a:ext cx="6553440" cy="792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14560" y="5156280"/>
              <a:ext cx="190440" cy="261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67720" y="5086440"/>
              <a:ext cx="547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ＭＳ Ｐゴシック"/>
                </a:rPr>
                <a:t>1 </a:t>
              </a:r>
              <a:r>
                <a:rPr b="0" lang="zh-CN" sz="1900" spc="-1" strike="noStrike">
                  <a:solidFill>
                    <a:srgbClr val="000000"/>
                  </a:solidFill>
                  <a:latin typeface="ＭＳ Ｐゴシック"/>
                </a:rPr>
                <a:t>徒歩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71640" y="5156280"/>
              <a:ext cx="190800" cy="261720"/>
            </a:xfrm>
            <a:prstGeom prst="rect">
              <a:avLst/>
            </a:prstGeom>
            <a:solidFill>
              <a:srgbClr val="ffd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90320" y="5086440"/>
              <a:ext cx="6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ＭＳ Ｐゴシック"/>
                </a:rPr>
                <a:t>2 </a:t>
              </a:r>
              <a:r>
                <a:rPr b="0" lang="zh-CN" sz="1900" spc="-1" strike="noStrike">
                  <a:solidFill>
                    <a:srgbClr val="000000"/>
                  </a:solidFill>
                  <a:latin typeface="ＭＳ Ｐゴシック"/>
                </a:rPr>
                <a:t>自転車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95800" y="5156280"/>
              <a:ext cx="190440" cy="261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35000" y="5086440"/>
              <a:ext cx="104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ＭＳ Ｐゴシック"/>
                </a:rPr>
                <a:t>3 </a:t>
              </a:r>
              <a:r>
                <a:rPr b="0" lang="zh-CN" sz="1900" spc="-1" strike="noStrike">
                  <a:solidFill>
                    <a:srgbClr val="000000"/>
                  </a:solidFill>
                  <a:latin typeface="ＭＳ Ｐゴシック"/>
                </a:rPr>
                <a:t>原付</a:t>
              </a:r>
              <a:r>
                <a:rPr b="0" lang="en-US" sz="1900" spc="-1" strike="noStrike">
                  <a:solidFill>
                    <a:srgbClr val="000000"/>
                  </a:solidFill>
                  <a:latin typeface="ＭＳ Ｐゴシック"/>
                </a:rPr>
                <a:t>/</a:t>
              </a:r>
              <a:r>
                <a:rPr b="0" lang="zh-CN" sz="1900" spc="-1" strike="noStrike">
                  <a:solidFill>
                    <a:srgbClr val="000000"/>
                  </a:solidFill>
                  <a:latin typeface="ＭＳ Ｐゴシック"/>
                </a:rPr>
                <a:t>二輪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83360" y="5156280"/>
              <a:ext cx="189000" cy="261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87200" y="5086440"/>
              <a:ext cx="1008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ＭＳ Ｐゴシック"/>
                </a:rPr>
                <a:t>4 </a:t>
              </a:r>
              <a:r>
                <a:rPr b="0" lang="zh-CN" sz="1900" spc="-1" strike="noStrike">
                  <a:solidFill>
                    <a:srgbClr val="000000"/>
                  </a:solidFill>
                  <a:latin typeface="ＭＳ Ｐゴシック"/>
                </a:rPr>
                <a:t>車</a:t>
              </a:r>
              <a:r>
                <a:rPr b="0" lang="en-US" sz="1900" spc="-1" strike="noStrike">
                  <a:solidFill>
                    <a:srgbClr val="000000"/>
                  </a:solidFill>
                  <a:latin typeface="ＭＳ Ｐゴシック"/>
                </a:rPr>
                <a:t>(</a:t>
              </a:r>
              <a:r>
                <a:rPr b="0" lang="zh-CN" sz="1900" spc="-1" strike="noStrike">
                  <a:solidFill>
                    <a:srgbClr val="000000"/>
                  </a:solidFill>
                  <a:latin typeface="ＭＳ Ｐゴシック"/>
                </a:rPr>
                <a:t>運転</a:t>
              </a:r>
              <a:r>
                <a:rPr b="0" lang="en-US" sz="1900" spc="-1" strike="noStrike">
                  <a:solidFill>
                    <a:srgbClr val="000000"/>
                  </a:solidFill>
                  <a:latin typeface="ＭＳ Ｐゴシック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14560" y="5586480"/>
              <a:ext cx="188640" cy="261720"/>
            </a:xfrm>
            <a:prstGeom prst="rect">
              <a:avLst/>
            </a:prstGeom>
            <a:solidFill>
              <a:srgbClr val="660066">
                <a:alpha val="2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85360" y="5516640"/>
              <a:ext cx="982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ＭＳ Ｐゴシック"/>
                </a:rPr>
                <a:t>5 </a:t>
              </a:r>
              <a:r>
                <a:rPr b="0" lang="zh-CN" sz="1900" spc="-1" strike="noStrike">
                  <a:solidFill>
                    <a:srgbClr val="000000"/>
                  </a:solidFill>
                  <a:latin typeface="ＭＳ Ｐゴシック"/>
                </a:rPr>
                <a:t>車（送迎）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95760" y="5586480"/>
              <a:ext cx="191880" cy="261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06800" y="5516640"/>
              <a:ext cx="547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ＭＳ Ｐゴシック"/>
                </a:rPr>
                <a:t>6 </a:t>
              </a:r>
              <a:r>
                <a:rPr b="0" lang="zh-CN" sz="1900" spc="-1" strike="noStrike">
                  <a:solidFill>
                    <a:srgbClr val="000000"/>
                  </a:solidFill>
                  <a:latin typeface="ＭＳ Ｐゴシック"/>
                </a:rPr>
                <a:t>バ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11640" y="5586480"/>
              <a:ext cx="190440" cy="2617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40040" y="5516640"/>
              <a:ext cx="6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ＭＳ Ｐゴシック"/>
                </a:rPr>
                <a:t>7 </a:t>
              </a:r>
              <a:r>
                <a:rPr b="0" lang="zh-CN" sz="1900" spc="-1" strike="noStrike">
                  <a:solidFill>
                    <a:srgbClr val="000000"/>
                  </a:solidFill>
                  <a:latin typeface="ＭＳ Ｐゴシック"/>
                </a:rPr>
                <a:t>その他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824120" y="2951280"/>
            <a:ext cx="5860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4120" y="2951280"/>
            <a:ext cx="5860800" cy="1677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24120" y="3205080"/>
            <a:ext cx="231840" cy="336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835280" y="3541680"/>
            <a:ext cx="220680" cy="496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4038480"/>
            <a:ext cx="2457360" cy="346320"/>
          </a:xfrm>
          <a:prstGeom prst="rect">
            <a:avLst/>
          </a:prstGeom>
          <a:solidFill>
            <a:srgbClr val="ff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55960" y="3205080"/>
            <a:ext cx="2595240" cy="336600"/>
          </a:xfrm>
          <a:prstGeom prst="rect">
            <a:avLst/>
          </a:prstGeom>
          <a:solidFill>
            <a:srgbClr val="ff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292640" y="3541680"/>
            <a:ext cx="358560" cy="496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92640" y="4038480"/>
            <a:ext cx="345960" cy="346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51200" y="3205080"/>
            <a:ext cx="196920" cy="336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638600" y="3541680"/>
            <a:ext cx="209520" cy="496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38600" y="4038480"/>
            <a:ext cx="1332000" cy="34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48120" y="3205080"/>
            <a:ext cx="2178000" cy="336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970600" y="3541680"/>
            <a:ext cx="1055520" cy="496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970600" y="4038480"/>
            <a:ext cx="174600" cy="346320"/>
          </a:xfrm>
          <a:prstGeom prst="rect">
            <a:avLst/>
          </a:prstGeom>
          <a:solidFill>
            <a:srgbClr val="660066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26120" y="3205080"/>
            <a:ext cx="139680" cy="336600"/>
          </a:xfrm>
          <a:prstGeom prst="rect">
            <a:avLst/>
          </a:prstGeom>
          <a:solidFill>
            <a:srgbClr val="660066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145200" y="3541680"/>
            <a:ext cx="1020600" cy="496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45200" y="4038480"/>
            <a:ext cx="1504800" cy="346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165800" y="3205080"/>
            <a:ext cx="497160" cy="336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650000" y="3541680"/>
            <a:ext cx="12960" cy="496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650000" y="4038480"/>
            <a:ext cx="34920" cy="3463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662960" y="3205080"/>
            <a:ext cx="21960" cy="3366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684920" y="3541680"/>
            <a:ext cx="1800" cy="496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4120" y="4629240"/>
            <a:ext cx="586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824120" y="4559400"/>
            <a:ext cx="14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994120" y="4559400"/>
            <a:ext cx="14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164120" y="4559400"/>
            <a:ext cx="14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345280" y="4559400"/>
            <a:ext cx="14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515280" y="4559400"/>
            <a:ext cx="14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684920" y="4559400"/>
            <a:ext cx="180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4120" y="2951280"/>
            <a:ext cx="1440" cy="1677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24120" y="462924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4120" y="3784680"/>
            <a:ext cx="680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24120" y="29512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82360" y="4060800"/>
            <a:ext cx="85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41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71080" y="3195720"/>
            <a:ext cx="85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44.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17240" y="4060800"/>
            <a:ext cx="85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2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55520" y="3197160"/>
            <a:ext cx="85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7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19240" y="4060800"/>
            <a:ext cx="85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5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53200" y="4581360"/>
            <a:ext cx="68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0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392840" y="2637000"/>
            <a:ext cx="68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4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29640" y="4348080"/>
            <a:ext cx="68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5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50320" y="2927520"/>
            <a:ext cx="68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3920" y="4508640"/>
            <a:ext cx="68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721920" y="2852640"/>
            <a:ext cx="68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115760" y="3197160"/>
            <a:ext cx="68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901280" y="4421160"/>
            <a:ext cx="68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0.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901280" y="2908440"/>
            <a:ext cx="68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0.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660680" y="4708440"/>
            <a:ext cx="35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60480" y="4708440"/>
            <a:ext cx="50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29040" y="4708440"/>
            <a:ext cx="50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10200" y="4708440"/>
            <a:ext cx="50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80200" y="4708440"/>
            <a:ext cx="50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76760" y="470844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4720" y="4076640"/>
            <a:ext cx="9320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006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(N=4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0520" y="3213000"/>
            <a:ext cx="11588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004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Ｎ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=13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63640" y="2997360"/>
            <a:ext cx="157320" cy="352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1834920" y="4292640"/>
            <a:ext cx="144360" cy="342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481640" y="4264200"/>
            <a:ext cx="23760" cy="27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59520" y="4264200"/>
            <a:ext cx="1440" cy="244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054920" y="3084480"/>
            <a:ext cx="33120" cy="265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7656120" y="3130560"/>
            <a:ext cx="312840" cy="254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656480" y="4206960"/>
            <a:ext cx="312840" cy="301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580000" y="1628640"/>
            <a:ext cx="2664000" cy="1152720"/>
          </a:xfrm>
          <a:prstGeom prst="wedgeRoundRectCallout">
            <a:avLst>
              <a:gd name="adj1" fmla="val 23124"/>
              <a:gd name="adj2" fmla="val 8305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rebuchet MS"/>
              </a:rPr>
              <a:t>学内バス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rebuchet MS"/>
              </a:rPr>
              <a:t>選択率増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40000" y="1844640"/>
            <a:ext cx="2663640" cy="1152720"/>
          </a:xfrm>
          <a:prstGeom prst="wedgeRoundRectCallout">
            <a:avLst>
              <a:gd name="adj1" fmla="val 82657"/>
              <a:gd name="adj2" fmla="val 67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rebuchet MS"/>
              </a:rPr>
              <a:t>自動車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rebuchet MS"/>
              </a:rPr>
              <a:t>選択率減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83280" y="3860640"/>
            <a:ext cx="1657440" cy="720720"/>
          </a:xfrm>
          <a:prstGeom prst="ellipse">
            <a:avLst/>
          </a:prstGeom>
          <a:noFill/>
          <a:ln w="41400">
            <a:solidFill>
              <a:srgbClr val="ff03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学内バスに乗る際の負担感の軽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へ行く際の利用交通手段の変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E3455-E073-454A-A7D9-501A268423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900000" y="5157720"/>
            <a:ext cx="7201080" cy="486000"/>
            <a:chOff x="900000" y="5157720"/>
            <a:chExt cx="7201080" cy="486000"/>
          </a:xfrm>
        </p:grpSpPr>
        <p:sp>
          <p:nvSpPr>
            <p:cNvPr id="364" name=""/>
            <p:cNvSpPr/>
            <p:nvPr/>
          </p:nvSpPr>
          <p:spPr>
            <a:xfrm>
              <a:off x="2576520" y="51847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82360" y="5184720"/>
              <a:ext cx="40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52280" y="5184720"/>
              <a:ext cx="40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4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09600" y="5184720"/>
              <a:ext cx="40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79520" y="5184720"/>
              <a:ext cx="40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8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0000" y="5157720"/>
              <a:ext cx="7201080" cy="48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59640" y="5229360"/>
              <a:ext cx="244440" cy="3128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74440" y="5302440"/>
              <a:ext cx="725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週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4</a:t>
              </a: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以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92720" y="5229360"/>
              <a:ext cx="244440" cy="3128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42640" y="5302440"/>
              <a:ext cx="78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週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～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40280" y="5229360"/>
              <a:ext cx="244440" cy="3128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7000" y="5302440"/>
              <a:ext cx="78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月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～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98840" y="5229360"/>
              <a:ext cx="244440" cy="312840"/>
            </a:xfrm>
            <a:prstGeom prst="rect">
              <a:avLst/>
            </a:prstGeom>
            <a:solidFill>
              <a:srgbClr val="f8e6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986560" y="5302440"/>
              <a:ext cx="926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年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4</a:t>
              </a: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～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71640" y="5229360"/>
              <a:ext cx="244440" cy="3128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05520" y="5302440"/>
              <a:ext cx="878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年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3</a:t>
              </a: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回以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11280" y="5877000"/>
            <a:ext cx="770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パスの有無によるセンターへ行く頻度の比較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アンケート調査より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333360"/>
            <a:ext cx="865188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学内バスに乗る際の負担感の軽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パスカード所有によるセンターへの頻度の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03000" y="2205000"/>
            <a:ext cx="7212960" cy="2688840"/>
            <a:chOff x="603000" y="2205000"/>
            <a:chExt cx="7212960" cy="2688840"/>
          </a:xfrm>
        </p:grpSpPr>
        <p:sp>
          <p:nvSpPr>
            <p:cNvPr id="383" name=""/>
            <p:cNvSpPr/>
            <p:nvPr/>
          </p:nvSpPr>
          <p:spPr>
            <a:xfrm>
              <a:off x="1763640" y="2470680"/>
              <a:ext cx="5721480" cy="21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2268360" y="3203640"/>
              <a:ext cx="648000" cy="66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4500720" y="3203640"/>
              <a:ext cx="863280" cy="66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6659640" y="3203280"/>
              <a:ext cx="504720" cy="73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1763640" y="2470680"/>
              <a:ext cx="5760720" cy="2131200"/>
              <a:chOff x="1763640" y="2470680"/>
              <a:chExt cx="5760720" cy="2131200"/>
            </a:xfrm>
          </p:grpSpPr>
          <p:sp>
            <p:nvSpPr>
              <p:cNvPr id="388" name=""/>
              <p:cNvSpPr/>
              <p:nvPr/>
            </p:nvSpPr>
            <p:spPr>
              <a:xfrm flipH="1">
                <a:off x="1763640" y="2470680"/>
                <a:ext cx="5760720" cy="213120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7139160" y="3854160"/>
                <a:ext cx="385200" cy="4374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6669000" y="2792160"/>
                <a:ext cx="855000" cy="4258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5369400" y="3854160"/>
                <a:ext cx="1769400" cy="43740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4485600" y="2792160"/>
                <a:ext cx="2183400" cy="42588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2868120" y="3854160"/>
                <a:ext cx="2501280" cy="43740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2273040" y="2792160"/>
                <a:ext cx="2212200" cy="42588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2219400" y="3854160"/>
                <a:ext cx="648720" cy="437400"/>
              </a:xfrm>
              <a:prstGeom prst="rect">
                <a:avLst/>
              </a:prstGeom>
              <a:solidFill>
                <a:srgbClr val="f8e6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1929960" y="2792160"/>
                <a:ext cx="343440" cy="425880"/>
              </a:xfrm>
              <a:prstGeom prst="rect">
                <a:avLst/>
              </a:prstGeom>
              <a:solidFill>
                <a:srgbClr val="f8e6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1763280" y="3854160"/>
                <a:ext cx="455400" cy="4374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1763640" y="2792160"/>
                <a:ext cx="166320" cy="4258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 flipH="1" flipV="1">
              <a:off x="1907640" y="3203640"/>
              <a:ext cx="287640" cy="66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63640" y="4601880"/>
              <a:ext cx="5721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1763640" y="4532400"/>
              <a:ext cx="1800" cy="6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2901960" y="4532400"/>
              <a:ext cx="3240" cy="6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056120" y="4532400"/>
              <a:ext cx="1440" cy="6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5194440" y="4532400"/>
              <a:ext cx="1440" cy="6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345360" y="4532400"/>
              <a:ext cx="1440" cy="6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485120" y="4532400"/>
              <a:ext cx="1440" cy="6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63640" y="2470680"/>
              <a:ext cx="1800" cy="213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63640" y="4601880"/>
              <a:ext cx="82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63640" y="3529800"/>
              <a:ext cx="82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63640" y="2470680"/>
              <a:ext cx="82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74920" y="3936240"/>
              <a:ext cx="60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31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65000" y="2908080"/>
              <a:ext cx="60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38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57120" y="3936240"/>
              <a:ext cx="60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4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46240" y="2908080"/>
              <a:ext cx="60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38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01480" y="3936240"/>
              <a:ext cx="60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11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92880" y="2870280"/>
              <a:ext cx="427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6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48520" y="3936240"/>
              <a:ext cx="427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8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09840" y="2870280"/>
              <a:ext cx="60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1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149240" y="3936240"/>
              <a:ext cx="427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48520" y="2205000"/>
              <a:ext cx="427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3000" y="3866040"/>
              <a:ext cx="106884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パスなし</a:t>
              </a:r>
              <a:br>
                <a:rPr sz="2000"/>
              </a:b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（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N=25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6240" y="2749680"/>
              <a:ext cx="106884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パスあり</a:t>
              </a:r>
              <a:br>
                <a:rPr sz="2000"/>
              </a:b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（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N=16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1730520" y="4448520"/>
              <a:ext cx="1440" cy="6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6421320" y="4448520"/>
              <a:ext cx="1800" cy="6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66720" y="4587120"/>
              <a:ext cx="358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66880" y="4587120"/>
              <a:ext cx="50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35440" y="4587120"/>
              <a:ext cx="50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4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16600" y="4587120"/>
              <a:ext cx="50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6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94440" y="4588560"/>
              <a:ext cx="50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8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164360" y="4587120"/>
              <a:ext cx="651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0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835280" y="2538360"/>
              <a:ext cx="7272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56000" y="2604600"/>
              <a:ext cx="3384720" cy="800280"/>
            </a:xfrm>
            <a:prstGeom prst="ellipse">
              <a:avLst/>
            </a:prstGeom>
            <a:noFill/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788000" y="1628640"/>
            <a:ext cx="42465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efefe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パス所有者の方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センターへ行く頻度が高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F4229-21A2-46C9-A6A8-53C5331E0E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179280" y="1773360"/>
            <a:ext cx="7993080" cy="4611240"/>
            <a:chOff x="179280" y="1773360"/>
            <a:chExt cx="7993080" cy="4611240"/>
          </a:xfrm>
        </p:grpSpPr>
        <p:sp>
          <p:nvSpPr>
            <p:cNvPr id="435" name=""/>
            <p:cNvSpPr/>
            <p:nvPr/>
          </p:nvSpPr>
          <p:spPr>
            <a:xfrm>
              <a:off x="2174400" y="5030280"/>
              <a:ext cx="490788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ＭＳ Ｐゴシック"/>
                </a:rPr>
                <a:t>大学関係者のパスカードの所有による満足度の割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zh-CN" sz="2000" spc="-1" strike="noStrike">
                  <a:solidFill>
                    <a:srgbClr val="000000"/>
                  </a:solidFill>
                  <a:latin typeface="Comic Sans MS"/>
                </a:rPr>
                <a:t>アンケート調査より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04960" y="1932480"/>
              <a:ext cx="6049800" cy="27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04960" y="1932480"/>
              <a:ext cx="6049800" cy="27824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04960" y="3742920"/>
              <a:ext cx="92160" cy="55368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04960" y="2351520"/>
              <a:ext cx="52560" cy="55512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97120" y="3742920"/>
              <a:ext cx="604800" cy="553680"/>
            </a:xfrm>
            <a:prstGeom prst="rect">
              <a:avLst/>
            </a:prstGeom>
            <a:solidFill>
              <a:srgbClr val="ff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57520" y="2351520"/>
              <a:ext cx="446040" cy="555120"/>
            </a:xfrm>
            <a:prstGeom prst="rect">
              <a:avLst/>
            </a:prstGeom>
            <a:solidFill>
              <a:srgbClr val="ff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1920" y="3742920"/>
              <a:ext cx="2590920" cy="553680"/>
            </a:xfrm>
            <a:prstGeom prst="rect">
              <a:avLst/>
            </a:prstGeom>
            <a:solidFill>
              <a:srgbClr val="cc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203560" y="2351520"/>
              <a:ext cx="1407960" cy="555120"/>
            </a:xfrm>
            <a:prstGeom prst="rect">
              <a:avLst/>
            </a:prstGeom>
            <a:solidFill>
              <a:srgbClr val="cc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92840" y="3742920"/>
              <a:ext cx="1984320" cy="553680"/>
            </a:xfrm>
            <a:prstGeom prst="rect">
              <a:avLst/>
            </a:prstGeom>
            <a:solidFill>
              <a:srgbClr val="cc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11520" y="2351520"/>
              <a:ext cx="2919600" cy="555120"/>
            </a:xfrm>
            <a:prstGeom prst="rect">
              <a:avLst/>
            </a:prstGeom>
            <a:solidFill>
              <a:srgbClr val="cc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77160" y="3742920"/>
              <a:ext cx="777600" cy="5536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531120" y="2351520"/>
              <a:ext cx="1223640" cy="5551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04960" y="4714920"/>
              <a:ext cx="6049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1704960" y="4640760"/>
              <a:ext cx="1440" cy="7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2913120" y="4640760"/>
              <a:ext cx="1440" cy="7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124160" y="4640760"/>
              <a:ext cx="1800" cy="7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5334120" y="4640760"/>
              <a:ext cx="1440" cy="7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6543720" y="4640760"/>
              <a:ext cx="3240" cy="7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754760" y="4640760"/>
              <a:ext cx="1800" cy="7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04960" y="1932480"/>
              <a:ext cx="1440" cy="27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04960" y="4714920"/>
              <a:ext cx="77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04960" y="3323880"/>
              <a:ext cx="7776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04960" y="1932480"/>
              <a:ext cx="777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16640" y="177336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56160" y="2043360"/>
              <a:ext cx="68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0.9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51480" y="316188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89560" y="3434760"/>
              <a:ext cx="68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1.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59680" y="237780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95960" y="2647800"/>
              <a:ext cx="68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7.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891440" y="377892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35920" y="4050000"/>
              <a:ext cx="85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10.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467880" y="377892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15600" y="4050000"/>
              <a:ext cx="85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42.9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77320" y="238860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26480" y="2660040"/>
              <a:ext cx="85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23.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48840" y="238860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95120" y="2660040"/>
              <a:ext cx="85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48.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56760" y="377892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600160" y="4050000"/>
              <a:ext cx="85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32.9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915600" y="238860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61880" y="2660040"/>
              <a:ext cx="85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20.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39520" y="377892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85800" y="4050000"/>
              <a:ext cx="85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12.9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43680" y="4712400"/>
              <a:ext cx="427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67960" y="4712400"/>
              <a:ext cx="60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2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79360" y="4712400"/>
              <a:ext cx="60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93640" y="4712400"/>
              <a:ext cx="60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6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03240" y="4712400"/>
              <a:ext cx="60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8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445520" y="4712400"/>
              <a:ext cx="7268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6240" y="3813120"/>
              <a:ext cx="73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パスな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720" y="2423160"/>
              <a:ext cx="73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パス有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1741320" y="2058480"/>
              <a:ext cx="158760" cy="29448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1741320" y="3442320"/>
              <a:ext cx="158760" cy="22068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0920" y="4390200"/>
              <a:ext cx="1442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(n = 7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9280" y="2954880"/>
              <a:ext cx="142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(n = 33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64000" y="2151360"/>
              <a:ext cx="4392720" cy="984240"/>
            </a:xfrm>
            <a:prstGeom prst="ellipse">
              <a:avLst/>
            </a:prstGeom>
            <a:noFill/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6516720" y="1341360"/>
            <a:ext cx="2484360" cy="936720"/>
          </a:xfrm>
          <a:prstGeom prst="flowChartAlternateProcess">
            <a:avLst/>
          </a:prstGeom>
          <a:gradFill rotWithShape="0">
            <a:gsLst>
              <a:gs pos="0">
                <a:srgbClr val="ffcc99"/>
              </a:gs>
              <a:gs pos="50000">
                <a:srgbClr val="fefefe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高得点を付け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人が増加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19640" y="598500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点（非常に不満）～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点（非常に満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" y="333360"/>
            <a:ext cx="865188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学内バスに乗る際の負担感の軽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パスカード所有による満足度の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B05E0-A7FA-43CE-9A26-D860A9E99E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611280" y="3500280"/>
            <a:ext cx="8137440" cy="720720"/>
          </a:xfrm>
          <a:prstGeom prst="roundRect">
            <a:avLst>
              <a:gd name="adj" fmla="val 16667"/>
            </a:avLst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4358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学内バスに乗る際の負担感の軽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00720" y="3621960"/>
            <a:ext cx="4122720" cy="509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パスカードによる高い満足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19000" y="5738400"/>
            <a:ext cx="7724880" cy="644040"/>
          </a:xfrm>
          <a:prstGeom prst="roundRect">
            <a:avLst>
              <a:gd name="adj" fmla="val 16667"/>
            </a:avLst>
          </a:prstGeom>
          <a:solidFill>
            <a:srgbClr val="ffe5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rebuchet MS"/>
                <a:ea typeface="HG丸ｺﾞｼｯｸM-PRO"/>
              </a:rPr>
              <a:t>学内バスに対する負担感の軽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788000" y="7029360"/>
            <a:ext cx="3786120" cy="803520"/>
          </a:xfrm>
          <a:custGeom>
            <a:avLst/>
            <a:gdLst/>
            <a:ahLst/>
            <a:rect l="l" t="t" r="r" b="b"/>
            <a:pathLst>
              <a:path w="2385" h="506">
                <a:moveTo>
                  <a:pt x="22" y="0"/>
                </a:moveTo>
                <a:cubicBezTo>
                  <a:pt x="14" y="88"/>
                  <a:pt x="23" y="43"/>
                  <a:pt x="23" y="277"/>
                </a:cubicBezTo>
                <a:lnTo>
                  <a:pt x="1115" y="270"/>
                </a:lnTo>
                <a:lnTo>
                  <a:pt x="1122" y="365"/>
                </a:lnTo>
                <a:lnTo>
                  <a:pt x="1020" y="350"/>
                </a:lnTo>
                <a:lnTo>
                  <a:pt x="1206" y="506"/>
                </a:lnTo>
                <a:lnTo>
                  <a:pt x="1392" y="350"/>
                </a:lnTo>
                <a:lnTo>
                  <a:pt x="1283" y="357"/>
                </a:lnTo>
                <a:lnTo>
                  <a:pt x="1283" y="277"/>
                </a:lnTo>
                <a:lnTo>
                  <a:pt x="2385" y="279"/>
                </a:lnTo>
                <a:lnTo>
                  <a:pt x="2385" y="7"/>
                </a:lnTo>
                <a:lnTo>
                  <a:pt x="2204" y="7"/>
                </a:lnTo>
                <a:lnTo>
                  <a:pt x="2204" y="143"/>
                </a:lnTo>
                <a:lnTo>
                  <a:pt x="163" y="143"/>
                </a:lnTo>
                <a:lnTo>
                  <a:pt x="163" y="7"/>
                </a:lnTo>
                <a:lnTo>
                  <a:pt x="0" y="7"/>
                </a:lnTo>
                <a:lnTo>
                  <a:pt x="22" y="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45120" y="3070080"/>
            <a:ext cx="792000" cy="287640"/>
          </a:xfrm>
          <a:prstGeom prst="downArrow">
            <a:avLst>
              <a:gd name="adj1" fmla="val 49778"/>
              <a:gd name="adj2" fmla="val 48352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098880" y="4724280"/>
            <a:ext cx="3095640" cy="576720"/>
          </a:xfrm>
          <a:prstGeom prst="roundRect">
            <a:avLst>
              <a:gd name="adj" fmla="val 16667"/>
            </a:avLst>
          </a:prstGeom>
          <a:solidFill>
            <a:srgbClr val="ffe5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バスの利用者増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17400" y="1384200"/>
            <a:ext cx="7842240" cy="151308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26920" y="1816200"/>
            <a:ext cx="4176720" cy="914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パス所持者による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センターへのバス高頻度利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849640" y="1816200"/>
            <a:ext cx="1733760" cy="914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自動車からバスへ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交通手段の転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522520" y="1052640"/>
            <a:ext cx="4105440" cy="6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新学内交通システ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0920" y="7532640"/>
            <a:ext cx="4319640" cy="762120"/>
          </a:xfrm>
          <a:custGeom>
            <a:avLst/>
            <a:gdLst/>
            <a:ahLst/>
            <a:rect l="l" t="t" r="r" b="b"/>
            <a:pathLst>
              <a:path w="2721" h="480">
                <a:moveTo>
                  <a:pt x="1204" y="0"/>
                </a:moveTo>
                <a:lnTo>
                  <a:pt x="1389" y="0"/>
                </a:lnTo>
                <a:lnTo>
                  <a:pt x="1393" y="117"/>
                </a:lnTo>
                <a:lnTo>
                  <a:pt x="2531" y="117"/>
                </a:lnTo>
                <a:lnTo>
                  <a:pt x="2531" y="299"/>
                </a:lnTo>
                <a:lnTo>
                  <a:pt x="2721" y="299"/>
                </a:lnTo>
                <a:lnTo>
                  <a:pt x="2406" y="480"/>
                </a:lnTo>
                <a:lnTo>
                  <a:pt x="2089" y="299"/>
                </a:lnTo>
                <a:lnTo>
                  <a:pt x="2279" y="299"/>
                </a:lnTo>
                <a:lnTo>
                  <a:pt x="2279" y="253"/>
                </a:lnTo>
                <a:lnTo>
                  <a:pt x="380" y="253"/>
                </a:lnTo>
                <a:lnTo>
                  <a:pt x="380" y="299"/>
                </a:lnTo>
                <a:lnTo>
                  <a:pt x="569" y="299"/>
                </a:lnTo>
                <a:lnTo>
                  <a:pt x="253" y="480"/>
                </a:lnTo>
                <a:lnTo>
                  <a:pt x="0" y="299"/>
                </a:lnTo>
                <a:lnTo>
                  <a:pt x="190" y="299"/>
                </a:lnTo>
                <a:lnTo>
                  <a:pt x="190" y="117"/>
                </a:lnTo>
                <a:lnTo>
                  <a:pt x="1203" y="117"/>
                </a:lnTo>
                <a:lnTo>
                  <a:pt x="1204" y="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900000" y="3621960"/>
            <a:ext cx="277020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バス選択率の増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0800000">
            <a:off x="3851280" y="3622680"/>
            <a:ext cx="503280" cy="5191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251240" y="5373720"/>
            <a:ext cx="792360" cy="287280"/>
          </a:xfrm>
          <a:prstGeom prst="downArrow">
            <a:avLst>
              <a:gd name="adj1" fmla="val 49778"/>
              <a:gd name="adj2" fmla="val 48352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245120" y="4325760"/>
            <a:ext cx="792000" cy="287640"/>
          </a:xfrm>
          <a:prstGeom prst="downArrow">
            <a:avLst>
              <a:gd name="adj1" fmla="val 49778"/>
              <a:gd name="adj2" fmla="val 48352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F4403-B8BC-4F9E-9962-509FCB6362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150480" y="1365120"/>
            <a:ext cx="4205520" cy="3935160"/>
            <a:chOff x="150480" y="1365120"/>
            <a:chExt cx="4205520" cy="3935160"/>
          </a:xfrm>
        </p:grpSpPr>
        <p:sp>
          <p:nvSpPr>
            <p:cNvPr id="512" name=""/>
            <p:cNvSpPr/>
            <p:nvPr/>
          </p:nvSpPr>
          <p:spPr>
            <a:xfrm>
              <a:off x="1079640" y="1714320"/>
              <a:ext cx="3273120" cy="30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79640" y="4487760"/>
              <a:ext cx="327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079640" y="4173120"/>
              <a:ext cx="327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79640" y="3871800"/>
              <a:ext cx="327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79640" y="3558960"/>
              <a:ext cx="327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79640" y="3257280"/>
              <a:ext cx="327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79640" y="2943000"/>
              <a:ext cx="327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079640" y="2641320"/>
              <a:ext cx="327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79640" y="2328480"/>
              <a:ext cx="327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79640" y="2025360"/>
              <a:ext cx="327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79640" y="1714320"/>
              <a:ext cx="3273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79640" y="1714320"/>
              <a:ext cx="3273120" cy="3076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73200" y="2830320"/>
              <a:ext cx="647640" cy="19605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11560" y="3049200"/>
              <a:ext cx="644400" cy="17416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73200" y="1868400"/>
              <a:ext cx="647640" cy="961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11560" y="2228760"/>
              <a:ext cx="644400" cy="820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13000" y="1868400"/>
              <a:ext cx="64476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79640" y="1714320"/>
              <a:ext cx="128520" cy="3076560"/>
            </a:xfrm>
            <a:custGeom>
              <a:avLst/>
              <a:gdLst/>
              <a:ahLst/>
              <a:rect l="l" t="t" r="r" b="b"/>
              <a:pathLst>
                <a:path w="6" h="295">
                  <a:moveTo>
                    <a:pt x="0" y="0"/>
                  </a:moveTo>
                  <a:lnTo>
                    <a:pt x="0" y="295"/>
                  </a:lnTo>
                  <a:lnTo>
                    <a:pt x="6" y="2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79640" y="4487760"/>
              <a:ext cx="128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79640" y="4173120"/>
              <a:ext cx="128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79640" y="3871800"/>
              <a:ext cx="128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79640" y="3558960"/>
              <a:ext cx="128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79640" y="3257280"/>
              <a:ext cx="128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79640" y="2943000"/>
              <a:ext cx="128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79640" y="2641320"/>
              <a:ext cx="128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79640" y="2328480"/>
              <a:ext cx="128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79640" y="2025360"/>
              <a:ext cx="128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79640" y="1714320"/>
              <a:ext cx="128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079640" y="4790880"/>
              <a:ext cx="327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079640" y="472680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2714760" y="472680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352760" y="4726800"/>
              <a:ext cx="32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69600" y="470664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ＭＳ Ｐゴシック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3640" y="4403520"/>
              <a:ext cx="457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ＭＳ Ｐゴシック"/>
                </a:rPr>
                <a:t>10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3640" y="4092480"/>
              <a:ext cx="457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ＭＳ Ｐゴシック"/>
                </a:rPr>
                <a:t>20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3640" y="3787560"/>
              <a:ext cx="457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ＭＳ Ｐゴシック"/>
                </a:rPr>
                <a:t>30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3640" y="3474720"/>
              <a:ext cx="457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ＭＳ Ｐゴシック"/>
                </a:rPr>
                <a:t>40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3640" y="3173040"/>
              <a:ext cx="457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ＭＳ Ｐゴシック"/>
                </a:rPr>
                <a:t>50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3640" y="2860560"/>
              <a:ext cx="457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ＭＳ Ｐゴシック"/>
                </a:rPr>
                <a:t>60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3640" y="2557080"/>
              <a:ext cx="457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ＭＳ Ｐゴシック"/>
                </a:rPr>
                <a:t>70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3640" y="2244600"/>
              <a:ext cx="457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ＭＳ Ｐゴシック"/>
                </a:rPr>
                <a:t>80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23640" y="1941120"/>
              <a:ext cx="457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ＭＳ Ｐゴシック"/>
                </a:rPr>
                <a:t>90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0480" y="1630080"/>
              <a:ext cx="610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ＭＳ Ｐゴシック"/>
                </a:rPr>
                <a:t>100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82560" y="4979880"/>
              <a:ext cx="610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ＭＳ Ｐゴシック"/>
                </a:rPr>
                <a:t>2004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0920" y="4979880"/>
              <a:ext cx="610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ＭＳ Ｐゴシック"/>
                </a:rPr>
                <a:t>2006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8000" y="1436400"/>
              <a:ext cx="110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59520" y="352548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6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09040" y="35971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56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59520" y="21571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3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09040" y="244440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25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52880" y="136512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rebuchet MS"/>
                </a:rPr>
                <a:t>計</a:t>
              </a: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943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937240" y="136512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rebuchet MS"/>
                </a:rPr>
                <a:t>計</a:t>
              </a: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826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排出量削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1547640" y="5373720"/>
            <a:ext cx="2520720" cy="503280"/>
            <a:chOff x="1547640" y="5373720"/>
            <a:chExt cx="2520720" cy="503280"/>
          </a:xfrm>
        </p:grpSpPr>
        <p:sp>
          <p:nvSpPr>
            <p:cNvPr id="566" name=""/>
            <p:cNvSpPr/>
            <p:nvPr/>
          </p:nvSpPr>
          <p:spPr>
            <a:xfrm>
              <a:off x="1547640" y="5373720"/>
              <a:ext cx="2520720" cy="5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63280" y="5505120"/>
              <a:ext cx="250920" cy="312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36600" y="5505120"/>
              <a:ext cx="29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ＭＳ Ｐゴシック"/>
                </a:rPr>
                <a:t>バ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771640" y="5505120"/>
              <a:ext cx="250560" cy="2876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76000" y="5505120"/>
              <a:ext cx="43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ＭＳ Ｐゴシック"/>
                </a:rPr>
                <a:t>自動車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4427640" y="1268280"/>
            <a:ext cx="2089080" cy="1513080"/>
          </a:xfrm>
          <a:prstGeom prst="wedgeRoundRectCallout">
            <a:avLst>
              <a:gd name="adj1" fmla="val -89439"/>
              <a:gd name="adj2" fmla="val 1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総削減量</a:t>
            </a:r>
            <a:r>
              <a:rPr b="0" lang="en-US" sz="4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117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26800" y="6056280"/>
            <a:ext cx="159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排出量の比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716360" y="2997360"/>
            <a:ext cx="2087640" cy="1618560"/>
            <a:chOff x="4716360" y="2997360"/>
            <a:chExt cx="2087640" cy="1618560"/>
          </a:xfrm>
        </p:grpSpPr>
        <p:sp>
          <p:nvSpPr>
            <p:cNvPr id="574" name=""/>
            <p:cNvSpPr/>
            <p:nvPr/>
          </p:nvSpPr>
          <p:spPr>
            <a:xfrm>
              <a:off x="4716360" y="2997360"/>
              <a:ext cx="20682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燃費の仮定</a:t>
              </a:r>
              <a:br>
                <a:rPr sz="2000"/>
              </a:b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自動車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km/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ｌ</a:t>
              </a:r>
              <a:br>
                <a:rPr sz="2000"/>
              </a:b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バス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.3km/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716360" y="2997360"/>
              <a:ext cx="2087640" cy="97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356000" y="4292640"/>
            <a:ext cx="4788000" cy="23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＜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排出量計算方法＞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自動車：センターに車で行く人数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拡大版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)</a:t>
            </a:r>
            <a:br>
              <a:rPr sz="1500"/>
            </a:b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　　　　　　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×</a:t>
            </a: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センターに行く頻度の平均トリップ数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回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年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)</a:t>
            </a:r>
            <a:br>
              <a:rPr sz="1500"/>
            </a:b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　　　　　　　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×4km(</a:t>
            </a: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センターまでの距離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)×</a:t>
            </a: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排出量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バスⅠ：　平日運行時の一日本数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×</a:t>
            </a: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各走行距離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×</a:t>
            </a: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排出量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×</a:t>
            </a: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年間運行日数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平日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バスⅡ：　土日祝日運行時の一日本数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×</a:t>
            </a: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各走行距離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×</a:t>
            </a: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排出量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×</a:t>
            </a: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年間運行日数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zh-CN" sz="1500" spc="-1" strike="noStrike">
                <a:solidFill>
                  <a:srgbClr val="000000"/>
                </a:solidFill>
                <a:latin typeface="Trebuchet MS"/>
              </a:rPr>
              <a:t>土日祝日運行日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7956720" y="2852640"/>
            <a:ext cx="1077840" cy="15130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6568920" y="333360"/>
            <a:ext cx="2556000" cy="1727280"/>
          </a:xfrm>
          <a:prstGeom prst="wedgeRoundRectCallout">
            <a:avLst>
              <a:gd name="adj1" fmla="val 23351"/>
              <a:gd name="adj2" fmla="val 113601"/>
              <a:gd name="adj3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東京ドー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約</a:t>
            </a: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杯分</a:t>
            </a: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851280" y="662148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omic Sans MS"/>
              </a:rPr>
              <a:t>出典　：　ジャビット：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http://toshima.cool.ne.jp/carp2/masukoto/in-jab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71B40-5159-4E7F-8F8D-AE425BB6BF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dc2d7"/>
                                      </p:to>
                                    </p:animClr>
                                    <p:animClr clrSpc="rgb">
                                      <p:cBhvr>
                                        <p:cTn id="244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dc2d7"/>
                                      </p:to>
                                    </p:animClr>
                                    <p:set>
                                      <p:cBhvr>
                                        <p:cTn id="245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rcRect l="7034" t="22414" r="5620" b="14891"/>
          <a:stretch/>
        </p:blipFill>
        <p:spPr>
          <a:xfrm>
            <a:off x="468360" y="1557360"/>
            <a:ext cx="2865240" cy="20746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3419640" y="1557360"/>
            <a:ext cx="1485720" cy="20876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611280" y="4221000"/>
            <a:ext cx="4392360" cy="1727280"/>
          </a:xfrm>
          <a:prstGeom prst="wedgeRoundRectCallout">
            <a:avLst>
              <a:gd name="adj1" fmla="val 31388"/>
              <a:gd name="adj2" fmla="val -162685"/>
              <a:gd name="adj3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rebuchet MS"/>
              </a:rPr>
              <a:t>東京ドー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rebuchet MS"/>
              </a:rPr>
              <a:t>約</a:t>
            </a: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Trebuchet MS"/>
              </a:rPr>
              <a:t>杯分</a:t>
            </a: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2952720" cy="20415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5508720" y="1268280"/>
            <a:ext cx="2808360" cy="1513080"/>
          </a:xfrm>
          <a:prstGeom prst="wedgeRoundRectCallout">
            <a:avLst>
              <a:gd name="adj1" fmla="val -44291"/>
              <a:gd name="adj2" fmla="val 2114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総削減量</a:t>
            </a:r>
            <a:r>
              <a:rPr b="0" lang="en-US" sz="4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117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0" y="5950080"/>
            <a:ext cx="4608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omic Sans MS"/>
              </a:rPr>
              <a:t>出典　：　ジャビット：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http://toshima.cool.ne.jp/carp2/masukoto/in-jab.ht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omic Sans MS"/>
              </a:rPr>
              <a:t>　　　　　東京ドーム：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http://toshima.cool.ne.jp/carp2/masukoto/in-jab.ht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排出量削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AD51B-FA5D-41F1-9EB6-D3F240CA4756}" type="slidenum">
              <a:t>18</a:t>
            </a:fld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1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dc2d7"/>
                                      </p:to>
                                    </p:animClr>
                                    <p:animClr clrSpc="rgb">
                                      <p:cBhvr>
                                        <p:cTn id="275" dur="1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dc2d7"/>
                                      </p:to>
                                    </p:animClr>
                                    <p:set>
                                      <p:cBhvr>
                                        <p:cTn id="276" dur="1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大学のコスト減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間コストの変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導入前   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万円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人件費、運行費、原価償却費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導入後  最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,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万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関東鉄道への支払い分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※パスの売り上げによって変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700360" y="2997360"/>
            <a:ext cx="1511280" cy="86328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4000" y="4724280"/>
            <a:ext cx="8496000" cy="1081080"/>
          </a:xfrm>
          <a:prstGeom prst="roundRect">
            <a:avLst>
              <a:gd name="adj" fmla="val 16667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最低でも、</a:t>
            </a:r>
            <a:r>
              <a:rPr b="1" lang="en-US" sz="44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2000</a:t>
            </a:r>
            <a:r>
              <a:rPr b="1" lang="zh-CN" sz="44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万円</a:t>
            </a:r>
            <a:r>
              <a:rPr b="1" lang="zh-CN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のコスト削減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7D8D6-09DF-48C9-9F6C-F03D638340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1974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プレゼンテーションの流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1341360"/>
            <a:ext cx="6769440" cy="574920"/>
          </a:xfrm>
          <a:prstGeom prst="roundRect">
            <a:avLst>
              <a:gd name="adj" fmla="val 16667"/>
            </a:avLst>
          </a:prstGeom>
          <a:solidFill>
            <a:srgbClr val="ffe5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１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研究の背景・目的・調査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4400" y="2062080"/>
            <a:ext cx="676908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２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システム導入による効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4400" y="2782800"/>
            <a:ext cx="676908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３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三者視点からの評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4400" y="3500280"/>
            <a:ext cx="676908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４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結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221000"/>
            <a:ext cx="676944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５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改善策の提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4400" y="4940280"/>
            <a:ext cx="6769080" cy="57456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６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今後の展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583E7-14B3-4B4C-9440-FB3259A243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900000" y="5661000"/>
            <a:ext cx="2880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ＭＳ Ｐゴシック"/>
              </a:rPr>
              <a:t>パスカード売り上げ枚数</a:t>
            </a:r>
            <a:br>
              <a:rPr sz="2100"/>
            </a:br>
            <a:r>
              <a:rPr b="1" lang="zh-CN" sz="2100" spc="-1" strike="noStrike">
                <a:solidFill>
                  <a:srgbClr val="000000"/>
                </a:solidFill>
                <a:latin typeface="ＭＳ Ｐゴシック"/>
              </a:rPr>
              <a:t>（平成</a:t>
            </a:r>
            <a:r>
              <a:rPr b="1" lang="en-US" sz="21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zh-CN" sz="21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en-US" sz="21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1" lang="zh-CN" sz="2100" spc="-1" strike="noStrike">
                <a:solidFill>
                  <a:srgbClr val="000000"/>
                </a:solidFill>
                <a:latin typeface="ＭＳ Ｐゴシック"/>
              </a:rPr>
              <a:t>月度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大学のコスト減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95280" y="5157720"/>
            <a:ext cx="4248000" cy="360360"/>
            <a:chOff x="395280" y="5157720"/>
            <a:chExt cx="4248000" cy="360360"/>
          </a:xfrm>
        </p:grpSpPr>
        <p:sp>
          <p:nvSpPr>
            <p:cNvPr id="594" name=""/>
            <p:cNvSpPr/>
            <p:nvPr/>
          </p:nvSpPr>
          <p:spPr>
            <a:xfrm>
              <a:off x="395280" y="5157720"/>
              <a:ext cx="4248000" cy="360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697200" y="5273640"/>
              <a:ext cx="123120" cy="125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996360" y="520056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ＭＳ Ｐゴシック"/>
                </a:rPr>
                <a:t>その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698560" y="5263920"/>
              <a:ext cx="123480" cy="1238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03120" y="519120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ＭＳ Ｐゴシック"/>
                </a:rPr>
                <a:t>教職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45840" y="5275080"/>
              <a:ext cx="123480" cy="123840"/>
            </a:xfrm>
            <a:prstGeom prst="rect">
              <a:avLst/>
            </a:pr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837800" y="52005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ＭＳ Ｐゴシック"/>
                </a:rPr>
                <a:t>大学院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09480" y="5273640"/>
              <a:ext cx="123480" cy="123840"/>
            </a:xfrm>
            <a:prstGeom prst="rect">
              <a:avLst/>
            </a:prstGeom>
            <a:solidFill>
              <a:srgbClr val="cc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14040" y="520056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ＭＳ Ｐゴシック"/>
                </a:rPr>
                <a:t>学群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98440" y="5167080"/>
              <a:ext cx="29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327600" y="1221480"/>
            <a:ext cx="2949120" cy="3808080"/>
            <a:chOff x="327600" y="1221480"/>
            <a:chExt cx="2949120" cy="3808080"/>
          </a:xfrm>
        </p:grpSpPr>
        <p:sp>
          <p:nvSpPr>
            <p:cNvPr id="605" name=""/>
            <p:cNvSpPr/>
            <p:nvPr/>
          </p:nvSpPr>
          <p:spPr>
            <a:xfrm>
              <a:off x="1177560" y="47242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415880" y="4408560"/>
              <a:ext cx="186084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15880" y="3855960"/>
              <a:ext cx="1860840" cy="180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15880" y="3314880"/>
              <a:ext cx="186084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15880" y="2774880"/>
              <a:ext cx="1860840" cy="180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15880" y="2222640"/>
              <a:ext cx="186084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15880" y="1681200"/>
              <a:ext cx="18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15880" y="1671480"/>
              <a:ext cx="1860840" cy="32688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15880" y="1681200"/>
              <a:ext cx="0" cy="326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15880" y="44085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415880" y="38559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415880" y="33148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415880" y="277488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15880" y="22226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415880" y="16812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415880" y="4940280"/>
              <a:ext cx="18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1403280" y="4795560"/>
              <a:ext cx="0" cy="6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6320" y="42102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6320" y="36576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6320" y="311796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3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96320" y="257652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4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96320" y="202392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96320" y="148428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6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27600" y="2211480"/>
              <a:ext cx="485280" cy="21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rebuchet MS"/>
                </a:rPr>
                <a:t>売り上げ枚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48320" y="1221480"/>
              <a:ext cx="48528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rebuchet MS"/>
                </a:rPr>
                <a:t>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01880" y="3452760"/>
              <a:ext cx="857160" cy="1487520"/>
            </a:xfrm>
            <a:prstGeom prst="rect">
              <a:avLst/>
            </a:prstGeom>
            <a:solidFill>
              <a:srgbClr val="cc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901880" y="2719440"/>
              <a:ext cx="857160" cy="733320"/>
            </a:xfrm>
            <a:prstGeom prst="rect">
              <a:avLst/>
            </a:pr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901880" y="2292480"/>
              <a:ext cx="857160" cy="426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01880" y="2270160"/>
              <a:ext cx="857160" cy="223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1260360" y="4871880"/>
              <a:ext cx="180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81880" y="410544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72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04200" y="30132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3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72600" y="2394000"/>
              <a:ext cx="439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78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218680" y="205092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529640" y="1475640"/>
              <a:ext cx="1715760" cy="561600"/>
            </a:xfrm>
            <a:prstGeom prst="flowChartAlternateProcess">
              <a:avLst/>
            </a:prstGeom>
            <a:solidFill>
              <a:srgbClr val="ffd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rebuchet MS"/>
                </a:rPr>
                <a:t>計</a:t>
              </a: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4878</a:t>
              </a:r>
              <a:r>
                <a:rPr b="0" lang="zh-CN" sz="2800" spc="-1" strike="noStrike">
                  <a:solidFill>
                    <a:srgbClr val="000000"/>
                  </a:solidFill>
                  <a:latin typeface="Trebuchet MS"/>
                </a:rPr>
                <a:t>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2989440" y="2708280"/>
            <a:ext cx="360360" cy="223200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421"/>
                </a:lnTo>
                <a:cubicBezTo>
                  <a:pt x="10800" y="8321"/>
                  <a:pt x="16200" y="9221"/>
                  <a:pt x="21600" y="9221"/>
                </a:cubicBezTo>
                <a:cubicBezTo>
                  <a:pt x="16200" y="9221"/>
                  <a:pt x="10800" y="10121"/>
                  <a:pt x="10800" y="1102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19640" y="3286080"/>
            <a:ext cx="2087280" cy="12952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学生分売り上げ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064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約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,700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万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989440" y="2276640"/>
            <a:ext cx="358560" cy="431640"/>
          </a:xfrm>
          <a:custGeom>
            <a:avLst/>
            <a:gdLst>
              <a:gd name="textAreaLeft" fmla="*/ 0 w 358560"/>
              <a:gd name="textAreaRight" fmla="*/ 129600 w 35856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419640" y="1989000"/>
            <a:ext cx="2087280" cy="129564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教職員分売り上げ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81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約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656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万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171840" y="2276640"/>
            <a:ext cx="28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売り上げ計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　　　</a:t>
            </a: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約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2,350</a:t>
            </a: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万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156360" y="126828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初期費用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　　　</a:t>
            </a: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約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5,000</a:t>
            </a: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万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5867280" y="2743200"/>
            <a:ext cx="3168720" cy="398880"/>
            <a:chOff x="5867280" y="2743200"/>
            <a:chExt cx="3168720" cy="398880"/>
          </a:xfrm>
        </p:grpSpPr>
        <p:sp>
          <p:nvSpPr>
            <p:cNvPr id="647" name=""/>
            <p:cNvSpPr/>
            <p:nvPr/>
          </p:nvSpPr>
          <p:spPr>
            <a:xfrm>
              <a:off x="6156000" y="3101760"/>
              <a:ext cx="288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7280" y="27432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rebuchet MS"/>
                </a:rPr>
                <a:t>ー</a:t>
              </a:r>
              <a:r>
                <a:rPr b="0" lang="ja-JP" sz="2000" spc="-1" strike="noStrike">
                  <a:solidFill>
                    <a:srgbClr val="000000"/>
                  </a:solidFill>
                  <a:latin typeface="Trebuchet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6227640" y="314172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実費用</a:t>
            </a:r>
            <a:br>
              <a:rPr sz="2000"/>
            </a:b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　　　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rebuchet MS"/>
              </a:rPr>
              <a:t>約</a:t>
            </a:r>
            <a:r>
              <a:rPr b="1" lang="en-US" sz="2800" spc="-1" strike="noStrike" u="sng">
                <a:solidFill>
                  <a:srgbClr val="ff0339"/>
                </a:solidFill>
                <a:uFillTx/>
                <a:latin typeface="Trebuchet MS"/>
              </a:rPr>
              <a:t>2,650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rebuchet MS"/>
              </a:rPr>
              <a:t>万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021440" y="4076640"/>
            <a:ext cx="935280" cy="432000"/>
          </a:xfrm>
          <a:prstGeom prst="downArrow">
            <a:avLst>
              <a:gd name="adj1" fmla="val 54500"/>
              <a:gd name="adj2" fmla="val 47106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867280" y="4508640"/>
            <a:ext cx="3240360" cy="187308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導入前（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7,000</a:t>
            </a: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万円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と比較すると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約</a:t>
            </a:r>
            <a:r>
              <a:rPr b="0" lang="en-US" sz="3200" spc="-1" strike="noStrike" u="sng">
                <a:solidFill>
                  <a:srgbClr val="ff0339"/>
                </a:solidFill>
                <a:uFillTx/>
                <a:latin typeface="HGP創英角ﾎﾟｯﾌﾟ体"/>
                <a:ea typeface="HGP創英角ﾎﾟｯﾌﾟ体"/>
              </a:rPr>
              <a:t>4,350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HGP創英角ﾎﾟｯﾌﾟ体"/>
                <a:ea typeface="HGP創英角ﾎﾟｯﾌﾟ体"/>
              </a:rPr>
              <a:t>万円</a:t>
            </a:r>
            <a:br>
              <a:rPr sz="3200"/>
            </a:b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のコスト削減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580000" y="2205000"/>
            <a:ext cx="287280" cy="1728720"/>
          </a:xfrm>
          <a:custGeom>
            <a:avLst/>
            <a:gdLst>
              <a:gd name="textAreaLeft" fmla="*/ 0 w 287280"/>
              <a:gd name="textAreaRight" fmla="*/ 103680 w 287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0A47-5B9F-4C20-9AF3-770B55BB69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1974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プレゼンテーションの流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87280" y="1341360"/>
            <a:ext cx="676944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１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研究の背景・目的・調査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184400" y="2062080"/>
            <a:ext cx="676908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２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システム導入による効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184400" y="2782800"/>
            <a:ext cx="6769080" cy="574920"/>
          </a:xfrm>
          <a:prstGeom prst="roundRect">
            <a:avLst>
              <a:gd name="adj" fmla="val 16667"/>
            </a:avLst>
          </a:prstGeom>
          <a:solidFill>
            <a:srgbClr val="ffe5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３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三者視点からの評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184400" y="3500280"/>
            <a:ext cx="676908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４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結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187280" y="4221000"/>
            <a:ext cx="676944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５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改善策の提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184400" y="4940280"/>
            <a:ext cx="6769080" cy="57456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６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今後の展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CD926-C769-474D-A55E-945B443034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三者視点からの評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1280" y="3213000"/>
            <a:ext cx="7704000" cy="71928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rebuchet MS"/>
              </a:rPr>
              <a:t>大学視点からの評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11280" y="4437000"/>
            <a:ext cx="7704000" cy="71928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rebuchet MS"/>
              </a:rPr>
              <a:t>関鉄視点からの評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11280" y="1989000"/>
            <a:ext cx="7704000" cy="71928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rebuchet MS"/>
              </a:rPr>
              <a:t>利用者視点からの評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EFB14-42C0-4B23-98D3-A51902B9A4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利用者視点からの評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68360" y="1627200"/>
            <a:ext cx="8136000" cy="1657440"/>
          </a:xfrm>
          <a:prstGeom prst="roundRect">
            <a:avLst>
              <a:gd name="adj" fmla="val 9292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71640" y="133992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負担感の軽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3933720"/>
            <a:ext cx="8064720" cy="7207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rebuchet MS"/>
              </a:rPr>
              <a:t>享受できるサービスレベルの上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995640" y="4724280"/>
            <a:ext cx="1224000" cy="503280"/>
          </a:xfrm>
          <a:prstGeom prst="downArrow">
            <a:avLst>
              <a:gd name="adj1" fmla="val 44287"/>
              <a:gd name="adj2" fmla="val 43528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995640" y="3357720"/>
            <a:ext cx="1224000" cy="502920"/>
          </a:xfrm>
          <a:prstGeom prst="downArrow">
            <a:avLst>
              <a:gd name="adj1" fmla="val 44287"/>
              <a:gd name="adj2" fmla="val 43528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274920" y="2296080"/>
            <a:ext cx="252252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バス選択率の増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938920" y="2059560"/>
            <a:ext cx="2523960" cy="104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バス利用者の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増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84360" y="2058840"/>
            <a:ext cx="2305080" cy="1079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パスカードの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効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39640" y="5300640"/>
            <a:ext cx="8064720" cy="1008000"/>
          </a:xfrm>
          <a:prstGeom prst="roundRect">
            <a:avLst>
              <a:gd name="adj" fmla="val 1666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  <a:ea typeface="HG丸ｺﾞｼｯｸM-PRO"/>
              </a:rPr>
              <a:t>生活が豊かになった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94F2-4B55-4169-913C-5BB5AFC9AA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08000" y="1052640"/>
            <a:ext cx="8964720" cy="2447640"/>
          </a:xfrm>
          <a:prstGeom prst="flowChartAlternateProcess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大学視点からの評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24000" y="2130480"/>
            <a:ext cx="2087280" cy="79380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rebuchet MS"/>
              </a:rPr>
              <a:t>削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00360" y="1195560"/>
            <a:ext cx="2519280" cy="17287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学生・教職員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移動手段の確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508720" y="1195560"/>
            <a:ext cx="3456000" cy="17287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センター～大学間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アクセスを確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60360" y="3141720"/>
            <a:ext cx="4896000" cy="64764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新学内交通システム導入の効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2339280" y="3645000"/>
            <a:ext cx="793800" cy="576000"/>
          </a:xfrm>
          <a:custGeom>
            <a:avLst/>
            <a:gdLst>
              <a:gd name="textAreaLeft" fmla="*/ 217080 w 793800"/>
              <a:gd name="textAreaRight" fmla="*/ 665280 w 793800"/>
              <a:gd name="textAreaTop" fmla="*/ 326160 h 576000"/>
              <a:gd name="textAreaBottom" fmla="*/ 482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5726"/>
                </a:moveTo>
                <a:lnTo>
                  <a:pt x="12226" y="15726"/>
                </a:lnTo>
                <a:lnTo>
                  <a:pt x="12226" y="5905"/>
                </a:lnTo>
                <a:lnTo>
                  <a:pt x="8726" y="5905"/>
                </a:lnTo>
                <a:lnTo>
                  <a:pt x="15163" y="0"/>
                </a:lnTo>
                <a:lnTo>
                  <a:pt x="21600" y="5905"/>
                </a:lnTo>
                <a:lnTo>
                  <a:pt x="18100" y="5905"/>
                </a:lnTo>
                <a:lnTo>
                  <a:pt x="181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205080" y="3860640"/>
            <a:ext cx="4608720" cy="57636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日本初の試みにチャレンジ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620720" y="4005360"/>
            <a:ext cx="719280" cy="1079280"/>
          </a:xfrm>
          <a:prstGeom prst="downArrow">
            <a:avLst>
              <a:gd name="adj1" fmla="val 50000"/>
              <a:gd name="adj2" fmla="val 37513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005440" y="4508640"/>
            <a:ext cx="718920" cy="682560"/>
          </a:xfrm>
          <a:prstGeom prst="downArrow">
            <a:avLst>
              <a:gd name="adj1" fmla="val 44370"/>
              <a:gd name="adj2" fmla="val 40917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24000" y="1195560"/>
            <a:ext cx="2087280" cy="7905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rebuchet MS"/>
              </a:rPr>
              <a:t>コスト削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79280" y="5229360"/>
            <a:ext cx="8713800" cy="1079280"/>
          </a:xfrm>
          <a:prstGeom prst="roundRect">
            <a:avLst>
              <a:gd name="adj" fmla="val 1666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rebuchet MS"/>
                <a:ea typeface="HG丸ｺﾞｼｯｸM-PRO"/>
              </a:rPr>
              <a:t>大学のイメージアップ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6892E-D13F-4A1A-ABD0-C44F65E642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71280" y="1197000"/>
            <a:ext cx="8964720" cy="2232000"/>
          </a:xfrm>
          <a:prstGeom prst="roundRect">
            <a:avLst>
              <a:gd name="adj" fmla="val 12060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8360" y="215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関鉄視点からの評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24000" y="1484280"/>
            <a:ext cx="2195280" cy="158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地域・大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への貢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059280" y="4149720"/>
            <a:ext cx="4427280" cy="5047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日本初の試みにチャレンジ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700360" y="2492280"/>
            <a:ext cx="5977080" cy="576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バスが便利であるという意識拡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700360" y="1341360"/>
            <a:ext cx="5977080" cy="64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先行投資による格安でのサービス提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042920" y="3213000"/>
            <a:ext cx="4427640" cy="863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新学内交通システムの運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339280" y="4005360"/>
            <a:ext cx="647640" cy="503280"/>
          </a:xfrm>
          <a:custGeom>
            <a:avLst/>
            <a:gdLst>
              <a:gd name="textAreaLeft" fmla="*/ 216000 w 647640"/>
              <a:gd name="textAreaRight" fmla="*/ 554760 w 647640"/>
              <a:gd name="textAreaTop" fmla="*/ 289800 h 503280"/>
              <a:gd name="textAreaBottom" fmla="*/ 4312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932360" y="4724280"/>
            <a:ext cx="792000" cy="576360"/>
          </a:xfrm>
          <a:prstGeom prst="downArrow">
            <a:avLst>
              <a:gd name="adj1" fmla="val 44287"/>
              <a:gd name="adj2" fmla="val 43528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403280" y="4149720"/>
            <a:ext cx="792360" cy="1150920"/>
          </a:xfrm>
          <a:prstGeom prst="downArrow">
            <a:avLst>
              <a:gd name="adj1" fmla="val 46296"/>
              <a:gd name="adj2" fmla="val 49688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294160" y="2060640"/>
            <a:ext cx="790560" cy="360360"/>
          </a:xfrm>
          <a:prstGeom prst="downArrow">
            <a:avLst>
              <a:gd name="adj1" fmla="val 57426"/>
              <a:gd name="adj2" fmla="val 46255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79280" y="5373720"/>
            <a:ext cx="8713800" cy="934920"/>
          </a:xfrm>
          <a:prstGeom prst="roundRect">
            <a:avLst>
              <a:gd name="adj" fmla="val 1666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rebuchet MS"/>
                <a:ea typeface="HG丸ｺﾞｼｯｸM-PRO"/>
              </a:rPr>
              <a:t>関東鉄道のイメージアップ！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919BD-13EA-4AB6-89DE-90D1BF102A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1974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プレゼンテーションの流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187280" y="1341360"/>
            <a:ext cx="676944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１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研究の背景・目的・調査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184400" y="2062080"/>
            <a:ext cx="676908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２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システム導入による効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184400" y="2782800"/>
            <a:ext cx="676908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３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三者視点からの評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184400" y="3500280"/>
            <a:ext cx="6769080" cy="574920"/>
          </a:xfrm>
          <a:prstGeom prst="roundRect">
            <a:avLst>
              <a:gd name="adj" fmla="val 16667"/>
            </a:avLst>
          </a:prstGeom>
          <a:solidFill>
            <a:srgbClr val="ffe5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４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結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187280" y="4221000"/>
            <a:ext cx="676944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５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改善策の提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184400" y="4940280"/>
            <a:ext cx="6769080" cy="57456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６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今後の展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458B1-47A6-42E8-A2AA-25F4E07819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結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26920" y="2806920"/>
            <a:ext cx="7643880" cy="974520"/>
          </a:xfrm>
          <a:prstGeom prst="roundRect">
            <a:avLst>
              <a:gd name="adj" fmla="val 10190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rebuchet MS"/>
                <a:ea typeface="HGP創英角ﾎﾟｯﾌﾟ体"/>
              </a:rPr>
              <a:t>大学側から見て成功</a:t>
            </a:r>
            <a:r>
              <a:rPr b="0" lang="en-US" sz="5400" spc="-1" strike="noStrike">
                <a:solidFill>
                  <a:srgbClr val="ff0000"/>
                </a:solidFill>
                <a:latin typeface="Trebuchet MS"/>
                <a:ea typeface="HGP創英角ﾎﾟｯﾌﾟ体"/>
              </a:rPr>
              <a:t>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26920" y="4102200"/>
            <a:ext cx="7643880" cy="974520"/>
          </a:xfrm>
          <a:prstGeom prst="roundRect">
            <a:avLst>
              <a:gd name="adj" fmla="val 10190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rebuchet MS"/>
                <a:ea typeface="HGP創英角ﾎﾟｯﾌﾟ体"/>
              </a:rPr>
              <a:t>関鉄側から見て成功</a:t>
            </a:r>
            <a:r>
              <a:rPr b="0" lang="en-US" sz="5400" spc="-1" strike="noStrike">
                <a:solidFill>
                  <a:srgbClr val="ff0000"/>
                </a:solidFill>
                <a:latin typeface="Trebuchet MS"/>
                <a:ea typeface="HGP創英角ﾎﾟｯﾌﾟ体"/>
              </a:rPr>
              <a:t>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16120" y="1582920"/>
            <a:ext cx="7643520" cy="974520"/>
          </a:xfrm>
          <a:prstGeom prst="roundRect">
            <a:avLst>
              <a:gd name="adj" fmla="val 10190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rebuchet MS"/>
                <a:ea typeface="HGP創英角ﾎﾟｯﾌﾟ体"/>
              </a:rPr>
              <a:t>利用者側から見て成功</a:t>
            </a:r>
            <a:r>
              <a:rPr b="0" lang="en-US" sz="5400" spc="-1" strike="noStrike">
                <a:solidFill>
                  <a:srgbClr val="ff0000"/>
                </a:solidFill>
                <a:latin typeface="Trebuchet MS"/>
                <a:ea typeface="HGP創英角ﾎﾟｯﾌﾟ体"/>
              </a:rPr>
              <a:t>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84360" y="1125360"/>
            <a:ext cx="7920000" cy="4610160"/>
          </a:xfrm>
          <a:prstGeom prst="bevel">
            <a:avLst>
              <a:gd name="adj" fmla="val 563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339"/>
                </a:solidFill>
                <a:latin typeface="Trebuchet MS"/>
              </a:rPr>
              <a:t>システム導入は</a:t>
            </a:r>
            <a:br>
              <a:rPr sz="7200"/>
            </a:br>
            <a:r>
              <a:rPr b="0" lang="zh-CN" sz="11700" spc="-1" strike="noStrike">
                <a:solidFill>
                  <a:srgbClr val="ff0339"/>
                </a:solidFill>
                <a:latin typeface="Trebuchet MS"/>
              </a:rPr>
              <a:t>成功</a:t>
            </a:r>
            <a:r>
              <a:rPr b="0" lang="en-US" sz="11700" spc="-1" strike="noStrike">
                <a:solidFill>
                  <a:srgbClr val="ff0339"/>
                </a:solidFill>
                <a:latin typeface="Trebuchet MS"/>
              </a:rPr>
              <a:t>!!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348000" y="5950080"/>
            <a:ext cx="5256360" cy="5032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しかし、まだ改善の余地も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B4E5D-9BC3-41D7-925F-07931B5CEE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77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8" dur="770" fill="hold"/>
                                        <p:tgtEl>
                                          <p:spTgt spid="7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0" dur="77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2" dur="77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1974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プレゼンテーションの流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187280" y="1341360"/>
            <a:ext cx="676944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１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研究の背景・目的・調査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184400" y="2062080"/>
            <a:ext cx="676908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２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システム導入による効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184400" y="2782800"/>
            <a:ext cx="676908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３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三者視点からの評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184400" y="3500280"/>
            <a:ext cx="676908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４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結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187280" y="4221000"/>
            <a:ext cx="6769440" cy="574920"/>
          </a:xfrm>
          <a:prstGeom prst="roundRect">
            <a:avLst>
              <a:gd name="adj" fmla="val 16667"/>
            </a:avLst>
          </a:prstGeom>
          <a:solidFill>
            <a:srgbClr val="ffe5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５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改善策の提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184400" y="4940280"/>
            <a:ext cx="6769080" cy="57456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６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今後の展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B805F-3B7B-4710-8F09-AB373B4D4C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乗り込み調査で挙げられた不満項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325520" y="5805360"/>
            <a:ext cx="4314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ＭＳ Ｐゴシック"/>
              </a:rPr>
              <a:t>不満項目　（複数回答可、</a:t>
            </a:r>
            <a:r>
              <a:rPr b="0" lang="en-US" sz="2100" spc="-1" strike="noStrike">
                <a:solidFill>
                  <a:srgbClr val="000000"/>
                </a:solidFill>
                <a:latin typeface="ＭＳ Ｐゴシック"/>
              </a:rPr>
              <a:t>n = 532</a:t>
            </a:r>
            <a:r>
              <a:rPr b="0" lang="zh-CN" sz="21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892160" y="1362240"/>
            <a:ext cx="513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892160" y="3382920"/>
            <a:ext cx="51390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892160" y="2874960"/>
            <a:ext cx="5139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892160" y="2382840"/>
            <a:ext cx="5139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892160" y="1873080"/>
            <a:ext cx="513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892160" y="1362240"/>
            <a:ext cx="51390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892160" y="1362240"/>
            <a:ext cx="5139000" cy="2531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986120" y="1562040"/>
            <a:ext cx="136440" cy="233208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311560" y="2927520"/>
            <a:ext cx="125280" cy="96660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625840" y="3402000"/>
            <a:ext cx="136440" cy="49212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951280" y="3456000"/>
            <a:ext cx="136440" cy="43812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276720" y="3510000"/>
            <a:ext cx="125280" cy="38412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591000" y="3546360"/>
            <a:ext cx="136440" cy="347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916440" y="3564000"/>
            <a:ext cx="125280" cy="33012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230720" y="3654360"/>
            <a:ext cx="136440" cy="239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556160" y="3711600"/>
            <a:ext cx="136440" cy="18252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1600" y="3781440"/>
            <a:ext cx="125280" cy="11268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95880" y="3801960"/>
            <a:ext cx="136440" cy="921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521320" y="3819600"/>
            <a:ext cx="136440" cy="7452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846760" y="3838680"/>
            <a:ext cx="125280" cy="5544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161040" y="3855960"/>
            <a:ext cx="136440" cy="381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486480" y="3873600"/>
            <a:ext cx="125280" cy="2052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800760" y="3584520"/>
            <a:ext cx="136440" cy="30960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92160" y="1362240"/>
            <a:ext cx="1800" cy="253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170080" y="3894120"/>
            <a:ext cx="63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92160" y="3382920"/>
            <a:ext cx="637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92160" y="2874960"/>
            <a:ext cx="63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892160" y="2382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892160" y="187308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892160" y="1362240"/>
            <a:ext cx="63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170080" y="3894120"/>
            <a:ext cx="5138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1892160" y="37810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217600" y="37810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532240" y="37810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857680" y="37810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182760" y="37810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497400" y="37810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822840" y="37810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4137120" y="37810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4462560" y="37810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4786200" y="37810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5102280" y="37810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5425920" y="37810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5751360" y="37810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6067440" y="37810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6391440" y="37810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6707160" y="37810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7031160" y="37810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877760" y="1125360"/>
            <a:ext cx="457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ＭＳ Ｐゴシック"/>
              </a:rPr>
              <a:t>23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297160" y="249084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613240" y="296388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4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936880" y="301932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4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262320" y="307188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3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576600" y="311004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3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902040" y="312732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3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216320" y="321948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2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541760" y="327168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867200" y="334476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48080" y="33638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573520" y="338292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898960" y="34005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213600" y="34196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539040" y="34383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86720" y="314640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664640" y="374796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550160" y="317988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438560" y="270828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438560" y="220500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1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438560" y="170028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2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438560" y="119700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ＭＳ Ｐゴシック"/>
              </a:rPr>
              <a:t>2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5400000">
            <a:off x="1419120" y="4912560"/>
            <a:ext cx="19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土日の便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rot="5400000">
            <a:off x="2282400" y="4398840"/>
            <a:ext cx="88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定時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5400000">
            <a:off x="2464200" y="4515480"/>
            <a:ext cx="11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夜の便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5400000">
            <a:off x="3089520" y="4515480"/>
            <a:ext cx="11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朝の便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5400000">
            <a:off x="3386520" y="4529880"/>
            <a:ext cx="11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運行時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rot="5400000">
            <a:off x="3609360" y="4644720"/>
            <a:ext cx="140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運転が荒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rot="5400000">
            <a:off x="4370760" y="4529880"/>
            <a:ext cx="11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団子運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rot="5400000">
            <a:off x="4757040" y="4790880"/>
            <a:ext cx="169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車内サービ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rot="5400000">
            <a:off x="4982040" y="5172840"/>
            <a:ext cx="242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授業時間との兼ね合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rot="5400000">
            <a:off x="5461920" y="5047920"/>
            <a:ext cx="220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パスカードの価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rot="5400000">
            <a:off x="6159960" y="4723560"/>
            <a:ext cx="151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その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rot="5400000">
            <a:off x="4312800" y="4235400"/>
            <a:ext cx="59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混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rot="5400000">
            <a:off x="4960440" y="4235400"/>
            <a:ext cx="59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運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rot="5400000">
            <a:off x="5598720" y="4233960"/>
            <a:ext cx="59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路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152160" y="4075200"/>
            <a:ext cx="4546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X</a:t>
            </a:r>
            <a:r>
              <a:rPr b="1" lang="zh-CN" sz="1800" spc="-1" strike="noStrike">
                <a:solidFill>
                  <a:srgbClr val="000000"/>
                </a:solidFill>
                <a:latin typeface="Trebuchet MS"/>
              </a:rPr>
              <a:t>との接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505160" y="4005360"/>
            <a:ext cx="79020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特にな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59240" y="199476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回答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479760" y="1341360"/>
            <a:ext cx="3095640" cy="1079640"/>
          </a:xfrm>
          <a:prstGeom prst="wedgeRoundRectCallout">
            <a:avLst>
              <a:gd name="adj1" fmla="val -90717"/>
              <a:gd name="adj2" fmla="val 338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「特になし」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非常に多い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17212-B344-4411-AA16-BC3A775EBA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研究の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1557360"/>
            <a:ext cx="505080" cy="4680000"/>
          </a:xfrm>
          <a:prstGeom prst="flowChartAlternateProcess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旧学内バス存続の危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1628640"/>
            <a:ext cx="503280" cy="4680000"/>
          </a:xfrm>
          <a:prstGeom prst="flowChartAlternateProcess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新学内交通システム導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74920" y="1557360"/>
            <a:ext cx="2592360" cy="4896000"/>
            <a:chOff x="1474920" y="1557360"/>
            <a:chExt cx="2592360" cy="4896000"/>
          </a:xfrm>
        </p:grpSpPr>
        <p:sp>
          <p:nvSpPr>
            <p:cNvPr id="120" name=""/>
            <p:cNvSpPr/>
            <p:nvPr/>
          </p:nvSpPr>
          <p:spPr>
            <a:xfrm>
              <a:off x="1762200" y="1557360"/>
              <a:ext cx="2305080" cy="4896000"/>
            </a:xfrm>
            <a:custGeom>
              <a:avLst/>
              <a:gdLst>
                <a:gd name="textAreaLeft" fmla="*/ 38880 w 2305080"/>
                <a:gd name="textAreaRight" fmla="*/ 2266200 w 2305080"/>
                <a:gd name="textAreaTop" fmla="*/ 38880 h 4896000"/>
                <a:gd name="textAreaBottom" fmla="*/ 4857120 h 4896000"/>
              </a:gdLst>
              <a:ahLst/>
              <a:rect l="textAreaLeft" t="textAreaTop" r="textAreaRight" b="textAreaBottom"/>
              <a:pathLst>
                <a:path w="21600" h="45875">
                  <a:moveTo>
                    <a:pt x="1244" y="0"/>
                  </a:moveTo>
                  <a:arcTo wR="1244" hR="1244" stAng="16200000" swAng="-5400000"/>
                  <a:lnTo>
                    <a:pt x="0" y="44631"/>
                  </a:lnTo>
                  <a:arcTo wR="1244" hR="1244" stAng="10800000" swAng="-5400000"/>
                  <a:lnTo>
                    <a:pt x="20356" y="45875"/>
                  </a:lnTo>
                  <a:arcTo wR="1244" hR="1244" stAng="5400000" swAng="-5400000"/>
                  <a:lnTo>
                    <a:pt x="21600" y="1244"/>
                  </a:lnTo>
                  <a:arcTo wR="1244" hR="1244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74920" y="1844640"/>
              <a:ext cx="574560" cy="324000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事前調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14560" y="1628640"/>
              <a:ext cx="1008000" cy="4680000"/>
            </a:xfrm>
            <a:custGeom>
              <a:avLst/>
              <a:gdLst>
                <a:gd name="textAreaLeft" fmla="*/ 35640 w 1008000"/>
                <a:gd name="textAreaRight" fmla="*/ 972360 w 1008000"/>
                <a:gd name="textAreaTop" fmla="*/ 35640 h 4680000"/>
                <a:gd name="textAreaBottom" fmla="*/ 4644360 h 4680000"/>
              </a:gdLst>
              <a:ahLst/>
              <a:rect l="textAreaLeft" t="textAreaTop" r="textAreaRight" b="textAreaBottom"/>
              <a:pathLst>
                <a:path w="21600" h="100258">
                  <a:moveTo>
                    <a:pt x="2612" y="0"/>
                  </a:moveTo>
                  <a:arcTo wR="2612" hR="2612" stAng="16200000" swAng="-5400000"/>
                  <a:lnTo>
                    <a:pt x="0" y="97646"/>
                  </a:lnTo>
                  <a:arcTo wR="2612" hR="2612" stAng="10800000" swAng="-5400000"/>
                  <a:lnTo>
                    <a:pt x="18988" y="100258"/>
                  </a:lnTo>
                  <a:arcTo wR="2612" hR="2612" stAng="5400000" swAng="-5400000"/>
                  <a:lnTo>
                    <a:pt x="21600" y="2612"/>
                  </a:lnTo>
                  <a:arcTo wR="2612" hR="2612" stAng="0" swAng="-5400000"/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計良聡範（２００５）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　筑波大学第三学群社会工学類卒業論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22560" y="1628640"/>
              <a:ext cx="720720" cy="4680000"/>
            </a:xfrm>
            <a:custGeom>
              <a:avLst/>
              <a:gdLst>
                <a:gd name="textAreaLeft" fmla="*/ 25200 w 720720"/>
                <a:gd name="textAreaRight" fmla="*/ 695520 w 720720"/>
                <a:gd name="textAreaTop" fmla="*/ 25200 h 4680000"/>
                <a:gd name="textAreaBottom" fmla="*/ 4654800 h 4680000"/>
              </a:gdLst>
              <a:ahLst/>
              <a:rect l="textAreaLeft" t="textAreaTop" r="textAreaRight" b="textAreaBottom"/>
              <a:pathLst>
                <a:path w="21600" h="140200">
                  <a:moveTo>
                    <a:pt x="2612" y="0"/>
                  </a:moveTo>
                  <a:arcTo wR="2612" hR="2612" stAng="16200000" swAng="-5400000"/>
                  <a:lnTo>
                    <a:pt x="0" y="137588"/>
                  </a:lnTo>
                  <a:arcTo wR="2612" hR="2612" stAng="10800000" swAng="-5400000"/>
                  <a:lnTo>
                    <a:pt x="18988" y="140200"/>
                  </a:lnTo>
                  <a:arcTo wR="2612" hR="2612" stAng="5400000" swAng="-5400000"/>
                  <a:lnTo>
                    <a:pt x="21600" y="2612"/>
                  </a:lnTo>
                  <a:arcTo wR="2612" hR="2612" stAng="0" swAng="-5400000"/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２００４年度　都市計画実習交通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826920" y="3284640"/>
            <a:ext cx="576360" cy="1224000"/>
          </a:xfrm>
          <a:prstGeom prst="rightArrow">
            <a:avLst>
              <a:gd name="adj1" fmla="val 49935"/>
              <a:gd name="adj2" fmla="val 53306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3357720"/>
            <a:ext cx="792000" cy="1223640"/>
          </a:xfrm>
          <a:prstGeom prst="rightArrow">
            <a:avLst>
              <a:gd name="adj1" fmla="val 49935"/>
              <a:gd name="adj2" fmla="val 53306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51A99-8271-4D3A-B3D3-E601FBADB9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68360" y="112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乗り込み調査で挙げられた不満項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403280" y="1700280"/>
            <a:ext cx="486900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745440" y="5661000"/>
            <a:ext cx="164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不満項目の回答者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rot="5400000">
            <a:off x="1416600" y="4325760"/>
            <a:ext cx="154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土日の便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rot="5400000">
            <a:off x="2075760" y="4028760"/>
            <a:ext cx="94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定時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rot="5400000">
            <a:off x="2310840" y="4168440"/>
            <a:ext cx="12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夜の便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rot="5400000">
            <a:off x="3087360" y="4168440"/>
            <a:ext cx="12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朝の便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rot="5400000">
            <a:off x="3447360" y="4184280"/>
            <a:ext cx="1257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運行時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rot="5400000">
            <a:off x="3742920" y="4306680"/>
            <a:ext cx="149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運転が荒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rot="5400000">
            <a:off x="4599720" y="4184280"/>
            <a:ext cx="1257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団子運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rot="5400000">
            <a:off x="5114520" y="4462200"/>
            <a:ext cx="1812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車内サービ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5400000">
            <a:off x="5248440" y="5099400"/>
            <a:ext cx="309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授業時間との兼ね合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5400000">
            <a:off x="5977440" y="4701240"/>
            <a:ext cx="235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パスカードの価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5400000">
            <a:off x="6936840" y="4149360"/>
            <a:ext cx="119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その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5400000">
            <a:off x="4540320" y="3870720"/>
            <a:ext cx="62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混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rot="5400000">
            <a:off x="5330880" y="3870720"/>
            <a:ext cx="62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運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rot="5400000">
            <a:off x="6051600" y="3870720"/>
            <a:ext cx="62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路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974960" y="1368360"/>
            <a:ext cx="576396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974960" y="1368360"/>
            <a:ext cx="5763960" cy="2081160"/>
          </a:xfrm>
          <a:prstGeom prst="rect">
            <a:avLst/>
          </a:prstGeom>
          <a:noFill/>
          <a:ln w="79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084400" y="1471680"/>
            <a:ext cx="154080" cy="197784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65280" y="2451240"/>
            <a:ext cx="154080" cy="99828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846520" y="2535120"/>
            <a:ext cx="160200" cy="91440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230640" y="2679840"/>
            <a:ext cx="169920" cy="76968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624120" y="2720880"/>
            <a:ext cx="162000" cy="72864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006800" y="2763720"/>
            <a:ext cx="160560" cy="68580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387680" y="2971800"/>
            <a:ext cx="160560" cy="47772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772160" y="3076560"/>
            <a:ext cx="160200" cy="37296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154480" y="3240000"/>
            <a:ext cx="158760" cy="20952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538960" y="3262320"/>
            <a:ext cx="158400" cy="18720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19840" y="3286080"/>
            <a:ext cx="160200" cy="16344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302520" y="3325680"/>
            <a:ext cx="171360" cy="12384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96000" y="3367080"/>
            <a:ext cx="160560" cy="8244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078680" y="3408480"/>
            <a:ext cx="158760" cy="4104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462800" y="2825640"/>
            <a:ext cx="157320" cy="62388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974960" y="1368360"/>
            <a:ext cx="4680" cy="208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974960" y="3449520"/>
            <a:ext cx="93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974960" y="3240000"/>
            <a:ext cx="936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74960" y="3033720"/>
            <a:ext cx="93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974960" y="2825640"/>
            <a:ext cx="936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974960" y="2616120"/>
            <a:ext cx="93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974960" y="2408400"/>
            <a:ext cx="936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974960" y="2200320"/>
            <a:ext cx="936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74960" y="1992240"/>
            <a:ext cx="93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974960" y="1782720"/>
            <a:ext cx="936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974960" y="1574640"/>
            <a:ext cx="936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74960" y="1368360"/>
            <a:ext cx="93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974960" y="3449520"/>
            <a:ext cx="5763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1974960" y="3389040"/>
            <a:ext cx="468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2357280" y="3389040"/>
            <a:ext cx="50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2741760" y="3389040"/>
            <a:ext cx="288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3122640" y="3389040"/>
            <a:ext cx="468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3521160" y="3389040"/>
            <a:ext cx="32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3903840" y="3389040"/>
            <a:ext cx="288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4286160" y="338904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4667400" y="3389040"/>
            <a:ext cx="288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5048280" y="3389040"/>
            <a:ext cx="32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5433840" y="338904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815080" y="3389040"/>
            <a:ext cx="32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6197760" y="3389040"/>
            <a:ext cx="288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6593040" y="338904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973920" y="3389040"/>
            <a:ext cx="32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7358040" y="338904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7738920" y="338904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657080" y="33447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502640" y="31384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502640" y="292896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502640" y="27208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502640" y="251136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502640" y="230364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502640" y="209556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502640" y="18874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502640" y="167940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502640" y="14716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347120" y="126360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946080" y="18702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946080" y="21607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946080" y="2440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946080" y="27306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759400" y="3638520"/>
            <a:ext cx="7902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X</a:t>
            </a:r>
            <a:r>
              <a:rPr b="1" lang="zh-CN" sz="2000" spc="-1" strike="noStrike">
                <a:solidFill>
                  <a:srgbClr val="000000"/>
                </a:solidFill>
                <a:latin typeface="Trebuchet MS"/>
              </a:rPr>
              <a:t>との接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500720" y="1406520"/>
            <a:ext cx="3095640" cy="1440000"/>
          </a:xfrm>
          <a:prstGeom prst="wedgeRoundRectCallout">
            <a:avLst>
              <a:gd name="adj1" fmla="val -33384"/>
              <a:gd name="adj2" fmla="val 60143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</a:rPr>
              <a:t>調査前に考えていた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rebuchet MS"/>
              </a:rPr>
              <a:t>｢混雑」は、特別問題視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rebuchet MS"/>
              </a:rPr>
              <a:t>されているわけでは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772160" y="3068640"/>
            <a:ext cx="160200" cy="37296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484360" y="1341360"/>
            <a:ext cx="1871640" cy="1079640"/>
          </a:xfrm>
          <a:prstGeom prst="wedgeRoundRectCallout">
            <a:avLst>
              <a:gd name="adj1" fmla="val -60430"/>
              <a:gd name="adj2" fmla="val 8087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</a:rPr>
              <a:t>　不満項目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rebuchet MS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rebuchet MS"/>
              </a:rPr>
              <a:t>位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rebuchet MS"/>
              </a:rPr>
              <a:t>土日の便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6E23-52CE-49CF-B295-35408E4F85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4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5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5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9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土日の便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017080" y="5211720"/>
            <a:ext cx="1518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便あたり平均乗客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138320" y="2325600"/>
            <a:ext cx="379260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138320" y="2325600"/>
            <a:ext cx="3792600" cy="2149560"/>
          </a:xfrm>
          <a:prstGeom prst="rect">
            <a:avLst/>
          </a:prstGeom>
          <a:noFill/>
          <a:ln w="7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803240" y="2428920"/>
            <a:ext cx="766800" cy="2039760"/>
          </a:xfrm>
          <a:prstGeom prst="rect">
            <a:avLst/>
          </a:prstGeom>
          <a:solidFill>
            <a:srgbClr val="99ccff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666960" y="2454120"/>
            <a:ext cx="757440" cy="2021040"/>
          </a:xfrm>
          <a:prstGeom prst="rect">
            <a:avLst/>
          </a:prstGeom>
          <a:solidFill>
            <a:srgbClr val="ffddff"/>
          </a:solidFill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136520" y="2325600"/>
            <a:ext cx="1800" cy="2149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138320" y="44751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138320" y="375912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138320" y="304308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38320" y="23256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38320" y="4475160"/>
            <a:ext cx="379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3038400" y="4425480"/>
            <a:ext cx="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4930920" y="442548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710880" y="287172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14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804320" y="2820960"/>
            <a:ext cx="70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1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95240" y="44085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95240" y="369108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20000" y="297504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20000" y="225756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76320" y="1773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29040" y="284148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乗客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219640" y="907920"/>
            <a:ext cx="3745080" cy="105120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平均乗客数の差は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ほとんど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219640" y="2492280"/>
            <a:ext cx="3745080" cy="105120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新規車両導入コスト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は約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,700</a:t>
            </a: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万円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205240" y="4221000"/>
            <a:ext cx="3745080" cy="19447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現段階で休日の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便数を増やすことは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関鉄のコスト面から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みて難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877080" y="3716280"/>
            <a:ext cx="4986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916680" y="2060640"/>
            <a:ext cx="414360" cy="357120"/>
          </a:xfrm>
          <a:prstGeom prst="plus">
            <a:avLst>
              <a:gd name="adj" fmla="val 39958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36360" y="450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平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781080" y="450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休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C0C78-2F74-491F-975C-E29C58B5141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1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8360" y="112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乗り込み調査で挙げられた不満項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403280" y="1700280"/>
            <a:ext cx="486900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45440" y="5661000"/>
            <a:ext cx="164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不満項目の回答者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974960" y="1368360"/>
            <a:ext cx="576396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974960" y="1368360"/>
            <a:ext cx="5763960" cy="2081160"/>
          </a:xfrm>
          <a:prstGeom prst="rect">
            <a:avLst/>
          </a:prstGeom>
          <a:noFill/>
          <a:ln w="79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084400" y="1471680"/>
            <a:ext cx="154080" cy="197784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465280" y="2451240"/>
            <a:ext cx="154080" cy="99828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846520" y="2535120"/>
            <a:ext cx="160200" cy="91440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230640" y="2679840"/>
            <a:ext cx="169920" cy="76968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624120" y="2720880"/>
            <a:ext cx="162000" cy="72864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006800" y="2763720"/>
            <a:ext cx="160560" cy="68580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387680" y="2971800"/>
            <a:ext cx="160560" cy="47772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772160" y="3076560"/>
            <a:ext cx="160200" cy="37296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54480" y="3240000"/>
            <a:ext cx="158760" cy="20952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38960" y="3262320"/>
            <a:ext cx="158400" cy="18720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919840" y="3286080"/>
            <a:ext cx="160200" cy="16344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02520" y="3325680"/>
            <a:ext cx="171360" cy="12384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96000" y="3367080"/>
            <a:ext cx="160560" cy="8244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078680" y="3408480"/>
            <a:ext cx="158760" cy="4104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462800" y="2825640"/>
            <a:ext cx="157320" cy="62388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74960" y="1368360"/>
            <a:ext cx="4680" cy="208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974960" y="3449520"/>
            <a:ext cx="93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974960" y="3240000"/>
            <a:ext cx="936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974960" y="3033720"/>
            <a:ext cx="93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974960" y="2825640"/>
            <a:ext cx="936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974960" y="2616120"/>
            <a:ext cx="93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974960" y="2408400"/>
            <a:ext cx="936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974960" y="2200320"/>
            <a:ext cx="936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974960" y="1992240"/>
            <a:ext cx="93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74960" y="1782720"/>
            <a:ext cx="936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74960" y="1574640"/>
            <a:ext cx="936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974960" y="1368360"/>
            <a:ext cx="93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974960" y="3449520"/>
            <a:ext cx="5763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1974960" y="3389040"/>
            <a:ext cx="468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2357280" y="3389040"/>
            <a:ext cx="50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2741760" y="3389040"/>
            <a:ext cx="288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3122640" y="3389040"/>
            <a:ext cx="468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3521160" y="3389040"/>
            <a:ext cx="32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3903840" y="3389040"/>
            <a:ext cx="288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4286160" y="338904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4667400" y="3389040"/>
            <a:ext cx="288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5048280" y="3389040"/>
            <a:ext cx="32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5433840" y="338904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5815080" y="3389040"/>
            <a:ext cx="32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6197760" y="3389040"/>
            <a:ext cx="288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6593040" y="338904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6973920" y="3389040"/>
            <a:ext cx="32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7358040" y="338904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738920" y="338904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57080" y="33447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502640" y="31384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502640" y="292896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502640" y="27208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502640" y="251136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502640" y="230364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502640" y="209556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502640" y="18874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502640" y="167940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502640" y="14716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347120" y="126360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946080" y="18702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946080" y="21607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946080" y="2440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946080" y="27306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772160" y="3068640"/>
            <a:ext cx="160200" cy="372960"/>
          </a:xfrm>
          <a:prstGeom prst="rect">
            <a:avLst/>
          </a:prstGeom>
          <a:solidFill>
            <a:srgbClr val="99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276720" y="1413000"/>
            <a:ext cx="1871640" cy="1079280"/>
          </a:xfrm>
          <a:prstGeom prst="wedgeRoundRectCallout">
            <a:avLst>
              <a:gd name="adj1" fmla="val -88337"/>
              <a:gd name="adj2" fmla="val 44703"/>
              <a:gd name="adj3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</a:rPr>
              <a:t>　不満項目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rebuchet MS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rebuchet MS"/>
              </a:rPr>
              <a:t>位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rebuchet MS"/>
              </a:rPr>
              <a:t>定時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745440" y="5661000"/>
            <a:ext cx="164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不満項目の回答者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rot="5400000">
            <a:off x="1416600" y="4325760"/>
            <a:ext cx="154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土日の便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rot="5400000">
            <a:off x="2075760" y="4028760"/>
            <a:ext cx="94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定時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rot="5400000">
            <a:off x="2310840" y="4168440"/>
            <a:ext cx="12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夜の便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5400000">
            <a:off x="3087360" y="4168440"/>
            <a:ext cx="12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朝の便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5400000">
            <a:off x="3447360" y="4184280"/>
            <a:ext cx="1257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運行時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rot="5400000">
            <a:off x="3742920" y="4306680"/>
            <a:ext cx="149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運転が荒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5400000">
            <a:off x="4599720" y="4184280"/>
            <a:ext cx="1257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団子運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rot="5400000">
            <a:off x="5114520" y="4462200"/>
            <a:ext cx="1812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車内サービ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rot="5400000">
            <a:off x="5248440" y="5099400"/>
            <a:ext cx="309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授業時間との兼ね合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rot="5400000">
            <a:off x="5977440" y="4701240"/>
            <a:ext cx="235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パスカードの価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rot="5400000">
            <a:off x="6936840" y="4149360"/>
            <a:ext cx="119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その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rot="5400000">
            <a:off x="4540320" y="3870720"/>
            <a:ext cx="62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混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rot="5400000">
            <a:off x="5330880" y="3870720"/>
            <a:ext cx="62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運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rot="5400000">
            <a:off x="6051600" y="3870720"/>
            <a:ext cx="62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ＭＳ Ｐゴシック"/>
              </a:rPr>
              <a:t>路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59400" y="3638520"/>
            <a:ext cx="7902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X</a:t>
            </a:r>
            <a:r>
              <a:rPr b="1" lang="zh-CN" sz="2000" spc="-1" strike="noStrike">
                <a:solidFill>
                  <a:srgbClr val="000000"/>
                </a:solidFill>
                <a:latin typeface="Trebuchet MS"/>
              </a:rPr>
              <a:t>との接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9193F-5CC8-470F-BDF2-B21F7845325A}" type="slidenum">
              <a:t>32</a:t>
            </a:fld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3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96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定時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648240" y="2685960"/>
            <a:ext cx="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50920" y="1844640"/>
            <a:ext cx="4897440" cy="1798560"/>
          </a:xfrm>
          <a:prstGeom prst="flowChartAlternateProcess">
            <a:avLst/>
          </a:prstGeom>
          <a:solidFill>
            <a:srgbClr val="cc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rebuchet MS"/>
              </a:rPr>
              <a:t>学内循環バスルート内での渋滞は皆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50920" y="4724280"/>
            <a:ext cx="4897440" cy="1729080"/>
          </a:xfrm>
          <a:prstGeom prst="roundRect">
            <a:avLst>
              <a:gd name="adj" fmla="val 16667"/>
            </a:avLst>
          </a:prstGeom>
          <a:solidFill>
            <a:srgbClr val="cc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rebuchet MS"/>
              </a:rPr>
              <a:t>定時性に欠ける原因は現金支払い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124000" y="3716280"/>
            <a:ext cx="1081080" cy="934920"/>
          </a:xfrm>
          <a:prstGeom prst="downArrow">
            <a:avLst>
              <a:gd name="adj1" fmla="val 47426"/>
              <a:gd name="adj2" fmla="val 42106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" descr=""/>
          <p:cNvPicPr/>
          <p:nvPr/>
        </p:nvPicPr>
        <p:blipFill>
          <a:blip r:embed="rId1"/>
          <a:stretch/>
        </p:blipFill>
        <p:spPr>
          <a:xfrm>
            <a:off x="5219640" y="189000"/>
            <a:ext cx="2640240" cy="351936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2"/>
          <a:stretch/>
        </p:blipFill>
        <p:spPr>
          <a:xfrm>
            <a:off x="6372360" y="2997360"/>
            <a:ext cx="2538360" cy="338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97735-9BCE-4589-ACF7-8FAF7A7ED9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3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1332000" y="2492280"/>
            <a:ext cx="6553080" cy="21607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定時性改善のため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24000" y="13413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大城、大蔵、中村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1997)</a:t>
            </a: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「運賃収受方法がバス乗車特性に与える影響」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土木学会第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Trebuchet MS"/>
              </a:rPr>
              <a:t>回年次学術講演会よ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213080" y="4869000"/>
            <a:ext cx="719280" cy="504720"/>
          </a:xfrm>
          <a:prstGeom prst="downArrow">
            <a:avLst>
              <a:gd name="adj1" fmla="val 44370"/>
              <a:gd name="adj2" fmla="val 50440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908000" y="2133360"/>
            <a:ext cx="5183280" cy="576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支払方法の違いによる降車時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332000" y="5483160"/>
            <a:ext cx="6408720" cy="7117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339"/>
                </a:solidFill>
                <a:latin typeface="Trebuchet MS"/>
              </a:rPr>
              <a:t>パスカードの普及が有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835280" y="2852640"/>
            <a:ext cx="5616360" cy="93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非接触式カード支払いでの降車時間は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現金支払いの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6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％の時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529160" y="400536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パスカード≒非接触式カー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71852-5AAE-4992-B24A-9E7796046A9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6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0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5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9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パスカード普及による更なる効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84360" y="1268280"/>
            <a:ext cx="7076880" cy="5767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パスカード普及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39640" y="2421000"/>
            <a:ext cx="3745080" cy="5767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バス選択率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39640" y="3575520"/>
            <a:ext cx="3745080" cy="992520"/>
          </a:xfrm>
          <a:prstGeom prst="roundRect">
            <a:avLst>
              <a:gd name="adj" fmla="val 7824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車からバスへの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交通手段の転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39640" y="5124960"/>
            <a:ext cx="3672000" cy="64224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の更なる減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124000" y="191772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124000" y="465300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124000" y="306864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39640" y="5805360"/>
            <a:ext cx="3672000" cy="5767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コストの更なる削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003640" y="5616720"/>
            <a:ext cx="3813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パスカードの有無による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つくばセンターへの交通手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923000" y="2276640"/>
            <a:ext cx="3921120" cy="1912680"/>
          </a:xfrm>
          <a:prstGeom prst="rect">
            <a:avLst/>
          </a:prstGeom>
          <a:noFill/>
          <a:ln w="79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923000" y="2568600"/>
            <a:ext cx="15840" cy="377640"/>
          </a:xfrm>
          <a:prstGeom prst="rect">
            <a:avLst/>
          </a:prstGeom>
          <a:solidFill>
            <a:srgbClr val="9999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923000" y="2946240"/>
            <a:ext cx="15840" cy="5731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923000" y="2359440"/>
            <a:ext cx="39034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923000" y="2616120"/>
            <a:ext cx="1511280" cy="346320"/>
          </a:xfrm>
          <a:prstGeom prst="rect">
            <a:avLst/>
          </a:prstGeom>
          <a:solidFill>
            <a:srgbClr val="ff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938840" y="3475080"/>
            <a:ext cx="1749240" cy="339840"/>
          </a:xfrm>
          <a:prstGeom prst="rect">
            <a:avLst/>
          </a:prstGeom>
          <a:solidFill>
            <a:srgbClr val="ff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434280" y="2962440"/>
            <a:ext cx="253800" cy="5126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6434280" y="2616120"/>
            <a:ext cx="60120" cy="346320"/>
          </a:xfrm>
          <a:prstGeom prst="rect">
            <a:avLst/>
          </a:prstGeom>
          <a:solidFill>
            <a:srgbClr val="cc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6688080" y="3475080"/>
            <a:ext cx="316080" cy="339840"/>
          </a:xfrm>
          <a:prstGeom prst="rect">
            <a:avLst/>
          </a:prstGeom>
          <a:solidFill>
            <a:srgbClr val="cc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494400" y="2962440"/>
            <a:ext cx="509760" cy="5126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6494400" y="2616120"/>
            <a:ext cx="255600" cy="346320"/>
          </a:xfrm>
          <a:prstGeom prst="rect">
            <a:avLst/>
          </a:prstGeom>
          <a:solidFill>
            <a:srgbClr val="cc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7004160" y="3475080"/>
            <a:ext cx="1325520" cy="339840"/>
          </a:xfrm>
          <a:prstGeom prst="rect">
            <a:avLst/>
          </a:prstGeom>
          <a:solidFill>
            <a:srgbClr val="cc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750000" y="2962440"/>
            <a:ext cx="1579680" cy="5126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8329680" y="3475080"/>
            <a:ext cx="193680" cy="33984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750000" y="2962440"/>
            <a:ext cx="1773360" cy="5126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6750000" y="2616120"/>
            <a:ext cx="2076480" cy="346320"/>
          </a:xfrm>
          <a:prstGeom prst="rect">
            <a:avLst/>
          </a:prstGeom>
          <a:solidFill>
            <a:srgbClr val="ffcc99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8523360" y="3475080"/>
            <a:ext cx="303120" cy="339840"/>
          </a:xfrm>
          <a:prstGeom prst="rect">
            <a:avLst/>
          </a:prstGeom>
          <a:solidFill>
            <a:srgbClr val="ffcc99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8844120" y="2946240"/>
            <a:ext cx="1440" cy="5731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844120" y="2946240"/>
            <a:ext cx="1440" cy="5731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923000" y="4189320"/>
            <a:ext cx="3921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4923000" y="41446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708520" y="4144680"/>
            <a:ext cx="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6492960" y="41446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7272360" y="41446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8058240" y="41446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8844120" y="414468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923000" y="2276640"/>
            <a:ext cx="45720" cy="1912680"/>
          </a:xfrm>
          <a:custGeom>
            <a:avLst/>
            <a:gdLst/>
            <a:ahLst/>
            <a:rect l="l" t="t" r="r" b="b"/>
            <a:pathLst>
              <a:path w="6" h="263">
                <a:moveTo>
                  <a:pt x="0" y="0"/>
                </a:moveTo>
                <a:lnTo>
                  <a:pt x="0" y="263"/>
                </a:lnTo>
                <a:lnTo>
                  <a:pt x="6" y="2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923000" y="3230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923000" y="2276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734360" y="3008160"/>
            <a:ext cx="45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.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734360" y="3873600"/>
            <a:ext cx="45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422680" y="272088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38.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562360" y="3546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44.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275160" y="2432160"/>
            <a:ext cx="45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1.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53520" y="3546360"/>
            <a:ext cx="45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8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428160" y="2720880"/>
            <a:ext cx="45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6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418880" y="3546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34.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60000" y="2360520"/>
            <a:ext cx="45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.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8188920" y="3860640"/>
            <a:ext cx="45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5.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534080" y="263700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53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477640" y="3500280"/>
            <a:ext cx="45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7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8660160" y="2360520"/>
            <a:ext cx="45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.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660160" y="3873600"/>
            <a:ext cx="45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0.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845960" y="43196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588640" y="431964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374160" y="431964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154640" y="431964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7938720" y="431964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8680320" y="4319640"/>
            <a:ext cx="38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346280" y="2647800"/>
            <a:ext cx="4640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ＭＳ Ｐゴシック"/>
              </a:rPr>
              <a:t>パスあり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N=1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344480" y="3584520"/>
            <a:ext cx="4640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ＭＳ Ｐゴシック"/>
              </a:rPr>
              <a:t>パスなし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N=2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500720" y="4797360"/>
            <a:ext cx="4383000" cy="738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643280" y="4890960"/>
            <a:ext cx="181080" cy="193680"/>
          </a:xfrm>
          <a:prstGeom prst="rect">
            <a:avLst/>
          </a:prstGeom>
          <a:solidFill>
            <a:srgbClr val="9999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962600" y="486252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徒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651640" y="4890960"/>
            <a:ext cx="180720" cy="193680"/>
          </a:xfrm>
          <a:prstGeom prst="rect">
            <a:avLst/>
          </a:prstGeom>
          <a:solidFill>
            <a:srgbClr val="ff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6014160" y="486252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自転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622920" y="4890960"/>
            <a:ext cx="181080" cy="193680"/>
          </a:xfrm>
          <a:prstGeom prst="rect">
            <a:avLst/>
          </a:prstGeom>
          <a:solidFill>
            <a:srgbClr val="cc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7023240" y="4862520"/>
            <a:ext cx="65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原付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二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850160" y="4890960"/>
            <a:ext cx="177840" cy="193680"/>
          </a:xfrm>
          <a:prstGeom prst="rect">
            <a:avLst/>
          </a:prstGeom>
          <a:solidFill>
            <a:srgbClr val="cccc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8136360" y="4862520"/>
            <a:ext cx="63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車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運転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643280" y="5229360"/>
            <a:ext cx="181080" cy="19368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60440" y="5200560"/>
            <a:ext cx="61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車（送迎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724360" y="5251320"/>
            <a:ext cx="181080" cy="193680"/>
          </a:xfrm>
          <a:prstGeom prst="rect">
            <a:avLst/>
          </a:prstGeom>
          <a:solidFill>
            <a:srgbClr val="ffcc99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994360" y="52005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バ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622920" y="5229360"/>
            <a:ext cx="181080" cy="193680"/>
          </a:xfrm>
          <a:prstGeom prst="rect">
            <a:avLst/>
          </a:prstGeom>
          <a:solidFill>
            <a:srgbClr val="0066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044480" y="520056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その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356000" y="2852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732720" y="2421000"/>
            <a:ext cx="20872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877080" y="3357720"/>
            <a:ext cx="1727280" cy="57600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 flipV="1">
            <a:off x="6732720" y="2997000"/>
            <a:ext cx="576000" cy="360360"/>
          </a:xfrm>
          <a:prstGeom prst="line">
            <a:avLst/>
          </a:prstGeom>
          <a:ln w="38160">
            <a:solidFill>
              <a:srgbClr val="3366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8459640" y="3357720"/>
            <a:ext cx="53820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H="1" flipV="1">
            <a:off x="8172360" y="2997000"/>
            <a:ext cx="503280" cy="431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443640" y="2492280"/>
            <a:ext cx="360360" cy="57636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75878-C7F9-4327-AC18-8669E6405D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5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9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9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1322640" y="5516640"/>
            <a:ext cx="3841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大学関係者におけるバス乗車頻度の割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534120" y="5084640"/>
            <a:ext cx="73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年に１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418640" y="5157720"/>
            <a:ext cx="68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0.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108000" y="981000"/>
            <a:ext cx="5569200" cy="4329720"/>
            <a:chOff x="108000" y="981000"/>
            <a:chExt cx="5569200" cy="4329720"/>
          </a:xfrm>
        </p:grpSpPr>
        <p:grpSp>
          <p:nvGrpSpPr>
            <p:cNvPr id="1103" name=""/>
            <p:cNvGrpSpPr/>
            <p:nvPr/>
          </p:nvGrpSpPr>
          <p:grpSpPr>
            <a:xfrm>
              <a:off x="108000" y="2016000"/>
              <a:ext cx="2164320" cy="2209680"/>
              <a:chOff x="108000" y="2016000"/>
              <a:chExt cx="2164320" cy="2209680"/>
            </a:xfrm>
          </p:grpSpPr>
          <p:grpSp>
            <p:nvGrpSpPr>
              <p:cNvPr id="1104" name=""/>
              <p:cNvGrpSpPr/>
              <p:nvPr/>
            </p:nvGrpSpPr>
            <p:grpSpPr>
              <a:xfrm>
                <a:off x="108000" y="2016000"/>
                <a:ext cx="2061360" cy="2209680"/>
                <a:chOff x="108000" y="2016000"/>
                <a:chExt cx="2061360" cy="220968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108000" y="2016000"/>
                  <a:ext cx="1905120" cy="2209680"/>
                </a:xfrm>
                <a:custGeom>
                  <a:avLst/>
                  <a:gdLst/>
                  <a:ahLst/>
                  <a:rect l="l" t="t" r="r" b="b"/>
                  <a:pathLst>
                    <a:path w="208" h="225">
                      <a:moveTo>
                        <a:pt x="207" y="52"/>
                      </a:moveTo>
                      <a:cubicBezTo>
                        <a:pt x="187" y="19"/>
                        <a:pt x="151" y="0"/>
                        <a:pt x="112" y="0"/>
                      </a:cubicBezTo>
                      <a:cubicBezTo>
                        <a:pt x="50" y="0"/>
                        <a:pt x="0" y="50"/>
                        <a:pt x="0" y="112"/>
                      </a:cubicBezTo>
                      <a:cubicBezTo>
                        <a:pt x="0" y="174"/>
                        <a:pt x="50" y="225"/>
                        <a:pt x="112" y="225"/>
                      </a:cubicBezTo>
                      <a:cubicBezTo>
                        <a:pt x="151" y="224"/>
                        <a:pt x="188" y="204"/>
                        <a:pt x="208" y="170"/>
                      </a:cubicBezTo>
                      <a:lnTo>
                        <a:pt x="112" y="112"/>
                      </a:lnTo>
                      <a:lnTo>
                        <a:pt x="207" y="52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1133640" y="2527560"/>
                  <a:ext cx="1035720" cy="1157760"/>
                </a:xfrm>
                <a:custGeom>
                  <a:avLst/>
                  <a:gdLst/>
                  <a:ahLst/>
                  <a:rect l="l" t="t" r="r" b="b"/>
                  <a:pathLst>
                    <a:path w="113" h="118">
                      <a:moveTo>
                        <a:pt x="96" y="118"/>
                      </a:moveTo>
                      <a:cubicBezTo>
                        <a:pt x="107" y="101"/>
                        <a:pt x="113" y="80"/>
                        <a:pt x="113" y="60"/>
                      </a:cubicBezTo>
                      <a:cubicBezTo>
                        <a:pt x="113" y="39"/>
                        <a:pt x="107" y="18"/>
                        <a:pt x="95" y="0"/>
                      </a:cubicBezTo>
                      <a:lnTo>
                        <a:pt x="0" y="60"/>
                      </a:lnTo>
                      <a:lnTo>
                        <a:pt x="96" y="118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251640" y="2725200"/>
                <a:ext cx="1031040" cy="756000"/>
                <a:chOff x="251640" y="2725200"/>
                <a:chExt cx="1031040" cy="7560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379440" y="2725200"/>
                  <a:ext cx="7322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ＭＳ Ｐゴシック"/>
                    </a:rPr>
                    <a:t>パス有り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251640" y="3115080"/>
                  <a:ext cx="10310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ＭＳ Ｐゴシック"/>
                    </a:rPr>
                    <a:t>82.54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1469520" y="2854440"/>
                <a:ext cx="802800" cy="624960"/>
                <a:chOff x="1469520" y="2854440"/>
                <a:chExt cx="802800" cy="62496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1469520" y="3113280"/>
                  <a:ext cx="601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ＭＳ Ｐゴシック"/>
                    </a:rPr>
                    <a:t>17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1540080" y="2854440"/>
                  <a:ext cx="7322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ＭＳ Ｐゴシック"/>
                    </a:rPr>
                    <a:t>パス無し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3" name=""/>
            <p:cNvGrpSpPr/>
            <p:nvPr/>
          </p:nvGrpSpPr>
          <p:grpSpPr>
            <a:xfrm>
              <a:off x="2489760" y="1239840"/>
              <a:ext cx="636840" cy="4070880"/>
              <a:chOff x="2489760" y="1239840"/>
              <a:chExt cx="636840" cy="4070880"/>
            </a:xfrm>
          </p:grpSpPr>
          <p:sp>
            <p:nvSpPr>
              <p:cNvPr id="1114" name=""/>
              <p:cNvSpPr/>
              <p:nvPr/>
            </p:nvSpPr>
            <p:spPr>
              <a:xfrm>
                <a:off x="2489760" y="1239840"/>
                <a:ext cx="636840" cy="96120"/>
              </a:xfrm>
              <a:prstGeom prst="rect">
                <a:avLst/>
              </a:prstGeom>
              <a:solidFill>
                <a:srgbClr val="80008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489760" y="1335960"/>
                <a:ext cx="636840" cy="168480"/>
              </a:xfrm>
              <a:prstGeom prst="rect">
                <a:avLst/>
              </a:prstGeom>
              <a:solidFill>
                <a:srgbClr val="cc99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489760" y="1504440"/>
                <a:ext cx="636840" cy="771840"/>
              </a:xfrm>
              <a:prstGeom prst="rect">
                <a:avLst/>
              </a:prstGeom>
              <a:solidFill>
                <a:srgbClr val="ff99cc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489760" y="2276280"/>
                <a:ext cx="636840" cy="986040"/>
              </a:xfrm>
              <a:prstGeom prst="rect">
                <a:avLst/>
              </a:prstGeom>
              <a:solidFill>
                <a:srgbClr val="ffcccc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489760" y="3262320"/>
                <a:ext cx="636840" cy="1641960"/>
              </a:xfrm>
              <a:prstGeom prst="rect">
                <a:avLst/>
              </a:prstGeom>
              <a:solidFill>
                <a:srgbClr val="ffdd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489760" y="4904640"/>
                <a:ext cx="636840" cy="238680"/>
              </a:xfrm>
              <a:prstGeom prst="rect">
                <a:avLst/>
              </a:prstGeom>
              <a:solidFill>
                <a:srgbClr val="99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489760" y="5143320"/>
                <a:ext cx="636840" cy="167400"/>
              </a:xfrm>
              <a:prstGeom prst="rect">
                <a:avLst/>
              </a:prstGeom>
              <a:solidFill>
                <a:srgbClr val="3366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4003920" y="4665600"/>
              <a:ext cx="1673280" cy="390240"/>
              <a:chOff x="4003920" y="4665600"/>
              <a:chExt cx="1673280" cy="390240"/>
            </a:xfrm>
          </p:grpSpPr>
          <p:sp>
            <p:nvSpPr>
              <p:cNvPr id="1122" name=""/>
              <p:cNvSpPr/>
              <p:nvPr/>
            </p:nvSpPr>
            <p:spPr>
              <a:xfrm>
                <a:off x="4003920" y="466560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ＭＳ Ｐゴシック"/>
                  </a:rPr>
                  <a:t>２・３ヶ月に１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993560" y="4689720"/>
                <a:ext cx="68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ＭＳ Ｐゴシック"/>
                  </a:rPr>
                  <a:t>1.0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3452040" y="3825720"/>
              <a:ext cx="1716120" cy="366120"/>
              <a:chOff x="3452040" y="3825720"/>
              <a:chExt cx="1716120" cy="366120"/>
            </a:xfrm>
          </p:grpSpPr>
          <p:sp>
            <p:nvSpPr>
              <p:cNvPr id="1125" name=""/>
              <p:cNvSpPr/>
              <p:nvPr/>
            </p:nvSpPr>
            <p:spPr>
              <a:xfrm>
                <a:off x="3452040" y="3825720"/>
                <a:ext cx="915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ＭＳ Ｐゴシック"/>
                  </a:rPr>
                  <a:t>月１～２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484520" y="3825720"/>
                <a:ext cx="68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ＭＳ Ｐゴシック"/>
                  </a:rPr>
                  <a:t>7.0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3452040" y="2597040"/>
              <a:ext cx="1716120" cy="366120"/>
              <a:chOff x="3452040" y="2597040"/>
              <a:chExt cx="1716120" cy="366120"/>
            </a:xfrm>
          </p:grpSpPr>
          <p:sp>
            <p:nvSpPr>
              <p:cNvPr id="1128" name=""/>
              <p:cNvSpPr/>
              <p:nvPr/>
            </p:nvSpPr>
            <p:spPr>
              <a:xfrm>
                <a:off x="3452040" y="2597040"/>
                <a:ext cx="915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ＭＳ Ｐゴシック"/>
                  </a:rPr>
                  <a:t>週１～２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484520" y="2597040"/>
                <a:ext cx="68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ＭＳ Ｐゴシック"/>
                  </a:rPr>
                  <a:t>4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3453480" y="1950840"/>
              <a:ext cx="1716120" cy="366120"/>
              <a:chOff x="3453480" y="1950840"/>
              <a:chExt cx="1716120" cy="366120"/>
            </a:xfrm>
          </p:grpSpPr>
          <p:sp>
            <p:nvSpPr>
              <p:cNvPr id="1131" name=""/>
              <p:cNvSpPr/>
              <p:nvPr/>
            </p:nvSpPr>
            <p:spPr>
              <a:xfrm>
                <a:off x="3453480" y="1950840"/>
                <a:ext cx="915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ＭＳ Ｐゴシック"/>
                  </a:rPr>
                  <a:t>週３～４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485960" y="1950840"/>
                <a:ext cx="68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ＭＳ Ｐゴシック"/>
                  </a:rPr>
                  <a:t>3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3418560" y="1369800"/>
              <a:ext cx="1296720" cy="394560"/>
              <a:chOff x="3418560" y="1369800"/>
              <a:chExt cx="1296720" cy="394560"/>
            </a:xfrm>
          </p:grpSpPr>
          <p:sp>
            <p:nvSpPr>
              <p:cNvPr id="1134" name=""/>
              <p:cNvSpPr/>
              <p:nvPr/>
            </p:nvSpPr>
            <p:spPr>
              <a:xfrm>
                <a:off x="3418560" y="1369800"/>
                <a:ext cx="549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ＭＳ Ｐゴシック"/>
                  </a:rPr>
                  <a:t>週５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031640" y="1398240"/>
                <a:ext cx="68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ＭＳ Ｐゴシック"/>
                  </a:rPr>
                  <a:t>0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3421800" y="981000"/>
              <a:ext cx="1098720" cy="366120"/>
              <a:chOff x="3421800" y="981000"/>
              <a:chExt cx="1098720" cy="366120"/>
            </a:xfrm>
          </p:grpSpPr>
          <p:sp>
            <p:nvSpPr>
              <p:cNvPr id="1137" name=""/>
              <p:cNvSpPr/>
              <p:nvPr/>
            </p:nvSpPr>
            <p:spPr>
              <a:xfrm>
                <a:off x="3421800" y="981000"/>
                <a:ext cx="36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ＭＳ Ｐゴシック"/>
                  </a:rPr>
                  <a:t>毎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836880" y="981000"/>
                <a:ext cx="68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ＭＳ Ｐゴシック"/>
                  </a:rPr>
                  <a:t>0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9" name=""/>
            <p:cNvSpPr/>
            <p:nvPr/>
          </p:nvSpPr>
          <p:spPr>
            <a:xfrm flipV="1">
              <a:off x="3040920" y="1174320"/>
              <a:ext cx="30528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101400" y="1369800"/>
              <a:ext cx="2444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101400" y="5246640"/>
              <a:ext cx="30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3101400" y="4924080"/>
              <a:ext cx="24444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040920" y="2016000"/>
              <a:ext cx="3657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40920" y="2790720"/>
              <a:ext cx="30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3040920" y="3954600"/>
              <a:ext cx="30528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2000880" y="1238040"/>
              <a:ext cx="48852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001240" y="3695760"/>
              <a:ext cx="488520" cy="16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6012000" y="1125360"/>
            <a:ext cx="792000" cy="3672000"/>
          </a:xfrm>
          <a:prstGeom prst="flowChartAlternateProcess">
            <a:avLst/>
          </a:prstGeom>
          <a:solidFill>
            <a:srgbClr val="ffe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パスを買った方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500480" y="3333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rebuchet MS"/>
              </a:rPr>
              <a:t>パスカードの認知度の現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132000" y="907920"/>
            <a:ext cx="2232000" cy="3672000"/>
          </a:xfrm>
          <a:prstGeom prst="flowChartAlternateProcess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364000" y="2349360"/>
            <a:ext cx="505080" cy="865440"/>
          </a:xfrm>
          <a:prstGeom prst="leftArrow">
            <a:avLst>
              <a:gd name="adj1" fmla="val 55963"/>
              <a:gd name="adj2" fmla="val 5013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7020000" y="1413000"/>
            <a:ext cx="1728720" cy="3887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しかし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rebuchet MS"/>
              </a:rPr>
              <a:t>１５</a:t>
            </a: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％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人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不所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80000" y="59500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（乗り込み調査より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80040" y="49449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N=4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CBB3A-295F-47ED-9CD7-E7D7432D6AB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9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7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パスカードの認知度の現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715760" y="5661000"/>
            <a:ext cx="25916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大学関係者のパスカードの所有による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満足度の割合（アンケートよ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40360" y="1197000"/>
            <a:ext cx="4032000" cy="1006560"/>
          </a:xfrm>
          <a:prstGeom prst="wedgeRoundRectCallout">
            <a:avLst>
              <a:gd name="adj1" fmla="val -109171"/>
              <a:gd name="adj2" fmla="val 69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1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年生かつ月１～３回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以上の割合が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5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796000" y="2852640"/>
            <a:ext cx="3097080" cy="100800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パスカードの元は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取れる計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796000" y="4508640"/>
            <a:ext cx="3097080" cy="100800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サービスが認知され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いないのではない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108000" y="1844640"/>
            <a:ext cx="5519520" cy="3537000"/>
            <a:chOff x="108000" y="1844640"/>
            <a:chExt cx="5519520" cy="3537000"/>
          </a:xfrm>
        </p:grpSpPr>
        <p:sp>
          <p:nvSpPr>
            <p:cNvPr id="1161" name=""/>
            <p:cNvSpPr/>
            <p:nvPr/>
          </p:nvSpPr>
          <p:spPr>
            <a:xfrm>
              <a:off x="1252440" y="1990800"/>
              <a:ext cx="4094280" cy="25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252440" y="1990800"/>
              <a:ext cx="4094280" cy="25574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252440" y="3656160"/>
              <a:ext cx="61920" cy="50796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252440" y="2376720"/>
              <a:ext cx="34920" cy="50940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314360" y="3656160"/>
              <a:ext cx="409680" cy="507960"/>
            </a:xfrm>
            <a:prstGeom prst="rect">
              <a:avLst/>
            </a:prstGeom>
            <a:solidFill>
              <a:srgbClr val="ff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287360" y="2376720"/>
              <a:ext cx="301680" cy="509400"/>
            </a:xfrm>
            <a:prstGeom prst="rect">
              <a:avLst/>
            </a:prstGeom>
            <a:solidFill>
              <a:srgbClr val="ff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724040" y="3656160"/>
              <a:ext cx="1752480" cy="507960"/>
            </a:xfrm>
            <a:prstGeom prst="rect">
              <a:avLst/>
            </a:prstGeom>
            <a:solidFill>
              <a:srgbClr val="cc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89040" y="2376720"/>
              <a:ext cx="954000" cy="509400"/>
            </a:xfrm>
            <a:prstGeom prst="rect">
              <a:avLst/>
            </a:prstGeom>
            <a:solidFill>
              <a:srgbClr val="cc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476520" y="3656160"/>
              <a:ext cx="1343160" cy="507960"/>
            </a:xfrm>
            <a:prstGeom prst="rect">
              <a:avLst/>
            </a:prstGeom>
            <a:solidFill>
              <a:srgbClr val="cc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543040" y="2376720"/>
              <a:ext cx="1974960" cy="509400"/>
            </a:xfrm>
            <a:prstGeom prst="rect">
              <a:avLst/>
            </a:prstGeom>
            <a:solidFill>
              <a:srgbClr val="cc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819680" y="3656160"/>
              <a:ext cx="527040" cy="50796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518000" y="2376720"/>
              <a:ext cx="828720" cy="50940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252440" y="4548240"/>
              <a:ext cx="409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1252440" y="4479840"/>
              <a:ext cx="1800" cy="6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2070000" y="4479840"/>
              <a:ext cx="1800" cy="6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2889360" y="4479840"/>
              <a:ext cx="1440" cy="6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3708360" y="4479840"/>
              <a:ext cx="0" cy="6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4525920" y="4479840"/>
              <a:ext cx="3240" cy="6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5346720" y="4479840"/>
              <a:ext cx="0" cy="6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52440" y="1990800"/>
              <a:ext cx="1800" cy="255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252440" y="454824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252440" y="3270240"/>
              <a:ext cx="525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252440" y="1990800"/>
              <a:ext cx="525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324440" y="184464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243440" y="2095560"/>
              <a:ext cx="68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0.9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281600" y="312264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200600" y="3370320"/>
              <a:ext cx="68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1.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218240" y="240048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37240" y="2648160"/>
              <a:ext cx="68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7.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308600" y="368784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134360" y="3936960"/>
              <a:ext cx="85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10.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373840" y="368784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202840" y="3936960"/>
              <a:ext cx="85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42.9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838880" y="240984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69320" y="2660760"/>
              <a:ext cx="85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23.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309120" y="240984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136320" y="2660760"/>
              <a:ext cx="85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48.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925080" y="368784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750480" y="3936960"/>
              <a:ext cx="85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32.9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705920" y="240984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534920" y="2660760"/>
              <a:ext cx="85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20.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858200" y="3687840"/>
              <a:ext cx="43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ＭＳ Ｐゴシック"/>
                </a:rPr>
                <a:t>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687200" y="3936960"/>
              <a:ext cx="85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12.9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072440" y="4546800"/>
              <a:ext cx="427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806120" y="4546800"/>
              <a:ext cx="60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2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626920" y="4546800"/>
              <a:ext cx="60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49160" y="4546800"/>
              <a:ext cx="60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6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66720" y="4546800"/>
              <a:ext cx="60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8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137200" y="4546800"/>
              <a:ext cx="4903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27240" y="364500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パスな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48120" y="23479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パス有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>
              <a:off x="1278000" y="2106720"/>
              <a:ext cx="106200" cy="27144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1278000" y="3380040"/>
              <a:ext cx="106200" cy="20304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08000" y="4005360"/>
              <a:ext cx="974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(n = 7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52280" y="2708280"/>
              <a:ext cx="963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(n = 33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098720" y="2320920"/>
              <a:ext cx="631800" cy="628920"/>
            </a:xfrm>
            <a:prstGeom prst="ellipse">
              <a:avLst/>
            </a:prstGeom>
            <a:noFill/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9640" y="5013360"/>
              <a:ext cx="473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※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点（非常に不満）～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点（非常に満足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6659640" y="1628640"/>
            <a:ext cx="360360" cy="115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7020000" y="393372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643280" y="1628640"/>
            <a:ext cx="3097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A142-4D04-40B2-B9AB-88A056FCF2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/>
          <p:nvPr/>
        </p:nvSpPr>
        <p:spPr>
          <a:xfrm>
            <a:off x="395280" y="4005360"/>
            <a:ext cx="8137440" cy="12952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68360" y="1844640"/>
            <a:ext cx="8207280" cy="20890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パスカードの認知度の現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362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アリング調査よ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生）パスカードの使用方法がわからな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生）来年どのようにしてパスカードを購入すれば良いのかが分からな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乗り込み調査よ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パスカードで使える対象路線がわからな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6695D-A98E-450D-A114-8B0344D3269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5" dur="500"/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パスカードの呼称の現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50920" y="1557360"/>
            <a:ext cx="8748720" cy="287964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2556000" y="1268280"/>
            <a:ext cx="4537080" cy="719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呼称が統一されてい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468360" y="1989000"/>
            <a:ext cx="2016000" cy="2160360"/>
            <a:chOff x="468360" y="1989000"/>
            <a:chExt cx="2016000" cy="2160360"/>
          </a:xfrm>
        </p:grpSpPr>
        <p:sp>
          <p:nvSpPr>
            <p:cNvPr id="1229" name=""/>
            <p:cNvSpPr/>
            <p:nvPr/>
          </p:nvSpPr>
          <p:spPr>
            <a:xfrm>
              <a:off x="468360" y="2132640"/>
              <a:ext cx="2016000" cy="2016720"/>
            </a:xfrm>
            <a:custGeom>
              <a:avLst/>
              <a:gdLst>
                <a:gd name="textAreaLeft" fmla="*/ 98280 w 2016000"/>
                <a:gd name="textAreaRight" fmla="*/ 1917720 w 2016000"/>
                <a:gd name="textAreaTop" fmla="*/ 98280 h 2016720"/>
                <a:gd name="textAreaBottom" fmla="*/ 1918440 h 2016720"/>
              </a:gdLst>
              <a:ahLst/>
              <a:rect l="textAreaLeft" t="textAreaTop" r="textAreaRight" b="textAreaBottom"/>
              <a:pathLst>
                <a:path w="21600" h="21608">
                  <a:moveTo>
                    <a:pt x="3600" y="0"/>
                  </a:moveTo>
                  <a:arcTo wR="3600" hR="3600" stAng="16200000" swAng="-5400000"/>
                  <a:lnTo>
                    <a:pt x="0" y="18008"/>
                  </a:lnTo>
                  <a:arcTo wR="3600" hR="3600" stAng="10800000" swAng="-5400000"/>
                  <a:lnTo>
                    <a:pt x="18000" y="216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rebuchet MS"/>
                </a:rPr>
                <a:t>利用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928080" y="1989000"/>
              <a:ext cx="1094760" cy="43164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rebuchet MS"/>
                </a:rPr>
                <a:t>大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56000" y="2060640"/>
            <a:ext cx="2016000" cy="2088720"/>
            <a:chOff x="2556000" y="2060640"/>
            <a:chExt cx="2016000" cy="2088720"/>
          </a:xfrm>
        </p:grpSpPr>
        <p:sp>
          <p:nvSpPr>
            <p:cNvPr id="1232" name=""/>
            <p:cNvSpPr/>
            <p:nvPr/>
          </p:nvSpPr>
          <p:spPr>
            <a:xfrm>
              <a:off x="2556000" y="2184480"/>
              <a:ext cx="2016000" cy="19648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rebuchet MS"/>
                </a:rPr>
                <a:t>定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784240" y="2060640"/>
              <a:ext cx="1571400" cy="43272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rebuchet MS"/>
                </a:rPr>
                <a:t>関東鉄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4643280" y="2060640"/>
            <a:ext cx="2016360" cy="2089080"/>
            <a:chOff x="4643280" y="2060640"/>
            <a:chExt cx="2016360" cy="2089080"/>
          </a:xfrm>
        </p:grpSpPr>
        <p:sp>
          <p:nvSpPr>
            <p:cNvPr id="1235" name=""/>
            <p:cNvSpPr/>
            <p:nvPr/>
          </p:nvSpPr>
          <p:spPr>
            <a:xfrm>
              <a:off x="4643280" y="2199600"/>
              <a:ext cx="2016360" cy="19501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rebuchet MS"/>
                </a:rPr>
                <a:t>定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rebuchet MS"/>
                </a:rPr>
                <a:t>学生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103000" y="2060640"/>
              <a:ext cx="1095120" cy="41760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rebuchet MS"/>
                </a:rPr>
                <a:t>学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6732720" y="1989000"/>
            <a:ext cx="2016000" cy="2160360"/>
            <a:chOff x="6732720" y="1989000"/>
            <a:chExt cx="2016000" cy="2160360"/>
          </a:xfrm>
        </p:grpSpPr>
        <p:sp>
          <p:nvSpPr>
            <p:cNvPr id="1238" name=""/>
            <p:cNvSpPr/>
            <p:nvPr/>
          </p:nvSpPr>
          <p:spPr>
            <a:xfrm>
              <a:off x="6732720" y="2132640"/>
              <a:ext cx="2016000" cy="2016720"/>
            </a:xfrm>
            <a:custGeom>
              <a:avLst/>
              <a:gdLst>
                <a:gd name="textAreaLeft" fmla="*/ 98280 w 2016000"/>
                <a:gd name="textAreaRight" fmla="*/ 1917720 w 2016000"/>
                <a:gd name="textAreaTop" fmla="*/ 98280 h 2016720"/>
                <a:gd name="textAreaBottom" fmla="*/ 1918440 h 2016720"/>
              </a:gdLst>
              <a:ahLst/>
              <a:rect l="textAreaLeft" t="textAreaTop" r="textAreaRight" b="textAreaBottom"/>
              <a:pathLst>
                <a:path w="21600" h="21608">
                  <a:moveTo>
                    <a:pt x="3600" y="0"/>
                  </a:moveTo>
                  <a:arcTo wR="3600" hR="3600" stAng="16200000" swAng="-5400000"/>
                  <a:lnTo>
                    <a:pt x="0" y="18008"/>
                  </a:lnTo>
                  <a:arcTo wR="3600" hR="3600" stAng="10800000" swAng="-5400000"/>
                  <a:lnTo>
                    <a:pt x="18000" y="216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rebuchet MS"/>
                </a:rPr>
                <a:t>パスカー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192440" y="1989000"/>
              <a:ext cx="1094760" cy="43164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rebuchet MS"/>
                </a:rPr>
                <a:t>交通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3851280" y="4581360"/>
            <a:ext cx="1657440" cy="648000"/>
          </a:xfrm>
          <a:prstGeom prst="downArrow">
            <a:avLst>
              <a:gd name="adj1" fmla="val 45213"/>
              <a:gd name="adj2" fmla="val 55148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2195640" y="5373720"/>
            <a:ext cx="4824360" cy="863640"/>
          </a:xfrm>
          <a:prstGeom prst="roundRect">
            <a:avLst>
              <a:gd name="adj" fmla="val 16667"/>
            </a:avLst>
          </a:prstGeom>
          <a:solidFill>
            <a:srgbClr val="ffe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rebuchet MS"/>
              </a:rPr>
              <a:t>統一が必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23654-5EF4-4AAB-8CED-C78E0C6592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9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8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2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7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1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684360" y="981000"/>
            <a:ext cx="7848360" cy="5472000"/>
            <a:chOff x="684360" y="981000"/>
            <a:chExt cx="7848360" cy="5472000"/>
          </a:xfrm>
        </p:grpSpPr>
        <p:sp>
          <p:nvSpPr>
            <p:cNvPr id="127" name=""/>
            <p:cNvSpPr/>
            <p:nvPr/>
          </p:nvSpPr>
          <p:spPr>
            <a:xfrm>
              <a:off x="684360" y="981000"/>
              <a:ext cx="7848360" cy="54720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32000" y="981000"/>
              <a:ext cx="0" cy="547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53080" y="981000"/>
              <a:ext cx="0" cy="547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651640" y="907920"/>
            <a:ext cx="2879640" cy="5616720"/>
          </a:xfrm>
          <a:custGeom>
            <a:avLst/>
            <a:gdLst>
              <a:gd name="textAreaLeft" fmla="*/ 140400 w 2879640"/>
              <a:gd name="textAreaRight" fmla="*/ 2739240 w 2879640"/>
              <a:gd name="textAreaTop" fmla="*/ 140400 h 5616720"/>
              <a:gd name="textAreaBottom" fmla="*/ 5476320 h 5616720"/>
            </a:gdLst>
            <a:ahLst/>
            <a:rect l="textAreaLeft" t="textAreaTop" r="textAreaRight" b="textAreaBottom"/>
            <a:pathLst>
              <a:path w="21600" h="42128">
                <a:moveTo>
                  <a:pt x="3600" y="0"/>
                </a:moveTo>
                <a:arcTo wR="3600" hR="3600" stAng="16200000" swAng="-5400000"/>
                <a:lnTo>
                  <a:pt x="0" y="38528"/>
                </a:lnTo>
                <a:arcTo wR="3600" hR="3600" stAng="10800000" swAng="-5400000"/>
                <a:lnTo>
                  <a:pt x="18000" y="421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907920"/>
            <a:ext cx="2374920" cy="5616720"/>
          </a:xfrm>
          <a:custGeom>
            <a:avLst/>
            <a:gdLst>
              <a:gd name="textAreaLeft" fmla="*/ 115920 w 2374920"/>
              <a:gd name="textAreaRight" fmla="*/ 2259000 w 2374920"/>
              <a:gd name="textAreaTop" fmla="*/ 115920 h 5616720"/>
              <a:gd name="textAreaBottom" fmla="*/ 5500800 h 5616720"/>
            </a:gdLst>
            <a:ahLst/>
            <a:rect l="textAreaLeft" t="textAreaTop" r="textAreaRight" b="textAreaBottom"/>
            <a:pathLst>
              <a:path w="21600" h="51080">
                <a:moveTo>
                  <a:pt x="3600" y="0"/>
                </a:moveTo>
                <a:arcTo wR="3600" hR="3600" stAng="16200000" swAng="-5400000"/>
                <a:lnTo>
                  <a:pt x="0" y="47480"/>
                </a:lnTo>
                <a:arcTo wR="3600" hR="3600" stAng="10800000" swAng="-5400000"/>
                <a:lnTo>
                  <a:pt x="18000" y="510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2421000"/>
            <a:ext cx="23144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平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休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運行時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料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運行経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36320" y="1268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71600" y="1268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22050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2200" y="2492280"/>
            <a:ext cx="12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60560" y="2492280"/>
            <a:ext cx="12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32846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60560" y="3284640"/>
            <a:ext cx="12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45920" y="4005360"/>
            <a:ext cx="188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時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09920" y="4005360"/>
            <a:ext cx="188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時～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29240" y="4797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無　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6560" y="4797360"/>
            <a:ext cx="24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有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円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71560" y="5661000"/>
            <a:ext cx="15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万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39720" y="5661000"/>
            <a:ext cx="22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千万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（最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69000" y="333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新旧学内バスの比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0000" y="6118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（石田教授推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9A650-6689-4CEA-8BBF-272598548F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交通班の提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1403280" y="4294080"/>
            <a:ext cx="5905080" cy="2158920"/>
            <a:chOff x="1403280" y="4294080"/>
            <a:chExt cx="5905080" cy="2158920"/>
          </a:xfrm>
        </p:grpSpPr>
        <p:sp>
          <p:nvSpPr>
            <p:cNvPr id="1244" name=""/>
            <p:cNvSpPr/>
            <p:nvPr/>
          </p:nvSpPr>
          <p:spPr>
            <a:xfrm>
              <a:off x="1403280" y="4591080"/>
              <a:ext cx="5905080" cy="18619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302560" y="4294080"/>
              <a:ext cx="3850920" cy="66960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rebuchet MS"/>
                </a:rPr>
                <a:t>新愛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6" name=""/>
          <p:cNvSpPr/>
          <p:nvPr/>
        </p:nvSpPr>
        <p:spPr>
          <a:xfrm>
            <a:off x="755640" y="3107880"/>
            <a:ext cx="7488360" cy="64404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rebuchet MS"/>
              </a:rPr>
              <a:t>愛称を提案しパスカードを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</a:t>
            </a:r>
            <a:r>
              <a:rPr b="0" lang="zh-CN" sz="3200" spc="-1" strike="noStrike">
                <a:solidFill>
                  <a:srgbClr val="000000"/>
                </a:solidFill>
                <a:latin typeface="Trebuchet MS"/>
              </a:rPr>
              <a:t>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995640" y="3789360"/>
            <a:ext cx="719280" cy="431640"/>
          </a:xfrm>
          <a:prstGeom prst="downArrow">
            <a:avLst>
              <a:gd name="adj1" fmla="val 47463"/>
              <a:gd name="adj2" fmla="val 45954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627280" y="2637000"/>
            <a:ext cx="385920" cy="431640"/>
          </a:xfrm>
          <a:prstGeom prst="downArrow">
            <a:avLst>
              <a:gd name="adj1" fmla="val 56380"/>
              <a:gd name="adj2" fmla="val 37831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588000" y="1054080"/>
            <a:ext cx="2376720" cy="719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rebuchet MS"/>
              </a:rPr>
              <a:t>呼称の統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324000" y="1052640"/>
            <a:ext cx="6192720" cy="1512720"/>
          </a:xfrm>
          <a:prstGeom prst="roundRect">
            <a:avLst>
              <a:gd name="adj" fmla="val 9583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20560" y="865080"/>
            <a:ext cx="2808360" cy="6494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rebuchet MS"/>
              </a:rPr>
              <a:t>パスカード普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660680" y="5276880"/>
            <a:ext cx="5133960" cy="816120"/>
            <a:chOff x="1660680" y="5276880"/>
            <a:chExt cx="5133960" cy="816120"/>
          </a:xfrm>
        </p:grpSpPr>
        <p:sp>
          <p:nvSpPr>
            <p:cNvPr id="1253" name=""/>
            <p:cNvSpPr/>
            <p:nvPr/>
          </p:nvSpPr>
          <p:spPr>
            <a:xfrm>
              <a:off x="1660680" y="5276880"/>
              <a:ext cx="5133960" cy="816120"/>
            </a:xfrm>
            <a:prstGeom prst="roundRect">
              <a:avLst>
                <a:gd name="adj" fmla="val 16667"/>
              </a:avLst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0" spc="-1" strike="noStrike">
                  <a:solidFill>
                    <a:srgbClr val="ff0339"/>
                  </a:solidFill>
                  <a:latin typeface="Comic Sans MS"/>
                  <a:ea typeface="HG行書体"/>
                </a:rPr>
                <a:t>HaruC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4" name="" descr=""/>
            <p:cNvPicPr/>
            <p:nvPr/>
          </p:nvPicPr>
          <p:blipFill>
            <a:blip r:embed="rId1"/>
            <a:stretch/>
          </p:blipFill>
          <p:spPr>
            <a:xfrm>
              <a:off x="5724360" y="5300640"/>
              <a:ext cx="8748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5" name=""/>
          <p:cNvSpPr/>
          <p:nvPr/>
        </p:nvSpPr>
        <p:spPr>
          <a:xfrm>
            <a:off x="6588000" y="1846440"/>
            <a:ext cx="2376720" cy="71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rebuchet MS"/>
              </a:rPr>
              <a:t>認知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7093080" y="2637000"/>
            <a:ext cx="385560" cy="431640"/>
          </a:xfrm>
          <a:prstGeom prst="downArrow">
            <a:avLst>
              <a:gd name="adj1" fmla="val 56380"/>
              <a:gd name="adj2" fmla="val 37866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395280" y="1197000"/>
            <a:ext cx="6048360" cy="1224000"/>
            <a:chOff x="395280" y="1197000"/>
            <a:chExt cx="6048360" cy="1224000"/>
          </a:xfrm>
        </p:grpSpPr>
        <p:sp>
          <p:nvSpPr>
            <p:cNvPr id="1258" name=""/>
            <p:cNvSpPr/>
            <p:nvPr/>
          </p:nvSpPr>
          <p:spPr>
            <a:xfrm>
              <a:off x="3492360" y="1197000"/>
              <a:ext cx="2951280" cy="57636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rebuchet MS"/>
                </a:rPr>
                <a:t>定時性の確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490920" y="1844640"/>
              <a:ext cx="2952720" cy="57636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C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rebuchet MS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Trebuchet MS"/>
                </a:rPr>
                <a:t>の更なる削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95280" y="1844640"/>
              <a:ext cx="3024360" cy="57636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omic Sans MS"/>
                </a:rPr>
                <a:t>コストの更なる削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C125-0FA2-4F89-ABF9-51EC6E8870F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2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9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2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1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5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★☆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aruCa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大作戦☆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975760" y="1722600"/>
            <a:ext cx="2242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愛称とともに、新システムの内容を広く浸透させ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HaruCa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の由来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332000" y="2923920"/>
            <a:ext cx="6553080" cy="5767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シールを学生証に「貼る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309680" y="3644640"/>
            <a:ext cx="6575400" cy="5767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筑波大学から｢遥か」遠くまで広まるよう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332000" y="4365720"/>
            <a:ext cx="6551640" cy="107928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未来永劫遥か永遠に続けよう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100</a:t>
            </a: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年後の筑波大生も</a:t>
            </a: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HaruCa</a:t>
            </a: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を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1332000" y="5589720"/>
            <a:ext cx="6551640" cy="50328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HaruCa</a:t>
            </a: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で気分は春爛漫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B7B6-5C4E-4EE2-8D44-972AF962057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9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4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9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4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5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5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5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★☆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aruCa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大作戦☆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学関係者の認知不足の現状を踏まえ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①パスカード・新学内交通システムの詳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②いくら乗れば元をとれるのか　　　　　などの説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Arial"/>
              </a:rPr>
              <a:t>提案手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不満・認知不足の多い１年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レッシュマンセミナー（クラ代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体に関し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ポスターの効果的な掲示を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88CC0-3F20-4CDA-8F72-AA1EE221D67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1974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プレゼンテーションの流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187280" y="1341360"/>
            <a:ext cx="676944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１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研究の背景・目的・調査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184400" y="2062080"/>
            <a:ext cx="676908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２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システム導入による効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184400" y="2782800"/>
            <a:ext cx="676908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３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三者視点からの評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184400" y="3500280"/>
            <a:ext cx="676908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４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結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1187280" y="4221000"/>
            <a:ext cx="6769440" cy="5749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５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改善策の提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184400" y="4940280"/>
            <a:ext cx="6769080" cy="574560"/>
          </a:xfrm>
          <a:prstGeom prst="roundRect">
            <a:avLst>
              <a:gd name="adj" fmla="val 16667"/>
            </a:avLst>
          </a:prstGeom>
          <a:solidFill>
            <a:srgbClr val="ffe5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６．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今後の展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983F7-B204-4585-A2EE-E69E4A0DD0D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今後の展望・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680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需要予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に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00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パスカードの需要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,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枚に達した場合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⇒対処方法の検討の必要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長期的には利用者増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⇒便数の増便等を含む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バスサービス向上の必要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666040" y="5040360"/>
            <a:ext cx="1372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パスカード需要予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4040280" y="4319640"/>
            <a:ext cx="4957560" cy="449280"/>
            <a:chOff x="4040280" y="4319640"/>
            <a:chExt cx="4957560" cy="449280"/>
          </a:xfrm>
        </p:grpSpPr>
        <p:sp>
          <p:nvSpPr>
            <p:cNvPr id="1280" name=""/>
            <p:cNvSpPr/>
            <p:nvPr/>
          </p:nvSpPr>
          <p:spPr>
            <a:xfrm>
              <a:off x="4040280" y="4319640"/>
              <a:ext cx="4957560" cy="44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195800" y="4457880"/>
              <a:ext cx="147600" cy="17604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588200" y="4365720"/>
              <a:ext cx="35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ＭＳ Ｐゴシック"/>
                </a:rPr>
                <a:t>学生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192640" y="4464000"/>
              <a:ext cx="147600" cy="1764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697360" y="4386240"/>
              <a:ext cx="701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ＭＳ Ｐゴシック"/>
                </a:rPr>
                <a:t>大学院生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769080" y="4464000"/>
              <a:ext cx="147600" cy="17640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249320" y="4357800"/>
              <a:ext cx="1402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ＭＳ Ｐゴシック"/>
                </a:rPr>
                <a:t>教職員（固定層）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3670920" y="1197000"/>
            <a:ext cx="5339520" cy="2900880"/>
            <a:chOff x="3670920" y="1197000"/>
            <a:chExt cx="5339520" cy="2900880"/>
          </a:xfrm>
        </p:grpSpPr>
        <p:sp>
          <p:nvSpPr>
            <p:cNvPr id="1288" name=""/>
            <p:cNvSpPr/>
            <p:nvPr/>
          </p:nvSpPr>
          <p:spPr>
            <a:xfrm>
              <a:off x="4559400" y="1527480"/>
              <a:ext cx="4449600" cy="22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59400" y="3426120"/>
              <a:ext cx="4449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559400" y="3109320"/>
              <a:ext cx="4449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559400" y="2792520"/>
              <a:ext cx="4449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559400" y="2476080"/>
              <a:ext cx="444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559400" y="2159640"/>
              <a:ext cx="4449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559400" y="1844280"/>
              <a:ext cx="444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559400" y="1527480"/>
              <a:ext cx="444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559400" y="1527480"/>
              <a:ext cx="4449600" cy="221508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781520" y="2888280"/>
              <a:ext cx="298440" cy="85392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522400" y="2634480"/>
              <a:ext cx="300240" cy="110808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263280" y="2508840"/>
              <a:ext cx="300240" cy="12333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004520" y="2428920"/>
              <a:ext cx="300240" cy="131328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47200" y="2428920"/>
              <a:ext cx="298440" cy="131328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488440" y="2428920"/>
              <a:ext cx="300240" cy="131328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781520" y="2460240"/>
              <a:ext cx="298440" cy="4276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522400" y="2143440"/>
              <a:ext cx="300240" cy="4906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63280" y="2000880"/>
              <a:ext cx="300240" cy="5079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004520" y="1907280"/>
              <a:ext cx="300240" cy="5216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747200" y="1907280"/>
              <a:ext cx="298440" cy="5216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488440" y="1907280"/>
              <a:ext cx="300240" cy="5216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781520" y="2302200"/>
              <a:ext cx="298440" cy="15804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522400" y="1985400"/>
              <a:ext cx="300240" cy="15804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263280" y="1844280"/>
              <a:ext cx="300240" cy="15660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004520" y="1745280"/>
              <a:ext cx="300240" cy="15840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747200" y="1745280"/>
              <a:ext cx="298440" cy="15840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488440" y="1745280"/>
              <a:ext cx="300240" cy="15840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559400" y="1527480"/>
              <a:ext cx="1080" cy="221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559400" y="374256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559400" y="3426120"/>
              <a:ext cx="63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559400" y="3109320"/>
              <a:ext cx="63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559400" y="2792520"/>
              <a:ext cx="63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559400" y="247608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559400" y="2159640"/>
              <a:ext cx="63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559400" y="184428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559400" y="152748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559400" y="3742560"/>
              <a:ext cx="444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4559400" y="3679560"/>
              <a:ext cx="1080" cy="62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5301720" y="3679560"/>
              <a:ext cx="1440" cy="62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6042960" y="3679560"/>
              <a:ext cx="1440" cy="62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6784200" y="3679560"/>
              <a:ext cx="1080" cy="62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7525440" y="3679560"/>
              <a:ext cx="1080" cy="62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8268120" y="3679560"/>
              <a:ext cx="1080" cy="62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9009360" y="3679560"/>
              <a:ext cx="1080" cy="62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651560" y="322056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72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92800" y="309384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348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136920" y="303084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389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878520" y="29826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417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19400" y="29826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417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360640" y="29826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417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651560" y="257148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3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92800" y="228636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5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136920" y="215964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59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878520" y="206532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6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619400" y="206532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6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60640" y="206532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6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744440" y="2068560"/>
              <a:ext cx="439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5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83880" y="1751760"/>
              <a:ext cx="439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5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223320" y="1609200"/>
              <a:ext cx="439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5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965280" y="1513440"/>
              <a:ext cx="439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5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706520" y="1513440"/>
              <a:ext cx="439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5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451360" y="1513440"/>
              <a:ext cx="439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5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247640" y="36468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848040" y="333036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48040" y="301536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48040" y="269856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3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848040" y="238212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4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848040" y="206532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848040" y="174852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6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48040" y="143172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7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692600" y="37926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00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3480" y="37926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00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176160" y="37926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00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915600" y="37926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00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653960" y="37926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398080" y="37926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0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670920" y="241344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ＭＳ Ｐゴシック"/>
                </a:rPr>
                <a:t>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670920" y="266580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ＭＳ Ｐゴシック"/>
                </a:rPr>
                <a:t>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282160" y="1197000"/>
              <a:ext cx="7207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2000"/>
            </a:bodyPr>
            <a:p>
              <a:pPr marL="315360" indent="-31536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Ｐゴシック"/>
                </a:rPr>
                <a:t>6302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561080" y="1197000"/>
              <a:ext cx="7207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2000"/>
            </a:bodyPr>
            <a:p>
              <a:pPr marL="315360" indent="-31536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Ｐゴシック"/>
                </a:rPr>
                <a:t>6302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840360" y="1197000"/>
              <a:ext cx="7207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2000"/>
            </a:bodyPr>
            <a:p>
              <a:pPr marL="315360" indent="-31536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Ｐゴシック"/>
                </a:rPr>
                <a:t>6290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118200" y="1339200"/>
              <a:ext cx="7221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2000"/>
            </a:bodyPr>
            <a:p>
              <a:pPr marL="315360" indent="-31536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Ｐゴシック"/>
                </a:rPr>
                <a:t>599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314680" y="1410120"/>
              <a:ext cx="7203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2000"/>
            </a:bodyPr>
            <a:p>
              <a:pPr marL="315360" indent="-31536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Ｐゴシック"/>
                </a:rPr>
                <a:t>5539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34200" y="1624680"/>
              <a:ext cx="7207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2000"/>
            </a:bodyPr>
            <a:p>
              <a:pPr marL="315360" indent="-31536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Ｐゴシック"/>
                </a:rPr>
                <a:t>4564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FEECF-35F3-49EE-852F-2E4FCAE68D8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7" dur="500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2" dur="500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総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68360" y="710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システム導入は成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しかし、まだ改善の余地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Haru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ってパスカード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提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828720" y="1268280"/>
            <a:ext cx="6767640" cy="720720"/>
          </a:xfrm>
          <a:prstGeom prst="flowChartAlternateProcess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愛称“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HaruCa”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による認知度の上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348000" y="2060640"/>
            <a:ext cx="1440000" cy="288720"/>
          </a:xfrm>
          <a:prstGeom prst="downArrow">
            <a:avLst>
              <a:gd name="adj1" fmla="val 53204"/>
              <a:gd name="adj2" fmla="val 51718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"/>
          <p:cNvGrpSpPr/>
          <p:nvPr/>
        </p:nvGrpSpPr>
        <p:grpSpPr>
          <a:xfrm>
            <a:off x="468360" y="2421000"/>
            <a:ext cx="7848720" cy="1152360"/>
            <a:chOff x="468360" y="2421000"/>
            <a:chExt cx="7848720" cy="1152360"/>
          </a:xfrm>
        </p:grpSpPr>
        <p:grpSp>
          <p:nvGrpSpPr>
            <p:cNvPr id="1377" name=""/>
            <p:cNvGrpSpPr/>
            <p:nvPr/>
          </p:nvGrpSpPr>
          <p:grpSpPr>
            <a:xfrm>
              <a:off x="468360" y="2421000"/>
              <a:ext cx="7848720" cy="1152360"/>
              <a:chOff x="468360" y="2421000"/>
              <a:chExt cx="7848720" cy="1152360"/>
            </a:xfrm>
          </p:grpSpPr>
          <p:sp>
            <p:nvSpPr>
              <p:cNvPr id="1378" name=""/>
              <p:cNvSpPr/>
              <p:nvPr/>
            </p:nvSpPr>
            <p:spPr>
              <a:xfrm>
                <a:off x="468360" y="2421000"/>
                <a:ext cx="7848720" cy="1152360"/>
              </a:xfrm>
              <a:prstGeom prst="roundRect">
                <a:avLst>
                  <a:gd name="adj" fmla="val 16667"/>
                </a:avLst>
              </a:prstGeom>
              <a:solidFill>
                <a:srgbClr val="cc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Comic Sans MS"/>
                  </a:rPr>
                  <a:t>　　　　　　　　　　　　　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Comic Sans MS"/>
                  </a:rPr>
                  <a:t>　　　　　　　　　　　　　　以上の効果が期待され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826920" y="2479680"/>
                <a:ext cx="2808360" cy="476280"/>
              </a:xfrm>
              <a:prstGeom prst="flowChartAlternateProcess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Comic Sans MS"/>
                  </a:rPr>
                  <a:t>利便性の向上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3851280" y="2479680"/>
                <a:ext cx="4032360" cy="476280"/>
              </a:xfrm>
              <a:prstGeom prst="flowChartAlternateProcess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Comic Sans MS"/>
                  </a:rPr>
                  <a:t>コスト・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ＭＳ Ｐゴシック"/>
                  </a:rPr>
                  <a:t>CO</a:t>
                </a:r>
                <a:r>
                  <a:rPr b="0" lang="zh-CN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２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Comic Sans MS"/>
                  </a:rPr>
                  <a:t>の更なる削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1" name=""/>
            <p:cNvSpPr/>
            <p:nvPr/>
          </p:nvSpPr>
          <p:spPr>
            <a:xfrm>
              <a:off x="826920" y="2997360"/>
              <a:ext cx="2808360" cy="50472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omic Sans MS"/>
                </a:rPr>
                <a:t>不満の解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2" name=""/>
          <p:cNvSpPr/>
          <p:nvPr/>
        </p:nvSpPr>
        <p:spPr>
          <a:xfrm>
            <a:off x="1654920" y="386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改善の余地はあるが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258920" y="4581360"/>
            <a:ext cx="5832360" cy="1079640"/>
          </a:xfrm>
          <a:prstGeom prst="roundRect">
            <a:avLst>
              <a:gd name="adj" fmla="val 16667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システム導入は成功</a:t>
            </a:r>
            <a:r>
              <a:rPr b="0" lang="en-US" sz="4800" spc="-1" strike="noStrike">
                <a:solidFill>
                  <a:srgbClr val="000000"/>
                </a:solidFill>
                <a:latin typeface="ＭＳ Ｐゴシック"/>
              </a:rPr>
              <a:t>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CE11E-7592-4EE2-B6D2-0D173D3D00B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4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77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0" dur="770" fill="hold"/>
                                        <p:tgtEl>
                                          <p:spTgt spid="13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2" dur="77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4" dur="77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Special</a:t>
            </a:r>
            <a:r>
              <a:rPr b="0" lang="zh-CN" sz="4800" spc="-1" strike="noStrike">
                <a:solidFill>
                  <a:srgbClr val="000000"/>
                </a:solidFill>
                <a:latin typeface="Monotype Corsiva"/>
              </a:rPr>
              <a:t>　</a:t>
            </a: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Thank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Blackadder ITC"/>
                <a:ea typeface="HGP教科書体"/>
              </a:rPr>
              <a:t>お世話になった方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関東鉄道株式会社自動車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営業課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武藤成一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営業課係長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宮野裕司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筑波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藤典雄副学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筑波大学監査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査係長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丸山千恵子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筑波大学総務・企画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総務課文書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菊地文武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筑波大学都市交通研究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研究室の皆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どうもありがとうございまし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22B50-8E42-4A1D-9237-4C68A336922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 txBox="1"/>
          <p:nvPr/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7206-58AB-4D82-BC8D-E1E47679121E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2987640" y="624852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都市計画実習　交通班　最終発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006/06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おしま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今後の展望・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需要予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枚突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F94B9-6270-4FD0-8CEE-5A0C6A8102A2}" type="slidenum">
              <a:t>48</a:t>
            </a:fld>
          </a:p>
        </p:txBody>
      </p:sp>
    </p:spTree>
  </p:cSld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2" dur="500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需要予測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1264680" y="1844640"/>
            <a:ext cx="6331320" cy="4148640"/>
            <a:chOff x="1264680" y="1844640"/>
            <a:chExt cx="6331320" cy="4148640"/>
          </a:xfrm>
        </p:grpSpPr>
        <p:sp>
          <p:nvSpPr>
            <p:cNvPr id="1394" name=""/>
            <p:cNvSpPr/>
            <p:nvPr/>
          </p:nvSpPr>
          <p:spPr>
            <a:xfrm>
              <a:off x="3751560" y="5688000"/>
              <a:ext cx="1372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パスカード需要予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5" name=""/>
            <p:cNvGrpSpPr/>
            <p:nvPr/>
          </p:nvGrpSpPr>
          <p:grpSpPr>
            <a:xfrm>
              <a:off x="1690560" y="4960800"/>
              <a:ext cx="5761080" cy="455400"/>
              <a:chOff x="1690560" y="4960800"/>
              <a:chExt cx="5761080" cy="455400"/>
            </a:xfrm>
          </p:grpSpPr>
          <p:sp>
            <p:nvSpPr>
              <p:cNvPr id="1396" name=""/>
              <p:cNvSpPr/>
              <p:nvPr/>
            </p:nvSpPr>
            <p:spPr>
              <a:xfrm>
                <a:off x="1690560" y="4966920"/>
                <a:ext cx="5761080" cy="449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1874520" y="5105160"/>
                <a:ext cx="176400" cy="17640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375280" y="4960800"/>
                <a:ext cx="3513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300" spc="-1" strike="noStrike">
                    <a:solidFill>
                      <a:srgbClr val="000000"/>
                    </a:solidFill>
                    <a:latin typeface="ＭＳ Ｐゴシック"/>
                  </a:rPr>
                  <a:t>学生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058920" y="5111640"/>
                <a:ext cx="176400" cy="176040"/>
              </a:xfrm>
              <a:prstGeom prst="rect">
                <a:avLst/>
              </a:prstGeom>
              <a:solidFill>
                <a:srgbClr val="ff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724200" y="5033880"/>
                <a:ext cx="7016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300" spc="-1" strike="noStrike">
                    <a:solidFill>
                      <a:srgbClr val="000000"/>
                    </a:solidFill>
                    <a:latin typeface="ＭＳ Ｐゴシック"/>
                  </a:rPr>
                  <a:t>大学院生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932360" y="5111640"/>
                <a:ext cx="176040" cy="176040"/>
              </a:xfrm>
              <a:prstGeom prst="rect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611680" y="5033880"/>
                <a:ext cx="14029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300" spc="-1" strike="noStrike">
                    <a:solidFill>
                      <a:srgbClr val="000000"/>
                    </a:solidFill>
                    <a:latin typeface="ＭＳ Ｐゴシック"/>
                  </a:rPr>
                  <a:t>教職員（固定層）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1264680" y="1844640"/>
              <a:ext cx="6331320" cy="2901240"/>
              <a:chOff x="1264680" y="1844640"/>
              <a:chExt cx="6331320" cy="2901240"/>
            </a:xfrm>
          </p:grpSpPr>
          <p:sp>
            <p:nvSpPr>
              <p:cNvPr id="1404" name=""/>
              <p:cNvSpPr/>
              <p:nvPr/>
            </p:nvSpPr>
            <p:spPr>
              <a:xfrm>
                <a:off x="2308680" y="2175120"/>
                <a:ext cx="5285520" cy="221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308680" y="4074120"/>
                <a:ext cx="52855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2308680" y="3757320"/>
                <a:ext cx="52855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308680" y="3440520"/>
                <a:ext cx="52855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308680" y="3123720"/>
                <a:ext cx="5285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308680" y="2807280"/>
                <a:ext cx="52855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308680" y="2491920"/>
                <a:ext cx="5285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308680" y="2175120"/>
                <a:ext cx="5285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308680" y="2175120"/>
                <a:ext cx="5285520" cy="221508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572560" y="3536280"/>
                <a:ext cx="354600" cy="85428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452760" y="3282120"/>
                <a:ext cx="356400" cy="110808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332960" y="3156840"/>
                <a:ext cx="356400" cy="123372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213160" y="3076920"/>
                <a:ext cx="356400" cy="131364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095520" y="3076920"/>
                <a:ext cx="354600" cy="131364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975720" y="3076920"/>
                <a:ext cx="356400" cy="131364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572560" y="3108240"/>
                <a:ext cx="354600" cy="428040"/>
              </a:xfrm>
              <a:prstGeom prst="rect">
                <a:avLst/>
              </a:prstGeom>
              <a:solidFill>
                <a:srgbClr val="ff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452760" y="2791440"/>
                <a:ext cx="356400" cy="490680"/>
              </a:xfrm>
              <a:prstGeom prst="rect">
                <a:avLst/>
              </a:prstGeom>
              <a:solidFill>
                <a:srgbClr val="ff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332960" y="2648520"/>
                <a:ext cx="356400" cy="507960"/>
              </a:xfrm>
              <a:prstGeom prst="rect">
                <a:avLst/>
              </a:prstGeom>
              <a:solidFill>
                <a:srgbClr val="ff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213160" y="2554920"/>
                <a:ext cx="356400" cy="521640"/>
              </a:xfrm>
              <a:prstGeom prst="rect">
                <a:avLst/>
              </a:prstGeom>
              <a:solidFill>
                <a:srgbClr val="ff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095520" y="2554920"/>
                <a:ext cx="354600" cy="521640"/>
              </a:xfrm>
              <a:prstGeom prst="rect">
                <a:avLst/>
              </a:prstGeom>
              <a:solidFill>
                <a:srgbClr val="ff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975720" y="2554920"/>
                <a:ext cx="356400" cy="521640"/>
              </a:xfrm>
              <a:prstGeom prst="rect">
                <a:avLst/>
              </a:prstGeom>
              <a:solidFill>
                <a:srgbClr val="ff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572560" y="2949840"/>
                <a:ext cx="354600" cy="158040"/>
              </a:xfrm>
              <a:prstGeom prst="rect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452760" y="2633040"/>
                <a:ext cx="356400" cy="158040"/>
              </a:xfrm>
              <a:prstGeom prst="rect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332960" y="2491920"/>
                <a:ext cx="356400" cy="156600"/>
              </a:xfrm>
              <a:prstGeom prst="rect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213160" y="2392920"/>
                <a:ext cx="356400" cy="158400"/>
              </a:xfrm>
              <a:prstGeom prst="rect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095520" y="2392920"/>
                <a:ext cx="354600" cy="158400"/>
              </a:xfrm>
              <a:prstGeom prst="rect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975720" y="2392920"/>
                <a:ext cx="356400" cy="158400"/>
              </a:xfrm>
              <a:prstGeom prst="rect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308680" y="2175120"/>
                <a:ext cx="1440" cy="2215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308680" y="4390560"/>
                <a:ext cx="75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308680" y="4074120"/>
                <a:ext cx="756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308680" y="3757320"/>
                <a:ext cx="756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308680" y="3440520"/>
                <a:ext cx="756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308680" y="3123720"/>
                <a:ext cx="75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308680" y="2807280"/>
                <a:ext cx="756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308680" y="2491920"/>
                <a:ext cx="75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2308680" y="2175120"/>
                <a:ext cx="75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308680" y="4390560"/>
                <a:ext cx="5285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V="1">
                <a:off x="2308680" y="4327560"/>
                <a:ext cx="1440" cy="6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V="1">
                <a:off x="3190680" y="4327560"/>
                <a:ext cx="1800" cy="6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4070880" y="4327560"/>
                <a:ext cx="1800" cy="6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4951440" y="4327560"/>
                <a:ext cx="1440" cy="6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V="1">
                <a:off x="5832000" y="4327560"/>
                <a:ext cx="1440" cy="6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V="1">
                <a:off x="6714360" y="4327560"/>
                <a:ext cx="1440" cy="6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V="1">
                <a:off x="7594560" y="4327560"/>
                <a:ext cx="1440" cy="6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474640" y="386856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272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354840" y="374148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348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236120" y="367884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389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17400" y="363024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417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996520" y="363024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417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877800" y="363024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417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474640" y="321948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134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354840" y="293436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155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236120" y="280728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159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117400" y="271296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161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996520" y="271296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163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877800" y="271296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163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67880" y="2716200"/>
                <a:ext cx="439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5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447000" y="2399400"/>
                <a:ext cx="439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5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327920" y="2256840"/>
                <a:ext cx="439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5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208120" y="2161080"/>
                <a:ext cx="439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5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088320" y="2161080"/>
                <a:ext cx="439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5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971760" y="2161080"/>
                <a:ext cx="439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5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951920" y="429480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519560" y="397836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1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519560" y="366300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519560" y="334620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3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519560" y="302976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4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519560" y="271296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5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519560" y="239616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6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519560" y="207936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7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519640" y="444060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200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400920" y="444060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200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283280" y="444060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200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163840" y="444060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200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039000" y="444060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2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923160" y="4440600"/>
                <a:ext cx="58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201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264680" y="30610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ＭＳ Ｐゴシック"/>
                  </a:rPr>
                  <a:t>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264680" y="33134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ＭＳ Ｐゴシック"/>
                  </a:rPr>
                  <a:t>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730560" y="1844640"/>
                <a:ext cx="85608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7000"/>
              </a:bodyPr>
              <a:p>
                <a:pPr marL="332640" indent="-332640"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6302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874480" y="1844640"/>
                <a:ext cx="85608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7000"/>
              </a:bodyPr>
              <a:p>
                <a:pPr marL="332640" indent="-332640"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6302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018040" y="1844640"/>
                <a:ext cx="85608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7000"/>
              </a:bodyPr>
              <a:p>
                <a:pPr marL="332640" indent="-332640"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6290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160160" y="1987200"/>
                <a:ext cx="85788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7000"/>
              </a:bodyPr>
              <a:p>
                <a:pPr marL="332640" indent="-332640"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5991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205800" y="2057760"/>
                <a:ext cx="8557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7000"/>
              </a:bodyPr>
              <a:p>
                <a:pPr marL="332640" indent="-332640"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5539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278800" y="2272680"/>
                <a:ext cx="85608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7000"/>
              </a:bodyPr>
              <a:p>
                <a:pPr marL="332640" indent="-332640"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4564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08D3-838E-43DF-AA41-34959BE5BDA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475080" cy="6021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620720" y="382680"/>
            <a:ext cx="1414440" cy="5422680"/>
          </a:xfrm>
          <a:custGeom>
            <a:avLst/>
            <a:gdLst/>
            <a:ahLst/>
            <a:rect l="l" t="t" r="r" b="b"/>
            <a:pathLst>
              <a:path w="1089" h="3674">
                <a:moveTo>
                  <a:pt x="681" y="3674"/>
                </a:moveTo>
                <a:lnTo>
                  <a:pt x="590" y="3674"/>
                </a:lnTo>
                <a:lnTo>
                  <a:pt x="590" y="3629"/>
                </a:lnTo>
                <a:lnTo>
                  <a:pt x="681" y="3583"/>
                </a:lnTo>
                <a:lnTo>
                  <a:pt x="726" y="3538"/>
                </a:lnTo>
                <a:lnTo>
                  <a:pt x="953" y="3629"/>
                </a:lnTo>
                <a:lnTo>
                  <a:pt x="953" y="3447"/>
                </a:lnTo>
                <a:lnTo>
                  <a:pt x="590" y="2767"/>
                </a:lnTo>
                <a:lnTo>
                  <a:pt x="499" y="2585"/>
                </a:lnTo>
                <a:lnTo>
                  <a:pt x="545" y="2404"/>
                </a:lnTo>
                <a:lnTo>
                  <a:pt x="409" y="2132"/>
                </a:lnTo>
                <a:lnTo>
                  <a:pt x="318" y="1950"/>
                </a:lnTo>
                <a:lnTo>
                  <a:pt x="318" y="1860"/>
                </a:lnTo>
                <a:lnTo>
                  <a:pt x="318" y="1542"/>
                </a:lnTo>
                <a:lnTo>
                  <a:pt x="363" y="1179"/>
                </a:lnTo>
                <a:lnTo>
                  <a:pt x="318" y="907"/>
                </a:lnTo>
                <a:lnTo>
                  <a:pt x="91" y="635"/>
                </a:lnTo>
                <a:lnTo>
                  <a:pt x="0" y="499"/>
                </a:lnTo>
                <a:lnTo>
                  <a:pt x="0" y="227"/>
                </a:lnTo>
                <a:lnTo>
                  <a:pt x="91" y="91"/>
                </a:lnTo>
                <a:lnTo>
                  <a:pt x="227" y="0"/>
                </a:lnTo>
                <a:lnTo>
                  <a:pt x="454" y="181"/>
                </a:lnTo>
                <a:lnTo>
                  <a:pt x="590" y="272"/>
                </a:lnTo>
                <a:lnTo>
                  <a:pt x="590" y="363"/>
                </a:lnTo>
                <a:lnTo>
                  <a:pt x="545" y="453"/>
                </a:lnTo>
                <a:lnTo>
                  <a:pt x="681" y="499"/>
                </a:lnTo>
                <a:lnTo>
                  <a:pt x="726" y="726"/>
                </a:lnTo>
                <a:lnTo>
                  <a:pt x="817" y="907"/>
                </a:lnTo>
                <a:lnTo>
                  <a:pt x="953" y="1043"/>
                </a:lnTo>
                <a:lnTo>
                  <a:pt x="1044" y="1134"/>
                </a:lnTo>
                <a:lnTo>
                  <a:pt x="1089" y="1315"/>
                </a:lnTo>
                <a:lnTo>
                  <a:pt x="1089" y="1451"/>
                </a:lnTo>
                <a:lnTo>
                  <a:pt x="908" y="1587"/>
                </a:lnTo>
                <a:lnTo>
                  <a:pt x="772" y="1633"/>
                </a:lnTo>
                <a:lnTo>
                  <a:pt x="545" y="1633"/>
                </a:lnTo>
                <a:lnTo>
                  <a:pt x="454" y="1587"/>
                </a:lnTo>
                <a:lnTo>
                  <a:pt x="363" y="1587"/>
                </a:lnTo>
                <a:lnTo>
                  <a:pt x="318" y="16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76720" y="189000"/>
            <a:ext cx="3218040" cy="5840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977080" y="395280"/>
            <a:ext cx="2303280" cy="5527800"/>
          </a:xfrm>
          <a:custGeom>
            <a:avLst/>
            <a:gdLst/>
            <a:ahLst/>
            <a:rect l="l" t="t" r="r" b="b"/>
            <a:pathLst>
              <a:path w="1814" h="4088">
                <a:moveTo>
                  <a:pt x="1814" y="3984"/>
                </a:moveTo>
                <a:lnTo>
                  <a:pt x="1686" y="4024"/>
                </a:lnTo>
                <a:lnTo>
                  <a:pt x="1526" y="4088"/>
                </a:lnTo>
                <a:lnTo>
                  <a:pt x="1462" y="3840"/>
                </a:lnTo>
                <a:lnTo>
                  <a:pt x="1406" y="3640"/>
                </a:lnTo>
                <a:lnTo>
                  <a:pt x="992" y="3853"/>
                </a:lnTo>
                <a:lnTo>
                  <a:pt x="992" y="3660"/>
                </a:lnTo>
                <a:lnTo>
                  <a:pt x="614" y="2938"/>
                </a:lnTo>
                <a:lnTo>
                  <a:pt x="520" y="2745"/>
                </a:lnTo>
                <a:lnTo>
                  <a:pt x="568" y="2553"/>
                </a:lnTo>
                <a:lnTo>
                  <a:pt x="426" y="2264"/>
                </a:lnTo>
                <a:lnTo>
                  <a:pt x="331" y="2070"/>
                </a:lnTo>
                <a:lnTo>
                  <a:pt x="331" y="1975"/>
                </a:lnTo>
                <a:lnTo>
                  <a:pt x="331" y="1637"/>
                </a:lnTo>
                <a:lnTo>
                  <a:pt x="378" y="1252"/>
                </a:lnTo>
                <a:lnTo>
                  <a:pt x="331" y="963"/>
                </a:lnTo>
                <a:lnTo>
                  <a:pt x="95" y="674"/>
                </a:lnTo>
                <a:lnTo>
                  <a:pt x="0" y="530"/>
                </a:lnTo>
                <a:lnTo>
                  <a:pt x="0" y="241"/>
                </a:lnTo>
                <a:lnTo>
                  <a:pt x="95" y="97"/>
                </a:lnTo>
                <a:lnTo>
                  <a:pt x="236" y="0"/>
                </a:lnTo>
                <a:lnTo>
                  <a:pt x="473" y="192"/>
                </a:lnTo>
                <a:lnTo>
                  <a:pt x="614" y="289"/>
                </a:lnTo>
                <a:lnTo>
                  <a:pt x="614" y="385"/>
                </a:lnTo>
                <a:lnTo>
                  <a:pt x="568" y="481"/>
                </a:lnTo>
                <a:lnTo>
                  <a:pt x="709" y="530"/>
                </a:lnTo>
                <a:lnTo>
                  <a:pt x="756" y="771"/>
                </a:lnTo>
                <a:lnTo>
                  <a:pt x="851" y="963"/>
                </a:lnTo>
                <a:lnTo>
                  <a:pt x="992" y="1107"/>
                </a:lnTo>
                <a:lnTo>
                  <a:pt x="1087" y="1204"/>
                </a:lnTo>
                <a:lnTo>
                  <a:pt x="1134" y="1396"/>
                </a:lnTo>
                <a:lnTo>
                  <a:pt x="1134" y="1541"/>
                </a:lnTo>
                <a:lnTo>
                  <a:pt x="1070" y="1592"/>
                </a:lnTo>
                <a:lnTo>
                  <a:pt x="946" y="1685"/>
                </a:lnTo>
                <a:lnTo>
                  <a:pt x="858" y="1705"/>
                </a:lnTo>
                <a:lnTo>
                  <a:pt x="986" y="1849"/>
                </a:lnTo>
                <a:lnTo>
                  <a:pt x="1010" y="2281"/>
                </a:lnTo>
                <a:lnTo>
                  <a:pt x="1162" y="2737"/>
                </a:lnTo>
                <a:lnTo>
                  <a:pt x="626" y="29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2708280"/>
            <a:ext cx="1079640" cy="1225440"/>
          </a:xfrm>
          <a:prstGeom prst="rightArrow">
            <a:avLst>
              <a:gd name="adj1" fmla="val 50000"/>
              <a:gd name="adj2" fmla="val 4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080" y="1413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38800" y="1341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53440" y="5667480"/>
            <a:ext cx="206280" cy="137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6093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HG創英角ｺﾞｼｯｸUB"/>
              </a:rPr>
              <a:t>図情止ま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28000" y="4745160"/>
            <a:ext cx="931680" cy="628560"/>
          </a:xfrm>
          <a:prstGeom prst="wedgeRectCallout">
            <a:avLst>
              <a:gd name="adj1" fmla="val -10134"/>
              <a:gd name="adj2" fmla="val 89898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つく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セン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40360" y="981000"/>
            <a:ext cx="792360" cy="71640"/>
          </a:xfrm>
          <a:custGeom>
            <a:avLst/>
            <a:gdLst/>
            <a:ahLst/>
            <a:rect l="l" t="t" r="r" b="b"/>
            <a:pathLst>
              <a:path w="499" h="45">
                <a:moveTo>
                  <a:pt x="0" y="45"/>
                </a:moveTo>
                <a:lnTo>
                  <a:pt x="272" y="0"/>
                </a:lnTo>
                <a:lnTo>
                  <a:pt x="363" y="0"/>
                </a:lnTo>
                <a:lnTo>
                  <a:pt x="499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5920" bIns="25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32360" y="6021360"/>
            <a:ext cx="35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HG創英角ｺﾞｼｯｸUB"/>
              </a:rPr>
              <a:t>つくばセンター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HG創英角ｺﾞｼｯｸUB"/>
              </a:rPr>
              <a:t>まで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HG創英角ｺﾞｼｯｸUB"/>
              </a:rPr>
              <a:t>延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DC83-26AC-44CD-8F4A-9C62F97B6F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今後の展望・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需要予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枚突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パスカードの需要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,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枚に達した場合の対処方法の検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ＴＸの影響を考慮した評価の必要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AE38-C37D-4BA1-826A-5CCF52455BAB}" type="slidenum">
              <a:t>50</a:t>
            </a:fld>
          </a:p>
        </p:txBody>
      </p: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9" dur="500"/>
                                        <p:tgtEl>
                                          <p:spTgt spid="1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4" dur="500"/>
                                        <p:tgtEl>
                                          <p:spTgt spid="1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スーパーサ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A1576-19FA-468A-8538-F38AD6DF6C7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パスカード売り上げ枚数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　　　　　　　　　　（学群生、学年別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2" name=""/>
          <p:cNvGraphicFramePr/>
          <p:nvPr/>
        </p:nvGraphicFramePr>
        <p:xfrm>
          <a:off x="4067280" y="1916280"/>
          <a:ext cx="4824360" cy="38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16280"/>
                    <a:ext cx="482436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4" name=""/>
          <p:cNvGraphicFramePr/>
          <p:nvPr/>
        </p:nvGraphicFramePr>
        <p:xfrm>
          <a:off x="611280" y="1989000"/>
          <a:ext cx="3956040" cy="4042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989000"/>
                    <a:ext cx="3956040" cy="40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6" name=""/>
          <p:cNvSpPr/>
          <p:nvPr/>
        </p:nvSpPr>
        <p:spPr>
          <a:xfrm>
            <a:off x="1619280" y="58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12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796000" y="58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27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0B95-F5F4-4F6D-A4D6-DB8F4ACD332C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パスカード売り上げ枚数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　　　　　　　　（大学院生、学年別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9" name=""/>
          <p:cNvGraphicFramePr/>
          <p:nvPr/>
        </p:nvGraphicFramePr>
        <p:xfrm>
          <a:off x="684360" y="2349360"/>
          <a:ext cx="3404880" cy="32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49360"/>
                    <a:ext cx="34048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1" name=""/>
          <p:cNvSpPr/>
          <p:nvPr/>
        </p:nvSpPr>
        <p:spPr>
          <a:xfrm>
            <a:off x="1619280" y="58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9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96000" y="58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13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3" name=""/>
          <p:cNvGraphicFramePr/>
          <p:nvPr/>
        </p:nvGraphicFramePr>
        <p:xfrm>
          <a:off x="4869000" y="2220840"/>
          <a:ext cx="3597120" cy="340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9000" y="2220840"/>
                    <a:ext cx="3597120" cy="34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8ED04-771F-4B2F-B361-8B8D11B843A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"/>
          <p:cNvSpPr/>
          <p:nvPr/>
        </p:nvSpPr>
        <p:spPr>
          <a:xfrm>
            <a:off x="1133640" y="5950080"/>
            <a:ext cx="5814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ＭＳ Ｐゴシック"/>
              </a:rPr>
              <a:t>パスカード売り上げ枚数の推移（パス原票集計より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6254640" y="3041640"/>
            <a:ext cx="1125720" cy="1171440"/>
            <a:chOff x="6254640" y="3041640"/>
            <a:chExt cx="1125720" cy="1171440"/>
          </a:xfrm>
        </p:grpSpPr>
        <p:sp>
          <p:nvSpPr>
            <p:cNvPr id="1507" name=""/>
            <p:cNvSpPr/>
            <p:nvPr/>
          </p:nvSpPr>
          <p:spPr>
            <a:xfrm>
              <a:off x="6254640" y="3041640"/>
              <a:ext cx="1125720" cy="117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21240" y="3141720"/>
              <a:ext cx="123840" cy="125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2720" y="306864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ＭＳ Ｐゴシック"/>
                </a:rPr>
                <a:t>その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21240" y="3435480"/>
              <a:ext cx="123840" cy="1238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200" y="336240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ＭＳ Ｐゴシック"/>
                </a:rPr>
                <a:t>教職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321240" y="3728880"/>
              <a:ext cx="123840" cy="123840"/>
            </a:xfrm>
            <a:prstGeom prst="rect">
              <a:avLst/>
            </a:pr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43800" y="3654360"/>
              <a:ext cx="4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ＭＳ Ｐゴシック"/>
                </a:rPr>
                <a:t>大学院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321240" y="4021200"/>
              <a:ext cx="123840" cy="123840"/>
            </a:xfrm>
            <a:prstGeom prst="rect">
              <a:avLst/>
            </a:prstGeom>
            <a:solidFill>
              <a:srgbClr val="cc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49200" y="394812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ＭＳ Ｐゴシック"/>
                </a:rPr>
                <a:t>学群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パスカード売り上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659640" y="494172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度教職員は、通勤用パスカード枚数を含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6372360" y="1916280"/>
            <a:ext cx="2305080" cy="79200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群生の増加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に顕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614880" y="1510200"/>
            <a:ext cx="5382720" cy="4240080"/>
            <a:chOff x="614880" y="1510200"/>
            <a:chExt cx="5382720" cy="4240080"/>
          </a:xfrm>
        </p:grpSpPr>
        <p:sp>
          <p:nvSpPr>
            <p:cNvPr id="1520" name=""/>
            <p:cNvSpPr/>
            <p:nvPr/>
          </p:nvSpPr>
          <p:spPr>
            <a:xfrm>
              <a:off x="1703520" y="4697280"/>
              <a:ext cx="429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03520" y="4145040"/>
              <a:ext cx="429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703520" y="3603600"/>
              <a:ext cx="429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703520" y="3063960"/>
              <a:ext cx="429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703520" y="2511360"/>
              <a:ext cx="429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703520" y="1969920"/>
              <a:ext cx="429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703520" y="1969920"/>
              <a:ext cx="4292640" cy="32688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346480" y="4584600"/>
              <a:ext cx="866520" cy="654120"/>
            </a:xfrm>
            <a:prstGeom prst="rect">
              <a:avLst/>
            </a:prstGeom>
            <a:solidFill>
              <a:srgbClr val="cc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497480" y="3751200"/>
              <a:ext cx="857160" cy="1487520"/>
            </a:xfrm>
            <a:prstGeom prst="rect">
              <a:avLst/>
            </a:prstGeom>
            <a:solidFill>
              <a:srgbClr val="cc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346480" y="4065480"/>
              <a:ext cx="866520" cy="519120"/>
            </a:xfrm>
            <a:prstGeom prst="rect">
              <a:avLst/>
            </a:pr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497480" y="3017880"/>
              <a:ext cx="857160" cy="733320"/>
            </a:xfrm>
            <a:prstGeom prst="rect">
              <a:avLst/>
            </a:prstGeom>
            <a:solidFill>
              <a:srgbClr val="99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346480" y="3649680"/>
              <a:ext cx="866520" cy="415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497480" y="2590920"/>
              <a:ext cx="857160" cy="426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346480" y="3627360"/>
              <a:ext cx="866520" cy="223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497480" y="2568600"/>
              <a:ext cx="857160" cy="223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703520" y="1969920"/>
              <a:ext cx="1440" cy="326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703520" y="5238720"/>
              <a:ext cx="68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03520" y="4697280"/>
              <a:ext cx="68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703520" y="4145040"/>
              <a:ext cx="68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703520" y="3603600"/>
              <a:ext cx="68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703520" y="3063960"/>
              <a:ext cx="68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703520" y="2511360"/>
              <a:ext cx="68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703520" y="1969920"/>
              <a:ext cx="68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703520" y="5238720"/>
              <a:ext cx="429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1703520" y="5170320"/>
              <a:ext cx="144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3855960" y="5170320"/>
              <a:ext cx="180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5996160" y="5170320"/>
              <a:ext cx="144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587320" y="48211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2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738320" y="440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27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650320" y="4235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94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760640" y="33116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134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628000" y="37623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77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813920" y="26924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7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692440" y="3367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844880" y="23493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ＭＳ Ｐゴシック"/>
                </a:rPr>
                <a:t>3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455480" y="50403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083600" y="449892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083600" y="394668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083600" y="340668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3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083600" y="28656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4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083600" y="23130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083600" y="177336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6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847880" y="5445000"/>
              <a:ext cx="1755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１７年度（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8</a:t>
              </a: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～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3</a:t>
              </a: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月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312080" y="5440320"/>
              <a:ext cx="1335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１８年度（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4</a:t>
              </a:r>
              <a:r>
                <a:rPr b="0" lang="zh-CN" sz="2000" spc="-1" strike="noStrike">
                  <a:solidFill>
                    <a:srgbClr val="000000"/>
                  </a:solidFill>
                  <a:latin typeface="ＭＳ Ｐゴシック"/>
                </a:rPr>
                <a:t>月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3151080" y="3755520"/>
              <a:ext cx="1330560" cy="84636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V="1">
              <a:off x="3151080" y="2990880"/>
              <a:ext cx="1330560" cy="106992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3151080" y="2630160"/>
              <a:ext cx="1330560" cy="103500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3151080" y="2572920"/>
              <a:ext cx="1330560" cy="104796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916360" y="2924280"/>
              <a:ext cx="79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59280" y="2492280"/>
              <a:ext cx="50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14880" y="2500560"/>
              <a:ext cx="485280" cy="21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rebuchet MS"/>
                </a:rPr>
                <a:t>売り上げ枚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335600" y="1510200"/>
              <a:ext cx="48528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rebuchet MS"/>
                </a:rPr>
                <a:t>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4125240" y="1774080"/>
            <a:ext cx="1715760" cy="561600"/>
          </a:xfrm>
          <a:prstGeom prst="flowChartAlternateProcess">
            <a:avLst/>
          </a:prstGeom>
          <a:solidFill>
            <a:srgbClr val="ff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計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878</a:t>
            </a: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rot="19448400">
            <a:off x="3346560" y="2565000"/>
            <a:ext cx="1081080" cy="36036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1979640" y="2924280"/>
            <a:ext cx="1368360" cy="407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150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7F156-A2B6-4A0B-BC9F-75893213C19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1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9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3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/>
          <p:nvPr/>
        </p:nvSpPr>
        <p:spPr>
          <a:xfrm>
            <a:off x="539640" y="5445000"/>
            <a:ext cx="6553440" cy="432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539640" y="5013360"/>
            <a:ext cx="6553440" cy="431640"/>
          </a:xfrm>
          <a:prstGeom prst="rect">
            <a:avLst/>
          </a:prstGeom>
          <a:solidFill>
            <a:srgbClr val="ffe5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5219640" y="3716280"/>
            <a:ext cx="2808360" cy="432000"/>
          </a:xfrm>
          <a:prstGeom prst="rect">
            <a:avLst/>
          </a:prstGeom>
          <a:solidFill>
            <a:srgbClr val="ffe5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1116000" y="4221000"/>
            <a:ext cx="4535640" cy="432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需要予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6840" y="3060720"/>
            <a:ext cx="843588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年度予測購入者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教職員固定層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生再購入者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年度学生新規購入者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購入者数＝前年度購入者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ピート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新規購入者＝今年度購入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購入者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783520" y="1773360"/>
            <a:ext cx="370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月度の購入者と、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年度の購入者から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再購入率を求め、そこから需要予測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DE8BF-69F2-484E-BD71-9E44CE10B5C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需要予測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3" name=""/>
          <p:cNvGraphicFramePr/>
          <p:nvPr/>
        </p:nvGraphicFramePr>
        <p:xfrm>
          <a:off x="611280" y="1052640"/>
          <a:ext cx="7956360" cy="5378400"/>
        </p:xfrm>
        <a:graphic>
          <a:graphicData uri="http://schemas.openxmlformats.org/drawingml/2006/table">
            <a:tbl>
              <a:tblPr/>
              <a:tblGrid>
                <a:gridCol w="1012680"/>
                <a:gridCol w="1079640"/>
                <a:gridCol w="1284120"/>
                <a:gridCol w="1127160"/>
                <a:gridCol w="885960"/>
                <a:gridCol w="1081080"/>
                <a:gridCol w="1485720"/>
              </a:tblGrid>
              <a:tr h="383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5</a:t>
                      </a: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6</a:t>
                      </a: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学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購入者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再購入者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リピート率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学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購入者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新規購入者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学群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83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83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学群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6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6.8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学群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8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学群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8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9.3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学群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学群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6.3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学群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学群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.4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院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9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9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院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0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3.7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院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9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院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5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.1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院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院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3.6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院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院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2.8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院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院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9.1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2FA08-7D2F-4FFB-B062-C41BE803434C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/>
          <p:nvPr/>
        </p:nvSpPr>
        <p:spPr>
          <a:xfrm>
            <a:off x="108000" y="1236600"/>
            <a:ext cx="7993080" cy="5145120"/>
          </a:xfrm>
          <a:prstGeom prst="roundRect">
            <a:avLst>
              <a:gd name="adj" fmla="val 4829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93840" y="2058840"/>
            <a:ext cx="3241440" cy="1944720"/>
          </a:xfrm>
          <a:prstGeom prst="roundRect">
            <a:avLst>
              <a:gd name="adj" fmla="val 16667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932360" y="1557360"/>
            <a:ext cx="2808360" cy="1727280"/>
          </a:xfrm>
          <a:prstGeom prst="roundRect">
            <a:avLst>
              <a:gd name="adj" fmla="val 10111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5796000" y="1341360"/>
            <a:ext cx="1008000" cy="503280"/>
          </a:xfrm>
          <a:prstGeom prst="roundRect">
            <a:avLst>
              <a:gd name="adj" fmla="val 16667"/>
            </a:avLst>
          </a:prstGeom>
          <a:solidFill>
            <a:srgbClr val="ff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利用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4932360" y="3692520"/>
            <a:ext cx="2879640" cy="2511360"/>
          </a:xfrm>
          <a:prstGeom prst="roundRect">
            <a:avLst>
              <a:gd name="adj" fmla="val 6319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5292720" y="3500280"/>
            <a:ext cx="2158920" cy="433440"/>
          </a:xfrm>
          <a:prstGeom prst="roundRect">
            <a:avLst>
              <a:gd name="adj" fmla="val 16667"/>
            </a:avLst>
          </a:prstGeom>
          <a:solidFill>
            <a:srgbClr val="ff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大学・関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076720" y="1916280"/>
            <a:ext cx="2521080" cy="57600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交通行動の変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5076720" y="2638440"/>
            <a:ext cx="2519640" cy="50328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満足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538200" y="2347920"/>
            <a:ext cx="2959200" cy="61740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乗り込み調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538200" y="3067200"/>
            <a:ext cx="2960640" cy="58248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アンケート調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11280" y="5373720"/>
            <a:ext cx="2879640" cy="5763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ヒアリング調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611280" y="4653000"/>
            <a:ext cx="2879640" cy="5763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パス原票集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3995640" y="2637000"/>
            <a:ext cx="576360" cy="2303280"/>
          </a:xfrm>
          <a:prstGeom prst="rightArrow">
            <a:avLst>
              <a:gd name="adj1" fmla="val 47481"/>
              <a:gd name="adj2" fmla="val 54269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971640" y="1052640"/>
            <a:ext cx="2449440" cy="503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事後調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900000" y="3859200"/>
            <a:ext cx="2232000" cy="431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04</a:t>
            </a: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・’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06</a:t>
            </a: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比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324000" y="351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rebuchet MS"/>
              </a:rPr>
              <a:t>調査の概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8388360" y="2637000"/>
            <a:ext cx="503280" cy="2304720"/>
          </a:xfrm>
          <a:prstGeom prst="rightArrow">
            <a:avLst>
              <a:gd name="adj1" fmla="val 46565"/>
              <a:gd name="adj2" fmla="val 49213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5148360" y="4149720"/>
            <a:ext cx="2519280" cy="50328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乗客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5148360" y="4870440"/>
            <a:ext cx="2519280" cy="50328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排出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5148360" y="5516640"/>
            <a:ext cx="2519280" cy="50328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コス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CDF8-6461-4EC1-A095-86D1F84A3889}" type="slidenum">
              <a:t>57</a:t>
            </a:fld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研究の目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1557360"/>
            <a:ext cx="505080" cy="4680000"/>
          </a:xfrm>
          <a:prstGeom prst="flowChartAlternateProcess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旧学内バス存続の危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6720" y="1628640"/>
            <a:ext cx="503280" cy="4680000"/>
          </a:xfrm>
          <a:prstGeom prst="flowChartAlternateProcess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新学内交通システム導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9800" y="1628640"/>
            <a:ext cx="503280" cy="468000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事後評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62200" y="1557360"/>
            <a:ext cx="2305080" cy="4896000"/>
          </a:xfrm>
          <a:custGeom>
            <a:avLst/>
            <a:gdLst>
              <a:gd name="textAreaLeft" fmla="*/ 38880 w 2305080"/>
              <a:gd name="textAreaRight" fmla="*/ 2266200 w 2305080"/>
              <a:gd name="textAreaTop" fmla="*/ 38880 h 4896000"/>
              <a:gd name="textAreaBottom" fmla="*/ 4857120 h 4896000"/>
            </a:gdLst>
            <a:ahLst/>
            <a:rect l="textAreaLeft" t="textAreaTop" r="textAreaRight" b="textAreaBottom"/>
            <a:pathLst>
              <a:path w="21600" h="45875">
                <a:moveTo>
                  <a:pt x="1244" y="0"/>
                </a:moveTo>
                <a:arcTo wR="1244" hR="1244" stAng="16200000" swAng="-5400000"/>
                <a:lnTo>
                  <a:pt x="0" y="44631"/>
                </a:lnTo>
                <a:arcTo wR="1244" hR="1244" stAng="10800000" swAng="-5400000"/>
                <a:lnTo>
                  <a:pt x="20356" y="45875"/>
                </a:lnTo>
                <a:arcTo wR="1244" hR="1244" stAng="5400000" swAng="-5400000"/>
                <a:lnTo>
                  <a:pt x="21600" y="1244"/>
                </a:lnTo>
                <a:arcTo wR="1244" hR="1244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74920" y="1844640"/>
            <a:ext cx="574560" cy="324000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事前調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14560" y="1628640"/>
            <a:ext cx="1008000" cy="4680000"/>
          </a:xfrm>
          <a:custGeom>
            <a:avLst/>
            <a:gdLst>
              <a:gd name="textAreaLeft" fmla="*/ 35640 w 1008000"/>
              <a:gd name="textAreaRight" fmla="*/ 972360 w 1008000"/>
              <a:gd name="textAreaTop" fmla="*/ 35640 h 4680000"/>
              <a:gd name="textAreaBottom" fmla="*/ 4644360 h 4680000"/>
            </a:gdLst>
            <a:ahLst/>
            <a:rect l="textAreaLeft" t="textAreaTop" r="textAreaRight" b="textAreaBottom"/>
            <a:pathLst>
              <a:path w="21600" h="100258">
                <a:moveTo>
                  <a:pt x="2612" y="0"/>
                </a:moveTo>
                <a:arcTo wR="2612" hR="2612" stAng="16200000" swAng="-5400000"/>
                <a:lnTo>
                  <a:pt x="0" y="97646"/>
                </a:lnTo>
                <a:arcTo wR="2612" hR="2612" stAng="10800000" swAng="-5400000"/>
                <a:lnTo>
                  <a:pt x="18988" y="100258"/>
                </a:lnTo>
                <a:arcTo wR="2612" hR="2612" stAng="5400000" swAng="-5400000"/>
                <a:lnTo>
                  <a:pt x="21600" y="2612"/>
                </a:lnTo>
                <a:arcTo wR="2612" hR="2612" stAng="0" swAng="-5400000"/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良聡範（２００５）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筑波大学第三学群社会工学類卒業論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2560" y="1628640"/>
            <a:ext cx="720720" cy="4680000"/>
          </a:xfrm>
          <a:custGeom>
            <a:avLst/>
            <a:gdLst>
              <a:gd name="textAreaLeft" fmla="*/ 25200 w 720720"/>
              <a:gd name="textAreaRight" fmla="*/ 695520 w 720720"/>
              <a:gd name="textAreaTop" fmla="*/ 25200 h 4680000"/>
              <a:gd name="textAreaBottom" fmla="*/ 4654800 h 4680000"/>
            </a:gdLst>
            <a:ahLst/>
            <a:rect l="textAreaLeft" t="textAreaTop" r="textAreaRight" b="textAreaBottom"/>
            <a:pathLst>
              <a:path w="21600" h="140200">
                <a:moveTo>
                  <a:pt x="2612" y="0"/>
                </a:moveTo>
                <a:arcTo wR="2612" hR="2612" stAng="16200000" swAng="-5400000"/>
                <a:lnTo>
                  <a:pt x="0" y="137588"/>
                </a:lnTo>
                <a:arcTo wR="2612" hR="2612" stAng="10800000" swAng="-5400000"/>
                <a:lnTo>
                  <a:pt x="18988" y="140200"/>
                </a:lnTo>
                <a:arcTo wR="2612" hR="2612" stAng="5400000" swAng="-5400000"/>
                <a:lnTo>
                  <a:pt x="21600" y="2612"/>
                </a:lnTo>
                <a:arcTo wR="2612" hR="2612" stAng="0" swAng="-5400000"/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００４年度　都市計画実習交通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284640"/>
            <a:ext cx="576360" cy="1224000"/>
          </a:xfrm>
          <a:prstGeom prst="rightArrow">
            <a:avLst>
              <a:gd name="adj1" fmla="val 49935"/>
              <a:gd name="adj2" fmla="val 53306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3357720"/>
            <a:ext cx="792000" cy="1223640"/>
          </a:xfrm>
          <a:prstGeom prst="rightArrow">
            <a:avLst>
              <a:gd name="adj1" fmla="val 49935"/>
              <a:gd name="adj2" fmla="val 53306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3357720"/>
            <a:ext cx="792000" cy="1223640"/>
          </a:xfrm>
          <a:prstGeom prst="rightArrow">
            <a:avLst>
              <a:gd name="adj1" fmla="val 49935"/>
              <a:gd name="adj2" fmla="val 53306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1640" y="3357720"/>
            <a:ext cx="792360" cy="1223640"/>
          </a:xfrm>
          <a:prstGeom prst="rightArrow">
            <a:avLst>
              <a:gd name="adj1" fmla="val 49935"/>
              <a:gd name="adj2" fmla="val 53306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2720" y="1628640"/>
            <a:ext cx="503280" cy="4680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システムは成功か否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6D59E-D862-446A-BC7B-6D35209F1A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調査の内容につい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55800" y="5904000"/>
            <a:ext cx="6685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32000" y="4869000"/>
            <a:ext cx="611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484280"/>
            <a:ext cx="8496000" cy="936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16542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調査内容および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166212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調査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522936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616200" y="1484280"/>
            <a:ext cx="0" cy="46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295280" y="1484280"/>
            <a:ext cx="23760" cy="46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3357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421000"/>
            <a:ext cx="8496000" cy="9367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7640" y="2492280"/>
            <a:ext cx="1684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パスカー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原票集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9960" y="2494080"/>
            <a:ext cx="76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17800" y="264636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申請書原票（学生・教職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3357720"/>
            <a:ext cx="8496000" cy="93636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97120" y="35370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バス利用者に対する聞き取り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4292640"/>
            <a:ext cx="8496000" cy="9367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63520" y="4335480"/>
            <a:ext cx="260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アンケート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6680" y="4352760"/>
            <a:ext cx="7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80000" y="43354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社会工学類関連学生および教職員に対するアンケ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5229360"/>
            <a:ext cx="8496000" cy="93636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5270400"/>
            <a:ext cx="22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ヒアリング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5229360"/>
            <a:ext cx="76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5445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関東鉄道および筑波大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635280" y="1484280"/>
            <a:ext cx="0" cy="46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314360" y="1484280"/>
            <a:ext cx="23760" cy="46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1680" y="3429000"/>
            <a:ext cx="1913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乗り込み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3720" y="3417840"/>
            <a:ext cx="76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3BCC1-7E1D-4858-A1C3-026E1CF041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ff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ff"/>
                                      </p:to>
                                    </p:animClr>
                                    <p:set>
                                      <p:cBhvr>
                                        <p:cTn id="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ff"/>
                                      </p:to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08000" y="1236600"/>
            <a:ext cx="7993080" cy="5145120"/>
          </a:xfrm>
          <a:prstGeom prst="roundRect">
            <a:avLst>
              <a:gd name="adj" fmla="val 4829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3840" y="2058840"/>
            <a:ext cx="3241440" cy="1944720"/>
          </a:xfrm>
          <a:prstGeom prst="roundRect">
            <a:avLst>
              <a:gd name="adj" fmla="val 16667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8200" y="2347920"/>
            <a:ext cx="2959200" cy="61740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乗り込み調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8200" y="3067200"/>
            <a:ext cx="2960640" cy="58248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アンケート調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5373720"/>
            <a:ext cx="2879640" cy="5763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ヒアリング調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4653000"/>
            <a:ext cx="2879640" cy="5763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パス原票集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95640" y="2637000"/>
            <a:ext cx="576360" cy="2303280"/>
          </a:xfrm>
          <a:prstGeom prst="rightArrow">
            <a:avLst>
              <a:gd name="adj1" fmla="val 47481"/>
              <a:gd name="adj2" fmla="val 54269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1052640"/>
            <a:ext cx="2449440" cy="503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事後調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3859200"/>
            <a:ext cx="2232000" cy="431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04</a:t>
            </a: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・’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06</a:t>
            </a: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比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51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rebuchet MS"/>
              </a:rPr>
              <a:t>調査の概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8360" y="2637000"/>
            <a:ext cx="503280" cy="2304720"/>
          </a:xfrm>
          <a:prstGeom prst="rightArrow">
            <a:avLst>
              <a:gd name="adj1" fmla="val 46565"/>
              <a:gd name="adj2" fmla="val 49213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932360" y="1341360"/>
            <a:ext cx="2879640" cy="4862520"/>
            <a:chOff x="4932360" y="1341360"/>
            <a:chExt cx="2879640" cy="4862520"/>
          </a:xfrm>
        </p:grpSpPr>
        <p:grpSp>
          <p:nvGrpSpPr>
            <p:cNvPr id="213" name=""/>
            <p:cNvGrpSpPr/>
            <p:nvPr/>
          </p:nvGrpSpPr>
          <p:grpSpPr>
            <a:xfrm>
              <a:off x="4932360" y="1341360"/>
              <a:ext cx="2808360" cy="1943280"/>
              <a:chOff x="4932360" y="1341360"/>
              <a:chExt cx="2808360" cy="1943280"/>
            </a:xfrm>
          </p:grpSpPr>
          <p:sp>
            <p:nvSpPr>
              <p:cNvPr id="214" name=""/>
              <p:cNvSpPr/>
              <p:nvPr/>
            </p:nvSpPr>
            <p:spPr>
              <a:xfrm>
                <a:off x="4932360" y="1557360"/>
                <a:ext cx="2808360" cy="1727280"/>
              </a:xfrm>
              <a:prstGeom prst="roundRect">
                <a:avLst>
                  <a:gd name="adj" fmla="val 10111"/>
                </a:avLst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96000" y="1341360"/>
                <a:ext cx="1008000" cy="503280"/>
              </a:xfrm>
              <a:prstGeom prst="roundRect">
                <a:avLst>
                  <a:gd name="adj" fmla="val 16667"/>
                </a:avLst>
              </a:prstGeom>
              <a:solidFill>
                <a:srgbClr val="ffd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rebuchet MS"/>
                  </a:rPr>
                  <a:t>利用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76720" y="1916280"/>
                <a:ext cx="25210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e1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rebuchet MS"/>
                  </a:rPr>
                  <a:t>交通行動の変化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76720" y="2638440"/>
                <a:ext cx="2519640" cy="503280"/>
              </a:xfrm>
              <a:prstGeom prst="roundRect">
                <a:avLst>
                  <a:gd name="adj" fmla="val 16667"/>
                </a:avLst>
              </a:prstGeom>
              <a:solidFill>
                <a:srgbClr val="e1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rebuchet MS"/>
                  </a:rPr>
                  <a:t>満足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932360" y="3500280"/>
              <a:ext cx="2879640" cy="2703600"/>
              <a:chOff x="4932360" y="3500280"/>
              <a:chExt cx="2879640" cy="2703600"/>
            </a:xfrm>
          </p:grpSpPr>
          <p:sp>
            <p:nvSpPr>
              <p:cNvPr id="219" name=""/>
              <p:cNvSpPr/>
              <p:nvPr/>
            </p:nvSpPr>
            <p:spPr>
              <a:xfrm>
                <a:off x="4932360" y="3692520"/>
                <a:ext cx="2879640" cy="2511360"/>
              </a:xfrm>
              <a:prstGeom prst="roundRect">
                <a:avLst>
                  <a:gd name="adj" fmla="val 6319"/>
                </a:avLst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92720" y="3500280"/>
                <a:ext cx="2158920" cy="433440"/>
              </a:xfrm>
              <a:prstGeom prst="roundRect">
                <a:avLst>
                  <a:gd name="adj" fmla="val 16667"/>
                </a:avLst>
              </a:prstGeom>
              <a:solidFill>
                <a:srgbClr val="ffd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rebuchet MS"/>
                  </a:rPr>
                  <a:t>大学・関鉄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48360" y="4149720"/>
                <a:ext cx="2519280" cy="503280"/>
              </a:xfrm>
              <a:prstGeom prst="roundRect">
                <a:avLst>
                  <a:gd name="adj" fmla="val 16667"/>
                </a:avLst>
              </a:prstGeom>
              <a:solidFill>
                <a:srgbClr val="e1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rebuchet MS"/>
                  </a:rPr>
                  <a:t>乗客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48360" y="4870440"/>
                <a:ext cx="2519280" cy="503280"/>
              </a:xfrm>
              <a:prstGeom prst="roundRect">
                <a:avLst>
                  <a:gd name="adj" fmla="val 16667"/>
                </a:avLst>
              </a:prstGeom>
              <a:solidFill>
                <a:srgbClr val="e1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rebuchet MS"/>
                  </a:rPr>
                  <a:t>C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rebuchet MS"/>
                  </a:rPr>
                  <a:t>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rebuchet MS"/>
                  </a:rPr>
                  <a:t>排出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48360" y="5516640"/>
                <a:ext cx="2519280" cy="503280"/>
              </a:xfrm>
              <a:prstGeom prst="roundRect">
                <a:avLst>
                  <a:gd name="adj" fmla="val 16667"/>
                </a:avLst>
              </a:prstGeom>
              <a:solidFill>
                <a:srgbClr val="e1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rebuchet MS"/>
                  </a:rPr>
                  <a:t>コスト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7252-6436-4D8C-911F-A49FC8C2D330}" type="slidenum">
              <a:t>8</a:t>
            </a:fld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事後評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28000" y="1380960"/>
            <a:ext cx="1008000" cy="50007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5000760"/>
              <a:gd name="textAreaBottom" fmla="*/ 4951800 h 5000760"/>
            </a:gdLst>
            <a:ahLst/>
            <a:rect l="textAreaLeft" t="textAreaTop" r="textAreaRight" b="textAreaBottom"/>
            <a:pathLst>
              <a:path w="21600" h="107129">
                <a:moveTo>
                  <a:pt x="3600" y="0"/>
                </a:moveTo>
                <a:arcTo wR="3600" hR="3600" stAng="16200000" swAng="-5400000"/>
                <a:lnTo>
                  <a:pt x="0" y="103529"/>
                </a:lnTo>
                <a:arcTo wR="3600" hR="3600" stAng="10800000" swAng="-5400000"/>
                <a:lnTo>
                  <a:pt x="18000" y="1071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さらなる新システムの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　　　　　　　　　　発展への提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97720" y="2820960"/>
            <a:ext cx="504720" cy="504720"/>
          </a:xfrm>
          <a:prstGeom prst="rightArrow">
            <a:avLst>
              <a:gd name="adj1" fmla="val 53046"/>
              <a:gd name="adj2" fmla="val 47319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240" y="3468600"/>
            <a:ext cx="431640" cy="792360"/>
          </a:xfrm>
          <a:prstGeom prst="rightArrow">
            <a:avLst>
              <a:gd name="adj1" fmla="val 51472"/>
              <a:gd name="adj2" fmla="val 48486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5720" y="1770120"/>
            <a:ext cx="720720" cy="4181400"/>
          </a:xfrm>
          <a:prstGeom prst="flowChartAlternateProcess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システム導入による効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2820960"/>
            <a:ext cx="936720" cy="1871640"/>
          </a:xfrm>
          <a:custGeom>
            <a:avLst/>
            <a:gdLst/>
            <a:ahLst/>
            <a:rect l="l" t="t" r="r" b="b"/>
            <a:pathLst>
              <a:path w="1158" h="1179">
                <a:moveTo>
                  <a:pt x="0" y="589"/>
                </a:moveTo>
                <a:lnTo>
                  <a:pt x="408" y="589"/>
                </a:lnTo>
                <a:lnTo>
                  <a:pt x="408" y="136"/>
                </a:lnTo>
                <a:lnTo>
                  <a:pt x="952" y="136"/>
                </a:lnTo>
                <a:lnTo>
                  <a:pt x="952" y="0"/>
                </a:lnTo>
                <a:lnTo>
                  <a:pt x="1149" y="197"/>
                </a:lnTo>
                <a:lnTo>
                  <a:pt x="952" y="408"/>
                </a:lnTo>
                <a:lnTo>
                  <a:pt x="952" y="226"/>
                </a:lnTo>
                <a:lnTo>
                  <a:pt x="544" y="226"/>
                </a:lnTo>
                <a:lnTo>
                  <a:pt x="544" y="952"/>
                </a:lnTo>
                <a:lnTo>
                  <a:pt x="998" y="952"/>
                </a:lnTo>
                <a:lnTo>
                  <a:pt x="998" y="816"/>
                </a:lnTo>
                <a:lnTo>
                  <a:pt x="1158" y="1003"/>
                </a:lnTo>
                <a:lnTo>
                  <a:pt x="998" y="1179"/>
                </a:lnTo>
                <a:lnTo>
                  <a:pt x="998" y="1088"/>
                </a:lnTo>
                <a:lnTo>
                  <a:pt x="408" y="1088"/>
                </a:lnTo>
                <a:lnTo>
                  <a:pt x="408" y="725"/>
                </a:lnTo>
                <a:lnTo>
                  <a:pt x="0" y="725"/>
                </a:lnTo>
                <a:lnTo>
                  <a:pt x="0" y="589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13080" y="1957320"/>
            <a:ext cx="4105440" cy="2016360"/>
          </a:xfrm>
          <a:prstGeom prst="roundRect">
            <a:avLst>
              <a:gd name="adj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rebuchet MS"/>
              </a:rPr>
              <a:t>システム導入は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rebuchet MS"/>
              </a:rPr>
              <a:t>成功か否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84720" y="4189320"/>
            <a:ext cx="3958920" cy="93528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rebuchet MS"/>
              </a:rPr>
              <a:t>改善策の提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97720" y="4397400"/>
            <a:ext cx="504720" cy="504720"/>
          </a:xfrm>
          <a:prstGeom prst="rightArrow">
            <a:avLst>
              <a:gd name="adj1" fmla="val 53046"/>
              <a:gd name="adj2" fmla="val 47319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12720" y="1768320"/>
            <a:ext cx="720720" cy="4181760"/>
          </a:xfrm>
          <a:prstGeom prst="flowChartAlternateProcess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rebuchet MS"/>
              </a:rPr>
              <a:t>三者視点からの評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4E89-2319-4279-A2F9-DF4254DD45BA}" type="slidenum">
              <a:t>9</a:t>
            </a:fld>
          </a:p>
        </p:txBody>
      </p:sp>
    </p:spTree>
  </p:cSld>
  <p:transition spd="med">
    <p:cover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9T14:19:57Z</dcterms:created>
  <dc:creator>宮坂　準</dc:creator>
  <dc:description/>
  <dc:language>en-US</dc:language>
  <cp:lastModifiedBy>uno40</cp:lastModifiedBy>
  <dcterms:modified xsi:type="dcterms:W3CDTF">2006-06-16T01:43:10Z</dcterms:modified>
  <cp:revision>96</cp:revision>
  <dc:subject/>
  <dc:title>新学内交通システムの 事後評価</dc:title>
</cp:coreProperties>
</file>