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4.jpeg" ContentType="image/jpeg"/>
  <Override PartName="/ppt/media/image25.jpeg" ContentType="image/jpeg"/>
  <Override PartName="/ppt/media/image28.wmf" ContentType="image/x-wmf"/>
  <Override PartName="/ppt/media/image5.wmf" ContentType="image/x-wmf"/>
  <Override PartName="/ppt/media/image30.wmf" ContentType="image/x-wmf"/>
  <Override PartName="/ppt/media/image6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31.wmf" ContentType="image/x-wmf"/>
  <Override PartName="/ppt/media/image3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media/image26.jpeg" ContentType="image/jpe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943-DC22-4150-8233-57439A284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78F-9E62-4E65-AEA6-89BBBBA034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760-7CEC-4479-8FEB-E4AA28B2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424-E6D2-42DB-9C23-DAB38E60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61D-5F7A-4604-9822-2B431879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F2D-C819-44C7-BA74-4EABEC1B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45CE-00A0-4C14-AE4D-B4F173A4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135-55D9-49FB-BD75-51EB203D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8A8D-1802-4BAE-9932-19540BA2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CCEB-79FA-46DF-9C89-2B63BCDC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9471-1E07-46E8-9BBB-C96F3F4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1A48-67B4-4A90-9621-76FF7D65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33AC-5D5C-4FB3-B3A4-9BE5E57F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3AA-F260-4764-BC9F-95CCD5C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5167-9235-4DB2-B511-944A68D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DA54-57E2-4EF6-902B-8B6FB67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F53-707C-4FAE-A1FA-A1079061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EEF-F074-4406-B585-4C7B3113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1577-14A9-4DE1-BEAF-57F666B6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6DA-C06F-495B-957D-AE91CFA6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4FC-1A61-4980-BF55-5CA96809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16F-AF13-4832-9593-E4463CC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B38-3AD5-4D7B-B53D-6B4FC9C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172-5FF1-4C7A-887B-33754A70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3A6-85BF-4903-9385-6EFC885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66F-8803-400C-B733-A9F2766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都市計画マスタープラン策定実習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BFD-83FF-4F9C-8D92-208D21DC983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都市計画マスタープラン策定実習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C56-AA14-4BDC-90F6-5596833AE42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2D8-679C-4C32-90F4-7869AD329A0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1412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テトラ土浦構想</a:t>
            </a:r>
            <a:br>
              <a:rPr sz="4600"/>
            </a:br>
            <a:endParaRPr b="0" lang="en-US" sz="4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4162320"/>
            <a:ext cx="5861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都市計画マスタープラン実習 第８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班長：木下幸明　副班長：林恵子 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渉外：鈴木碧衣　印刷：山室寛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：平井恵理　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TA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：大脇孝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2E8B-AB49-4E6E-8ED2-39BCD9601A1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CC8B-2964-4F56-8EBF-D16CAC8E706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交通システム　背景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88" name="Picture 5" descr="MCj0435480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841400" cy="1809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j04338950000[1]"/>
          <p:cNvPicPr/>
          <p:nvPr/>
        </p:nvPicPr>
        <p:blipFill>
          <a:blip r:embed="rId2"/>
          <a:stretch/>
        </p:blipFill>
        <p:spPr>
          <a:xfrm>
            <a:off x="6516720" y="1341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Cj04179960000[1]"/>
          <p:cNvPicPr/>
          <p:nvPr/>
        </p:nvPicPr>
        <p:blipFill>
          <a:blip r:embed="rId3"/>
          <a:stretch/>
        </p:blipFill>
        <p:spPr>
          <a:xfrm>
            <a:off x="3492360" y="1844640"/>
            <a:ext cx="1764000" cy="108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8"/>
          <p:cNvSpPr/>
          <p:nvPr/>
        </p:nvSpPr>
        <p:spPr>
          <a:xfrm>
            <a:off x="3419640" y="2997360"/>
            <a:ext cx="208728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ＪＲ常磐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300720" y="2997360"/>
            <a:ext cx="20876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乗合タクシ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468360" y="2997360"/>
            <a:ext cx="20876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路線バ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843280" y="3789360"/>
            <a:ext cx="331308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714240" y="4869000"/>
            <a:ext cx="7529760" cy="1152360"/>
          </a:xfrm>
          <a:prstGeom prst="bracketPair">
            <a:avLst>
              <a:gd name="adj" fmla="val 17129"/>
            </a:avLst>
          </a:prstGeom>
          <a:noFill/>
          <a:ln cap="sq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785880" y="4797360"/>
            <a:ext cx="726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様な公共交通が存在しているが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　地域間での交通利便性の格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見られ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特に鉄道の通っていない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新治地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不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26F0-77F1-4E44-B206-A5E00A73678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交通システム　背景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99" name="Picture 5" descr="MCj04163380000[1]"/>
          <p:cNvPicPr/>
          <p:nvPr/>
        </p:nvPicPr>
        <p:blipFill>
          <a:blip r:embed="rId1"/>
          <a:stretch/>
        </p:blipFill>
        <p:spPr>
          <a:xfrm>
            <a:off x="2124000" y="1197000"/>
            <a:ext cx="1293840" cy="171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MCj04163300000[1]"/>
          <p:cNvPicPr/>
          <p:nvPr/>
        </p:nvPicPr>
        <p:blipFill>
          <a:blip r:embed="rId2"/>
          <a:stretch/>
        </p:blipFill>
        <p:spPr>
          <a:xfrm>
            <a:off x="539640" y="1268280"/>
            <a:ext cx="1446480" cy="158112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5"/>
          <p:cNvGrpSpPr/>
          <p:nvPr/>
        </p:nvGrpSpPr>
        <p:grpSpPr>
          <a:xfrm>
            <a:off x="826920" y="4149360"/>
            <a:ext cx="1944720" cy="1973520"/>
            <a:chOff x="826920" y="4149360"/>
            <a:chExt cx="1944720" cy="1973520"/>
          </a:xfrm>
        </p:grpSpPr>
        <p:pic>
          <p:nvPicPr>
            <p:cNvPr id="202" name="Picture 7" descr="MCj04348180000[1]"/>
            <p:cNvPicPr/>
            <p:nvPr/>
          </p:nvPicPr>
          <p:blipFill>
            <a:blip r:embed="rId3"/>
            <a:stretch/>
          </p:blipFill>
          <p:spPr>
            <a:xfrm>
              <a:off x="900000" y="4294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Line 13"/>
            <p:cNvSpPr/>
            <p:nvPr/>
          </p:nvSpPr>
          <p:spPr>
            <a:xfrm flipV="1">
              <a:off x="826920" y="4149360"/>
              <a:ext cx="1873440" cy="1871640"/>
            </a:xfrm>
            <a:prstGeom prst="line">
              <a:avLst/>
            </a:prstGeom>
            <a:ln cap="sq"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 flipH="1" flipV="1">
              <a:off x="971640" y="4293720"/>
              <a:ext cx="1800000" cy="1800360"/>
            </a:xfrm>
            <a:prstGeom prst="line">
              <a:avLst/>
            </a:prstGeom>
            <a:ln cap="sq"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16"/>
          <p:cNvSpPr/>
          <p:nvPr/>
        </p:nvSpPr>
        <p:spPr>
          <a:xfrm>
            <a:off x="3708360" y="1341360"/>
            <a:ext cx="4967280" cy="1511280"/>
          </a:xfrm>
          <a:prstGeom prst="flowChartAlternateProcess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少子高齢社会によっ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高齢者の人口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7"/>
          <p:cNvSpPr/>
          <p:nvPr/>
        </p:nvSpPr>
        <p:spPr>
          <a:xfrm rot="16200000">
            <a:off x="7392240" y="2120040"/>
            <a:ext cx="604800" cy="486000"/>
          </a:xfrm>
          <a:custGeom>
            <a:avLst/>
            <a:gdLst>
              <a:gd name="textAreaLeft" fmla="*/ 94320 w 604800"/>
              <a:gd name="textAreaRight" fmla="*/ 529200 w 604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3708360" y="4437000"/>
            <a:ext cx="4967280" cy="1511280"/>
          </a:xfrm>
          <a:prstGeom prst="flowChartAlternateProcess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車運転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困難な人々の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9"/>
          <p:cNvSpPr/>
          <p:nvPr/>
        </p:nvSpPr>
        <p:spPr>
          <a:xfrm rot="16200000">
            <a:off x="7392240" y="5144040"/>
            <a:ext cx="604800" cy="486000"/>
          </a:xfrm>
          <a:custGeom>
            <a:avLst/>
            <a:gdLst>
              <a:gd name="textAreaLeft" fmla="*/ 94320 w 604800"/>
              <a:gd name="textAreaRight" fmla="*/ 529200 w 604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2700360" y="3213000"/>
            <a:ext cx="338436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スライド番号プレースホルダ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407C-7F3A-4F7E-895A-802E55C7ED8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BEA5-3139-4C6D-AC9C-4EC1323C8596}" type="slidenum">
              <a:rPr b="0" lang="en-US" sz="1200" spc="-1" strike="noStrike">
                <a:solidFill>
                  <a:srgbClr val="000000"/>
                </a:solidFill>
                <a:latin typeface="HG丸ｺﾞｼｯｸM-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交通システム　提案に向け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5840" y="1341360"/>
            <a:ext cx="83390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現在計画されている道路が全部開通しても、道路の混雑度の劇的変化は見られな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混雑度現状3"/>
          <p:cNvPicPr/>
          <p:nvPr/>
        </p:nvPicPr>
        <p:blipFill>
          <a:blip r:embed="rId1"/>
          <a:stretch/>
        </p:blipFill>
        <p:spPr>
          <a:xfrm>
            <a:off x="1835280" y="2421000"/>
            <a:ext cx="2846160" cy="2012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混雑度整備後3"/>
          <p:cNvPicPr/>
          <p:nvPr/>
        </p:nvPicPr>
        <p:blipFill>
          <a:blip r:embed="rId2"/>
          <a:stretch/>
        </p:blipFill>
        <p:spPr>
          <a:xfrm>
            <a:off x="4643280" y="2492280"/>
            <a:ext cx="2740320" cy="19400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0"/>
          <p:cNvGrpSpPr/>
          <p:nvPr/>
        </p:nvGrpSpPr>
        <p:grpSpPr>
          <a:xfrm>
            <a:off x="324000" y="4797360"/>
            <a:ext cx="8424720" cy="1081080"/>
            <a:chOff x="324000" y="4797360"/>
            <a:chExt cx="8424720" cy="1081080"/>
          </a:xfrm>
        </p:grpSpPr>
        <p:sp>
          <p:nvSpPr>
            <p:cNvPr id="217" name="Rectangle 6"/>
            <p:cNvSpPr/>
            <p:nvPr/>
          </p:nvSpPr>
          <p:spPr>
            <a:xfrm>
              <a:off x="324000" y="4797360"/>
              <a:ext cx="8389800" cy="10810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468360" y="4869000"/>
              <a:ext cx="8280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HG丸ｺﾞｼｯｸM-PRO"/>
                </a:rPr>
                <a:t>新たに道路を敷くよりも、利用しやすい公共交通を整備し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HG丸ｺﾞｼｯｸM-PRO"/>
                </a:rPr>
                <a:t>自動車利用を減少させる方が効果的なのではない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A59A-89B0-4A42-AA59-4D219707C02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交通システム　背景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以上の点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2565360"/>
            <a:ext cx="1079280" cy="792360"/>
          </a:xfrm>
          <a:prstGeom prst="rightArrow">
            <a:avLst>
              <a:gd name="adj1" fmla="val 50000"/>
              <a:gd name="adj2" fmla="val 34053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971640" y="3789360"/>
            <a:ext cx="1079280" cy="792000"/>
          </a:xfrm>
          <a:prstGeom prst="rightArrow">
            <a:avLst>
              <a:gd name="adj1" fmla="val 50000"/>
              <a:gd name="adj2" fmla="val 34068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2195640" y="2637000"/>
            <a:ext cx="6048360" cy="649080"/>
          </a:xfrm>
          <a:prstGeom prst="flowChartAlternateProcess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地域間の交通利便性格差の解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2195640" y="3716280"/>
            <a:ext cx="6048360" cy="936720"/>
          </a:xfrm>
          <a:prstGeom prst="flowChartAlternateProcess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土浦市の中心市街地に行き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交通環境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611280" y="508464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必要と考え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275-4175-4426-9C89-1C7DCDDD904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2556000" y="1197000"/>
            <a:ext cx="6588000" cy="2808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交通システム　提案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56000" y="1214280"/>
            <a:ext cx="64087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  <a:ea typeface="HG丸ｺﾞｼｯｸM-PRO"/>
              </a:rPr>
              <a:t>◇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保有している路線バスの一部を小型化（ジャンボタクシーや小型バスのような車両に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また、車両内の新たな形も検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  <a:ea typeface="HG丸ｺﾞｼｯｸM-PRO"/>
              </a:rPr>
              <a:t>◇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バスの保有台数を増や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0"/>
          <p:cNvGrpSpPr/>
          <p:nvPr/>
        </p:nvGrpSpPr>
        <p:grpSpPr>
          <a:xfrm>
            <a:off x="468360" y="3789360"/>
            <a:ext cx="2232000" cy="2592360"/>
            <a:chOff x="468360" y="3789360"/>
            <a:chExt cx="2232000" cy="2592360"/>
          </a:xfrm>
        </p:grpSpPr>
        <p:sp>
          <p:nvSpPr>
            <p:cNvPr id="232" name="Rectangle 2"/>
            <p:cNvSpPr/>
            <p:nvPr/>
          </p:nvSpPr>
          <p:spPr>
            <a:xfrm>
              <a:off x="468360" y="4472280"/>
              <a:ext cx="2232000" cy="17056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5" descr="MCj04348190000[1]"/>
            <p:cNvPicPr/>
            <p:nvPr/>
          </p:nvPicPr>
          <p:blipFill>
            <a:blip r:embed="rId1"/>
            <a:stretch/>
          </p:blipFill>
          <p:spPr>
            <a:xfrm>
              <a:off x="735840" y="3789360"/>
              <a:ext cx="1696320" cy="25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6"/>
          <p:cNvGrpSpPr/>
          <p:nvPr/>
        </p:nvGrpSpPr>
        <p:grpSpPr>
          <a:xfrm>
            <a:off x="3276720" y="4508640"/>
            <a:ext cx="1224000" cy="1368360"/>
            <a:chOff x="3276720" y="4508640"/>
            <a:chExt cx="1224000" cy="1368360"/>
          </a:xfrm>
        </p:grpSpPr>
        <p:sp>
          <p:nvSpPr>
            <p:cNvPr id="235" name="Rectangle 7"/>
            <p:cNvSpPr/>
            <p:nvPr/>
          </p:nvSpPr>
          <p:spPr>
            <a:xfrm>
              <a:off x="3276720" y="4919760"/>
              <a:ext cx="1224000" cy="85464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8" descr="MCj04348190000[1]"/>
            <p:cNvPicPr/>
            <p:nvPr/>
          </p:nvPicPr>
          <p:blipFill>
            <a:blip r:embed="rId2"/>
            <a:stretch/>
          </p:blipFill>
          <p:spPr>
            <a:xfrm>
              <a:off x="3423240" y="4508640"/>
              <a:ext cx="97992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AutoShape 10"/>
          <p:cNvSpPr/>
          <p:nvPr/>
        </p:nvSpPr>
        <p:spPr>
          <a:xfrm>
            <a:off x="0" y="3141720"/>
            <a:ext cx="2916360" cy="1295280"/>
          </a:xfrm>
          <a:prstGeom prst="cloudCallout">
            <a:avLst>
              <a:gd name="adj1" fmla="val 37263"/>
              <a:gd name="adj2" fmla="val 75000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小型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2771640" y="5300640"/>
            <a:ext cx="505080" cy="0"/>
          </a:xfrm>
          <a:prstGeom prst="line">
            <a:avLst/>
          </a:prstGeom>
          <a:ln cap="sq" w="127080">
            <a:solidFill>
              <a:srgbClr val="ff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3348000" y="3357720"/>
            <a:ext cx="3600360" cy="792000"/>
          </a:xfrm>
          <a:prstGeom prst="wedgeRoundRectCallout">
            <a:avLst>
              <a:gd name="adj1" fmla="val -33555"/>
              <a:gd name="adj2" fmla="val 145990"/>
              <a:gd name="adj3" fmla="val 16667"/>
            </a:avLst>
          </a:prstGeom>
          <a:solidFill>
            <a:srgbClr val="cc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8000"/>
                </a:solidFill>
                <a:latin typeface="HG丸ｺﾞｼｯｸM-PRO"/>
              </a:rPr>
              <a:t>バリアフリー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250920" y="1197000"/>
            <a:ext cx="2089080" cy="12952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具体案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4643280" y="5157720"/>
            <a:ext cx="433440" cy="0"/>
          </a:xfrm>
          <a:prstGeom prst="line">
            <a:avLst/>
          </a:prstGeom>
          <a:ln cap="sq"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4643280" y="5445000"/>
            <a:ext cx="433440" cy="0"/>
          </a:xfrm>
          <a:prstGeom prst="line">
            <a:avLst/>
          </a:prstGeom>
          <a:ln cap="sq"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4"/>
          <p:cNvSpPr/>
          <p:nvPr/>
        </p:nvSpPr>
        <p:spPr>
          <a:xfrm>
            <a:off x="6588000" y="4076640"/>
            <a:ext cx="1835280" cy="2089080"/>
          </a:xfrm>
          <a:prstGeom prst="upArrow">
            <a:avLst>
              <a:gd name="adj1" fmla="val 50000"/>
              <a:gd name="adj2" fmla="val 28457"/>
            </a:avLst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運行数</a:t>
            </a:r>
            <a:r>
              <a:rPr b="0" lang="ja-JP" sz="2800" spc="-1" strike="noStrike">
                <a:solidFill>
                  <a:srgbClr val="ff0000"/>
                </a:solidFill>
                <a:latin typeface="HG丸ｺﾞｼｯｸM-PRO"/>
              </a:rPr>
              <a:t>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5"/>
          <p:cNvSpPr/>
          <p:nvPr/>
        </p:nvSpPr>
        <p:spPr>
          <a:xfrm rot="10800000">
            <a:off x="5148000" y="4076280"/>
            <a:ext cx="1834920" cy="2089080"/>
          </a:xfrm>
          <a:prstGeom prst="upArrow">
            <a:avLst>
              <a:gd name="adj1" fmla="val 50000"/>
              <a:gd name="adj2" fmla="val 28463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座席数</a:t>
            </a:r>
            <a:r>
              <a:rPr b="0" lang="ja-JP" sz="2800" spc="-1" strike="noStrike">
                <a:solidFill>
                  <a:srgbClr val="0000ff"/>
                </a:solidFill>
                <a:latin typeface="HG丸ｺﾞｼｯｸM-PRO"/>
              </a:rPr>
              <a:t>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8C2-0A62-4FC8-B9B6-C4DD7B17879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交通システム　提案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3132000" y="1989000"/>
            <a:ext cx="2735280" cy="648000"/>
          </a:xfrm>
          <a:prstGeom prst="cloudCallout">
            <a:avLst>
              <a:gd name="adj1" fmla="val -20805"/>
              <a:gd name="adj2" fmla="val 97550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具体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2"/>
          <p:cNvGrpSpPr/>
          <p:nvPr/>
        </p:nvGrpSpPr>
        <p:grpSpPr>
          <a:xfrm>
            <a:off x="395280" y="1341360"/>
            <a:ext cx="2665440" cy="2376720"/>
            <a:chOff x="395280" y="1341360"/>
            <a:chExt cx="2665440" cy="2376720"/>
          </a:xfrm>
        </p:grpSpPr>
        <p:pic>
          <p:nvPicPr>
            <p:cNvPr id="249" name="Picture 26" descr="File?id=df29mvwk_201p7tzzggg_b"/>
            <p:cNvPicPr/>
            <p:nvPr/>
          </p:nvPicPr>
          <p:blipFill>
            <a:blip r:embed="rId1"/>
            <a:stretch/>
          </p:blipFill>
          <p:spPr>
            <a:xfrm>
              <a:off x="395280" y="1341360"/>
              <a:ext cx="2664000" cy="19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29"/>
            <p:cNvSpPr/>
            <p:nvPr/>
          </p:nvSpPr>
          <p:spPr>
            <a:xfrm>
              <a:off x="395280" y="3357720"/>
              <a:ext cx="2665440" cy="36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</a:rPr>
                <a:t>ジャンボタクシ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6012000" y="1341360"/>
            <a:ext cx="2665440" cy="2448000"/>
            <a:chOff x="6012000" y="1341360"/>
            <a:chExt cx="2665440" cy="2448000"/>
          </a:xfrm>
        </p:grpSpPr>
        <p:pic>
          <p:nvPicPr>
            <p:cNvPr id="252" name="Picture 27" descr="File?id=df29mvwk_202hhc9mngp_b"/>
            <p:cNvPicPr/>
            <p:nvPr/>
          </p:nvPicPr>
          <p:blipFill>
            <a:blip r:embed="rId2"/>
            <a:stretch/>
          </p:blipFill>
          <p:spPr>
            <a:xfrm>
              <a:off x="6012000" y="1341360"/>
              <a:ext cx="266544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AutoShape 31"/>
            <p:cNvSpPr/>
            <p:nvPr/>
          </p:nvSpPr>
          <p:spPr>
            <a:xfrm>
              <a:off x="6012000" y="3429000"/>
              <a:ext cx="2665440" cy="360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</a:rPr>
                <a:t>小型バ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34"/>
          <p:cNvSpPr/>
          <p:nvPr/>
        </p:nvSpPr>
        <p:spPr>
          <a:xfrm rot="10800000">
            <a:off x="3347640" y="2852640"/>
            <a:ext cx="2305080" cy="1728720"/>
          </a:xfrm>
          <a:custGeom>
            <a:avLst/>
            <a:gdLst>
              <a:gd name="textAreaLeft" fmla="*/ 230400 w 2305080"/>
              <a:gd name="textAreaRight" fmla="*/ 2074680 w 2305080"/>
              <a:gd name="textAreaTop" fmla="*/ 987840 h 1728720"/>
              <a:gd name="textAreaBottom" fmla="*/ 1481760 h 1728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5"/>
          <p:cNvSpPr/>
          <p:nvPr/>
        </p:nvSpPr>
        <p:spPr>
          <a:xfrm>
            <a:off x="3059280" y="1557360"/>
            <a:ext cx="769680" cy="503280"/>
          </a:xfrm>
          <a:custGeom>
            <a:avLst/>
            <a:gdLst>
              <a:gd name="textAreaLeft" fmla="*/ 0 w 769680"/>
              <a:gd name="textAreaRight" fmla="*/ 770040 w 7696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485" h="317">
                <a:moveTo>
                  <a:pt x="0" y="0"/>
                </a:moveTo>
                <a:cubicBezTo>
                  <a:pt x="166" y="18"/>
                  <a:pt x="333" y="37"/>
                  <a:pt x="409" y="90"/>
                </a:cubicBezTo>
                <a:cubicBezTo>
                  <a:pt x="485" y="143"/>
                  <a:pt x="447" y="279"/>
                  <a:pt x="454" y="317"/>
                </a:cubicBezTo>
              </a:path>
            </a:pathLst>
          </a:custGeom>
          <a:noFill/>
          <a:ln cap="sq" w="127080">
            <a:solidFill>
              <a:srgbClr val="000000"/>
            </a:solidFill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6"/>
          <p:cNvSpPr/>
          <p:nvPr/>
        </p:nvSpPr>
        <p:spPr>
          <a:xfrm>
            <a:off x="5340240" y="1484280"/>
            <a:ext cx="671760" cy="504720"/>
          </a:xfrm>
          <a:custGeom>
            <a:avLst/>
            <a:gdLst>
              <a:gd name="textAreaLeft" fmla="*/ 0 w 671760"/>
              <a:gd name="textAreaRight" fmla="*/ 672120 w 67176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423" h="318">
                <a:moveTo>
                  <a:pt x="60" y="318"/>
                </a:moveTo>
                <a:cubicBezTo>
                  <a:pt x="30" y="231"/>
                  <a:pt x="0" y="144"/>
                  <a:pt x="60" y="91"/>
                </a:cubicBezTo>
                <a:cubicBezTo>
                  <a:pt x="120" y="38"/>
                  <a:pt x="271" y="19"/>
                  <a:pt x="423" y="0"/>
                </a:cubicBezTo>
              </a:path>
            </a:pathLst>
          </a:custGeom>
          <a:noFill/>
          <a:ln cap="sq" w="12708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0" descr="MCj04102470000[1]"/>
          <p:cNvPicPr/>
          <p:nvPr/>
        </p:nvPicPr>
        <p:blipFill>
          <a:blip r:embed="rId3"/>
          <a:stretch/>
        </p:blipFill>
        <p:spPr>
          <a:xfrm>
            <a:off x="468360" y="4365720"/>
            <a:ext cx="1841400" cy="181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1" descr="MCj04102490000[1]"/>
          <p:cNvPicPr/>
          <p:nvPr/>
        </p:nvPicPr>
        <p:blipFill>
          <a:blip r:embed="rId4"/>
          <a:stretch/>
        </p:blipFill>
        <p:spPr>
          <a:xfrm>
            <a:off x="6804000" y="4437000"/>
            <a:ext cx="1844640" cy="17496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2"/>
          <p:cNvSpPr/>
          <p:nvPr/>
        </p:nvSpPr>
        <p:spPr>
          <a:xfrm>
            <a:off x="2124000" y="4581360"/>
            <a:ext cx="4824360" cy="1440000"/>
          </a:xfrm>
          <a:prstGeom prst="wedgeEllipseCallout">
            <a:avLst>
              <a:gd name="adj1" fmla="val -412"/>
              <a:gd name="adj2" fmla="val 5253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66"/>
                </a:solidFill>
                <a:latin typeface="HG丸ｺﾞｼｯｸM-PRO"/>
              </a:rPr>
              <a:t>新たなバス形態によ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66"/>
                </a:solidFill>
                <a:latin typeface="HG丸ｺﾞｼｯｸM-PRO"/>
              </a:rPr>
              <a:t>さらに魅力を持っ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66"/>
                </a:solidFill>
                <a:latin typeface="HG丸ｺﾞｼｯｸM-PRO"/>
              </a:rPr>
              <a:t>公共交通の実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3"/>
          <p:cNvSpPr/>
          <p:nvPr/>
        </p:nvSpPr>
        <p:spPr>
          <a:xfrm>
            <a:off x="395280" y="37152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引用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</a:rPr>
              <a:t>http://nan-an.sakura.ne.jp/taxi/taxi/post.html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4"/>
          <p:cNvSpPr/>
          <p:nvPr/>
        </p:nvSpPr>
        <p:spPr>
          <a:xfrm>
            <a:off x="5498640" y="3859920"/>
            <a:ext cx="414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引用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</a:rPr>
              <a:t>http://yorunokokucha.web.fc2.com/areabus/norikata/tb-a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B6C3-4F96-49AF-A247-6FB1EF5CF7F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MPj04386580000[1]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971640" y="981000"/>
            <a:ext cx="7056360" cy="51847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7"/>
          <p:cNvSpPr/>
          <p:nvPr/>
        </p:nvSpPr>
        <p:spPr>
          <a:xfrm>
            <a:off x="2627280" y="1197000"/>
            <a:ext cx="5184720" cy="1152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交通システム　提案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56000" y="1267920"/>
            <a:ext cx="568944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土浦駅から新治地区に向け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バス路線の再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1692360" y="3500280"/>
            <a:ext cx="1441440" cy="2665440"/>
          </a:xfrm>
          <a:prstGeom prst="flowChartAlternateProcess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治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5867280" y="3500280"/>
            <a:ext cx="1441440" cy="2665440"/>
          </a:xfrm>
          <a:prstGeom prst="flowChartAlternateProcess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32000" y="4797360"/>
            <a:ext cx="2735280" cy="1297080"/>
          </a:xfrm>
          <a:prstGeom prst="leftRightArrow">
            <a:avLst>
              <a:gd name="adj1" fmla="val 50000"/>
              <a:gd name="adj2" fmla="val 4198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MCj03948600000[1]"/>
          <p:cNvPicPr/>
          <p:nvPr/>
        </p:nvPicPr>
        <p:blipFill>
          <a:blip r:embed="rId2"/>
          <a:stretch/>
        </p:blipFill>
        <p:spPr>
          <a:xfrm>
            <a:off x="3708360" y="5013360"/>
            <a:ext cx="1533600" cy="869760"/>
          </a:xfrm>
          <a:prstGeom prst="rect">
            <a:avLst/>
          </a:prstGeom>
          <a:ln w="0">
            <a:noFill/>
          </a:ln>
        </p:spPr>
      </p:pic>
      <p:sp>
        <p:nvSpPr>
          <p:cNvPr id="271" name="Oval 8"/>
          <p:cNvSpPr/>
          <p:nvPr/>
        </p:nvSpPr>
        <p:spPr>
          <a:xfrm rot="16200000">
            <a:off x="3959280" y="2529000"/>
            <a:ext cx="1008000" cy="3240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6"/>
          <p:cNvSpPr/>
          <p:nvPr/>
        </p:nvSpPr>
        <p:spPr>
          <a:xfrm>
            <a:off x="468360" y="1197000"/>
            <a:ext cx="2089080" cy="129528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案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5120" y="3881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66"/>
                </a:solidFill>
                <a:latin typeface="Arial"/>
              </a:rPr>
              <a:t>つながり強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スライド番号プレースホルダ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0480-0D30-4DEB-BC04-DEC606E31B6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6C0B-EC52-4A72-BE3D-BF10B5BC78E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交通システム　利点と課題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77" name="Picture 15" descr="MCPE01677_0000[1]"/>
          <p:cNvPicPr/>
          <p:nvPr/>
        </p:nvPicPr>
        <p:blipFill>
          <a:blip r:embed="rId1"/>
          <a:stretch/>
        </p:blipFill>
        <p:spPr>
          <a:xfrm>
            <a:off x="468360" y="4653000"/>
            <a:ext cx="1439640" cy="1155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MCj03126540000[1]"/>
          <p:cNvPicPr/>
          <p:nvPr/>
        </p:nvPicPr>
        <p:blipFill>
          <a:blip r:embed="rId2"/>
          <a:stretch/>
        </p:blipFill>
        <p:spPr>
          <a:xfrm>
            <a:off x="395280" y="1989000"/>
            <a:ext cx="1366920" cy="1300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3419640" y="1268280"/>
            <a:ext cx="2087280" cy="720720"/>
          </a:xfrm>
          <a:prstGeom prst="rect">
            <a:avLst/>
          </a:prstGeom>
          <a:solidFill>
            <a:srgbClr val="ffffff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0000"/>
                </a:solidFill>
                <a:uFillTx/>
                <a:latin typeface="HG丸ｺﾞｼｯｸM-PRO"/>
              </a:rPr>
              <a:t>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3492360" y="3284640"/>
            <a:ext cx="2087640" cy="720720"/>
          </a:xfrm>
          <a:prstGeom prst="rect">
            <a:avLst/>
          </a:prstGeom>
          <a:solidFill>
            <a:srgbClr val="ffffff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ff"/>
                </a:solidFill>
                <a:uFillTx/>
                <a:latin typeface="HG丸ｺﾞｼｯｸM-PRO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5"/>
          <p:cNvSpPr/>
          <p:nvPr/>
        </p:nvSpPr>
        <p:spPr>
          <a:xfrm>
            <a:off x="2050920" y="2060640"/>
            <a:ext cx="6626520" cy="11523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G丸ｺﾞｼｯｸM-PRO"/>
              </a:rPr>
              <a:t>○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地域間の交通利便性の格差を和らげ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丸ｺﾞｼｯｸM-PRO"/>
              </a:rPr>
              <a:t>○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齢社会に対応した、便利な交通環境の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2124000" y="4076640"/>
            <a:ext cx="6551640" cy="2089080"/>
          </a:xfrm>
          <a:prstGeom prst="foldedCorner">
            <a:avLst>
              <a:gd name="adj" fmla="val 12500"/>
            </a:avLst>
          </a:prstGeom>
          <a:solidFill>
            <a:srgbClr val="66ffff"/>
          </a:solidFill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HG丸ｺﾞｼｯｸM-PRO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費用が掛か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　普通の路線バスの製造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1,500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万円～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1,600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万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　バリアフリー車（ノンステップバス）の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,200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万円～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,300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万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8E25-3419-4D9C-B798-55EECE68828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971640" y="1484280"/>
            <a:ext cx="7272360" cy="403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92436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徒歩の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630072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みんなの土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3132000" y="1125360"/>
            <a:ext cx="3024360" cy="790920"/>
          </a:xfrm>
          <a:prstGeom prst="flowChartProcess">
            <a:avLst/>
          </a:prstGeom>
          <a:solidFill>
            <a:srgbClr val="ffccff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テトラ土浦構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154764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交通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25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スライド番号プレースホルダ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4A5-A6E3-43E3-9837-2FF95B7C69C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徒歩のまち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056360" cy="51516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466560" y="3789360"/>
            <a:ext cx="2592720" cy="865080"/>
          </a:xfrm>
          <a:prstGeom prst="rect">
            <a:avLst/>
          </a:prstGeom>
          <a:solidFill>
            <a:srgbClr val="ffd937"/>
          </a:solidFill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範囲：</a:t>
            </a: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</a:rPr>
              <a:t>土浦駅周辺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（おおよそ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1000m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圏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6120000" y="62514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地図出典：土浦市バリアフリー基本構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1042920" y="3068640"/>
            <a:ext cx="433440" cy="289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79280" y="2637000"/>
            <a:ext cx="1403280" cy="43164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G丸ｺﾞｼｯｸM-PRO"/>
              </a:rPr>
              <a:t>10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4356000" y="1268280"/>
            <a:ext cx="4140360" cy="2089440"/>
          </a:xfrm>
          <a:prstGeom prst="roundRect">
            <a:avLst>
              <a:gd name="adj" fmla="val 16667"/>
            </a:avLst>
          </a:prstGeom>
          <a:solidFill>
            <a:srgbClr val="33cccc">
              <a:alpha val="94000"/>
            </a:srgbClr>
          </a:solid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コンパクトシティの実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4356000" y="3643200"/>
            <a:ext cx="4140360" cy="2089440"/>
          </a:xfrm>
          <a:prstGeom prst="roundRect">
            <a:avLst>
              <a:gd name="adj" fmla="val 16667"/>
            </a:avLst>
          </a:prstGeom>
          <a:solidFill>
            <a:srgbClr val="33cccc">
              <a:alpha val="94000"/>
            </a:srgbClr>
          </a:solid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観光客も訪れやす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771-CE25-4063-8328-B5CBA49EB00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発表の流れ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26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交通量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提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基本構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重点計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今後の展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大かっこ 5"/>
          <p:cNvSpPr/>
          <p:nvPr/>
        </p:nvSpPr>
        <p:spPr>
          <a:xfrm>
            <a:off x="3571920" y="3857760"/>
            <a:ext cx="2000160" cy="928440"/>
          </a:xfrm>
          <a:prstGeom prst="bracketPair">
            <a:avLst>
              <a:gd name="adj" fmla="val 17129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1FE7-856D-4B9E-A86E-18C63ECF027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生活環境の向上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生活関連施設・公共施設を駅周辺に集中さ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若者層・高齢者層の駅前居住を促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→</a:t>
            </a:r>
            <a:r>
              <a:rPr b="0" lang="ja-JP" sz="28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マンション・シェアハウ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などの住宅を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再開発ビルの完成予想図"/>
          <p:cNvPicPr/>
          <p:nvPr/>
        </p:nvPicPr>
        <p:blipFill>
          <a:blip r:embed="rId1"/>
          <a:stretch/>
        </p:blipFill>
        <p:spPr>
          <a:xfrm>
            <a:off x="6156360" y="2968560"/>
            <a:ext cx="2232000" cy="14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"/>
          <p:cNvSpPr/>
          <p:nvPr/>
        </p:nvSpPr>
        <p:spPr>
          <a:xfrm>
            <a:off x="6770160" y="437688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イメージ図：土浦市ＨＰ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4788000" y="1700280"/>
            <a:ext cx="3960720" cy="2950920"/>
          </a:xfrm>
          <a:prstGeom prst="roundRect">
            <a:avLst>
              <a:gd name="adj" fmla="val 16667"/>
            </a:avLst>
          </a:prstGeom>
          <a:noFill/>
          <a:ln cap="sq" w="316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cc66"/>
                </a:solidFill>
                <a:latin typeface="HG丸ｺﾞｼｯｸM-PRO"/>
              </a:rPr>
              <a:t>土浦駅前北地区再開発ビ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・市役所出張所 ・図書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　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HG丸ｺﾞｼｯｸM-PRO"/>
              </a:rPr>
              <a:t>・市民ホール　 ・公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612720" y="1700280"/>
            <a:ext cx="3888000" cy="2950920"/>
          </a:xfrm>
          <a:prstGeom prst="roundRect">
            <a:avLst>
              <a:gd name="adj" fmla="val 16667"/>
            </a:avLst>
          </a:prstGeom>
          <a:noFill/>
          <a:ln cap="sq" w="316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HG丸ｺﾞｼｯｸM-PRO"/>
              </a:rPr>
              <a:t> </a:t>
            </a:r>
            <a:r>
              <a:rPr b="1" lang="ja-JP" sz="2400" spc="-1" strike="noStrike">
                <a:solidFill>
                  <a:srgbClr val="00cc66"/>
                </a:solidFill>
                <a:latin typeface="HG丸ｺﾞｼｯｸM-PRO"/>
              </a:rPr>
              <a:t>商店街の機能を再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cc66"/>
                </a:solidFill>
                <a:latin typeface="HG丸ｺﾞｼｯｸM-PRO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 →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地域密着型、御用聞き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・生鮮食品　・生活雑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3279600" y="5843520"/>
            <a:ext cx="3308400" cy="609840"/>
          </a:xfrm>
          <a:prstGeom prst="borderCallout1">
            <a:avLst>
              <a:gd name="adj1" fmla="val 18750"/>
              <a:gd name="adj2" fmla="val -8333"/>
              <a:gd name="adj3" fmla="val -27083"/>
              <a:gd name="adj4" fmla="val -31092"/>
            </a:avLst>
          </a:prstGeom>
          <a:solidFill>
            <a:srgbClr val="ffccff"/>
          </a:solidFill>
          <a:ln cap="sq"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Arial"/>
              </a:rPr>
              <a:t>比較的安価な賃貸物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67B-900C-4EFF-957B-5559939C358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324000" y="1773360"/>
            <a:ext cx="3600360" cy="460836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608360"/>
              <a:gd name="textAreaBottom" fmla="*/ 4432680 h 4608360"/>
            </a:gdLst>
            <a:ahLst/>
            <a:rect l="textAreaLeft" t="textAreaTop" r="textAreaRight" b="textAreaBottom"/>
            <a:pathLst>
              <a:path w="21600" h="27647">
                <a:moveTo>
                  <a:pt x="3600" y="0"/>
                </a:moveTo>
                <a:arcTo wR="3600" hR="3600" stAng="16200000" swAng="-5400000"/>
                <a:lnTo>
                  <a:pt x="0" y="24047"/>
                </a:lnTo>
                <a:arcTo wR="3600" hR="3600" stAng="10800000" swAng="-5400000"/>
                <a:lnTo>
                  <a:pt x="18000" y="27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カレーストリ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995640" y="436572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あんどん・のれん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拡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沿道の魅力の向上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観光資源を活用した通りづく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ramen"/>
          <p:cNvPicPr/>
          <p:nvPr/>
        </p:nvPicPr>
        <p:blipFill>
          <a:blip r:embed="rId1"/>
          <a:stretch/>
        </p:blipFill>
        <p:spPr>
          <a:xfrm>
            <a:off x="1187280" y="3213000"/>
            <a:ext cx="2381400" cy="28479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738000" y="6064200"/>
            <a:ext cx="290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</a:rPr>
              <a:t>http://www.welcome.city.sapporo.jp/sites/</a:t>
            </a: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 "/>
          <p:cNvPicPr/>
          <p:nvPr/>
        </p:nvPicPr>
        <p:blipFill>
          <a:blip r:embed="rId2"/>
          <a:stretch/>
        </p:blipFill>
        <p:spPr>
          <a:xfrm>
            <a:off x="6915240" y="44370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4269960" y="5632560"/>
            <a:ext cx="258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</a:rPr>
              <a:t>http://www.kyodoshi.com/news/101/</a:t>
            </a: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932360" y="1700280"/>
            <a:ext cx="3887640" cy="2592360"/>
          </a:xfrm>
          <a:prstGeom prst="roundRect">
            <a:avLst>
              <a:gd name="adj" fmla="val 16667"/>
            </a:avLst>
          </a:prstGeom>
          <a:noFill/>
          <a:ln cap="sq"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花いっぱい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534320" y="29242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メージ例：札幌ラーメン横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4670640" y="4365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中城通りに至るまで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の通りにも派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DSC00977.jpg"/>
          <p:cNvPicPr/>
          <p:nvPr/>
        </p:nvPicPr>
        <p:blipFill>
          <a:blip r:embed="rId3"/>
          <a:stretch/>
        </p:blipFill>
        <p:spPr>
          <a:xfrm>
            <a:off x="6588000" y="227664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5"/>
          <p:cNvSpPr/>
          <p:nvPr/>
        </p:nvSpPr>
        <p:spPr>
          <a:xfrm>
            <a:off x="5225760" y="3933720"/>
            <a:ext cx="359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</a:rPr>
              <a:t>http://10shunen.blog104.fc2.com/blog-entry-227.html</a:t>
            </a: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5308200" y="270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商店街の歩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緑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599-8F79-4FA2-9C5B-D8D384A11FB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971640" y="1484280"/>
            <a:ext cx="7272360" cy="403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392436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徒歩の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630072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みんなの土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132000" y="1125360"/>
            <a:ext cx="3024360" cy="790920"/>
          </a:xfrm>
          <a:prstGeom prst="flowChartProcess">
            <a:avLst/>
          </a:prstGeom>
          <a:solidFill>
            <a:srgbClr val="ffccff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テトラ土浦構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154764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交通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5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4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5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D31-F4C0-4CC3-9B08-D094CC2901A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みんなの土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00000" y="2930040"/>
            <a:ext cx="792000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市民主体のまちづく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毎年同時期に実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市民から直接挙げられた問題点を改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684360" y="1700280"/>
            <a:ext cx="7848360" cy="936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cap="sq"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99cc"/>
                </a:solidFill>
                <a:latin typeface="Arial"/>
              </a:rPr>
              <a:t>市民にとって暮らしやすいま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1403280" y="4941720"/>
            <a:ext cx="6408720" cy="10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cc"/>
              </a:gs>
              <a:gs pos="100000">
                <a:srgbClr val="ff505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 u="sng">
                <a:solidFill>
                  <a:srgbClr val="3333ff"/>
                </a:solidFill>
                <a:uFillTx/>
                <a:latin typeface="Arial"/>
              </a:rPr>
              <a:t>市民のまちづくり意識の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684360" y="3068640"/>
            <a:ext cx="142560" cy="1440000"/>
          </a:xfrm>
          <a:custGeom>
            <a:avLst/>
            <a:gdLst>
              <a:gd name="textAreaLeft" fmla="*/ 41760 w 142560"/>
              <a:gd name="textAreaRight" fmla="*/ 142920 w 142560"/>
              <a:gd name="textAreaTop" fmla="*/ 59760 h 1440000"/>
              <a:gd name="textAreaBottom" fmla="*/ 1380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71280" y="3789360"/>
            <a:ext cx="1187640" cy="1655640"/>
            <a:chOff x="71280" y="3789360"/>
            <a:chExt cx="1187640" cy="1655640"/>
          </a:xfrm>
        </p:grpSpPr>
        <p:sp>
          <p:nvSpPr>
            <p:cNvPr id="334" name="Line 8"/>
            <p:cNvSpPr/>
            <p:nvPr/>
          </p:nvSpPr>
          <p:spPr>
            <a:xfrm flipH="1">
              <a:off x="468360" y="3789360"/>
              <a:ext cx="21600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9"/>
            <p:cNvSpPr/>
            <p:nvPr/>
          </p:nvSpPr>
          <p:spPr>
            <a:xfrm>
              <a:off x="468360" y="3789360"/>
              <a:ext cx="0" cy="16556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"/>
            <p:cNvSpPr/>
            <p:nvPr/>
          </p:nvSpPr>
          <p:spPr>
            <a:xfrm>
              <a:off x="468360" y="5445000"/>
              <a:ext cx="79056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"/>
            <p:cNvSpPr/>
            <p:nvPr/>
          </p:nvSpPr>
          <p:spPr>
            <a:xfrm>
              <a:off x="71280" y="4653000"/>
              <a:ext cx="1187640" cy="43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3399"/>
                  </a:solidFill>
                  <a:latin typeface="Arial"/>
                </a:rPr>
                <a:t>繰り返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ECC8-C05C-4F05-975C-A1DD1228ADC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"/>
          <p:cNvSpPr/>
          <p:nvPr/>
        </p:nvSpPr>
        <p:spPr>
          <a:xfrm>
            <a:off x="612720" y="1413000"/>
            <a:ext cx="3311640" cy="4824360"/>
          </a:xfrm>
          <a:custGeom>
            <a:avLst/>
            <a:gdLst>
              <a:gd name="textAreaLeft" fmla="*/ 161640 w 3311640"/>
              <a:gd name="textAreaRight" fmla="*/ 3150000 w 3311640"/>
              <a:gd name="textAreaTop" fmla="*/ 161640 h 4824360"/>
              <a:gd name="textAreaBottom" fmla="*/ 4662720 h 4824360"/>
            </a:gdLst>
            <a:ahLst/>
            <a:rect l="textAreaLeft" t="textAreaTop" r="textAreaRight" b="textAreaBottom"/>
            <a:pathLst>
              <a:path w="21600" h="31466">
                <a:moveTo>
                  <a:pt x="3600" y="0"/>
                </a:moveTo>
                <a:arcTo wR="3600" hR="3600" stAng="16200000" swAng="-5400000"/>
                <a:lnTo>
                  <a:pt x="0" y="27866"/>
                </a:lnTo>
                <a:arcTo wR="3600" hR="3600" stAng="10800000" swAng="-5400000"/>
                <a:lnTo>
                  <a:pt x="18000" y="31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市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4284720" y="4581360"/>
            <a:ext cx="2592360" cy="648000"/>
          </a:xfrm>
          <a:prstGeom prst="roundRect">
            <a:avLst>
              <a:gd name="adj" fmla="val 16667"/>
            </a:avLst>
          </a:prstGeom>
          <a:solidFill>
            <a:srgbClr val="5bc8ff">
              <a:alpha val="85000"/>
            </a:srgbClr>
          </a:solidFill>
          <a:ln cap="sq"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事業の実施・実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4211640" y="1700280"/>
            <a:ext cx="2592360" cy="1368360"/>
            <a:chOff x="4211640" y="1700280"/>
            <a:chExt cx="2592360" cy="1368360"/>
          </a:xfrm>
        </p:grpSpPr>
        <p:sp>
          <p:nvSpPr>
            <p:cNvPr id="342" name="AutoShape 5"/>
            <p:cNvSpPr/>
            <p:nvPr/>
          </p:nvSpPr>
          <p:spPr>
            <a:xfrm>
              <a:off x="4211640" y="1700280"/>
              <a:ext cx="2592360" cy="647640"/>
            </a:xfrm>
            <a:prstGeom prst="roundRect">
              <a:avLst>
                <a:gd name="adj" fmla="val 16667"/>
              </a:avLst>
            </a:prstGeom>
            <a:solidFill>
              <a:srgbClr val="bde9ff">
                <a:alpha val="85000"/>
              </a:srgbClr>
            </a:solidFill>
            <a:ln cap="sq"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アンケー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6"/>
            <p:cNvSpPr/>
            <p:nvPr/>
          </p:nvSpPr>
          <p:spPr>
            <a:xfrm rot="5400000">
              <a:off x="5182920" y="2347920"/>
              <a:ext cx="647640" cy="793800"/>
            </a:xfrm>
            <a:custGeom>
              <a:avLst/>
              <a:gdLst>
                <a:gd name="textAreaLeft" fmla="*/ 101520 w 647640"/>
                <a:gd name="textAreaRight" fmla="*/ 567000 w 647640"/>
                <a:gd name="textAreaTop" fmla="*/ 198360 h 793800"/>
                <a:gd name="textAreaBottom" fmla="*/ 595440 h 7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cccc"/>
            </a:solidFill>
            <a:ln cap="sq"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7"/>
          <p:cNvGrpSpPr/>
          <p:nvPr/>
        </p:nvGrpSpPr>
        <p:grpSpPr>
          <a:xfrm>
            <a:off x="4284720" y="3141720"/>
            <a:ext cx="2592360" cy="1366920"/>
            <a:chOff x="4284720" y="3141720"/>
            <a:chExt cx="2592360" cy="1366920"/>
          </a:xfrm>
        </p:grpSpPr>
        <p:sp>
          <p:nvSpPr>
            <p:cNvPr id="345" name="AutoShape 8"/>
            <p:cNvSpPr/>
            <p:nvPr/>
          </p:nvSpPr>
          <p:spPr>
            <a:xfrm>
              <a:off x="4284720" y="3141720"/>
              <a:ext cx="2592360" cy="647640"/>
            </a:xfrm>
            <a:prstGeom prst="roundRect">
              <a:avLst>
                <a:gd name="adj" fmla="val 16667"/>
              </a:avLst>
            </a:prstGeom>
            <a:solidFill>
              <a:srgbClr val="93dbff">
                <a:alpha val="85000"/>
              </a:srgbClr>
            </a:solidFill>
            <a:ln cap="sq"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意見の選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 rot="5400000">
              <a:off x="5255640" y="3787560"/>
              <a:ext cx="648000" cy="793800"/>
            </a:xfrm>
            <a:custGeom>
              <a:avLst/>
              <a:gdLst>
                <a:gd name="textAreaLeft" fmla="*/ 101520 w 648000"/>
                <a:gd name="textAreaRight" fmla="*/ 567000 w 648000"/>
                <a:gd name="textAreaTop" fmla="*/ 198360 h 793800"/>
                <a:gd name="textAreaBottom" fmla="*/ 595440 h 7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cccc"/>
            </a:solidFill>
            <a:ln cap="sq"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0"/>
          <p:cNvSpPr/>
          <p:nvPr/>
        </p:nvSpPr>
        <p:spPr>
          <a:xfrm>
            <a:off x="3995640" y="1125360"/>
            <a:ext cx="865440" cy="459720"/>
          </a:xfrm>
          <a:prstGeom prst="rect">
            <a:avLst/>
          </a:prstGeom>
          <a:solidFill>
            <a:srgbClr val="ffcc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900cc"/>
                </a:solidFill>
                <a:latin typeface="Arial"/>
              </a:rPr>
              <a:t>意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"/>
          <p:cNvGrpSpPr/>
          <p:nvPr/>
        </p:nvGrpSpPr>
        <p:grpSpPr>
          <a:xfrm>
            <a:off x="2916360" y="5300640"/>
            <a:ext cx="2884320" cy="1152720"/>
            <a:chOff x="2916360" y="5300640"/>
            <a:chExt cx="2884320" cy="1152720"/>
          </a:xfrm>
        </p:grpSpPr>
        <p:sp>
          <p:nvSpPr>
            <p:cNvPr id="349" name="AutoShape 12"/>
            <p:cNvSpPr/>
            <p:nvPr/>
          </p:nvSpPr>
          <p:spPr>
            <a:xfrm rot="10800000">
              <a:off x="2916360" y="5300640"/>
              <a:ext cx="2884320" cy="1152720"/>
            </a:xfrm>
            <a:custGeom>
              <a:avLst/>
              <a:gdLst>
                <a:gd name="textAreaLeft" fmla="*/ 1659600 w 2884320"/>
                <a:gd name="textAreaRight" fmla="*/ 2684880 w 2884320"/>
                <a:gd name="textAreaTop" fmla="*/ 255600 h 1152720"/>
                <a:gd name="textAreaBottom" fmla="*/ 393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4541" y="0"/>
                  </a:lnTo>
                  <a:lnTo>
                    <a:pt x="14541" y="4790"/>
                  </a:lnTo>
                  <a:lnTo>
                    <a:pt x="12427" y="4790"/>
                  </a:lnTo>
                  <a:cubicBezTo>
                    <a:pt x="5564" y="4790"/>
                    <a:pt x="0" y="8089"/>
                    <a:pt x="0" y="12158"/>
                  </a:cubicBezTo>
                  <a:lnTo>
                    <a:pt x="0" y="21600"/>
                  </a:lnTo>
                  <a:lnTo>
                    <a:pt x="2635" y="21600"/>
                  </a:lnTo>
                  <a:lnTo>
                    <a:pt x="2635" y="12158"/>
                  </a:lnTo>
                  <a:cubicBezTo>
                    <a:pt x="2635" y="9513"/>
                    <a:pt x="7019" y="7368"/>
                    <a:pt x="12427" y="7368"/>
                  </a:cubicBezTo>
                  <a:lnTo>
                    <a:pt x="14541" y="7368"/>
                  </a:lnTo>
                  <a:lnTo>
                    <a:pt x="14541" y="12158"/>
                  </a:lnTo>
                  <a:close/>
                </a:path>
              </a:pathLst>
            </a:custGeom>
            <a:solidFill>
              <a:srgbClr val="ff9999">
                <a:alpha val="94000"/>
              </a:srgbClr>
            </a:solidFill>
            <a:ln cap="sq"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4353840" y="5950080"/>
              <a:ext cx="546480" cy="459720"/>
            </a:xfrm>
            <a:prstGeom prst="rect">
              <a:avLst/>
            </a:prstGeom>
            <a:solidFill>
              <a:srgbClr val="ffcc99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00cc"/>
                  </a:solidFill>
                  <a:latin typeface="Arial"/>
                </a:rPr>
                <a:t>報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4"/>
          <p:cNvGrpSpPr/>
          <p:nvPr/>
        </p:nvGrpSpPr>
        <p:grpSpPr>
          <a:xfrm>
            <a:off x="2987640" y="692280"/>
            <a:ext cx="2808000" cy="1224000"/>
            <a:chOff x="2987640" y="692280"/>
            <a:chExt cx="2808000" cy="1224000"/>
          </a:xfrm>
        </p:grpSpPr>
        <p:sp>
          <p:nvSpPr>
            <p:cNvPr id="352" name="AutoShape 15"/>
            <p:cNvSpPr/>
            <p:nvPr/>
          </p:nvSpPr>
          <p:spPr>
            <a:xfrm>
              <a:off x="2987640" y="692280"/>
              <a:ext cx="2760840" cy="1224000"/>
            </a:xfrm>
            <a:custGeom>
              <a:avLst/>
              <a:gdLst>
                <a:gd name="textAreaLeft" fmla="*/ 1588680 w 2760840"/>
                <a:gd name="textAreaRight" fmla="*/ 2570040 w 2760840"/>
                <a:gd name="textAreaTop" fmla="*/ 271440 h 1224000"/>
                <a:gd name="textAreaBottom" fmla="*/ 417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4541" y="0"/>
                  </a:lnTo>
                  <a:lnTo>
                    <a:pt x="14541" y="4790"/>
                  </a:lnTo>
                  <a:lnTo>
                    <a:pt x="12427" y="4790"/>
                  </a:lnTo>
                  <a:cubicBezTo>
                    <a:pt x="5564" y="4790"/>
                    <a:pt x="0" y="8089"/>
                    <a:pt x="0" y="12158"/>
                  </a:cubicBezTo>
                  <a:lnTo>
                    <a:pt x="0" y="21600"/>
                  </a:lnTo>
                  <a:lnTo>
                    <a:pt x="2635" y="21600"/>
                  </a:lnTo>
                  <a:lnTo>
                    <a:pt x="2635" y="12158"/>
                  </a:lnTo>
                  <a:cubicBezTo>
                    <a:pt x="2635" y="9513"/>
                    <a:pt x="7019" y="7368"/>
                    <a:pt x="12427" y="7368"/>
                  </a:cubicBezTo>
                  <a:lnTo>
                    <a:pt x="14541" y="7368"/>
                  </a:lnTo>
                  <a:lnTo>
                    <a:pt x="14541" y="12158"/>
                  </a:lnTo>
                  <a:close/>
                </a:path>
              </a:pathLst>
            </a:custGeom>
            <a:solidFill>
              <a:srgbClr val="ff9999">
                <a:alpha val="94000"/>
              </a:srgbClr>
            </a:solidFill>
            <a:ln cap="sq"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>
              <a:off x="4796640" y="692280"/>
              <a:ext cx="9990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7"/>
            <p:cNvSpPr/>
            <p:nvPr/>
          </p:nvSpPr>
          <p:spPr>
            <a:xfrm rot="5400000">
              <a:off x="4924080" y="804960"/>
              <a:ext cx="647640" cy="999720"/>
            </a:xfrm>
            <a:custGeom>
              <a:avLst/>
              <a:gdLst>
                <a:gd name="textAreaLeft" fmla="*/ 372960 w 647640"/>
                <a:gd name="textAreaRight" fmla="*/ 550800 w 647640"/>
                <a:gd name="textAreaTop" fmla="*/ 182520 h 999720"/>
                <a:gd name="textAreaBottom" fmla="*/ 379800 h 9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427" y="0"/>
                  </a:lnTo>
                  <a:lnTo>
                    <a:pt x="12427" y="3948"/>
                  </a:lnTo>
                  <a:cubicBezTo>
                    <a:pt x="5564" y="3948"/>
                    <a:pt x="0" y="7624"/>
                    <a:pt x="0" y="12158"/>
                  </a:cubicBezTo>
                  <a:lnTo>
                    <a:pt x="0" y="21600"/>
                  </a:lnTo>
                  <a:lnTo>
                    <a:pt x="4356" y="21600"/>
                  </a:lnTo>
                  <a:lnTo>
                    <a:pt x="4356" y="12158"/>
                  </a:lnTo>
                  <a:cubicBezTo>
                    <a:pt x="4356" y="9978"/>
                    <a:pt x="7970" y="8210"/>
                    <a:pt x="12427" y="8210"/>
                  </a:cubicBezTo>
                  <a:lnTo>
                    <a:pt x="12427" y="12158"/>
                  </a:lnTo>
                  <a:close/>
                </a:path>
              </a:pathLst>
            </a:custGeom>
            <a:solidFill>
              <a:srgbClr val="ff9999">
                <a:alpha val="94000"/>
              </a:srgbClr>
            </a:solidFill>
            <a:ln cap="sq"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V="1">
              <a:off x="4701240" y="1052640"/>
              <a:ext cx="142560" cy="71280"/>
            </a:xfrm>
            <a:prstGeom prst="rect">
              <a:avLst/>
            </a:prstGeom>
            <a:solidFill>
              <a:srgbClr val="ff9999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>
              <a:off x="4654080" y="981000"/>
              <a:ext cx="142200" cy="71640"/>
            </a:xfrm>
            <a:prstGeom prst="rect">
              <a:avLst/>
            </a:prstGeom>
            <a:solidFill>
              <a:srgbClr val="ff9999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みんなの土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358" name="Picture 21" descr="MCj04453020000[1]"/>
          <p:cNvPicPr/>
          <p:nvPr/>
        </p:nvPicPr>
        <p:blipFill>
          <a:blip r:embed="rId1"/>
          <a:stretch/>
        </p:blipFill>
        <p:spPr>
          <a:xfrm>
            <a:off x="1476360" y="357336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2"/>
          <p:cNvSpPr/>
          <p:nvPr/>
        </p:nvSpPr>
        <p:spPr>
          <a:xfrm>
            <a:off x="7308720" y="1341360"/>
            <a:ext cx="1835280" cy="5087880"/>
          </a:xfrm>
          <a:prstGeom prst="wedgeEllipseCallout">
            <a:avLst>
              <a:gd name="adj1" fmla="val -79324"/>
              <a:gd name="adj2" fmla="val -37694"/>
            </a:avLst>
          </a:prstGeom>
          <a:solidFill>
            <a:srgbClr val="ffff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・郵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・公共施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・メール（ＱＲコー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3"/>
          <p:cNvSpPr/>
          <p:nvPr/>
        </p:nvSpPr>
        <p:spPr>
          <a:xfrm>
            <a:off x="7308720" y="1500120"/>
            <a:ext cx="1835280" cy="4929120"/>
          </a:xfrm>
          <a:prstGeom prst="wedgeEllipseCallout">
            <a:avLst>
              <a:gd name="adj1" fmla="val -73356"/>
              <a:gd name="adj2" fmla="val -7486"/>
            </a:avLst>
          </a:prstGeom>
          <a:solidFill>
            <a:srgbClr val="ffff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・ワークショ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　・投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・行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4"/>
          <p:cNvSpPr/>
          <p:nvPr/>
        </p:nvSpPr>
        <p:spPr>
          <a:xfrm>
            <a:off x="7308720" y="1357200"/>
            <a:ext cx="1835280" cy="5072040"/>
          </a:xfrm>
          <a:prstGeom prst="wedgeEllipseCallout">
            <a:avLst>
              <a:gd name="adj1" fmla="val -72231"/>
              <a:gd name="adj2" fmla="val 23675"/>
            </a:avLst>
          </a:prstGeom>
          <a:solidFill>
            <a:srgbClr val="ffff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実現されること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最も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C55B-EC71-4F91-8F51-69CCD8747A4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928800" y="909720"/>
            <a:ext cx="7272360" cy="40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3924360" y="1558800"/>
            <a:ext cx="1584360" cy="324036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徒歩の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"/>
          <p:cNvSpPr/>
          <p:nvPr/>
        </p:nvSpPr>
        <p:spPr>
          <a:xfrm>
            <a:off x="6300720" y="1558800"/>
            <a:ext cx="1584360" cy="324036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みんなの土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3"/>
          <p:cNvSpPr/>
          <p:nvPr/>
        </p:nvSpPr>
        <p:spPr>
          <a:xfrm>
            <a:off x="1547640" y="1558800"/>
            <a:ext cx="1584360" cy="324036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交通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角丸四角形 9"/>
          <p:cNvSpPr/>
          <p:nvPr/>
        </p:nvSpPr>
        <p:spPr>
          <a:xfrm>
            <a:off x="928800" y="925560"/>
            <a:ext cx="7286400" cy="4000320"/>
          </a:xfrm>
          <a:prstGeom prst="roundRect">
            <a:avLst>
              <a:gd name="adj" fmla="val 16667"/>
            </a:avLst>
          </a:prstGeom>
          <a:noFill/>
          <a:ln cap="sq"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6"/>
          <p:cNvSpPr/>
          <p:nvPr/>
        </p:nvSpPr>
        <p:spPr>
          <a:xfrm>
            <a:off x="3132000" y="550800"/>
            <a:ext cx="3024360" cy="790560"/>
          </a:xfrm>
          <a:prstGeom prst="flowChartProcess">
            <a:avLst/>
          </a:prstGeom>
          <a:solidFill>
            <a:srgbClr val="ffccff"/>
          </a:solidFill>
          <a:ln cap="sq"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テトラ土浦構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11"/>
          <p:cNvSpPr/>
          <p:nvPr/>
        </p:nvSpPr>
        <p:spPr>
          <a:xfrm>
            <a:off x="4124880" y="5229360"/>
            <a:ext cx="1052640" cy="581400"/>
          </a:xfrm>
          <a:prstGeom prst="rect">
            <a:avLst/>
          </a:prstGeom>
          <a:gradFill rotWithShape="0">
            <a:gsLst>
              <a:gs pos="0">
                <a:srgbClr val="ccff33">
                  <a:alpha val="44313"/>
                </a:srgbClr>
              </a:gs>
              <a:gs pos="100000">
                <a:srgbClr val="a0c928">
                  <a:alpha val="7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暮らしやすく、活力あふれる土浦市の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CFAE-C340-46EF-86E0-EC2C8E7BFF1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テトラ土浦」の各地区の特色の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みんなの土浦」のシステム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新たなバス路線の検討、費用対効果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新型車両導入に対する便益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●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観光資源を生かした沿道整備の詳細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今後の展望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96B4-FB76-49CE-A1FF-FC5FAEC60DD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822960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参考文献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土浦市第７次総合計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土浦市都市計画マスタープラ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新治村都市計画マスタープラ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統計つちう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土浦市</a:t>
            </a: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土浦駅周辺地区の移動等円滑化基本構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南安タクシー</a:t>
            </a: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バスのる！</a:t>
            </a: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・関鉄バスファンペー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FBC2-4BFC-44FB-B9A0-521202F9B0B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2714400"/>
            <a:ext cx="829152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6600"/>
                </a:solidFill>
                <a:latin typeface="Arial"/>
                <a:ea typeface="HG丸ｺﾞｼｯｸM-PRO"/>
              </a:rPr>
              <a:t>御静聴有難う御座いまし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0" descr="MCj04455920000[1]"/>
          <p:cNvPicPr/>
          <p:nvPr/>
        </p:nvPicPr>
        <p:blipFill>
          <a:blip r:embed="rId1"/>
          <a:stretch/>
        </p:blipFill>
        <p:spPr>
          <a:xfrm>
            <a:off x="6804000" y="260280"/>
            <a:ext cx="1832040" cy="1819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MCj04455860000[1]"/>
          <p:cNvPicPr/>
          <p:nvPr/>
        </p:nvPicPr>
        <p:blipFill>
          <a:blip r:embed="rId2"/>
          <a:stretch/>
        </p:blipFill>
        <p:spPr>
          <a:xfrm>
            <a:off x="468360" y="4365720"/>
            <a:ext cx="1747800" cy="1763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MCj04455880000[1]"/>
          <p:cNvPicPr/>
          <p:nvPr/>
        </p:nvPicPr>
        <p:blipFill>
          <a:blip r:embed="rId3"/>
          <a:stretch/>
        </p:blipFill>
        <p:spPr>
          <a:xfrm>
            <a:off x="7020000" y="4437000"/>
            <a:ext cx="1663560" cy="1689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MCj04455900000[1]"/>
          <p:cNvPicPr/>
          <p:nvPr/>
        </p:nvPicPr>
        <p:blipFill>
          <a:blip r:embed="rId4"/>
          <a:stretch/>
        </p:blipFill>
        <p:spPr>
          <a:xfrm>
            <a:off x="395280" y="260280"/>
            <a:ext cx="1692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F7AD-3B96-4F1B-A9B2-CFC74C42E36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File?id=df29mvwk_9d8gb44nh_b"/>
          <p:cNvPicPr/>
          <p:nvPr/>
        </p:nvPicPr>
        <p:blipFill>
          <a:blip r:embed="rId1"/>
          <a:stretch/>
        </p:blipFill>
        <p:spPr>
          <a:xfrm>
            <a:off x="2340000" y="620640"/>
            <a:ext cx="4405320" cy="5400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背景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6372360" y="1197000"/>
            <a:ext cx="2627280" cy="1079640"/>
          </a:xfrm>
          <a:prstGeom prst="wedgeRoundRectCallout">
            <a:avLst>
              <a:gd name="adj1" fmla="val -106675"/>
              <a:gd name="adj2" fmla="val 105736"/>
              <a:gd name="adj3" fmla="val 16667"/>
            </a:avLst>
          </a:prstGeom>
          <a:solidFill>
            <a:srgbClr val="ffcc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少子高齢社会と人口減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50920" y="4292640"/>
            <a:ext cx="2376360" cy="1582560"/>
          </a:xfrm>
          <a:prstGeom prst="wedgeRoundRectCallout">
            <a:avLst>
              <a:gd name="adj1" fmla="val 95356"/>
              <a:gd name="adj2" fmla="val -103662"/>
              <a:gd name="adj3" fmla="val 16667"/>
            </a:avLst>
          </a:prstGeom>
          <a:solidFill>
            <a:srgbClr val="ffcc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土浦駅周辺の中心市街地の衰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6156360" y="4292640"/>
            <a:ext cx="2736720" cy="1441440"/>
          </a:xfrm>
          <a:prstGeom prst="wedgeRoundRectCallout">
            <a:avLst>
              <a:gd name="adj1" fmla="val -102148"/>
              <a:gd name="adj2" fmla="val -99120"/>
              <a:gd name="adj3" fmla="val 16667"/>
            </a:avLst>
          </a:prstGeom>
          <a:solidFill>
            <a:srgbClr val="ffcc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各地域ごと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特色が活かさてい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3635280" y="2565360"/>
            <a:ext cx="1297080" cy="1150920"/>
          </a:xfrm>
          <a:prstGeom prst="ellipse">
            <a:avLst/>
          </a:prstGeom>
          <a:solidFill>
            <a:srgbClr val="ffcc99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土浦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5B09-4DF5-4625-BF73-C0DFFA9FF74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混雑度現状3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802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971880" y="6021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現状での分析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 rot="1407000">
            <a:off x="2196720" y="3628800"/>
            <a:ext cx="503280" cy="25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 rot="20460000">
            <a:off x="3166920" y="3998880"/>
            <a:ext cx="43200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3492360" y="3789360"/>
            <a:ext cx="151128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817080" y="1844640"/>
            <a:ext cx="20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国道を中心に混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643280" y="242100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JICA-STRADA</a:t>
            </a:r>
            <a:r>
              <a:rPr b="0" lang="ja-JP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による</a:t>
            </a:r>
            <a:br>
              <a:rPr sz="3800"/>
            </a:br>
            <a:r>
              <a:rPr b="0" lang="ja-JP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　　　　　    道路混雑度の分析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348000" y="3645000"/>
            <a:ext cx="3095640" cy="12240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20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年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6822-8AFF-4937-AE24-9620EC0E99D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456800" y="2349360"/>
            <a:ext cx="36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牛久土浦バイパ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首都圏中央連絡自動車道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圏央道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が全通していると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61720" y="60930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年後の分析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27860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6"/>
          <p:cNvGrpSpPr/>
          <p:nvPr/>
        </p:nvGrpSpPr>
        <p:grpSpPr>
          <a:xfrm>
            <a:off x="1332000" y="2773080"/>
            <a:ext cx="1044000" cy="2095920"/>
            <a:chOff x="1332000" y="2773080"/>
            <a:chExt cx="1044000" cy="2095920"/>
          </a:xfrm>
        </p:grpSpPr>
        <p:sp>
          <p:nvSpPr>
            <p:cNvPr id="124" name="Oval 7"/>
            <p:cNvSpPr/>
            <p:nvPr/>
          </p:nvSpPr>
          <p:spPr>
            <a:xfrm>
              <a:off x="1332000" y="3429000"/>
              <a:ext cx="576000" cy="144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 rot="20367600">
              <a:off x="1836720" y="2852280"/>
              <a:ext cx="504360" cy="289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709920" y="2705040"/>
            <a:ext cx="2887560" cy="1841760"/>
            <a:chOff x="709920" y="2705040"/>
            <a:chExt cx="2887560" cy="1841760"/>
          </a:xfrm>
        </p:grpSpPr>
        <p:sp>
          <p:nvSpPr>
            <p:cNvPr id="127" name="Oval 10"/>
            <p:cNvSpPr/>
            <p:nvPr/>
          </p:nvSpPr>
          <p:spPr>
            <a:xfrm rot="939000">
              <a:off x="1620360" y="3789000"/>
              <a:ext cx="1944720" cy="50472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1"/>
            <p:cNvSpPr/>
            <p:nvPr/>
          </p:nvSpPr>
          <p:spPr>
            <a:xfrm rot="1205400">
              <a:off x="755280" y="2852640"/>
              <a:ext cx="936360" cy="432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2" descr="混雑度整備後3"/>
          <p:cNvPicPr/>
          <p:nvPr/>
        </p:nvPicPr>
        <p:blipFill>
          <a:blip r:embed="rId2"/>
          <a:stretch/>
        </p:blipFill>
        <p:spPr>
          <a:xfrm>
            <a:off x="684360" y="981000"/>
            <a:ext cx="7738920" cy="60404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3"/>
          <p:cNvGrpSpPr/>
          <p:nvPr/>
        </p:nvGrpSpPr>
        <p:grpSpPr>
          <a:xfrm>
            <a:off x="1976040" y="3577680"/>
            <a:ext cx="3245400" cy="2655720"/>
            <a:chOff x="1976040" y="3577680"/>
            <a:chExt cx="3245400" cy="2655720"/>
          </a:xfrm>
        </p:grpSpPr>
        <p:sp>
          <p:nvSpPr>
            <p:cNvPr id="131" name="Oval 14"/>
            <p:cNvSpPr/>
            <p:nvPr/>
          </p:nvSpPr>
          <p:spPr>
            <a:xfrm rot="1407000">
              <a:off x="2484000" y="3573360"/>
              <a:ext cx="531720" cy="2664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 rot="20460000">
              <a:off x="3348000" y="4076280"/>
              <a:ext cx="432000" cy="1428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4068720" y="3860640"/>
              <a:ext cx="115272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JICA-STRADA</a:t>
            </a:r>
            <a:r>
              <a:rPr b="0" lang="ja-JP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による</a:t>
            </a:r>
            <a:br>
              <a:rPr sz="3800"/>
            </a:br>
            <a:r>
              <a:rPr b="0" lang="ja-JP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　　　　　道路混雑度の分析結果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6D1F-900C-4408-ACE5-41C97975A97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混雑度現状3"/>
          <p:cNvPicPr/>
          <p:nvPr/>
        </p:nvPicPr>
        <p:blipFill>
          <a:blip r:embed="rId1"/>
          <a:stretch/>
        </p:blipFill>
        <p:spPr>
          <a:xfrm>
            <a:off x="-181080" y="1197000"/>
            <a:ext cx="5689800" cy="4025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450800" y="5229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現状での分析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 rot="1407000">
            <a:off x="1142640" y="3002040"/>
            <a:ext cx="358920" cy="1630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 rot="20460000">
            <a:off x="1714680" y="3136680"/>
            <a:ext cx="360360" cy="1104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124000" y="3068640"/>
            <a:ext cx="100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混雑度整備後3"/>
          <p:cNvPicPr/>
          <p:nvPr/>
        </p:nvPicPr>
        <p:blipFill>
          <a:blip r:embed="rId2"/>
          <a:stretch/>
        </p:blipFill>
        <p:spPr>
          <a:xfrm>
            <a:off x="3635280" y="1197000"/>
            <a:ext cx="5651640" cy="4000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5805000" y="526248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年後の分析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 rot="1407000">
            <a:off x="4959000" y="3002040"/>
            <a:ext cx="358920" cy="1630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 rot="20460000">
            <a:off x="5530680" y="3136680"/>
            <a:ext cx="360360" cy="1104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940360" y="3068640"/>
            <a:ext cx="100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2556000" y="2349360"/>
            <a:ext cx="4032000" cy="2305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劇的な変化は見ら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JICA-STRADA</a:t>
            </a:r>
            <a:r>
              <a:rPr b="0" lang="ja-JP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による</a:t>
            </a:r>
            <a:br>
              <a:rPr sz="3800"/>
            </a:br>
            <a:r>
              <a:rPr b="0" lang="ja-JP" sz="38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　　　　　道路混雑度の分析結果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2BE3-7493-4487-BFBB-747BEBA6F07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324000" y="1125360"/>
            <a:ext cx="4405320" cy="5400720"/>
            <a:chOff x="324000" y="1125360"/>
            <a:chExt cx="4405320" cy="5400720"/>
          </a:xfrm>
        </p:grpSpPr>
        <p:pic>
          <p:nvPicPr>
            <p:cNvPr id="150" name="Picture 3" descr="File?id=df29mvwk_9d8gb44nh_b"/>
            <p:cNvPicPr/>
            <p:nvPr/>
          </p:nvPicPr>
          <p:blipFill>
            <a:blip r:embed="rId1"/>
            <a:stretch/>
          </p:blipFill>
          <p:spPr>
            <a:xfrm>
              <a:off x="324000" y="1125360"/>
              <a:ext cx="44053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4"/>
            <p:cNvSpPr/>
            <p:nvPr/>
          </p:nvSpPr>
          <p:spPr>
            <a:xfrm>
              <a:off x="949680" y="199044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HG丸ｺﾞｼｯｸM-PRO"/>
                </a:rPr>
                <a:t>新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>
              <a:off x="2916360" y="287316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HG丸ｺﾞｼｯｸM-PRO"/>
                </a:rPr>
                <a:t>神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>
              <a:off x="900360" y="496080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HG丸ｺﾞｼｯｸM-PRO"/>
                </a:rPr>
                <a:t>荒川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>
              <a:off x="1670400" y="371916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HG丸ｺﾞｼｯｸM-PRO"/>
                </a:rPr>
                <a:t>土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テトラ土浦コンセプト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-1654200" y="1413000"/>
            <a:ext cx="8229600" cy="4789440"/>
            <a:chOff x="-1654200" y="1413000"/>
            <a:chExt cx="8229600" cy="4789440"/>
          </a:xfrm>
        </p:grpSpPr>
        <p:sp>
          <p:nvSpPr>
            <p:cNvPr id="157" name="AutoShape 10"/>
            <p:cNvSpPr/>
            <p:nvPr/>
          </p:nvSpPr>
          <p:spPr>
            <a:xfrm>
              <a:off x="299880" y="1413000"/>
              <a:ext cx="4537080" cy="4680000"/>
            </a:xfrm>
            <a:prstGeom prst="flowChartAlternateProcess">
              <a:avLst/>
            </a:prstGeom>
            <a:solidFill>
              <a:srgbClr val="ccffcc"/>
            </a:solidFill>
            <a:ln cap="sq"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-1654200" y="1671840"/>
              <a:ext cx="822960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土地利用・歴史性・交通網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などか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「土浦駅周辺地区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　「荒川沖駅周辺地区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「神立駅周辺地区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「新治地区」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000" spc="-1" strike="noStrike">
                  <a:solidFill>
                    <a:srgbClr val="ff0066"/>
                  </a:solidFill>
                  <a:latin typeface="Arial"/>
                </a:rPr>
                <a:t>の４地区に分類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5076720" y="1125360"/>
            <a:ext cx="3780000" cy="3525840"/>
            <a:chOff x="5076720" y="1125360"/>
            <a:chExt cx="3780000" cy="3525840"/>
          </a:xfrm>
        </p:grpSpPr>
        <p:sp>
          <p:nvSpPr>
            <p:cNvPr id="160" name="AutoShape 13"/>
            <p:cNvSpPr/>
            <p:nvPr/>
          </p:nvSpPr>
          <p:spPr>
            <a:xfrm>
              <a:off x="5076720" y="1125360"/>
              <a:ext cx="3780000" cy="1151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</a:rPr>
                <a:t>それぞれの個性を活かし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</a:rPr>
                <a:t>整備計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4"/>
            <p:cNvSpPr/>
            <p:nvPr/>
          </p:nvSpPr>
          <p:spPr>
            <a:xfrm>
              <a:off x="5076720" y="2276640"/>
              <a:ext cx="3743280" cy="12236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地区間交通ネットワー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の確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5076720" y="3500280"/>
              <a:ext cx="3780000" cy="1150920"/>
            </a:xfrm>
            <a:prstGeom prst="roundRect">
              <a:avLst>
                <a:gd name="adj" fmla="val 16667"/>
              </a:avLst>
            </a:prstGeom>
            <a:solidFill>
              <a:srgbClr val="89c4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</a:rPr>
                <a:t>一体的なイメージを象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</a:rPr>
                <a:t>イベント・仕組みの創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6"/>
          <p:cNvGrpSpPr/>
          <p:nvPr/>
        </p:nvGrpSpPr>
        <p:grpSpPr>
          <a:xfrm>
            <a:off x="4788000" y="5056200"/>
            <a:ext cx="4178160" cy="1801800"/>
            <a:chOff x="4788000" y="5056200"/>
            <a:chExt cx="4178160" cy="1801800"/>
          </a:xfrm>
        </p:grpSpPr>
        <p:sp>
          <p:nvSpPr>
            <p:cNvPr id="164" name="AutoShape 17"/>
            <p:cNvSpPr/>
            <p:nvPr/>
          </p:nvSpPr>
          <p:spPr>
            <a:xfrm>
              <a:off x="5074920" y="5056200"/>
              <a:ext cx="3889080" cy="1801800"/>
            </a:xfrm>
            <a:prstGeom prst="flowChartAlternateProcess">
              <a:avLst/>
            </a:prstGeom>
            <a:solidFill>
              <a:srgbClr val="ff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8"/>
            <p:cNvSpPr/>
            <p:nvPr/>
          </p:nvSpPr>
          <p:spPr>
            <a:xfrm>
              <a:off x="4788000" y="5200560"/>
              <a:ext cx="41781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土浦市全体の活力向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暮らしやすいまち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実現を目指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9"/>
          <p:cNvSpPr/>
          <p:nvPr/>
        </p:nvSpPr>
        <p:spPr>
          <a:xfrm>
            <a:off x="7020000" y="4724280"/>
            <a:ext cx="0" cy="360360"/>
          </a:xfrm>
          <a:prstGeom prst="line">
            <a:avLst/>
          </a:prstGeom>
          <a:ln cap="sq" w="1270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スライド番号プレースホルダ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5BF-AD19-407E-97EA-EAECF09C042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4572000" y="4005360"/>
            <a:ext cx="4176720" cy="2448000"/>
          </a:xfrm>
          <a:prstGeom prst="flowChartAlternateProcess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24000" y="4005360"/>
            <a:ext cx="3743280" cy="244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4572000" y="1557360"/>
            <a:ext cx="4176720" cy="2303280"/>
          </a:xfrm>
          <a:prstGeom prst="flowChartAlternateProcess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1557360"/>
            <a:ext cx="3743280" cy="2303280"/>
          </a:xfrm>
          <a:prstGeom prst="flowChartAlternateProcess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Garamond"/>
                <a:ea typeface="HG丸ｺﾞｼｯｸM-PRO"/>
              </a:rPr>
              <a:t>各地区将来像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7520" y="16124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土浦駅周辺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歩いて回れる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土浦らしさ」を持った活気ある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84240" y="159984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荒川沖駅周辺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良好な住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公共交通利用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架け橋としての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3360" y="3941280"/>
            <a:ext cx="403848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神立駅周辺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工業団地を生かした雇用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子供を育むクリーンな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3941640"/>
            <a:ext cx="439272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新治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公共交通利便性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高い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セカンドライフの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Arial"/>
                <a:ea typeface="HG丸ｺﾞｼｯｸM-PRO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農村文化継承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スライド番号プレースホルダ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341-EE8C-487C-9C22-89A2E438B90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971640" y="1484280"/>
            <a:ext cx="7272360" cy="403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200" spc="-1" strike="noStrike">
                <a:solidFill>
                  <a:srgbClr val="003399"/>
                </a:solidFill>
                <a:latin typeface="HG丸ｺﾞｼｯｸM-PRO"/>
                <a:ea typeface="HG丸ｺﾞｼｯｸM-PRO"/>
              </a:rPr>
              <a:t>重点整備計画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92436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徒歩のま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630072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みんなの土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132000" y="1125360"/>
            <a:ext cx="3024360" cy="790920"/>
          </a:xfrm>
          <a:prstGeom prst="flowChartProcess">
            <a:avLst/>
          </a:prstGeom>
          <a:solidFill>
            <a:srgbClr val="ffccff"/>
          </a:solidFill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テトラ土浦構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547640" y="2133720"/>
            <a:ext cx="1584360" cy="32400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HG丸ｺﾞｼｯｸM-PRO"/>
              </a:rPr>
              <a:t>  </a:t>
            </a:r>
            <a:r>
              <a:rPr b="0" lang="ja-JP" sz="2800" spc="-1" strike="noStrike">
                <a:solidFill>
                  <a:srgbClr val="ff0066"/>
                </a:solidFill>
                <a:latin typeface="HG丸ｺﾞｼｯｸM-PRO"/>
              </a:rPr>
              <a:t>交通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971640" y="3141720"/>
            <a:ext cx="7272360" cy="12240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3</a:t>
            </a:r>
            <a:r>
              <a:rPr b="0" lang="ja-JP" sz="3600" spc="-1" strike="noStrike">
                <a:solidFill>
                  <a:srgbClr val="000000"/>
                </a:solidFill>
                <a:latin typeface="HG丸ｺﾞｼｯｸM-PRO"/>
              </a:rPr>
              <a:t>つの重点整備計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49:38Z</dcterms:created>
  <dc:creator>社会工学類</dc:creator>
  <dc:description/>
  <dc:language>en-US</dc:language>
  <cp:lastModifiedBy>社会工学類</cp:lastModifiedBy>
  <dcterms:modified xsi:type="dcterms:W3CDTF">2010-01-29T02:26:43Z</dcterms:modified>
  <cp:revision>135</cp:revision>
  <dc:subject/>
  <dc:title>タイトル</dc:title>
</cp:coreProperties>
</file>