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b53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2267-66B1-4F3D-92E1-0C48898F21A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観光客に受けそうな施策を手当たり次第やりま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市側も開き直れば受け入れやす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429-A845-4C57-AFDC-435FCB29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3D1-353B-41D4-83BE-5E6B4640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B72-9B07-4073-8697-1F1A23D3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AB7-C0FB-4941-AB90-E3C82898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DA24-47C8-4DF3-8705-EAD2FDE4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3FAB-F0AE-436A-B31B-12E7ECD3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FDAB-C9F5-4FC4-8B67-E1DD478A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8634-AB45-4BF2-AA87-E67177AD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639F-B237-4D05-BFF2-3BA6EFD1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9E2D-A733-42C1-A6A1-567DCE67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ED8C-F097-4F7E-B1A2-2AF864F4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B4A-6848-417A-AADF-4EED0679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D9FB-1C65-4C23-892F-4C5D198D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AAEF-0D7E-4D74-94A9-71C31213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C7B5-B664-43F0-BE38-96F3C4F7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00A8-668B-475C-BA30-5D07B1C2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A70C-A34D-42BA-A22D-76F715B7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9E1-35C6-48B5-BF46-FD818F14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284-6168-4B5C-AF22-D3503B55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DF0-992F-47D1-BBD0-84AA2ED3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F0E-13B9-4F68-B92D-E6AEF8B2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AA5-6254-4973-B89E-17ED97BA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569-6B87-442B-8597-EF8349E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0A1-CCFF-48EF-888B-FEF8392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181480"/>
            <a:ext cx="9144000" cy="1676520"/>
            <a:chOff x="0" y="5181480"/>
            <a:chExt cx="9144000" cy="1676520"/>
          </a:xfrm>
        </p:grpSpPr>
        <p:sp>
          <p:nvSpPr>
            <p:cNvPr id="1" name=""/>
            <p:cNvSpPr/>
            <p:nvPr/>
          </p:nvSpPr>
          <p:spPr>
            <a:xfrm>
              <a:off x="0" y="6705720"/>
              <a:ext cx="9144000" cy="152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5943600"/>
              <a:ext cx="9144000" cy="76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086600" y="6629400"/>
              <a:ext cx="2057400" cy="228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7815240" y="5181480"/>
              <a:ext cx="1252440" cy="160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b53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7ecc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7ec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7ec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A94D-077D-4CDA-B87A-04998A86431A}" type="slidenum">
              <a:rPr b="0" lang="en-US" sz="1400" spc="-1" strike="noStrike">
                <a:solidFill>
                  <a:srgbClr val="5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3886200"/>
            <a:ext cx="9144000" cy="2971800"/>
            <a:chOff x="0" y="3886200"/>
            <a:chExt cx="9144000" cy="2971800"/>
          </a:xfrm>
        </p:grpSpPr>
        <p:sp>
          <p:nvSpPr>
            <p:cNvPr id="47" name="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486400"/>
              <a:ext cx="914400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15000" y="6324480"/>
              <a:ext cx="2895480" cy="304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477120" y="3886200"/>
              <a:ext cx="2057400" cy="26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b53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C360-7346-4C23-AC97-177A87C1037E}" type="slidenum">
              <a:rPr b="0" lang="en-US" sz="1400" spc="-1" strike="noStrike">
                <a:solidFill>
                  <a:srgbClr val="5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7c8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cc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7ecc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ecc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7ecc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7c8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ecc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7ecc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7ec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ecc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7ecc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7ec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ecc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7ecc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f.hatena.ne.jp/wami/20090225184843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blog-imgs-21.fc2.com/h/d/p/hdphoto/kabekami_622054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114264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通うまち土浦</a:t>
            </a:r>
            <a:br>
              <a:rPr sz="4000"/>
            </a:br>
            <a:r>
              <a:rPr b="0" lang="zh-CN" sz="32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～にぎわいわいを目指して～</a:t>
            </a:r>
            <a:endParaRPr b="0" lang="en-US" sz="32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280" y="2651040"/>
            <a:ext cx="5861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班長：木下幸明　副班長：林恵子   　渉外：鈴木碧衣　印刷：山室寛明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：平井恵理　</a:t>
            </a:r>
            <a:r>
              <a:rPr b="0" lang="en-US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TA</a:t>
            </a: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：大脇孝之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5445000"/>
            <a:ext cx="6337440" cy="1081080"/>
          </a:xfrm>
          <a:prstGeom prst="wedgeEllipseCallout">
            <a:avLst>
              <a:gd name="adj1" fmla="val 48949"/>
              <a:gd name="adj2" fmla="val -73495"/>
            </a:avLst>
          </a:prstGeom>
          <a:solidFill>
            <a:srgbClr val="ff99cc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Snap ITC"/>
              </a:rPr>
              <a:t>A HAPPY NEW YEAR!!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3748-9260-412A-AB6C-A4B8CCA8A7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観光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1341360"/>
          <a:ext cx="4610160" cy="453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461016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4716360" y="1413000"/>
            <a:ext cx="4103640" cy="1655640"/>
            <a:chOff x="4716360" y="1413000"/>
            <a:chExt cx="4103640" cy="1655640"/>
          </a:xfrm>
        </p:grpSpPr>
        <p:sp>
          <p:nvSpPr>
            <p:cNvPr id="176" name=""/>
            <p:cNvSpPr/>
            <p:nvPr/>
          </p:nvSpPr>
          <p:spPr>
            <a:xfrm>
              <a:off x="4716360" y="1413000"/>
              <a:ext cx="4103640" cy="1655640"/>
            </a:xfrm>
            <a:prstGeom prst="wedgeRoundRectCallout">
              <a:avLst>
                <a:gd name="adj1" fmla="val -57115"/>
                <a:gd name="adj2" fmla="val 106185"/>
                <a:gd name="adj3" fmla="val 16667"/>
              </a:avLst>
            </a:prstGeom>
            <a:solidFill>
              <a:srgbClr val="ffff99"/>
            </a:solidFill>
            <a:ln cap="sq"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59280" y="1413000"/>
              <a:ext cx="378144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HG丸ｺﾞｼｯｸM-PRO"/>
                </a:rPr>
                <a:t>「魅力を感じない」</a:t>
              </a:r>
              <a:endParaRPr b="0" lang="en-US" sz="2800" spc="-1" strike="noStrike">
                <a:solidFill>
                  <a:srgbClr val="f7ecc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HG丸ｺﾞｼｯｸM-PRO"/>
                </a:rPr>
                <a:t>という回答が最も多くなっている。</a:t>
              </a:r>
              <a:endParaRPr b="0" lang="en-US" sz="24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968720" y="3645000"/>
            <a:ext cx="4174920" cy="1942560"/>
            <a:chOff x="4968720" y="3645000"/>
            <a:chExt cx="4174920" cy="1942560"/>
          </a:xfrm>
        </p:grpSpPr>
        <p:sp>
          <p:nvSpPr>
            <p:cNvPr id="179" name=""/>
            <p:cNvSpPr/>
            <p:nvPr/>
          </p:nvSpPr>
          <p:spPr>
            <a:xfrm>
              <a:off x="4968720" y="3645000"/>
              <a:ext cx="4100760" cy="1942560"/>
            </a:xfrm>
            <a:prstGeom prst="flowChartAlternateProcess">
              <a:avLst/>
            </a:prstGeom>
            <a:solidFill>
              <a:srgbClr val="99ff99"/>
            </a:solidFill>
            <a:ln cap="sq"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42520" y="3645000"/>
              <a:ext cx="4101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HG丸ｺﾞｼｯｸM-PRO"/>
                </a:rPr>
                <a:t>土浦に来たことが無い人に、一度来てもらえるような観光システム、インパクトが必要。</a:t>
              </a:r>
              <a:endParaRPr b="0" lang="en-US" sz="28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012000" y="2924280"/>
            <a:ext cx="14414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5950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土浦市観光基本計画より作成。</a:t>
            </a:r>
            <a:endParaRPr b="0" lang="en-US" sz="16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EAA-69E4-42B7-9532-1997F55795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交通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2280" y="981000"/>
            <a:ext cx="4762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○</a:t>
            </a: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主な公共交通機関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</a:t>
            </a:r>
            <a:r>
              <a:rPr b="0" lang="en-US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JR</a:t>
            </a: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常磐線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路線バス網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まちづくり活性化バス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のりあいタクシー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0600" y="1052640"/>
            <a:ext cx="44751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4859280" y="4149720"/>
            <a:ext cx="4174920" cy="1942920"/>
            <a:chOff x="4859280" y="4149720"/>
            <a:chExt cx="4174920" cy="1942920"/>
          </a:xfrm>
        </p:grpSpPr>
        <p:sp>
          <p:nvSpPr>
            <p:cNvPr id="187" name=""/>
            <p:cNvSpPr/>
            <p:nvPr/>
          </p:nvSpPr>
          <p:spPr>
            <a:xfrm>
              <a:off x="4859280" y="4149720"/>
              <a:ext cx="4100760" cy="1942920"/>
            </a:xfrm>
            <a:prstGeom prst="flowChartAlternateProcess">
              <a:avLst/>
            </a:prstGeom>
            <a:solidFill>
              <a:srgbClr val="99ff99"/>
            </a:solidFill>
            <a:ln cap="sq"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3080" y="4149720"/>
              <a:ext cx="41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HG丸ｺﾞｼｯｸM-PRO"/>
                </a:rPr>
                <a:t>観光・商業施設間の移動がスムーズになるような交通ネットワークが必要</a:t>
              </a:r>
              <a:endParaRPr b="0" lang="en-US" sz="28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902200" y="3429000"/>
            <a:ext cx="14414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0E7-87C8-46CC-9258-A6F4ABE858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5720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土浦市を４つのエリアに分けて現状を分析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４地区の特色を活かしたネットワーク</a:t>
            </a:r>
            <a:r>
              <a:rPr b="0" lang="zh-CN" sz="2800" spc="-1" strike="noStrike">
                <a:solidFill>
                  <a:srgbClr val="ff7c80"/>
                </a:solidFill>
                <a:latin typeface="Times New Roman"/>
                <a:ea typeface="HG丸ｺﾞｼｯｸM-PRO"/>
              </a:rPr>
              <a:t>「テトラ土浦」</a:t>
            </a: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を構築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71840" cy="5381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403280" y="333360"/>
            <a:ext cx="5975280" cy="720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cap="sq" w="284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各地区の現状分析・課題抽出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1360" y="2062080"/>
            <a:ext cx="1439640" cy="129708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新治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78040" y="2944800"/>
            <a:ext cx="1440000" cy="129708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神立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2040" y="5032440"/>
            <a:ext cx="1439640" cy="129708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荒川沖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32080" y="3790800"/>
            <a:ext cx="1439640" cy="129708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土浦駅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6C6-8225-48A2-B056-E4D5A868C0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04880" y="692280"/>
            <a:ext cx="4371840" cy="5381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86040" y="3286080"/>
            <a:ext cx="1439640" cy="1297080"/>
          </a:xfrm>
          <a:prstGeom prst="ellipse">
            <a:avLst/>
          </a:prstGeom>
          <a:solidFill>
            <a:srgbClr val="ff0066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土浦駅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土浦駅周辺地区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63960" y="1267920"/>
            <a:ext cx="4245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  <a:ea typeface="HG丸ｺﾞｼｯｸM-PRO"/>
              </a:rPr>
              <a:t>特徴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常磐線特急停車駅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土浦市の公共機能が集積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商業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駅周辺ビル、郊外大型施設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観光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霞ヶ浦の最寄り駅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歴史を残す観光名所多数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16000" y="1557360"/>
            <a:ext cx="3456000" cy="4267080"/>
            <a:chOff x="1116000" y="1557360"/>
            <a:chExt cx="3456000" cy="4267080"/>
          </a:xfrm>
        </p:grpSpPr>
        <p:sp>
          <p:nvSpPr>
            <p:cNvPr id="202" name=""/>
            <p:cNvSpPr/>
            <p:nvPr/>
          </p:nvSpPr>
          <p:spPr>
            <a:xfrm>
              <a:off x="1165320" y="1557360"/>
              <a:ext cx="1439640" cy="129708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新治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32000" y="2440080"/>
              <a:ext cx="1440000" cy="129672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神立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6000" y="4527720"/>
              <a:ext cx="1440000" cy="129672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荒川沖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103-BAAD-4D20-B00C-D8C913E772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5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6" dur="25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駅周辺商業施設の再活性化</a:t>
            </a:r>
            <a:endParaRPr b="0" lang="en-US" sz="40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413000"/>
            <a:ext cx="1584360" cy="720720"/>
          </a:xfrm>
          <a:prstGeom prst="rect">
            <a:avLst/>
          </a:prstGeom>
          <a:solidFill>
            <a:srgbClr val="e6aa00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大型店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6000" y="1413000"/>
            <a:ext cx="1584000" cy="720720"/>
          </a:xfrm>
          <a:prstGeom prst="rect">
            <a:avLst/>
          </a:prstGeom>
          <a:solidFill>
            <a:srgbClr val="e6aa00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商店街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7453440" y="2131920"/>
            <a:ext cx="1295280" cy="8654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7eccd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0800000">
            <a:off x="324000" y="2131920"/>
            <a:ext cx="1295280" cy="865440"/>
          </a:xfrm>
          <a:custGeom>
            <a:avLst/>
            <a:gdLst>
              <a:gd name="textAreaLeft" fmla="*/ 360 w 1295280"/>
              <a:gd name="textAreaRight" fmla="*/ 1296000 w 129528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7eccd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74600" y="2478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7eccd"/>
                </a:solidFill>
                <a:uFillTx/>
                <a:latin typeface="Times New Roman"/>
                <a:ea typeface="HG丸ｺﾞｼｯｸM-PRO"/>
              </a:rPr>
              <a:t>撤退が相次ぐ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63800" y="2478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7eccd"/>
                </a:solidFill>
                <a:uFillTx/>
                <a:latin typeface="Times New Roman"/>
                <a:ea typeface="HG丸ｺﾞｼｯｸM-PRO"/>
              </a:rPr>
              <a:t>シャッター街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6920" y="3213000"/>
            <a:ext cx="1728720" cy="1295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86426"/>
              </a:gs>
              <a:gs pos="100000">
                <a:srgbClr val="462e11"/>
              </a:gs>
            </a:gsLst>
            <a:lin ang="5400000"/>
          </a:gra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0040" y="45086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土浦の中心を立て直す必要</a:t>
            </a:r>
            <a:endParaRPr b="0" lang="en-US" sz="4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73F-5774-4AE5-B342-2AC8C59F08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04880" y="692280"/>
            <a:ext cx="4371840" cy="5381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荒川沖駅周辺地区</a:t>
            </a:r>
            <a:endParaRPr b="0" lang="en-US" sz="40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3280" y="1341000"/>
            <a:ext cx="4500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5c5"/>
                </a:solidFill>
                <a:latin typeface="Times New Roman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ffc5c5"/>
                </a:solidFill>
                <a:latin typeface="Times New Roman"/>
                <a:ea typeface="HG丸ｺﾞｼｯｸM-PRO"/>
              </a:rPr>
              <a:t>特徴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土浦市の南の拠点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つくば市，阿見町の玄関口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あみプレミアムアウトレットの最寄り駅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商業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ロードサイドショップ多数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観光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観光的要素は薄い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165320" y="1557360"/>
            <a:ext cx="3406680" cy="3025800"/>
            <a:chOff x="1165320" y="1557360"/>
            <a:chExt cx="3406680" cy="3025800"/>
          </a:xfrm>
        </p:grpSpPr>
        <p:sp>
          <p:nvSpPr>
            <p:cNvPr id="218" name=""/>
            <p:cNvSpPr/>
            <p:nvPr/>
          </p:nvSpPr>
          <p:spPr>
            <a:xfrm>
              <a:off x="1886040" y="3286080"/>
              <a:ext cx="1439640" cy="129708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土浦駅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65320" y="1557360"/>
              <a:ext cx="1439640" cy="129708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新治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32000" y="2440080"/>
              <a:ext cx="1440000" cy="129672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神立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116000" y="4527720"/>
            <a:ext cx="1440000" cy="1296720"/>
          </a:xfrm>
          <a:prstGeom prst="ellipse">
            <a:avLst/>
          </a:prstGeom>
          <a:solidFill>
            <a:srgbClr val="ff0066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荒川沖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89E-75F3-4B8D-B669-080529327B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商業施設を活性化</a:t>
            </a:r>
            <a:endParaRPr b="0" lang="en-US" sz="40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大型店の再生が必要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pic>
        <p:nvPicPr>
          <p:cNvPr id="224" name="" descr="荒川沖ショッピングプラザ"/>
          <p:cNvPicPr/>
          <p:nvPr/>
        </p:nvPicPr>
        <p:blipFill>
          <a:blip r:embed="rId1"/>
          <a:srcRect l="17592" t="0" r="31845" b="218"/>
          <a:stretch/>
        </p:blipFill>
        <p:spPr>
          <a:xfrm>
            <a:off x="539640" y="1916280"/>
            <a:ext cx="3313080" cy="3671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F1000113.jpg"/>
          <p:cNvPicPr/>
          <p:nvPr/>
        </p:nvPicPr>
        <p:blipFill>
          <a:blip r:embed="rId2"/>
          <a:srcRect l="40245" t="0" r="0" b="24976"/>
          <a:stretch/>
        </p:blipFill>
        <p:spPr>
          <a:xfrm>
            <a:off x="4068720" y="1916280"/>
            <a:ext cx="4643640" cy="3240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7440" y="607680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http://blog.ibaragi-ibaraki.com/</a:t>
            </a: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DBA-3408-4336-8DDD-C3996F593F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04880" y="692280"/>
            <a:ext cx="4371840" cy="5381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神立駅周辺地区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5c5"/>
                </a:solidFill>
                <a:latin typeface="Times New Roman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ffc5c5"/>
                </a:solidFill>
                <a:latin typeface="Times New Roman"/>
                <a:ea typeface="HG丸ｺﾞｼｯｸM-PRO"/>
              </a:rPr>
              <a:t>特徴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工場・工業団地が多く立地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バス路線が少なく、施設間の移動に不便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商業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商業施設は駅周辺（市内）には少ない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cc66ff"/>
                </a:solidFill>
                <a:latin typeface="Times New Roman"/>
                <a:ea typeface="HG丸ｺﾞｼｯｸM-PRO"/>
              </a:rPr>
              <a:t>観光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　霞ヶ浦沿いのハス田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2000" y="2440080"/>
            <a:ext cx="1440000" cy="1296720"/>
          </a:xfrm>
          <a:prstGeom prst="ellipse">
            <a:avLst/>
          </a:prstGeom>
          <a:solidFill>
            <a:srgbClr val="ff0066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神立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116000" y="1557360"/>
            <a:ext cx="2209680" cy="4267080"/>
            <a:chOff x="1116000" y="1557360"/>
            <a:chExt cx="2209680" cy="4267080"/>
          </a:xfrm>
        </p:grpSpPr>
        <p:sp>
          <p:nvSpPr>
            <p:cNvPr id="232" name=""/>
            <p:cNvSpPr/>
            <p:nvPr/>
          </p:nvSpPr>
          <p:spPr>
            <a:xfrm>
              <a:off x="1886040" y="3286080"/>
              <a:ext cx="1439640" cy="129708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土浦駅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65320" y="1557360"/>
              <a:ext cx="1439640" cy="129708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新治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16000" y="4527720"/>
              <a:ext cx="1440000" cy="129672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荒川沖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435640" y="5373720"/>
            <a:ext cx="2017800" cy="647640"/>
          </a:xfrm>
          <a:prstGeom prst="wedgeRoundRectCallout">
            <a:avLst>
              <a:gd name="adj1" fmla="val 69907"/>
              <a:gd name="adj2" fmla="val 111273"/>
              <a:gd name="adj3" fmla="val 16667"/>
            </a:avLst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工業の拠点！</a:t>
            </a: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2A9-C44F-4740-9A8F-BDDF79CBF1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67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4749840" cy="5732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物流拠点化</a:t>
            </a:r>
            <a:endParaRPr b="0" lang="en-US" sz="4000" spc="-1" strike="noStrike">
              <a:solidFill>
                <a:srgbClr val="dfb53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132000" y="1557360"/>
            <a:ext cx="2808360" cy="2376360"/>
            <a:chOff x="3132000" y="1557360"/>
            <a:chExt cx="2808360" cy="2376360"/>
          </a:xfrm>
        </p:grpSpPr>
        <p:sp>
          <p:nvSpPr>
            <p:cNvPr id="239" name=""/>
            <p:cNvSpPr/>
            <p:nvPr/>
          </p:nvSpPr>
          <p:spPr>
            <a:xfrm>
              <a:off x="3132000" y="1557360"/>
              <a:ext cx="2808360" cy="2376360"/>
            </a:xfrm>
            <a:prstGeom prst="ellipse">
              <a:avLst/>
            </a:prstGeom>
            <a:solidFill>
              <a:srgbClr val="99cc00">
                <a:alpha val="9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広域の物流拠点化</a:t>
              </a:r>
              <a:endParaRPr b="0" lang="en-US" sz="24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96800" y="2133720"/>
              <a:ext cx="394200" cy="398880"/>
            </a:xfrm>
            <a:prstGeom prst="rect">
              <a:avLst/>
            </a:prstGeom>
            <a:solidFill>
              <a:srgbClr val="f7ec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7c80"/>
                  </a:solidFill>
                  <a:latin typeface="Times New Roman"/>
                  <a:ea typeface="HG丸ｺﾞｼｯｸM-PRO"/>
                </a:rPr>
                <a:t>工業の強み⇒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940360" y="2421000"/>
            <a:ext cx="2843280" cy="2305080"/>
          </a:xfrm>
          <a:prstGeom prst="ellipse">
            <a:avLst/>
          </a:prstGeom>
          <a:solidFill>
            <a:srgbClr val="a86f2a">
              <a:alpha val="9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市民農園・ハス田を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活かしたふるさと景観を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観光資源化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04C-D764-4733-BCC9-37B0B310E2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4880" y="692280"/>
            <a:ext cx="4371840" cy="53816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74760" y="115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新治地区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32000" y="1197000"/>
            <a:ext cx="421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5c5"/>
                </a:solidFill>
                <a:latin typeface="HG丸ｺﾞｼｯｸM-PRO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ffc5c5"/>
                </a:solidFill>
                <a:latin typeface="HG丸ｺﾞｼｯｸM-PRO"/>
                <a:ea typeface="HG丸ｺﾞｼｯｸM-PRO"/>
              </a:rPr>
              <a:t>歴史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　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1955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年　新治村成立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　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2006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年　土浦市と合併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5c5"/>
                </a:solidFill>
                <a:latin typeface="HG丸ｺﾞｼｯｸM-PRO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ffc5c5"/>
                </a:solidFill>
                <a:latin typeface="HG丸ｺﾞｼｯｸM-PRO"/>
                <a:ea typeface="HG丸ｺﾞｼｯｸM-PRO"/>
              </a:rPr>
              <a:t>特徴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　豊かな山麓の自然と歴史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HG丸ｺﾞｼｯｸM-PRO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cc66ff"/>
                </a:solidFill>
                <a:latin typeface="HG丸ｺﾞｼｯｸM-PRO"/>
                <a:ea typeface="HG丸ｺﾞｼｯｸM-PRO"/>
              </a:rPr>
              <a:t>商業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　スーパーマーケット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HG丸ｺﾞｼｯｸM-PRO"/>
                <a:ea typeface="HG丸ｺﾞｼｯｸM-PRO"/>
              </a:rPr>
              <a:t>◆</a:t>
            </a:r>
            <a:r>
              <a:rPr b="0" lang="zh-CN" sz="2400" spc="-1" strike="noStrike">
                <a:solidFill>
                  <a:srgbClr val="cc66ff"/>
                </a:solidFill>
                <a:latin typeface="HG丸ｺﾞｼｯｸM-PRO"/>
                <a:ea typeface="HG丸ｺﾞｼｯｸM-PRO"/>
              </a:rPr>
              <a:t>観光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　自然の風景、社寺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65320" y="1557360"/>
            <a:ext cx="1439640" cy="1297080"/>
          </a:xfrm>
          <a:prstGeom prst="ellipse">
            <a:avLst/>
          </a:prstGeom>
          <a:solidFill>
            <a:srgbClr val="ff0066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新治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16000" y="2440080"/>
            <a:ext cx="3456000" cy="3384360"/>
            <a:chOff x="1116000" y="2440080"/>
            <a:chExt cx="3456000" cy="3384360"/>
          </a:xfrm>
        </p:grpSpPr>
        <p:sp>
          <p:nvSpPr>
            <p:cNvPr id="247" name=""/>
            <p:cNvSpPr/>
            <p:nvPr/>
          </p:nvSpPr>
          <p:spPr>
            <a:xfrm>
              <a:off x="1886040" y="3286080"/>
              <a:ext cx="1439640" cy="129708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土浦駅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32000" y="2440080"/>
              <a:ext cx="1440000" cy="129672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神立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16000" y="4527720"/>
              <a:ext cx="1440000" cy="1296720"/>
            </a:xfrm>
            <a:prstGeom prst="ellipse">
              <a:avLst/>
            </a:prstGeom>
            <a:solidFill>
              <a:srgbClr val="66ccff">
                <a:alpha val="80000"/>
              </a:srgbClr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7eccd"/>
                  </a:solidFill>
                  <a:latin typeface="Times New Roman"/>
                  <a:ea typeface="HG丸ｺﾞｼｯｸM-PRO"/>
                </a:rPr>
                <a:t>荒川沖</a:t>
              </a:r>
              <a:endParaRPr b="0" lang="en-US" sz="20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435640" y="5373720"/>
            <a:ext cx="2017800" cy="647640"/>
          </a:xfrm>
          <a:prstGeom prst="wedgeRoundRectCallout">
            <a:avLst>
              <a:gd name="adj1" fmla="val 69907"/>
              <a:gd name="adj2" fmla="val 111273"/>
              <a:gd name="adj3" fmla="val 16667"/>
            </a:avLst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7eccd"/>
                </a:solidFill>
                <a:latin typeface="Times New Roman"/>
                <a:ea typeface="HGS創英角ﾎﾟｯﾌﾟ体"/>
              </a:rPr>
              <a:t>「しんじ」じゃないよ！</a:t>
            </a: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10E-106B-4FDD-B05A-AB9EAF4AF9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9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0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発表概要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4440" y="5060520"/>
            <a:ext cx="1272960" cy="1273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7ecc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交通の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整備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不足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97360"/>
            <a:ext cx="1800000" cy="180000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市街地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衰退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197000"/>
            <a:ext cx="1800000" cy="180036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人口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減少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1125360"/>
            <a:ext cx="2160360" cy="5472360"/>
          </a:xfrm>
          <a:prstGeom prst="ellipse">
            <a:avLst/>
          </a:prstGeom>
          <a:solidFill>
            <a:srgbClr val="cc99ff">
              <a:alpha val="9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様々な要因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3645000"/>
            <a:ext cx="647640" cy="0"/>
          </a:xfrm>
          <a:prstGeom prst="line">
            <a:avLst/>
          </a:prstGeom>
          <a:ln cap="sq" w="127080">
            <a:solidFill>
              <a:srgbClr val="ffff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1197000"/>
            <a:ext cx="2160720" cy="547200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土浦市の活性が減退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647640" cy="0"/>
          </a:xfrm>
          <a:prstGeom prst="line">
            <a:avLst/>
          </a:prstGeom>
          <a:ln cap="sq" w="127080">
            <a:solidFill>
              <a:srgbClr val="ffff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1197000"/>
            <a:ext cx="2160720" cy="547200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商業・観光を中心とした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新たな魅力創出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089-9E59-4306-8DEC-E09028D4F7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414680" cy="5327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観光資源のアピール、交通改善</a:t>
            </a:r>
            <a:endParaRPr b="0" lang="en-US" sz="40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4000" y="1916280"/>
            <a:ext cx="2808360" cy="1366560"/>
          </a:xfrm>
          <a:prstGeom prst="roundRect">
            <a:avLst>
              <a:gd name="adj" fmla="val 16667"/>
            </a:avLst>
          </a:prstGeom>
          <a:solidFill>
            <a:srgbClr val="ffff99">
              <a:alpha val="86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0000"/>
                </a:solidFill>
                <a:latin typeface="Times New Roman"/>
                <a:ea typeface="HG丸ｺﾞｼｯｸM-PRO"/>
              </a:rPr>
              <a:t>公共交通の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0000"/>
                </a:solidFill>
                <a:latin typeface="Times New Roman"/>
                <a:ea typeface="HG丸ｺﾞｼｯｸM-PRO"/>
              </a:rPr>
              <a:t>利便性を改善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9215600">
            <a:off x="3851280" y="3284640"/>
            <a:ext cx="792000" cy="936360"/>
          </a:xfrm>
          <a:prstGeom prst="upArrow">
            <a:avLst>
              <a:gd name="adj1" fmla="val 50000"/>
              <a:gd name="adj2" fmla="val 29557"/>
            </a:avLst>
          </a:prstGeom>
          <a:solidFill>
            <a:srgbClr val="ffff99">
              <a:alpha val="75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986-37A7-4082-838A-810C2366B6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319640" cy="5315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商業・観光施設の分布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25520" y="181296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商業施設は各地区に分布している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観光地は土浦駅周辺と新治地区に集中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78360" y="519444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主な観光地</a:t>
            </a:r>
            <a:endParaRPr b="0" lang="en-US" sz="1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8880" y="55897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主な商業施設</a:t>
            </a:r>
            <a:endParaRPr b="0" lang="en-US" sz="1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79E-D43B-4E11-8BDA-EEC6F4A46A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04880" y="692280"/>
            <a:ext cx="4371840" cy="53816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65320" y="1557360"/>
            <a:ext cx="1439640" cy="129708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新治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2440080"/>
            <a:ext cx="1440000" cy="129672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神立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16000" y="4527720"/>
            <a:ext cx="1440000" cy="129672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荒川沖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86040" y="3286080"/>
            <a:ext cx="1439640" cy="129708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土浦駅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560" y="2781360"/>
            <a:ext cx="1297440" cy="1871640"/>
            <a:chOff x="2050560" y="2781360"/>
            <a:chExt cx="1297440" cy="1871640"/>
          </a:xfrm>
        </p:grpSpPr>
        <p:sp>
          <p:nvSpPr>
            <p:cNvPr id="266" name=""/>
            <p:cNvSpPr/>
            <p:nvPr/>
          </p:nvSpPr>
          <p:spPr>
            <a:xfrm flipH="1" flipV="1">
              <a:off x="2050560" y="2781360"/>
              <a:ext cx="336600" cy="557280"/>
            </a:xfrm>
            <a:prstGeom prst="line">
              <a:avLst/>
            </a:prstGeom>
            <a:ln cap="sq" w="76320">
              <a:solidFill>
                <a:srgbClr val="ff99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101680" y="4437000"/>
              <a:ext cx="144720" cy="21600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132000" y="3428640"/>
              <a:ext cx="216000" cy="144360"/>
            </a:xfrm>
            <a:prstGeom prst="line">
              <a:avLst/>
            </a:prstGeom>
            <a:ln cap="sq" w="76320">
              <a:solidFill>
                <a:srgbClr val="ff99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812960" y="2278080"/>
            <a:ext cx="2089080" cy="2879640"/>
            <a:chOff x="1812960" y="2278080"/>
            <a:chExt cx="2089080" cy="2879640"/>
          </a:xfrm>
        </p:grpSpPr>
        <p:sp>
          <p:nvSpPr>
            <p:cNvPr id="270" name=""/>
            <p:cNvSpPr/>
            <p:nvPr/>
          </p:nvSpPr>
          <p:spPr>
            <a:xfrm>
              <a:off x="1812960" y="2781360"/>
              <a:ext cx="0" cy="1871640"/>
            </a:xfrm>
            <a:prstGeom prst="line">
              <a:avLst/>
            </a:prstGeom>
            <a:ln cap="sq" w="76320">
              <a:solidFill>
                <a:srgbClr val="ff7174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462040" y="3645000"/>
              <a:ext cx="1440000" cy="1512720"/>
            </a:xfrm>
            <a:prstGeom prst="line">
              <a:avLst/>
            </a:prstGeom>
            <a:ln cap="sq" w="76320">
              <a:solidFill>
                <a:srgbClr val="ff7174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04960" y="2278080"/>
              <a:ext cx="865440" cy="358920"/>
            </a:xfrm>
            <a:prstGeom prst="line">
              <a:avLst/>
            </a:prstGeom>
            <a:ln cap="sq" w="76320">
              <a:solidFill>
                <a:srgbClr val="ff7174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435640" y="5373720"/>
            <a:ext cx="2017800" cy="647640"/>
          </a:xfrm>
          <a:prstGeom prst="wedgeRoundRectCallout">
            <a:avLst>
              <a:gd name="adj1" fmla="val 69907"/>
              <a:gd name="adj2" fmla="val 111273"/>
              <a:gd name="adj3" fmla="val 16667"/>
            </a:avLst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896440" y="55148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テトラ土浦</a:t>
            </a:r>
            <a:r>
              <a:rPr b="0" lang="en-US" sz="1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!!</a:t>
            </a: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テトラ土浦へ</a:t>
            </a:r>
            <a:endParaRPr b="0" lang="en-US" sz="40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48360" y="1268280"/>
            <a:ext cx="3779640" cy="1150920"/>
          </a:xfrm>
          <a:prstGeom prst="roundRect">
            <a:avLst>
              <a:gd name="adj" fmla="val 16667"/>
            </a:avLst>
          </a:prstGeom>
          <a:solidFill>
            <a:srgbClr val="f7eccd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それぞれの個性を活かした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商業・観光対策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48360" y="2638440"/>
            <a:ext cx="3779640" cy="11509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地区間の交通ネットワーク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の確立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4005360"/>
            <a:ext cx="3779640" cy="1150920"/>
          </a:xfrm>
          <a:prstGeom prst="roundRect">
            <a:avLst>
              <a:gd name="adj" fmla="val 16667"/>
            </a:avLst>
          </a:prstGeom>
          <a:solidFill>
            <a:srgbClr val="89c4ff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新たなイメージを象る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イベント・仕組みの創出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722-A6D1-49C6-80A3-2ECD596DE9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問題点まとめ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24000" y="1125360"/>
            <a:ext cx="5040360" cy="1511640"/>
          </a:xfrm>
          <a:prstGeom prst="rect">
            <a:avLst/>
          </a:prstGeom>
          <a:solidFill>
            <a:srgbClr val="996633"/>
          </a:solidFill>
          <a:ln cap="sq" w="3816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人口の減少</a:t>
            </a:r>
            <a:endParaRPr b="0" lang="en-US" sz="4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2852640"/>
            <a:ext cx="5040360" cy="1511280"/>
          </a:xfrm>
          <a:prstGeom prst="rect">
            <a:avLst/>
          </a:prstGeom>
          <a:solidFill>
            <a:srgbClr val="996633"/>
          </a:solidFill>
          <a:ln cap="sq" w="3816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商業の衰退</a:t>
            </a:r>
            <a:endParaRPr b="0" lang="en-US" sz="4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24000" y="4581360"/>
            <a:ext cx="5040360" cy="1511640"/>
          </a:xfrm>
          <a:prstGeom prst="rect">
            <a:avLst/>
          </a:prstGeom>
          <a:solidFill>
            <a:srgbClr val="996633"/>
          </a:solidFill>
          <a:ln cap="sq" w="3816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観光地間の</a:t>
            </a:r>
            <a:endParaRPr b="0" lang="en-US" sz="40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ネットワークの不備</a:t>
            </a:r>
            <a:endParaRPr b="0" lang="en-US" sz="4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FA4-6DC9-4ADF-80E6-4E887EDDB8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20720" y="620640"/>
            <a:ext cx="5975640" cy="720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cap="sq" w="284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目標・提案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08000" y="2276640"/>
            <a:ext cx="5473800" cy="916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HG丸ｺﾞｼｯｸM-PRO"/>
              </a:rPr>
              <a:t>通うまち土浦</a:t>
            </a:r>
            <a:endParaRPr b="0" lang="en-US" sz="5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8000" y="4027320"/>
            <a:ext cx="5473800" cy="916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HG丸ｺﾞｼｯｸM-PRO"/>
              </a:rPr>
              <a:t>にぎわいわい</a:t>
            </a:r>
            <a:endParaRPr b="0" lang="en-US" sz="5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5EE-8E0D-4BC5-AE73-6E1A30DD9D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通うまち土浦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536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一度土浦に来訪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↓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再来訪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↓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さまざまな観光地を自由に行き交う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↓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市民も住みやすい交通環境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↓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歩行者でにぎわうまち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027-C4CA-4888-9F6F-12D410CB9D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にぎわいわい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土浦市の来訪客数の増加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↓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にぎわいの創出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↓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街の活性化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↓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住民にもにぎわい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66840" y="24210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7eccd"/>
                </a:solidFill>
                <a:latin typeface="Arial"/>
                <a:ea typeface="HG丸ｺﾞｼｯｸM-PRO"/>
              </a:rPr>
              <a:t>にぎわい＋にぎわい＝にぎわいわい</a:t>
            </a:r>
            <a:endParaRPr b="0" lang="en-US" sz="4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57C-E0D4-4C78-9C65-F8E70BAF9B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8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4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7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0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3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480" y="18900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提案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628640"/>
            <a:ext cx="3313080" cy="1944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cap="sq" w="572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86426"/>
                </a:solidFill>
                <a:latin typeface="Times New Roman"/>
                <a:ea typeface="HG丸ｺﾞｼｯｸM-PRO"/>
              </a:rPr>
              <a:t>「テトラ土浦」</a:t>
            </a:r>
            <a:endParaRPr b="0" lang="en-US" sz="32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4076640"/>
            <a:ext cx="3313080" cy="1944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cap="sq" w="572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86426"/>
                </a:solidFill>
                <a:latin typeface="Times New Roman"/>
                <a:ea typeface="HG丸ｺﾞｼｯｸM-PRO"/>
              </a:rPr>
              <a:t>「新交通システム」</a:t>
            </a:r>
            <a:endParaRPr b="0" lang="en-US" sz="32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7640" y="4076640"/>
            <a:ext cx="3313080" cy="1944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cap="sq" w="572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86426"/>
                </a:solidFill>
                <a:latin typeface="Times New Roman"/>
                <a:ea typeface="HG丸ｺﾞｼｯｸM-PRO"/>
              </a:rPr>
              <a:t>「がっかり土浦」</a:t>
            </a:r>
            <a:endParaRPr b="0" lang="en-US" sz="32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1628640"/>
            <a:ext cx="3313080" cy="1944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cap="sq" w="572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86426"/>
                </a:solidFill>
                <a:latin typeface="Times New Roman"/>
                <a:ea typeface="HG丸ｺﾞｼｯｸM-PRO"/>
              </a:rPr>
              <a:t>「徒歩のまち」</a:t>
            </a:r>
            <a:endParaRPr b="0" lang="en-US" sz="32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278-A711-4E30-B7F8-CEF58E93CE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04880" y="692280"/>
            <a:ext cx="4371840" cy="5381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65320" y="1557360"/>
            <a:ext cx="1439640" cy="129708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新治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440080"/>
            <a:ext cx="1440000" cy="129672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神立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4527720"/>
            <a:ext cx="1440000" cy="129672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荒川沖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86040" y="3286080"/>
            <a:ext cx="1439640" cy="1297080"/>
          </a:xfrm>
          <a:prstGeom prst="ellipse">
            <a:avLst/>
          </a:prstGeom>
          <a:solidFill>
            <a:srgbClr val="66ccff">
              <a:alpha val="80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土浦駅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050560" y="2781360"/>
            <a:ext cx="1297440" cy="1871640"/>
            <a:chOff x="2050560" y="2781360"/>
            <a:chExt cx="1297440" cy="1871640"/>
          </a:xfrm>
        </p:grpSpPr>
        <p:sp>
          <p:nvSpPr>
            <p:cNvPr id="302" name=""/>
            <p:cNvSpPr/>
            <p:nvPr/>
          </p:nvSpPr>
          <p:spPr>
            <a:xfrm flipH="1" flipV="1">
              <a:off x="2050560" y="2781360"/>
              <a:ext cx="336600" cy="557280"/>
            </a:xfrm>
            <a:prstGeom prst="line">
              <a:avLst/>
            </a:prstGeom>
            <a:ln cap="sq" w="76320">
              <a:solidFill>
                <a:srgbClr val="ff99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101680" y="4437000"/>
              <a:ext cx="144720" cy="21600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132000" y="3428640"/>
              <a:ext cx="216000" cy="144360"/>
            </a:xfrm>
            <a:prstGeom prst="line">
              <a:avLst/>
            </a:prstGeom>
            <a:ln cap="sq" w="76320">
              <a:solidFill>
                <a:srgbClr val="ff99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812960" y="2278080"/>
            <a:ext cx="2089080" cy="2879640"/>
            <a:chOff x="1812960" y="2278080"/>
            <a:chExt cx="2089080" cy="2879640"/>
          </a:xfrm>
        </p:grpSpPr>
        <p:sp>
          <p:nvSpPr>
            <p:cNvPr id="306" name=""/>
            <p:cNvSpPr/>
            <p:nvPr/>
          </p:nvSpPr>
          <p:spPr>
            <a:xfrm>
              <a:off x="1812960" y="2781360"/>
              <a:ext cx="0" cy="1871640"/>
            </a:xfrm>
            <a:prstGeom prst="line">
              <a:avLst/>
            </a:prstGeom>
            <a:ln cap="sq" w="76320">
              <a:solidFill>
                <a:srgbClr val="ff7174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462040" y="3645000"/>
              <a:ext cx="1440000" cy="1512720"/>
            </a:xfrm>
            <a:prstGeom prst="line">
              <a:avLst/>
            </a:prstGeom>
            <a:ln cap="sq" w="76320">
              <a:solidFill>
                <a:srgbClr val="ff7174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04960" y="2278080"/>
              <a:ext cx="865440" cy="358920"/>
            </a:xfrm>
            <a:prstGeom prst="line">
              <a:avLst/>
            </a:prstGeom>
            <a:ln cap="sq" w="76320">
              <a:solidFill>
                <a:srgbClr val="ff7174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435640" y="5373720"/>
            <a:ext cx="2017800" cy="647640"/>
          </a:xfrm>
          <a:prstGeom prst="wedgeRoundRectCallout">
            <a:avLst>
              <a:gd name="adj1" fmla="val 69907"/>
              <a:gd name="adj2" fmla="val 111273"/>
              <a:gd name="adj3" fmla="val 16667"/>
            </a:avLst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96440" y="55148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テトラ土浦</a:t>
            </a:r>
            <a:r>
              <a:rPr b="0" lang="en-US" sz="1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!!</a:t>
            </a: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テトラ土浦へ</a:t>
            </a:r>
            <a:endParaRPr b="0" lang="en-US" sz="40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48360" y="1268280"/>
            <a:ext cx="3779640" cy="1150920"/>
          </a:xfrm>
          <a:prstGeom prst="roundRect">
            <a:avLst>
              <a:gd name="adj" fmla="val 16667"/>
            </a:avLst>
          </a:prstGeom>
          <a:solidFill>
            <a:srgbClr val="f7eccd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それぞれの個性を活かした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商業・観光対策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2638440"/>
            <a:ext cx="3779640" cy="11509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地区間の交通ネットワーク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の確立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005360"/>
            <a:ext cx="3779640" cy="1150920"/>
          </a:xfrm>
          <a:prstGeom prst="roundRect">
            <a:avLst>
              <a:gd name="adj" fmla="val 16667"/>
            </a:avLst>
          </a:prstGeom>
          <a:solidFill>
            <a:srgbClr val="89c4ff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新たなイメージを象る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86426"/>
                </a:solidFill>
                <a:latin typeface="HG丸ｺﾞｼｯｸM-PRO"/>
                <a:ea typeface="HG丸ｺﾞｼｯｸM-PRO"/>
              </a:rPr>
              <a:t>イベント・仕組みの創出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631-1F9D-4AA8-B457-98AB0DEE56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「徒歩のまち」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140360" y="1268280"/>
            <a:ext cx="707760" cy="1819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92000" y="2997360"/>
            <a:ext cx="7345440" cy="71280"/>
          </a:xfrm>
          <a:prstGeom prst="ellipse">
            <a:avLst/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060640"/>
            <a:ext cx="1800360" cy="1800000"/>
          </a:xfrm>
          <a:prstGeom prst="ellipse">
            <a:avLst/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観光地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43640" y="2060640"/>
            <a:ext cx="1800360" cy="1800000"/>
          </a:xfrm>
          <a:prstGeom prst="ellipse">
            <a:avLst/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観光地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 rot="10779000">
            <a:off x="1186920" y="4075560"/>
            <a:ext cx="2232360" cy="1081080"/>
          </a:xfrm>
          <a:prstGeom prst="wedgeRoundRectCallout">
            <a:avLst>
              <a:gd name="adj1" fmla="val -49046"/>
              <a:gd name="adj2" fmla="val -145004"/>
              <a:gd name="adj3" fmla="val 16667"/>
            </a:avLst>
          </a:prstGeom>
          <a:solidFill>
            <a:srgbClr val="ff79a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魅力ある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街路の創出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80000" y="4005360"/>
            <a:ext cx="2232000" cy="1152360"/>
          </a:xfrm>
          <a:prstGeom prst="wedgeRoundRectCallout">
            <a:avLst>
              <a:gd name="adj1" fmla="val -47865"/>
              <a:gd name="adj2" fmla="val -129199"/>
              <a:gd name="adj3" fmla="val 16667"/>
            </a:avLst>
          </a:prstGeom>
          <a:solidFill>
            <a:srgbClr val="ff79a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回遊性確保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2305080" cy="13654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2520720" cy="129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63640" y="2997360"/>
            <a:ext cx="5616720" cy="0"/>
          </a:xfrm>
          <a:prstGeom prst="line">
            <a:avLst/>
          </a:prstGeom>
          <a:ln cap="sq" w="127080">
            <a:solidFill>
              <a:srgbClr val="f7ecc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BEC-5B7B-4B71-A74D-E9EF75F5B4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03280" y="333360"/>
            <a:ext cx="5975280" cy="720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cap="sq" w="284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データから見る土浦市の現状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1628640"/>
            <a:ext cx="5975280" cy="720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cap="sq" w="284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各地区の現状分析・課題抽出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2924280"/>
            <a:ext cx="5975280" cy="720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cap="sq" w="284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問題提示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4221000"/>
            <a:ext cx="5975280" cy="720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cap="sq" w="284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目標・提案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5516640"/>
            <a:ext cx="5975280" cy="720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cap="sq" w="284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今後の方針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1125360"/>
            <a:ext cx="792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ddff"/>
          </a:solidFill>
          <a:ln cap="sq" w="1908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2421000"/>
            <a:ext cx="792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ddff"/>
          </a:solidFill>
          <a:ln cap="sq" w="1908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3718080"/>
            <a:ext cx="792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ddff"/>
          </a:solidFill>
          <a:ln cap="sq" w="1908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5013360"/>
            <a:ext cx="792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ddff"/>
          </a:solidFill>
          <a:ln cap="sq" w="1908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FDE-EC10-4E81-B503-4BF1CD7917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「新交通システム」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1489320" cy="1638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322000" y="166212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新治地区と市内とをつなぐ交通手段がバスのみ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11960" y="42735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＋</a:t>
            </a:r>
            <a:endParaRPr b="0" lang="en-US" sz="72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03040" y="2852640"/>
            <a:ext cx="35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高齢化などの社会的ニーズに沿った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公共交通システムの導入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80000" y="4221000"/>
            <a:ext cx="4032000" cy="1513080"/>
          </a:xfrm>
          <a:prstGeom prst="flowChartAlternateProcess">
            <a:avLst/>
          </a:prstGeom>
          <a:solidFill>
            <a:srgbClr val="f7eccd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7eccd"/>
                </a:solidFill>
                <a:latin typeface="Times New Roman"/>
              </a:rPr>
              <a:t>新治地区と駅をつなぐ</a:t>
            </a: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7eccd"/>
                </a:solidFill>
                <a:latin typeface="Times New Roman"/>
              </a:rPr>
              <a:t>「新交通システム」</a:t>
            </a: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7eccd"/>
                </a:solidFill>
                <a:latin typeface="Times New Roman"/>
              </a:rPr>
              <a:t>の導入</a:t>
            </a: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84600" y="4294080"/>
            <a:ext cx="2314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新治地区と駅をつなぐ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「新交通システム」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の導入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08360" y="2205000"/>
            <a:ext cx="1440000" cy="719280"/>
          </a:xfrm>
          <a:prstGeom prst="downArrow">
            <a:avLst>
              <a:gd name="adj1" fmla="val 50065"/>
              <a:gd name="adj2" fmla="val 22713"/>
            </a:avLst>
          </a:prstGeom>
          <a:solidFill>
            <a:srgbClr val="ff7c8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FB4-A006-44FD-9D93-CAEE5C56BB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来訪者数増加に向けて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42920" y="2637000"/>
            <a:ext cx="3240000" cy="179856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交流人口の必要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5320" y="28861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来訪客＝観光客数</a:t>
            </a:r>
            <a:endParaRPr b="0" lang="en-US" sz="36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増加の必要</a:t>
            </a:r>
            <a:endParaRPr b="0" lang="en-US" sz="36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CBC-C07C-4065-8845-771ABDB394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今までの土浦</a:t>
            </a:r>
            <a:endParaRPr b="0" lang="en-US" sz="40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35640" y="5373720"/>
            <a:ext cx="2017800" cy="647640"/>
          </a:xfrm>
          <a:prstGeom prst="wedgeRoundRectCallout">
            <a:avLst>
              <a:gd name="adj1" fmla="val 69907"/>
              <a:gd name="adj2" fmla="val 111273"/>
              <a:gd name="adj3" fmla="val 16667"/>
            </a:avLst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7eccd"/>
                </a:solidFill>
                <a:latin typeface="Times New Roman"/>
                <a:ea typeface="HGS創英角ﾎﾟｯﾌﾟ体"/>
              </a:rPr>
              <a:t>どうしてうまくいかないんだろう…</a:t>
            </a:r>
            <a:endParaRPr b="0" lang="en-US" sz="1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148428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7c80"/>
                </a:solidFill>
                <a:latin typeface="Times New Roman"/>
                <a:ea typeface="HG丸ｺﾞｼｯｸM-PRO"/>
              </a:rPr>
              <a:t>都市整備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278136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7c80"/>
                </a:solidFill>
                <a:latin typeface="Times New Roman"/>
                <a:ea typeface="HG丸ｺﾞｼｯｸM-PRO"/>
              </a:rPr>
              <a:t>歴史的町並み整備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400536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7c80"/>
                </a:solidFill>
                <a:latin typeface="Times New Roman"/>
                <a:ea typeface="HG丸ｺﾞｼｯｸM-PRO"/>
              </a:rPr>
              <a:t>全国レベルの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7c80"/>
                </a:solidFill>
                <a:latin typeface="Times New Roman"/>
                <a:ea typeface="HG丸ｺﾞｼｯｸM-PRO"/>
              </a:rPr>
              <a:t>観光資源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132000" y="1844640"/>
            <a:ext cx="1727280" cy="2521080"/>
            <a:chOff x="3132000" y="1844640"/>
            <a:chExt cx="1727280" cy="2521080"/>
          </a:xfrm>
        </p:grpSpPr>
        <p:sp>
          <p:nvSpPr>
            <p:cNvPr id="342" name=""/>
            <p:cNvSpPr/>
            <p:nvPr/>
          </p:nvSpPr>
          <p:spPr>
            <a:xfrm>
              <a:off x="3132000" y="1844640"/>
              <a:ext cx="1727280" cy="936720"/>
            </a:xfrm>
            <a:prstGeom prst="line">
              <a:avLst/>
            </a:prstGeom>
            <a:ln cap="sq" w="38160">
              <a:solidFill>
                <a:srgbClr val="f7eccd"/>
              </a:solidFill>
              <a:miter/>
              <a:headEnd len="med" type="oval" w="sm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32000" y="3141720"/>
              <a:ext cx="1727280" cy="0"/>
            </a:xfrm>
            <a:prstGeom prst="line">
              <a:avLst/>
            </a:prstGeom>
            <a:ln cap="sq" w="38160">
              <a:solidFill>
                <a:srgbClr val="f7eccd"/>
              </a:solidFill>
              <a:miter/>
              <a:headEnd len="med" type="oval" w="sm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132000" y="3500280"/>
              <a:ext cx="1727280" cy="865440"/>
            </a:xfrm>
            <a:prstGeom prst="line">
              <a:avLst/>
            </a:prstGeom>
            <a:ln cap="sq" w="38160">
              <a:solidFill>
                <a:srgbClr val="f7eccd"/>
              </a:solidFill>
              <a:miter/>
              <a:headEnd len="med" type="oval" w="sm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5811120" y="234936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・人口減る一方</a:t>
            </a:r>
            <a:endParaRPr b="0" lang="en-US" sz="32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・観光客数増えない</a:t>
            </a:r>
            <a:endParaRPr b="0" lang="en-US" sz="32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・商業衰退</a:t>
            </a:r>
            <a:endParaRPr b="0" lang="en-US" sz="32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4560" y="272880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しかし…</a:t>
            </a: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87640" y="4005360"/>
            <a:ext cx="6121440" cy="1873080"/>
            <a:chOff x="2987640" y="4005360"/>
            <a:chExt cx="6121440" cy="1873080"/>
          </a:xfrm>
        </p:grpSpPr>
        <p:sp>
          <p:nvSpPr>
            <p:cNvPr id="348" name=""/>
            <p:cNvSpPr/>
            <p:nvPr/>
          </p:nvSpPr>
          <p:spPr>
            <a:xfrm>
              <a:off x="4248000" y="4005360"/>
              <a:ext cx="4861080" cy="9349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cc66ff"/>
                  </a:solidFill>
                  <a:uFillTx/>
                  <a:latin typeface="HG丸ｺﾞｼｯｸM-PRO"/>
                  <a:ea typeface="HG丸ｺﾞｼｯｸM-PRO"/>
                </a:rPr>
                <a:t>新たなアピールが必要</a:t>
              </a:r>
              <a:r>
                <a:rPr b="1" lang="en-US" sz="3200" spc="-1" strike="noStrike" u="sng">
                  <a:solidFill>
                    <a:srgbClr val="cc66ff"/>
                  </a:solidFill>
                  <a:uFillTx/>
                  <a:latin typeface="HG丸ｺﾞｼｯｸM-PRO"/>
                  <a:ea typeface="HG丸ｺﾞｼｯｸM-PRO"/>
                </a:rPr>
                <a:t>!!</a:t>
              </a:r>
              <a:endParaRPr b="0" lang="en-US" sz="32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87640" y="4653000"/>
              <a:ext cx="3024360" cy="1225440"/>
            </a:xfrm>
            <a:prstGeom prst="irregularSeal1">
              <a:avLst/>
            </a:prstGeom>
            <a:solidFill>
              <a:srgbClr val="f7eccd"/>
            </a:solidFill>
            <a:ln cap="sq" w="12600">
              <a:solidFill>
                <a:srgbClr val="f7ec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  <a:ea typeface="HG丸ｺﾞｼｯｸM-PRO"/>
                </a:rPr>
                <a:t>インパクト</a:t>
              </a:r>
              <a:endParaRPr b="0" lang="en-US" sz="24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AC0-5C87-4501-917C-268C9F1190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～おねがい～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以降の提案は、決して悪ふざけや面白半分ではありません。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本気で土浦を盛り上げるために、発想の転換により、近年の流行の三歩先をゆく斬新なアプローチを提案するものです。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どうかご理解ください。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35640" y="5373720"/>
            <a:ext cx="2017800" cy="647640"/>
          </a:xfrm>
          <a:prstGeom prst="wedgeRoundRectCallout">
            <a:avLst>
              <a:gd name="adj1" fmla="val 69907"/>
              <a:gd name="adj2" fmla="val 111273"/>
              <a:gd name="adj3" fmla="val 16667"/>
            </a:avLst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Times New Roman"/>
                <a:ea typeface="HGP創英角ﾎﾟｯﾌﾟ体"/>
              </a:rPr>
              <a:t>おねがいします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266-DD25-48DD-A94A-1A570A2D9F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179280" y="3141720"/>
            <a:ext cx="3529080" cy="2946240"/>
            <a:chOff x="179280" y="3141720"/>
            <a:chExt cx="3529080" cy="2946240"/>
          </a:xfrm>
        </p:grpSpPr>
        <p:pic>
          <p:nvPicPr>
            <p:cNvPr id="354" name="" descr="f:id:wami:20090225184843j:imag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25440" y="3141720"/>
              <a:ext cx="338292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79280" y="3429000"/>
              <a:ext cx="25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HG正楷書体-PRO"/>
                </a:rPr>
                <a:t>工場萌え</a:t>
              </a:r>
              <a:endParaRPr b="0" lang="en-US" sz="40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「がっかり土浦」</a:t>
            </a:r>
            <a:endParaRPr b="0" lang="en-US" sz="40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920" y="1341360"/>
            <a:ext cx="3745080" cy="1008000"/>
          </a:xfrm>
          <a:prstGeom prst="rightArrowCallout">
            <a:avLst>
              <a:gd name="adj1" fmla="val 18742"/>
              <a:gd name="adj2" fmla="val 22755"/>
              <a:gd name="adj3" fmla="val 48988"/>
              <a:gd name="adj4" fmla="val 70690"/>
            </a:avLst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正攻法によるアピール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138276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7eccd"/>
                </a:solidFill>
                <a:uFillTx/>
                <a:latin typeface="Times New Roman"/>
                <a:ea typeface="HG丸ｺﾞｼｯｸM-PRO"/>
              </a:rPr>
              <a:t>「がんばっているのにどこか残念，実を結ばない」ありのままをさらけ出す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995640" y="3141720"/>
            <a:ext cx="3961080" cy="2857320"/>
            <a:chOff x="3995640" y="3141720"/>
            <a:chExt cx="3961080" cy="2857320"/>
          </a:xfrm>
        </p:grpSpPr>
        <p:pic>
          <p:nvPicPr>
            <p:cNvPr id="360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995640" y="3141720"/>
              <a:ext cx="381636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148360" y="342900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HG正楷書体-PRO"/>
                </a:rPr>
                <a:t>廃墟マニア</a:t>
              </a:r>
              <a:endParaRPr b="0" lang="en-US" sz="40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00960" y="652464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eccd"/>
                </a:solidFill>
                <a:latin typeface="Times New Roman"/>
              </a:rPr>
              <a:t>http://hdphoto.blog102.fc2.com/</a:t>
            </a: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9880" y="625788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7eccd"/>
                </a:solidFill>
                <a:latin typeface="Times New Roman"/>
              </a:rPr>
              <a:t>http://d.hatena.ne.jp/wami/</a:t>
            </a:r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4149720"/>
            <a:ext cx="5976720" cy="1008000"/>
          </a:xfrm>
          <a:prstGeom prst="bevel">
            <a:avLst>
              <a:gd name="adj" fmla="val 12500"/>
            </a:avLst>
          </a:prstGeom>
          <a:solidFill>
            <a:srgbClr val="339966">
              <a:alpha val="97000"/>
            </a:srgbClr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サブカルチャー的アプローチ</a:t>
            </a:r>
            <a:endParaRPr b="0" lang="en-US" sz="32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E53-EBB0-410C-8D5A-DC0DE55C5D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indefinite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476360" y="1700280"/>
            <a:ext cx="1440000" cy="3600360"/>
          </a:xfrm>
          <a:prstGeom prst="downArrow">
            <a:avLst>
              <a:gd name="adj1" fmla="val 50065"/>
              <a:gd name="adj2" fmla="val 56788"/>
            </a:avLst>
          </a:prstGeom>
          <a:solidFill>
            <a:srgbClr val="ff7c8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4360" y="2997360"/>
            <a:ext cx="1656000" cy="863280"/>
          </a:xfrm>
          <a:prstGeom prst="wedgeRoundRectCallout">
            <a:avLst>
              <a:gd name="adj1" fmla="val 122004"/>
              <a:gd name="adj2" fmla="val 180513"/>
              <a:gd name="adj3" fmla="val 16667"/>
            </a:avLst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行書体"/>
              </a:rPr>
              <a:t>がっかり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8000" y="2924280"/>
            <a:ext cx="1942920" cy="1152360"/>
          </a:xfrm>
          <a:prstGeom prst="wedgeRoundRectCallout">
            <a:avLst>
              <a:gd name="adj1" fmla="val 100736"/>
              <a:gd name="adj2" fmla="val 133884"/>
              <a:gd name="adj3" fmla="val 16667"/>
            </a:avLst>
          </a:prstGeom>
          <a:solidFill>
            <a:srgbClr val="ffffcc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986426"/>
                </a:solidFill>
                <a:latin typeface="Times New Roman"/>
                <a:ea typeface="HG丸ｺﾞｼｯｸM-PRO"/>
              </a:rPr>
              <a:t>意外とイイじゃん！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「がっかり土浦」構想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305080" y="1238400"/>
            <a:ext cx="47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7c80"/>
                </a:solidFill>
                <a:latin typeface="HG丸ｺﾞｼｯｸM-PRO"/>
                <a:ea typeface="HG丸ｺﾞｼｯｸM-PRO"/>
              </a:rPr>
              <a:t>土浦がっかりアンケート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＊土浦市民を対象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↓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7c80"/>
                </a:solidFill>
                <a:latin typeface="HG丸ｺﾞｼｯｸM-PRO"/>
                <a:ea typeface="HG丸ｺﾞｼｯｸM-PRO"/>
              </a:rPr>
              <a:t>がっかりマップ</a:t>
            </a: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の作成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↓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7c80"/>
                </a:solidFill>
                <a:latin typeface="HG丸ｺﾞｼｯｸM-PRO"/>
                <a:ea typeface="HG丸ｺﾞｼｯｸM-PRO"/>
              </a:rPr>
              <a:t>がっかりツアー</a:t>
            </a: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の企画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↓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来訪者アンケート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47640" y="5445000"/>
            <a:ext cx="6048720" cy="1008360"/>
          </a:xfrm>
          <a:prstGeom prst="bevel">
            <a:avLst>
              <a:gd name="adj" fmla="val 12500"/>
            </a:avLst>
          </a:prstGeom>
          <a:solidFill>
            <a:srgbClr val="ff8588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真に魅力のあるまちに</a:t>
            </a:r>
            <a:endParaRPr b="0" lang="en-US" sz="36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2852640"/>
            <a:ext cx="2232000" cy="1295640"/>
          </a:xfrm>
          <a:prstGeom prst="wedgeRoundRectCallout">
            <a:avLst>
              <a:gd name="adj1" fmla="val 90541"/>
              <a:gd name="adj2" fmla="val 124634"/>
              <a:gd name="adj3" fmla="val 16667"/>
            </a:avLst>
          </a:prstGeom>
          <a:solidFill>
            <a:srgbClr val="ff79a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もっとこうしたら・・・</a:t>
            </a:r>
            <a:endParaRPr b="0" lang="en-US" sz="20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897-5091-4908-851A-F245454044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市民へのアンケート調査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観光客へのアンケート調査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具体的な新交通システムの検討</a:t>
            </a:r>
            <a:endParaRPr b="0" lang="en-US" sz="32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47640" y="404640"/>
            <a:ext cx="5975640" cy="720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cap="sq" w="284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今後の方針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11C-62E6-4212-877F-7B6542E116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参考文献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土浦市</a:t>
            </a:r>
            <a:r>
              <a:rPr b="0" lang="en-US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HP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統計つちうら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農林水産統計年報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土浦市第７次総合計画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土浦市都市計画マスタープラン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新治村都市計画マスタープラン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厚生労働省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総務省統計局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国立社会保障　人口問題研究所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・いばらき統計情報ネットワーク</a:t>
            </a:r>
            <a:endParaRPr b="0" lang="en-US" sz="2800" spc="-1" strike="noStrike">
              <a:solidFill>
                <a:srgbClr val="f7ecc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E46-98C6-429A-8B12-39A03211AC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87280" y="1341360"/>
            <a:ext cx="6266160" cy="4680000"/>
          </a:xfrm>
          <a:prstGeom prst="wedgeRoundRectCallout">
            <a:avLst>
              <a:gd name="adj1" fmla="val 55347"/>
              <a:gd name="adj2" fmla="val 43625"/>
              <a:gd name="adj3" fmla="val 16667"/>
            </a:avLst>
          </a:prstGeom>
          <a:solidFill>
            <a:srgbClr val="986426"/>
          </a:solidFill>
          <a:ln cap="sq" w="1260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ご清聴有難うございました</a:t>
            </a:r>
            <a:endParaRPr b="0" lang="en-US" sz="36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E94-6F6B-4558-8F22-1DF3185DF8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人口問題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0" y="1413000"/>
            <a:ext cx="403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今後人口は減少傾向。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現在と比較して、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10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年後には約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3.3%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20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年後には約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9.9%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の減少が推計される。</a:t>
            </a:r>
            <a:endParaRPr b="0" lang="en-US" sz="2400" spc="-1" strike="noStrike">
              <a:solidFill>
                <a:srgbClr val="f7eccd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484280"/>
          <a:ext cx="471636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4716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049400" y="1700280"/>
            <a:ext cx="2800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HG丸ｺﾞｼｯｸM-PRO"/>
                <a:ea typeface="HG丸ｺﾞｼｯｸM-PRO"/>
              </a:rPr>
              <a:t>20</a:t>
            </a:r>
            <a:r>
              <a:rPr b="1" lang="zh-CN" sz="2400" spc="-1" strike="noStrike">
                <a:solidFill>
                  <a:srgbClr val="ff3399"/>
                </a:solidFill>
                <a:latin typeface="HG丸ｺﾞｼｯｸM-PRO"/>
                <a:ea typeface="HG丸ｺﾞｼｯｸM-PRO"/>
              </a:rPr>
              <a:t>年で約</a:t>
            </a:r>
            <a:r>
              <a:rPr b="1" lang="en-US" sz="2400" spc="-1" strike="noStrike">
                <a:solidFill>
                  <a:srgbClr val="ff3399"/>
                </a:solidFill>
                <a:latin typeface="HG丸ｺﾞｼｯｸM-PRO"/>
                <a:ea typeface="HG丸ｺﾞｼｯｸM-PRO"/>
              </a:rPr>
              <a:t>14,000</a:t>
            </a:r>
            <a:r>
              <a:rPr b="1" lang="zh-CN" sz="2400" spc="-1" strike="noStrike">
                <a:solidFill>
                  <a:srgbClr val="ff3399"/>
                </a:solidFill>
                <a:latin typeface="HG丸ｺﾞｼｯｸM-PRO"/>
                <a:ea typeface="HG丸ｺﾞｼｯｸM-PRO"/>
              </a:rPr>
              <a:t>人減少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3645000"/>
            <a:ext cx="14414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32360" y="4292640"/>
            <a:ext cx="3960720" cy="1225440"/>
            <a:chOff x="4932360" y="4292640"/>
            <a:chExt cx="3960720" cy="1225440"/>
          </a:xfrm>
        </p:grpSpPr>
        <p:sp>
          <p:nvSpPr>
            <p:cNvPr id="127" name=""/>
            <p:cNvSpPr/>
            <p:nvPr/>
          </p:nvSpPr>
          <p:spPr>
            <a:xfrm>
              <a:off x="4932360" y="4292640"/>
              <a:ext cx="3960720" cy="1225440"/>
            </a:xfrm>
            <a:prstGeom prst="flowChartAlternateProcess">
              <a:avLst/>
            </a:prstGeom>
            <a:solidFill>
              <a:srgbClr val="99ff99"/>
            </a:solidFill>
            <a:ln cap="sq"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32360" y="4292640"/>
              <a:ext cx="3960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HG丸ｺﾞｼｯｸM-PRO"/>
                </a:rPr>
                <a:t>定住者の増加は難しい。</a:t>
              </a:r>
              <a:endParaRPr b="0" lang="en-US" sz="2800" spc="-1" strike="noStrike">
                <a:solidFill>
                  <a:srgbClr val="f7ecc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HG丸ｺﾞｼｯｸM-PRO"/>
                </a:rPr>
                <a:t>来訪客数の増加を狙う。</a:t>
              </a:r>
              <a:endParaRPr b="0" lang="en-US" sz="28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79280" y="6021360"/>
            <a:ext cx="45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コーホート要因法による土浦市の将来人口推計</a:t>
            </a:r>
            <a:endParaRPr b="0" lang="en-US" sz="16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71280"/>
            <a:ext cx="4824720" cy="549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cap="sq" w="28440">
            <a:solidFill>
              <a:srgbClr val="f7ec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データから見る土浦市の現状</a:t>
            </a: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2205000"/>
            <a:ext cx="2232000" cy="360360"/>
          </a:xfrm>
          <a:prstGeom prst="line">
            <a:avLst/>
          </a:prstGeom>
          <a:ln cap="sq" w="127080">
            <a:solidFill>
              <a:srgbClr val="ff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A6A-58E1-4800-9FFD-FA6DEACE4B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産業構造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413000"/>
          <a:ext cx="361008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361008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140360" y="1844640"/>
            <a:ext cx="4895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第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1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次産業が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2,033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人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(3%)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第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2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次産業が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15,713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人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(24%)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第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3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次産業が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45,953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人（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70%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就業者の大半は第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3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次産業に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従事している。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580536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土浦市第７次総合計画より作成。</a:t>
            </a:r>
            <a:endParaRPr b="0" lang="en-US" sz="16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A09-85AF-46F1-9F62-8C922E6276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農業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268280"/>
          <a:ext cx="460368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46036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643280" y="1341360"/>
            <a:ext cx="424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れんこんの生産量は全国一。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その他にも花き類、そばなどがある。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2565360"/>
            <a:ext cx="14414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788000" y="3213000"/>
            <a:ext cx="3960720" cy="1871640"/>
            <a:chOff x="4788000" y="3213000"/>
            <a:chExt cx="3960720" cy="1871640"/>
          </a:xfrm>
        </p:grpSpPr>
        <p:sp>
          <p:nvSpPr>
            <p:cNvPr id="143" name=""/>
            <p:cNvSpPr/>
            <p:nvPr/>
          </p:nvSpPr>
          <p:spPr>
            <a:xfrm>
              <a:off x="4788000" y="3213000"/>
              <a:ext cx="3960720" cy="1871640"/>
            </a:xfrm>
            <a:prstGeom prst="flowChartAlternateProcess">
              <a:avLst/>
            </a:prstGeom>
            <a:solidFill>
              <a:srgbClr val="99ff99"/>
            </a:solidFill>
            <a:ln cap="sq"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88000" y="321300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HG丸ｺﾞｼｯｸM-PRO"/>
                </a:rPr>
                <a:t>近年農業生産額は増加しており、都市近郊農業地として確立していると言える！</a:t>
              </a:r>
              <a:endParaRPr b="0" lang="en-US" sz="28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79280" y="5950080"/>
            <a:ext cx="47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農林水産統計情報総合データベースより作成。</a:t>
            </a:r>
            <a:endParaRPr b="0" lang="en-US" sz="16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3B0-11B3-4649-AFB4-E500ACE87E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工業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341360"/>
          <a:ext cx="4619520" cy="454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461952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643280" y="1413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工業出荷額、従業者数はとも　に増加傾向。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2421000"/>
            <a:ext cx="14414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861080" y="3068640"/>
            <a:ext cx="3960720" cy="1873080"/>
            <a:chOff x="4861080" y="3068640"/>
            <a:chExt cx="3960720" cy="1873080"/>
          </a:xfrm>
        </p:grpSpPr>
        <p:sp>
          <p:nvSpPr>
            <p:cNvPr id="152" name=""/>
            <p:cNvSpPr/>
            <p:nvPr/>
          </p:nvSpPr>
          <p:spPr>
            <a:xfrm>
              <a:off x="4861080" y="3068640"/>
              <a:ext cx="3960720" cy="1873080"/>
            </a:xfrm>
            <a:prstGeom prst="flowChartAlternateProcess">
              <a:avLst/>
            </a:prstGeom>
            <a:solidFill>
              <a:srgbClr val="99ff99"/>
            </a:solidFill>
            <a:ln cap="sq"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61080" y="306864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HG丸ｺﾞｼｯｸM-PRO"/>
                </a:rPr>
                <a:t>出荷額の増加は、テクノパーク土浦北などが積極的に企業誘致を行っている結果である。</a:t>
              </a:r>
              <a:endParaRPr b="0" lang="en-US" sz="28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16000" y="595008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統計つちうらより作成。</a:t>
            </a:r>
            <a:endParaRPr b="0" lang="en-US" sz="16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8A8-7882-430F-B3B3-918DCB298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Times New Roman"/>
                <a:ea typeface="HG丸ｺﾞｼｯｸM-PRO"/>
              </a:rPr>
              <a:t>商業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484280"/>
          <a:ext cx="4859280" cy="44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485928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156360" y="2708280"/>
            <a:ext cx="14414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7eccd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932360" y="3500280"/>
            <a:ext cx="4032360" cy="1441440"/>
            <a:chOff x="4932360" y="3500280"/>
            <a:chExt cx="4032360" cy="1441440"/>
          </a:xfrm>
        </p:grpSpPr>
        <p:sp>
          <p:nvSpPr>
            <p:cNvPr id="160" name=""/>
            <p:cNvSpPr/>
            <p:nvPr/>
          </p:nvSpPr>
          <p:spPr>
            <a:xfrm>
              <a:off x="4932360" y="3500280"/>
              <a:ext cx="3960720" cy="1441440"/>
            </a:xfrm>
            <a:prstGeom prst="flowChartAlternateProcess">
              <a:avLst/>
            </a:prstGeom>
            <a:solidFill>
              <a:srgbClr val="99ff99"/>
            </a:solidFill>
            <a:ln cap="sq"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7ecc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3500280"/>
              <a:ext cx="396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HG丸ｺﾞｼｯｸM-PRO"/>
                </a:rPr>
                <a:t>新たな商業施設の魅力だけでなく、商店側の意識向上も必要。</a:t>
              </a:r>
              <a:endParaRPr b="0" lang="en-US" sz="2800" spc="-1" strike="noStrike">
                <a:solidFill>
                  <a:srgbClr val="f7eccd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116000" y="595008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統計つちうらより作成。</a:t>
            </a:r>
            <a:endParaRPr b="0" lang="en-US" sz="16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1628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近年では郊外化が進み、中心市街地の空洞化が見られる。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D9E-2959-41EE-99BD-84705D611A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b53f"/>
                </a:solidFill>
                <a:latin typeface="HG丸ｺﾞｼｯｸM-PRO"/>
                <a:ea typeface="HG丸ｺﾞｼｯｸM-PRO"/>
              </a:rPr>
              <a:t>観光</a:t>
            </a:r>
            <a:endParaRPr b="0" lang="en-US" sz="4400" spc="-1" strike="noStrike">
              <a:solidFill>
                <a:srgbClr val="dfb53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197000"/>
          <a:ext cx="367164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3671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140360" y="1413000"/>
            <a:ext cx="500364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335772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土浦市には、年間約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175</a:t>
            </a:r>
            <a:r>
              <a:rPr b="0" lang="zh-CN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万人の観光客が訪れている。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5950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茨城県観光旅客流動調査より作成。</a:t>
            </a:r>
            <a:endParaRPr b="0" lang="en-US" sz="16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443700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特に土浦全国花火競技大会は、その観光客数の約半数を占めている。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1341360"/>
            <a:ext cx="51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～有名なイベント～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・土浦全国花火競技大会（</a:t>
            </a:r>
            <a:r>
              <a:rPr b="0" lang="en-US" sz="2400" spc="-1" strike="noStrike">
                <a:solidFill>
                  <a:srgbClr val="f7eccd"/>
                </a:solidFill>
                <a:latin typeface="HG丸ｺﾞｼｯｸM-PRO"/>
                <a:ea typeface="HG丸ｺﾞｼｯｸM-PRO"/>
              </a:rPr>
              <a:t>10</a:t>
            </a: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月）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eccd"/>
                </a:solidFill>
                <a:latin typeface="Times New Roman"/>
                <a:ea typeface="HG丸ｺﾞｼｯｸM-PRO"/>
              </a:rPr>
              <a:t>・土浦キララ祭り（８月上旬）</a:t>
            </a:r>
            <a:endParaRPr b="0" lang="en-US" sz="2400" spc="-1" strike="noStrike">
              <a:solidFill>
                <a:srgbClr val="f7ec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9ED-F057-4C9F-A22C-836926F185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4:49:38Z</dcterms:created>
  <dc:creator>社会工学類</dc:creator>
  <dc:description/>
  <dc:language>en-US</dc:language>
  <cp:lastModifiedBy>社会工学類</cp:lastModifiedBy>
  <dcterms:modified xsi:type="dcterms:W3CDTF">2009-12-25T03:06:24Z</dcterms:modified>
  <cp:revision>63</cp:revision>
  <dc:subject/>
  <dc:title>タイトル</dc:title>
</cp:coreProperties>
</file>