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8.jpeg" ContentType="image/jpeg"/>
  <Override PartName="/ppt/media/image39.jpeg" ContentType="image/jpeg"/>
  <Override PartName="/ppt/media/image9.png" ContentType="image/png"/>
  <Override PartName="/ppt/media/image40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E12-B5E6-4743-8DA6-7A66C529AF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066-5783-442D-A425-DF5820803A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E2EA-49D4-48F1-84FD-477F46A1C1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16C-A95E-43B9-8A5E-C43E4FF557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3E4-1EFC-4A99-8159-ABFC7FEE58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225-AC80-4646-B5E2-FA1F0CF8E7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5B66-14A2-4D23-AE74-57DF834D88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350-156C-4F0B-94E0-A671920E06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311-67EA-49E6-AD41-7B51209A0B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5FCB-9C76-4F90-A048-9B8B94D1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5596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681120" y="4721040"/>
            <a:ext cx="544176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95F-2739-4572-8B5E-45DC5E769A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BFE0-F192-4CCC-8885-A010979F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5596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body"/>
          </p:nvPr>
        </p:nvSpPr>
        <p:spPr>
          <a:xfrm>
            <a:off x="681120" y="4721040"/>
            <a:ext cx="544176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BA01-247C-47CB-8EED-C1CEF385A0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6D5B-7B70-40AE-B355-2CF2FFF291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B4F-EDC0-4269-9E54-A15D3228EC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AD1-4111-4A7E-BE6A-8DCB483EA6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F03-4F01-4E67-B71A-3F7ADBBE20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51C-9676-4DCA-B9BC-F56C203ECB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097-4E3D-4256-9606-965B171CFD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6EB-83D2-42E1-9715-5352CEBB99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E2C8-432A-4E2C-8D80-B736796F82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B85-BCB7-43C2-9F93-B321E86132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3A26-5781-4F8C-BA4E-083312EB0D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6BA4-F6D0-43D5-939C-88E7201C13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436F-48DB-4A7B-B7FA-B81F134991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13AF-BC67-4C53-81DE-5BA8344A77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AD4F-B811-4784-9C8F-93F504E0EC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A343-209E-4E27-B898-B8DC4B7C5E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53B-F53B-4086-8254-5001E29846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E80-90A1-41F8-9A09-DE3871DD30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D03B-4FA2-4EFB-9715-B95B434646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67E-0311-49B7-91F2-D205ACF7D7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591F-42F0-4511-97D3-7040ECDA89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E18-811A-407E-BA94-EBD556AB90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CF0-E27A-41B9-80A7-D73694DF35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916-DE13-4FFD-ABCE-785658EA0E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94A-FB8A-4C40-B12A-2532196682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625B-995F-474B-ADFE-A2DEE326EC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695-20DF-441A-BE70-768D14D71D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45A0-E2BC-4B6A-BB19-BDF681BD4D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B63-67C8-4845-B25A-A514B19666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77B6-A392-4CA6-98FC-7BF6884455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180-925E-4B7D-828A-2E2C4A6F08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4B9B-873B-4DA3-8E42-CD8E13A7C4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977B-D7DA-4FDA-BFE3-744C90B875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BFE3-07AE-4478-901F-CE8C22096B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2BBE-097D-4483-86F5-51F023A970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052-F7F9-43A4-B7E9-A3B3B8C59F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8F6C-5BA8-4176-B066-44557C867F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B59C-3A09-4C00-B0F0-0A9011E980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917-8FB1-4566-A2BE-373300C7AE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694-355F-4CB9-BA39-7EEE58ECC4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715-19D3-4406-920D-2D152F4C40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7DA-213F-4C79-B031-AC1462E70D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5A4E-1992-43E3-B740-67A610F9CD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E29-8D8E-4EFE-884C-45B96FF32F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995400" y="755640"/>
            <a:ext cx="481500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74E-8C6B-4115-BA5A-A0129279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22C-C26E-4D7D-ABC0-754635E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D92-2720-4DA4-89BB-94C94671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7BB-29CA-4E67-919F-A8CD58B7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55A-C1D6-4CCC-9919-9C19171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191-A1E0-4077-9DB0-E6DC44D5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6E8-1F2A-4B44-A76E-997D590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2C9-9649-451A-BC92-E4E23F4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789-481D-46FE-BE44-92259D31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C36-D6A0-41CD-89E0-F08ED95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1BB-77F0-4091-82BA-8F97551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44C-B907-4369-88FE-EC34877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32CD-A63E-409C-AB51-31434EBF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kids.wanpug.com/top_person.html" TargetMode="External"/><Relationship Id="rId2" Type="http://schemas.openxmlformats.org/officeDocument/2006/relationships/hyperlink" Target="http://kids.wanpug.com/top_person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4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300" spc="-1" strike="noStrike">
                <a:solidFill>
                  <a:srgbClr val="000000"/>
                </a:solidFill>
                <a:latin typeface="Arial"/>
                <a:ea typeface="HGP行書体"/>
              </a:rPr>
              <a:t>灯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HGP行書体"/>
              </a:rPr>
              <a:t>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68560" y="260280"/>
            <a:ext cx="2412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都市計画マスタープラン策定実習　１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■班員）工藤はるな　瀬田麗子　飯田マ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　　　</a:t>
            </a: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　東川聡志　横手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HG正楷書体-PRO"/>
                <a:ea typeface="HG正楷書体-PRO"/>
              </a:rPr>
              <a:t>　　  ■導人） 今井唯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4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P行書体"/>
              </a:rPr>
              <a:t>ともし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86064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行書体"/>
              </a:rPr>
              <a:t>ー離したくない土浦市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280120" cy="583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1125360"/>
            <a:ext cx="2952720" cy="18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637000"/>
            <a:ext cx="2305080" cy="194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508640"/>
            <a:ext cx="7705800" cy="2158920"/>
          </a:xfrm>
          <a:custGeom>
            <a:avLst/>
            <a:gdLst>
              <a:gd name="textAreaLeft" fmla="*/ 1758960 w 7705800"/>
              <a:gd name="textAreaRight" fmla="*/ 5946840 w 7705800"/>
              <a:gd name="textAreaTop" fmla="*/ 492840 h 2158920"/>
              <a:gd name="textAreaBottom" fmla="*/ 16660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療が不十分な地域があ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284720" y="765000"/>
            <a:ext cx="2952720" cy="520560"/>
            <a:chOff x="4284720" y="765000"/>
            <a:chExt cx="2952720" cy="520560"/>
          </a:xfrm>
        </p:grpSpPr>
        <p:sp>
          <p:nvSpPr>
            <p:cNvPr id="183" name=""/>
            <p:cNvSpPr/>
            <p:nvPr/>
          </p:nvSpPr>
          <p:spPr>
            <a:xfrm>
              <a:off x="4284720" y="76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診療所の分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84720" y="1268280"/>
              <a:ext cx="28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280120" cy="583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1125360"/>
            <a:ext cx="2952720" cy="18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284720" y="765000"/>
            <a:ext cx="2952720" cy="520560"/>
            <a:chOff x="4284720" y="765000"/>
            <a:chExt cx="2952720" cy="520560"/>
          </a:xfrm>
        </p:grpSpPr>
        <p:sp>
          <p:nvSpPr>
            <p:cNvPr id="192" name=""/>
            <p:cNvSpPr/>
            <p:nvPr/>
          </p:nvSpPr>
          <p:spPr>
            <a:xfrm>
              <a:off x="4284720" y="76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診療所の分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84720" y="1268280"/>
              <a:ext cx="28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1484280"/>
            <a:ext cx="1131840" cy="1657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03280" y="3500280"/>
            <a:ext cx="7056360" cy="3097440"/>
          </a:xfrm>
          <a:prstGeom prst="cloudCallout">
            <a:avLst>
              <a:gd name="adj1" fmla="val 35689"/>
              <a:gd name="adj2" fmla="val -8582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院に行きたいけど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車はもう運転できないし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もない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も歩いて行くには遠いし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困った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132000" y="1268280"/>
            <a:ext cx="719280" cy="504720"/>
            <a:chOff x="3132000" y="1268280"/>
            <a:chExt cx="719280" cy="504720"/>
          </a:xfrm>
        </p:grpSpPr>
        <p:sp>
          <p:nvSpPr>
            <p:cNvPr id="197" name=""/>
            <p:cNvSpPr/>
            <p:nvPr/>
          </p:nvSpPr>
          <p:spPr>
            <a:xfrm>
              <a:off x="3132000" y="1268280"/>
              <a:ext cx="719280" cy="2160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4920" y="1484280"/>
              <a:ext cx="433440" cy="288720"/>
            </a:xfrm>
            <a:prstGeom prst="rect">
              <a:avLst/>
            </a:prstGeom>
            <a:solidFill>
              <a:srgbClr val="ffea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42 -0.10039 C -0.48299 -0.10756 -0.43177 -0.11473 -0.37778 -0.11288 C -0.32378 -0.11103 -0.25799 -0.09877 -0.21059 -0.08928 C -0.16319 -0.0798 -0.12812 -0.07124 -0.09305 -0.05644 C -0.05799 -0.04163 -0.01545 -0.00948 2.5E-006 9.24589E-006 E">
                                      <p:cBhvr>
                                        <p:cTn id="13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1268280"/>
            <a:ext cx="828720" cy="1260720"/>
          </a:xfrm>
          <a:custGeom>
            <a:avLst/>
            <a:gdLst>
              <a:gd name="textAreaLeft" fmla="*/ 40320 w 828720"/>
              <a:gd name="textAreaRight" fmla="*/ 788400 w 828720"/>
              <a:gd name="textAreaTop" fmla="*/ 40320 h 1260720"/>
              <a:gd name="textAreaBottom" fmla="*/ 1220400 h 1260720"/>
            </a:gdLst>
            <a:ahLst/>
            <a:rect l="textAreaLeft" t="textAreaTop" r="textAreaRight" b="textAreaBottom"/>
            <a:pathLst>
              <a:path w="21600" h="32855">
                <a:moveTo>
                  <a:pt x="3600" y="0"/>
                </a:moveTo>
                <a:arcTo wR="3600" hR="3600" stAng="16200000" swAng="-5400000"/>
                <a:lnTo>
                  <a:pt x="0" y="29255"/>
                </a:lnTo>
                <a:arcTo wR="3600" hR="3600" stAng="10800000" swAng="-5400000"/>
                <a:lnTo>
                  <a:pt x="18000" y="32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3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68560" y="1312920"/>
            <a:ext cx="4843440" cy="11692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診療所の分布に偏りが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診療所までが遠く、車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781360"/>
            <a:ext cx="6494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3429000"/>
            <a:ext cx="3456000" cy="58140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3429000"/>
            <a:ext cx="3456000" cy="58140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4148280"/>
            <a:ext cx="3745080" cy="1295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つくば、土浦の医師を派遣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学校の空き教室を利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期診療所を開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148280"/>
            <a:ext cx="3745080" cy="1295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地区内で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循環バ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運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自家用車がなく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診療所へ行くことが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5661000"/>
            <a:ext cx="7056360" cy="863640"/>
          </a:xfrm>
          <a:prstGeom prst="ellipse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医療を身近に感じられるまち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施策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医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4005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4797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280120" cy="5832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679320" y="907920"/>
            <a:ext cx="1525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医師の派遣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720" y="765000"/>
            <a:ext cx="2952720" cy="520560"/>
            <a:chOff x="4284720" y="765000"/>
            <a:chExt cx="2952720" cy="520560"/>
          </a:xfrm>
        </p:grpSpPr>
        <p:sp>
          <p:nvSpPr>
            <p:cNvPr id="224" name=""/>
            <p:cNvSpPr/>
            <p:nvPr/>
          </p:nvSpPr>
          <p:spPr>
            <a:xfrm>
              <a:off x="4284720" y="76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診療所の分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84720" y="1268280"/>
              <a:ext cx="28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452920" cy="597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765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診療所＋小中学校の分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7640" y="170028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79320" y="907920"/>
            <a:ext cx="1525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医師の派遣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679320" y="907920"/>
            <a:ext cx="1525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医師の派遣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518080" cy="597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690560" y="981000"/>
            <a:ext cx="2952720" cy="187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2421000"/>
            <a:ext cx="2305080" cy="194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4653000"/>
            <a:ext cx="7416720" cy="1225440"/>
          </a:xfrm>
          <a:prstGeom prst="ellipse">
            <a:avLst/>
          </a:prstGeom>
          <a:solidFill>
            <a:srgbClr val="ffea9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医療が不十分な地域をカバーでき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78040" y="563400"/>
            <a:ext cx="5022720" cy="6116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1989000"/>
            <a:ext cx="1223640" cy="1224000"/>
          </a:xfrm>
          <a:prstGeom prst="ellipse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36960" y="3083040"/>
            <a:ext cx="1079640" cy="1079280"/>
          </a:xfrm>
          <a:prstGeom prst="ellipse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64000" y="22766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3640" y="28526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54640" y="311616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72200" y="373536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89520" y="34322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9520" y="3379680"/>
            <a:ext cx="287280" cy="28728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1773360"/>
            <a:ext cx="165600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小学校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山ノ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斗利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菅谷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上大津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上大津東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773360"/>
            <a:ext cx="1635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中学校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土浦第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92720" y="1052640"/>
            <a:ext cx="2449440" cy="520560"/>
            <a:chOff x="5292720" y="1052640"/>
            <a:chExt cx="2449440" cy="520560"/>
          </a:xfrm>
        </p:grpSpPr>
        <p:sp>
          <p:nvSpPr>
            <p:cNvPr id="256" name=""/>
            <p:cNvSpPr/>
            <p:nvPr/>
          </p:nvSpPr>
          <p:spPr>
            <a:xfrm>
              <a:off x="5292720" y="105264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派遣する場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2720" y="1557360"/>
              <a:ext cx="23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292720" y="4581360"/>
            <a:ext cx="2449440" cy="520560"/>
            <a:chOff x="5292720" y="4581360"/>
            <a:chExt cx="2449440" cy="520560"/>
          </a:xfrm>
        </p:grpSpPr>
        <p:sp>
          <p:nvSpPr>
            <p:cNvPr id="259" name=""/>
            <p:cNvSpPr/>
            <p:nvPr/>
          </p:nvSpPr>
          <p:spPr>
            <a:xfrm>
              <a:off x="5292720" y="458136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派遣する日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086080"/>
              <a:ext cx="23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995640" y="5300640"/>
            <a:ext cx="500400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週１～２回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水・木・土曜日のいずれ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（周辺の診療所の休診日から算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679320" y="907920"/>
            <a:ext cx="1525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派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行書体"/>
              </a:rPr>
              <a:t>システ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5023080" cy="6116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1989000"/>
            <a:ext cx="1223640" cy="1224000"/>
          </a:xfrm>
          <a:prstGeom prst="ellipse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36960" y="3083040"/>
            <a:ext cx="1079640" cy="1079280"/>
          </a:xfrm>
          <a:prstGeom prst="ellipse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20640000">
            <a:off x="2268360" y="2852280"/>
            <a:ext cx="1224000" cy="2376720"/>
          </a:xfrm>
          <a:prstGeom prst="ellipse">
            <a:avLst/>
          </a:prstGeom>
          <a:solidFill>
            <a:srgbClr val="99cc00">
              <a:alpha val="40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20640000">
            <a:off x="3924360" y="3284280"/>
            <a:ext cx="725400" cy="974520"/>
          </a:xfrm>
          <a:prstGeom prst="ellipse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486900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22766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28526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54640" y="311616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72200" y="373536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89520" y="3432240"/>
            <a:ext cx="287280" cy="28728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3379680"/>
            <a:ext cx="287280" cy="28728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19400">
            <a:off x="2750760" y="3466800"/>
            <a:ext cx="1004760" cy="360360"/>
          </a:xfrm>
          <a:custGeom>
            <a:avLst/>
            <a:gdLst>
              <a:gd name="textAreaLeft" fmla="*/ 156960 w 1004760"/>
              <a:gd name="textAreaRight" fmla="*/ 879480 w 10047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4130000">
            <a:off x="3635640" y="3211560"/>
            <a:ext cx="754200" cy="250920"/>
          </a:xfrm>
          <a:custGeom>
            <a:avLst/>
            <a:gdLst>
              <a:gd name="textAreaLeft" fmla="*/ 117720 w 754200"/>
              <a:gd name="textAreaRight" fmla="*/ 660240 w 754200"/>
              <a:gd name="textAreaTop" fmla="*/ 62640 h 250920"/>
              <a:gd name="textAreaBottom" fmla="*/ 188280 h 25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750400">
            <a:off x="4356000" y="3499920"/>
            <a:ext cx="633600" cy="327240"/>
          </a:xfrm>
          <a:custGeom>
            <a:avLst/>
            <a:gdLst>
              <a:gd name="textAreaLeft" fmla="*/ 99000 w 633600"/>
              <a:gd name="textAreaRight" fmla="*/ 554400 w 633600"/>
              <a:gd name="textAreaTop" fmla="*/ 81720 h 327240"/>
              <a:gd name="textAreaBottom" fmla="*/ 245520 h 327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219640" y="1341360"/>
            <a:ext cx="3382560" cy="520560"/>
            <a:chOff x="5219640" y="1341360"/>
            <a:chExt cx="3382560" cy="520560"/>
          </a:xfrm>
        </p:grpSpPr>
        <p:sp>
          <p:nvSpPr>
            <p:cNvPr id="282" name=""/>
            <p:cNvSpPr/>
            <p:nvPr/>
          </p:nvSpPr>
          <p:spPr>
            <a:xfrm>
              <a:off x="5219640" y="1341360"/>
              <a:ext cx="33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どこから派遣する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9640" y="1846080"/>
              <a:ext cx="327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859280" y="2060640"/>
            <a:ext cx="403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土浦市・つくば市の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大型病院、診療所から派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3357720"/>
            <a:ext cx="3240000" cy="1366560"/>
          </a:xfrm>
          <a:prstGeom prst="wedgeRoundRectCallout">
            <a:avLst>
              <a:gd name="adj1" fmla="val -25601"/>
              <a:gd name="adj2" fmla="val -778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現在すでに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市の枠を越え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医師ネットワークが存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5734080"/>
            <a:ext cx="4464000" cy="71928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療の不十分を解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679320" y="907920"/>
            <a:ext cx="1525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派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行書体"/>
              </a:rPr>
              <a:t>システ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医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4005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4797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" y="907920"/>
            <a:ext cx="845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発表の流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125360"/>
            <a:ext cx="1081080" cy="5400720"/>
          </a:xfrm>
          <a:prstGeom prst="downArrow">
            <a:avLst>
              <a:gd name="adj1" fmla="val 36269"/>
              <a:gd name="adj2" fmla="val 7414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125360"/>
            <a:ext cx="28796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指す都市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500280"/>
            <a:ext cx="28796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653000"/>
            <a:ext cx="28796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後の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349360"/>
            <a:ext cx="28796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実現への施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30276" b="-299"/>
          <a:stretch/>
        </p:blipFill>
        <p:spPr>
          <a:xfrm>
            <a:off x="1908000" y="1413000"/>
            <a:ext cx="5473800" cy="51847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256360" y="5157720"/>
            <a:ext cx="180720" cy="1150920"/>
          </a:xfrm>
          <a:custGeom>
            <a:avLst/>
            <a:gdLst/>
            <a:ahLst/>
            <a:rect l="l" t="t" r="r" b="b"/>
            <a:pathLst>
              <a:path w="432" h="1542">
                <a:moveTo>
                  <a:pt x="159" y="1542"/>
                </a:moveTo>
                <a:cubicBezTo>
                  <a:pt x="170" y="1519"/>
                  <a:pt x="182" y="1497"/>
                  <a:pt x="159" y="1452"/>
                </a:cubicBezTo>
                <a:cubicBezTo>
                  <a:pt x="136" y="1407"/>
                  <a:pt x="46" y="1308"/>
                  <a:pt x="23" y="1270"/>
                </a:cubicBezTo>
                <a:cubicBezTo>
                  <a:pt x="0" y="1232"/>
                  <a:pt x="23" y="1263"/>
                  <a:pt x="23" y="1225"/>
                </a:cubicBezTo>
                <a:cubicBezTo>
                  <a:pt x="23" y="1187"/>
                  <a:pt x="8" y="1111"/>
                  <a:pt x="23" y="1043"/>
                </a:cubicBezTo>
                <a:cubicBezTo>
                  <a:pt x="38" y="975"/>
                  <a:pt x="84" y="915"/>
                  <a:pt x="114" y="817"/>
                </a:cubicBezTo>
                <a:cubicBezTo>
                  <a:pt x="144" y="719"/>
                  <a:pt x="175" y="567"/>
                  <a:pt x="205" y="454"/>
                </a:cubicBezTo>
                <a:cubicBezTo>
                  <a:pt x="235" y="341"/>
                  <a:pt x="257" y="211"/>
                  <a:pt x="295" y="136"/>
                </a:cubicBezTo>
                <a:cubicBezTo>
                  <a:pt x="333" y="61"/>
                  <a:pt x="409" y="23"/>
                  <a:pt x="432" y="0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79760" y="2060640"/>
            <a:ext cx="1177920" cy="1512720"/>
          </a:xfrm>
          <a:custGeom>
            <a:avLst/>
            <a:gdLst/>
            <a:ahLst/>
            <a:rect l="l" t="t" r="r" b="b"/>
            <a:pathLst>
              <a:path w="742" h="953">
                <a:moveTo>
                  <a:pt x="8" y="817"/>
                </a:moveTo>
                <a:cubicBezTo>
                  <a:pt x="4" y="733"/>
                  <a:pt x="0" y="650"/>
                  <a:pt x="8" y="590"/>
                </a:cubicBezTo>
                <a:cubicBezTo>
                  <a:pt x="16" y="530"/>
                  <a:pt x="46" y="499"/>
                  <a:pt x="54" y="454"/>
                </a:cubicBezTo>
                <a:cubicBezTo>
                  <a:pt x="62" y="409"/>
                  <a:pt x="31" y="341"/>
                  <a:pt x="54" y="318"/>
                </a:cubicBezTo>
                <a:cubicBezTo>
                  <a:pt x="77" y="295"/>
                  <a:pt x="175" y="348"/>
                  <a:pt x="190" y="318"/>
                </a:cubicBezTo>
                <a:cubicBezTo>
                  <a:pt x="205" y="288"/>
                  <a:pt x="129" y="182"/>
                  <a:pt x="144" y="136"/>
                </a:cubicBezTo>
                <a:cubicBezTo>
                  <a:pt x="159" y="90"/>
                  <a:pt x="235" y="68"/>
                  <a:pt x="280" y="45"/>
                </a:cubicBezTo>
                <a:cubicBezTo>
                  <a:pt x="325" y="22"/>
                  <a:pt x="372" y="0"/>
                  <a:pt x="417" y="0"/>
                </a:cubicBezTo>
                <a:cubicBezTo>
                  <a:pt x="462" y="0"/>
                  <a:pt x="508" y="30"/>
                  <a:pt x="553" y="45"/>
                </a:cubicBezTo>
                <a:cubicBezTo>
                  <a:pt x="598" y="60"/>
                  <a:pt x="666" y="61"/>
                  <a:pt x="689" y="91"/>
                </a:cubicBezTo>
                <a:cubicBezTo>
                  <a:pt x="712" y="121"/>
                  <a:pt x="682" y="174"/>
                  <a:pt x="689" y="227"/>
                </a:cubicBezTo>
                <a:cubicBezTo>
                  <a:pt x="696" y="280"/>
                  <a:pt x="742" y="363"/>
                  <a:pt x="734" y="408"/>
                </a:cubicBezTo>
                <a:cubicBezTo>
                  <a:pt x="726" y="453"/>
                  <a:pt x="696" y="461"/>
                  <a:pt x="643" y="499"/>
                </a:cubicBezTo>
                <a:cubicBezTo>
                  <a:pt x="590" y="537"/>
                  <a:pt x="440" y="574"/>
                  <a:pt x="417" y="635"/>
                </a:cubicBezTo>
                <a:cubicBezTo>
                  <a:pt x="394" y="696"/>
                  <a:pt x="530" y="824"/>
                  <a:pt x="507" y="862"/>
                </a:cubicBezTo>
                <a:cubicBezTo>
                  <a:pt x="484" y="900"/>
                  <a:pt x="325" y="847"/>
                  <a:pt x="280" y="862"/>
                </a:cubicBezTo>
                <a:cubicBezTo>
                  <a:pt x="235" y="877"/>
                  <a:pt x="280" y="953"/>
                  <a:pt x="235" y="953"/>
                </a:cubicBezTo>
                <a:cubicBezTo>
                  <a:pt x="190" y="953"/>
                  <a:pt x="46" y="877"/>
                  <a:pt x="8" y="86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286080"/>
            <a:ext cx="21564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692280"/>
            <a:ext cx="2305080" cy="936360"/>
          </a:xfrm>
          <a:prstGeom prst="wedgeRoundRectCallout">
            <a:avLst>
              <a:gd name="adj1" fmla="val -57504"/>
              <a:gd name="adj2" fmla="val 94407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新治循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バスル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3068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2708280"/>
            <a:ext cx="360360" cy="36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2708280"/>
            <a:ext cx="360360" cy="36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3640" y="3933720"/>
            <a:ext cx="10796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40000" y="3429000"/>
            <a:ext cx="100800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47640" y="692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路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1970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679320" y="907920"/>
            <a:ext cx="1525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バス路線の拡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0" t="0" r="30276" b="-299"/>
          <a:stretch/>
        </p:blipFill>
        <p:spPr>
          <a:xfrm>
            <a:off x="1908000" y="1413000"/>
            <a:ext cx="5473800" cy="5184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256360" y="5157720"/>
            <a:ext cx="180720" cy="1150920"/>
          </a:xfrm>
          <a:custGeom>
            <a:avLst/>
            <a:gdLst/>
            <a:ahLst/>
            <a:rect l="l" t="t" r="r" b="b"/>
            <a:pathLst>
              <a:path w="432" h="1542">
                <a:moveTo>
                  <a:pt x="159" y="1542"/>
                </a:moveTo>
                <a:cubicBezTo>
                  <a:pt x="170" y="1519"/>
                  <a:pt x="182" y="1497"/>
                  <a:pt x="159" y="1452"/>
                </a:cubicBezTo>
                <a:cubicBezTo>
                  <a:pt x="136" y="1407"/>
                  <a:pt x="46" y="1308"/>
                  <a:pt x="23" y="1270"/>
                </a:cubicBezTo>
                <a:cubicBezTo>
                  <a:pt x="0" y="1232"/>
                  <a:pt x="23" y="1263"/>
                  <a:pt x="23" y="1225"/>
                </a:cubicBezTo>
                <a:cubicBezTo>
                  <a:pt x="23" y="1187"/>
                  <a:pt x="8" y="1111"/>
                  <a:pt x="23" y="1043"/>
                </a:cubicBezTo>
                <a:cubicBezTo>
                  <a:pt x="38" y="975"/>
                  <a:pt x="84" y="915"/>
                  <a:pt x="114" y="817"/>
                </a:cubicBezTo>
                <a:cubicBezTo>
                  <a:pt x="144" y="719"/>
                  <a:pt x="175" y="567"/>
                  <a:pt x="205" y="454"/>
                </a:cubicBezTo>
                <a:cubicBezTo>
                  <a:pt x="235" y="341"/>
                  <a:pt x="257" y="211"/>
                  <a:pt x="295" y="136"/>
                </a:cubicBezTo>
                <a:cubicBezTo>
                  <a:pt x="333" y="61"/>
                  <a:pt x="409" y="23"/>
                  <a:pt x="432" y="0"/>
                </a:cubicBezTo>
              </a:path>
            </a:pathLst>
          </a:custGeom>
          <a:noFill/>
          <a:ln cap="rnd" w="8892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9440" y="3429000"/>
            <a:ext cx="2606400" cy="1638360"/>
          </a:xfrm>
          <a:custGeom>
            <a:avLst/>
            <a:gdLst/>
            <a:ahLst/>
            <a:rect l="l" t="t" r="r" b="b"/>
            <a:pathLst>
              <a:path w="1642" h="1032">
                <a:moveTo>
                  <a:pt x="1566" y="1032"/>
                </a:moveTo>
                <a:cubicBezTo>
                  <a:pt x="1573" y="1007"/>
                  <a:pt x="1642" y="935"/>
                  <a:pt x="1607" y="883"/>
                </a:cubicBezTo>
                <a:cubicBezTo>
                  <a:pt x="1572" y="831"/>
                  <a:pt x="1426" y="776"/>
                  <a:pt x="1356" y="720"/>
                </a:cubicBezTo>
                <a:cubicBezTo>
                  <a:pt x="1286" y="664"/>
                  <a:pt x="1239" y="587"/>
                  <a:pt x="1187" y="544"/>
                </a:cubicBezTo>
                <a:cubicBezTo>
                  <a:pt x="1135" y="501"/>
                  <a:pt x="1097" y="490"/>
                  <a:pt x="1043" y="461"/>
                </a:cubicBezTo>
                <a:cubicBezTo>
                  <a:pt x="989" y="432"/>
                  <a:pt x="922" y="415"/>
                  <a:pt x="862" y="370"/>
                </a:cubicBezTo>
                <a:cubicBezTo>
                  <a:pt x="802" y="325"/>
                  <a:pt x="748" y="241"/>
                  <a:pt x="680" y="188"/>
                </a:cubicBezTo>
                <a:cubicBezTo>
                  <a:pt x="612" y="135"/>
                  <a:pt x="528" y="82"/>
                  <a:pt x="453" y="52"/>
                </a:cubicBezTo>
                <a:cubicBezTo>
                  <a:pt x="378" y="22"/>
                  <a:pt x="302" y="14"/>
                  <a:pt x="227" y="7"/>
                </a:cubicBezTo>
                <a:cubicBezTo>
                  <a:pt x="152" y="0"/>
                  <a:pt x="38" y="7"/>
                  <a:pt x="0" y="7"/>
                </a:cubicBezTo>
              </a:path>
            </a:pathLst>
          </a:custGeom>
          <a:noFill/>
          <a:ln w="889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79760" y="2060640"/>
            <a:ext cx="1177920" cy="1512720"/>
          </a:xfrm>
          <a:custGeom>
            <a:avLst/>
            <a:gdLst/>
            <a:ahLst/>
            <a:rect l="l" t="t" r="r" b="b"/>
            <a:pathLst>
              <a:path w="742" h="953">
                <a:moveTo>
                  <a:pt x="8" y="817"/>
                </a:moveTo>
                <a:cubicBezTo>
                  <a:pt x="4" y="733"/>
                  <a:pt x="0" y="650"/>
                  <a:pt x="8" y="590"/>
                </a:cubicBezTo>
                <a:cubicBezTo>
                  <a:pt x="16" y="530"/>
                  <a:pt x="46" y="499"/>
                  <a:pt x="54" y="454"/>
                </a:cubicBezTo>
                <a:cubicBezTo>
                  <a:pt x="62" y="409"/>
                  <a:pt x="31" y="341"/>
                  <a:pt x="54" y="318"/>
                </a:cubicBezTo>
                <a:cubicBezTo>
                  <a:pt x="77" y="295"/>
                  <a:pt x="175" y="348"/>
                  <a:pt x="190" y="318"/>
                </a:cubicBezTo>
                <a:cubicBezTo>
                  <a:pt x="205" y="288"/>
                  <a:pt x="129" y="182"/>
                  <a:pt x="144" y="136"/>
                </a:cubicBezTo>
                <a:cubicBezTo>
                  <a:pt x="159" y="90"/>
                  <a:pt x="235" y="68"/>
                  <a:pt x="280" y="45"/>
                </a:cubicBezTo>
                <a:cubicBezTo>
                  <a:pt x="325" y="22"/>
                  <a:pt x="372" y="0"/>
                  <a:pt x="417" y="0"/>
                </a:cubicBezTo>
                <a:cubicBezTo>
                  <a:pt x="462" y="0"/>
                  <a:pt x="508" y="30"/>
                  <a:pt x="553" y="45"/>
                </a:cubicBezTo>
                <a:cubicBezTo>
                  <a:pt x="598" y="60"/>
                  <a:pt x="666" y="61"/>
                  <a:pt x="689" y="91"/>
                </a:cubicBezTo>
                <a:cubicBezTo>
                  <a:pt x="712" y="121"/>
                  <a:pt x="682" y="174"/>
                  <a:pt x="689" y="227"/>
                </a:cubicBezTo>
                <a:cubicBezTo>
                  <a:pt x="696" y="280"/>
                  <a:pt x="742" y="363"/>
                  <a:pt x="734" y="408"/>
                </a:cubicBezTo>
                <a:cubicBezTo>
                  <a:pt x="726" y="453"/>
                  <a:pt x="696" y="461"/>
                  <a:pt x="643" y="499"/>
                </a:cubicBezTo>
                <a:cubicBezTo>
                  <a:pt x="590" y="537"/>
                  <a:pt x="440" y="574"/>
                  <a:pt x="417" y="635"/>
                </a:cubicBezTo>
                <a:cubicBezTo>
                  <a:pt x="394" y="696"/>
                  <a:pt x="530" y="824"/>
                  <a:pt x="507" y="862"/>
                </a:cubicBezTo>
                <a:cubicBezTo>
                  <a:pt x="484" y="900"/>
                  <a:pt x="325" y="847"/>
                  <a:pt x="280" y="862"/>
                </a:cubicBezTo>
                <a:cubicBezTo>
                  <a:pt x="235" y="877"/>
                  <a:pt x="280" y="953"/>
                  <a:pt x="235" y="953"/>
                </a:cubicBezTo>
                <a:cubicBezTo>
                  <a:pt x="190" y="953"/>
                  <a:pt x="46" y="877"/>
                  <a:pt x="8" y="86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3286080"/>
            <a:ext cx="21564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8000" y="2781360"/>
            <a:ext cx="3529080" cy="2327040"/>
          </a:xfrm>
          <a:custGeom>
            <a:avLst/>
            <a:gdLst/>
            <a:ahLst/>
            <a:rect l="l" t="t" r="r" b="b"/>
            <a:pathLst>
              <a:path w="2223" h="1466">
                <a:moveTo>
                  <a:pt x="2223" y="1451"/>
                </a:moveTo>
                <a:cubicBezTo>
                  <a:pt x="2196" y="1458"/>
                  <a:pt x="2170" y="1466"/>
                  <a:pt x="2132" y="1451"/>
                </a:cubicBezTo>
                <a:cubicBezTo>
                  <a:pt x="2094" y="1436"/>
                  <a:pt x="2041" y="1405"/>
                  <a:pt x="1996" y="1360"/>
                </a:cubicBezTo>
                <a:cubicBezTo>
                  <a:pt x="1951" y="1315"/>
                  <a:pt x="1981" y="1285"/>
                  <a:pt x="1860" y="1179"/>
                </a:cubicBezTo>
                <a:cubicBezTo>
                  <a:pt x="1739" y="1073"/>
                  <a:pt x="1398" y="823"/>
                  <a:pt x="1270" y="725"/>
                </a:cubicBezTo>
                <a:cubicBezTo>
                  <a:pt x="1142" y="627"/>
                  <a:pt x="1142" y="612"/>
                  <a:pt x="1089" y="589"/>
                </a:cubicBezTo>
                <a:cubicBezTo>
                  <a:pt x="1036" y="566"/>
                  <a:pt x="991" y="589"/>
                  <a:pt x="953" y="589"/>
                </a:cubicBezTo>
                <a:cubicBezTo>
                  <a:pt x="915" y="589"/>
                  <a:pt x="915" y="619"/>
                  <a:pt x="862" y="589"/>
                </a:cubicBezTo>
                <a:cubicBezTo>
                  <a:pt x="809" y="559"/>
                  <a:pt x="718" y="461"/>
                  <a:pt x="635" y="408"/>
                </a:cubicBezTo>
                <a:cubicBezTo>
                  <a:pt x="552" y="355"/>
                  <a:pt x="438" y="317"/>
                  <a:pt x="363" y="272"/>
                </a:cubicBezTo>
                <a:cubicBezTo>
                  <a:pt x="288" y="227"/>
                  <a:pt x="227" y="166"/>
                  <a:pt x="182" y="136"/>
                </a:cubicBezTo>
                <a:cubicBezTo>
                  <a:pt x="137" y="106"/>
                  <a:pt x="121" y="113"/>
                  <a:pt x="91" y="90"/>
                </a:cubicBezTo>
                <a:cubicBezTo>
                  <a:pt x="61" y="67"/>
                  <a:pt x="30" y="33"/>
                  <a:pt x="0" y="0"/>
                </a:cubicBezTo>
              </a:path>
            </a:pathLst>
          </a:custGeom>
          <a:noFill/>
          <a:ln cap="rnd" w="8892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068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2000" y="2708280"/>
            <a:ext cx="360360" cy="36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64000" y="2708280"/>
            <a:ext cx="360360" cy="36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63640" y="3933720"/>
            <a:ext cx="10796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40000" y="3429000"/>
            <a:ext cx="100800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692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路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11970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-679320" y="907920"/>
            <a:ext cx="1525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バス路線の拡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60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83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タ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134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195640" y="1773360"/>
            <a:ext cx="5662440" cy="4246560"/>
            <a:chOff x="2195640" y="1773360"/>
            <a:chExt cx="5662440" cy="424656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2195640" y="1773360"/>
              <a:ext cx="566244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516720" y="54450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68360" y="4365720"/>
            <a:ext cx="2159280" cy="1152360"/>
          </a:xfrm>
          <a:prstGeom prst="roundRect">
            <a:avLst>
              <a:gd name="adj" fmla="val 16667"/>
            </a:avLst>
          </a:prstGeom>
          <a:solidFill>
            <a:srgbClr val="ffccff">
              <a:alpha val="4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95640" y="1773360"/>
            <a:ext cx="5661000" cy="4246560"/>
            <a:chOff x="2195640" y="1773360"/>
            <a:chExt cx="5661000" cy="42465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2195640" y="1773360"/>
              <a:ext cx="5661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516720" y="542772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476360" y="5229360"/>
            <a:ext cx="7272360" cy="1224000"/>
          </a:xfrm>
          <a:prstGeom prst="ellipse">
            <a:avLst/>
          </a:prstGeom>
          <a:solidFill>
            <a:srgbClr val="ffea9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治地区の活性化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売り上げの向上につな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-679320" y="907920"/>
            <a:ext cx="1525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バス路線の拡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まとめ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1916280"/>
            <a:ext cx="3527640" cy="58140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9800" y="1916280"/>
            <a:ext cx="3525840" cy="58140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2637000"/>
            <a:ext cx="2952720" cy="1079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診療所分布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偏りを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2637000"/>
            <a:ext cx="2950920" cy="1079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車に頼らずに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診療所に行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4149720"/>
            <a:ext cx="100800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 rot="360000">
            <a:off x="6084720" y="4221000"/>
            <a:ext cx="1582920" cy="1349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 rot="21240000">
            <a:off x="2987640" y="4581000"/>
            <a:ext cx="1008000" cy="928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 rot="21000000">
            <a:off x="2050920" y="4723920"/>
            <a:ext cx="863640" cy="898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76360" y="5445000"/>
            <a:ext cx="7056360" cy="86364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療を身近に感じられるまち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駅前の活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19640" y="4005360"/>
            <a:ext cx="3166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モール５０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問題点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547640" y="1386000"/>
            <a:ext cx="3286440" cy="2465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03640" y="4005360"/>
            <a:ext cx="3500280" cy="26254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5003640" y="1413000"/>
            <a:ext cx="3310200" cy="2436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835280" y="1341360"/>
            <a:ext cx="626400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駅前が廃れてさみしい雰囲気に・・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2133720"/>
            <a:ext cx="93492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3213000"/>
            <a:ext cx="6264000" cy="581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駅前の求心力を向上させた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00720" y="4005360"/>
            <a:ext cx="93492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19280" y="4941720"/>
            <a:ext cx="6697800" cy="7923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駅をテーマ性を持たせて活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6937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rot="1587000">
            <a:off x="2771280" y="2033640"/>
            <a:ext cx="5473800" cy="1376280"/>
          </a:xfrm>
          <a:prstGeom prst="ellipse">
            <a:avLst/>
          </a:prstGeom>
          <a:solidFill>
            <a:srgbClr val="dfff85">
              <a:alpha val="37000"/>
            </a:srgbClr>
          </a:solidFill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412400">
            <a:off x="3446640" y="3428640"/>
            <a:ext cx="2722320" cy="1449360"/>
          </a:xfrm>
          <a:prstGeom prst="ellipse">
            <a:avLst/>
          </a:prstGeom>
          <a:solidFill>
            <a:srgbClr val="ff99cc">
              <a:alpha val="6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506000">
            <a:off x="2727000" y="5003280"/>
            <a:ext cx="2306520" cy="1473480"/>
          </a:xfrm>
          <a:prstGeom prst="ellipse">
            <a:avLst/>
          </a:prstGeom>
          <a:solidFill>
            <a:srgbClr val="99ccff">
              <a:alpha val="3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5516640"/>
            <a:ext cx="79200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54560" y="3933720"/>
            <a:ext cx="1152360" cy="50508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2708280"/>
            <a:ext cx="792360" cy="576360"/>
          </a:xfrm>
          <a:prstGeom prst="ellipse">
            <a:avLst/>
          </a:prstGeom>
          <a:solidFill>
            <a:srgbClr val="ff5050">
              <a:alpha val="70000"/>
            </a:srgbClr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74560" y="2349360"/>
            <a:ext cx="3527640" cy="4321080"/>
            <a:chOff x="3274560" y="2349360"/>
            <a:chExt cx="3527640" cy="4321080"/>
          </a:xfrm>
        </p:grpSpPr>
        <p:sp>
          <p:nvSpPr>
            <p:cNvPr id="385" name=""/>
            <p:cNvSpPr/>
            <p:nvPr/>
          </p:nvSpPr>
          <p:spPr>
            <a:xfrm flipH="1">
              <a:off x="3274560" y="2349360"/>
              <a:ext cx="3527640" cy="432108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280000">
              <a:off x="3922560" y="5589360"/>
              <a:ext cx="14436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280000">
              <a:off x="6227280" y="278064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280000">
              <a:off x="5146200" y="4077720"/>
              <a:ext cx="144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416640" y="5364000"/>
            <a:ext cx="252108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若者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02360" y="4689360"/>
            <a:ext cx="1871640" cy="703440"/>
          </a:xfrm>
          <a:prstGeom prst="rect">
            <a:avLst/>
          </a:prstGeom>
          <a:solidFill>
            <a:srgbClr val="ffd5ea"/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81640" y="4284720"/>
            <a:ext cx="720720" cy="71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2720" y="1268280"/>
            <a:ext cx="237492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）ろはす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551640" y="1700280"/>
            <a:ext cx="36360" cy="123336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16000" y="4292640"/>
            <a:ext cx="2233800" cy="4597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）大人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47640" y="3860640"/>
            <a:ext cx="1440000" cy="459720"/>
          </a:xfrm>
          <a:prstGeom prst="rect">
            <a:avLst/>
          </a:prstGeom>
          <a:solidFill>
            <a:srgbClr val="d3d3f1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荒川沖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11280" y="4797360"/>
            <a:ext cx="1305000" cy="1017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836640"/>
            <a:ext cx="1314360" cy="459720"/>
          </a:xfrm>
          <a:prstGeom prst="rect">
            <a:avLst/>
          </a:prstGeom>
          <a:solidFill>
            <a:srgbClr val="dfff85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神立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問題点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95640" y="1484280"/>
            <a:ext cx="1871640" cy="703440"/>
          </a:xfrm>
          <a:prstGeom prst="rect">
            <a:avLst/>
          </a:prstGeom>
          <a:solidFill>
            <a:srgbClr val="ff5050">
              <a:alpha val="50000"/>
            </a:srgbClr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0360" y="148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1484280"/>
            <a:ext cx="2952720" cy="703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エリ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3280" y="450864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27280" y="6093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学習空間＋交流空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2492280"/>
            <a:ext cx="6120000" cy="1584360"/>
          </a:xfrm>
          <a:prstGeom prst="wedgeRoundRectCallout">
            <a:avLst>
              <a:gd name="adj1" fmla="val -30388"/>
              <a:gd name="adj2" fmla="val -63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周辺に多くの学校や塾が立地し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学生の需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大き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新市立図書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建設予定）に隣接し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 rot="19800000">
            <a:off x="2266560" y="4651200"/>
            <a:ext cx="552600" cy="1124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 rot="600000">
            <a:off x="6370560" y="4508640"/>
            <a:ext cx="542880" cy="11239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3490920" y="4435560"/>
            <a:ext cx="552600" cy="1123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722920" y="4435560"/>
            <a:ext cx="581040" cy="10857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 rot="1800000">
            <a:off x="6875280" y="4651200"/>
            <a:ext cx="59976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 rot="21000000">
            <a:off x="2843280" y="4435200"/>
            <a:ext cx="552240" cy="1190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258920" y="5300640"/>
            <a:ext cx="720072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生をターゲットに活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土浦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124000" y="1908000"/>
            <a:ext cx="5545080" cy="495000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2050920" y="1236600"/>
            <a:ext cx="5614920" cy="581400"/>
            <a:chOff x="2050920" y="1236600"/>
            <a:chExt cx="5614920" cy="581400"/>
          </a:xfrm>
        </p:grpSpPr>
        <p:sp>
          <p:nvSpPr>
            <p:cNvPr id="421" name=""/>
            <p:cNvSpPr/>
            <p:nvPr/>
          </p:nvSpPr>
          <p:spPr>
            <a:xfrm>
              <a:off x="2050920" y="1236600"/>
              <a:ext cx="2232000" cy="581400"/>
            </a:xfrm>
            <a:prstGeom prst="rect">
              <a:avLst/>
            </a:prstGeom>
            <a:solidFill>
              <a:srgbClr val="ff99cc">
                <a:alpha val="20000"/>
              </a:srgbClr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モール５０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40000" y="123660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86200" y="1236600"/>
              <a:ext cx="2879640" cy="5814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のたまり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547640" y="62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47640" y="1125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32000" y="1844640"/>
            <a:ext cx="100836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2000" y="4076640"/>
            <a:ext cx="172872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43640" y="4940280"/>
            <a:ext cx="2557440" cy="73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が多く集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59640" y="4653000"/>
            <a:ext cx="2087640" cy="459720"/>
          </a:xfrm>
          <a:prstGeom prst="rect">
            <a:avLst/>
          </a:prstGeom>
          <a:solidFill>
            <a:srgbClr val="ffdd4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市立図書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5661000"/>
            <a:ext cx="3457800" cy="73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駅⇔図書館⇔モー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92360" y="5445000"/>
            <a:ext cx="2448000" cy="459720"/>
          </a:xfrm>
          <a:prstGeom prst="rect">
            <a:avLst/>
          </a:prstGeom>
          <a:solidFill>
            <a:srgbClr val="dfff8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デストリア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348000" y="4724280"/>
            <a:ext cx="194472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土浦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47640" y="3141720"/>
            <a:ext cx="720720" cy="2736720"/>
          </a:xfrm>
          <a:prstGeom prst="ellipse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84360" y="2924280"/>
            <a:ext cx="612144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新市立図書館との連結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学生の流れを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駐輪スペースの整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学生が訪れやすい環境づく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ラッピングによる建物のイメチェ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古い・汚い・暗いイメージを払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97000" y="3213000"/>
            <a:ext cx="10335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ハード面の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556000" y="2276640"/>
            <a:ext cx="5400720" cy="4051080"/>
            <a:chOff x="2556000" y="2276640"/>
            <a:chExt cx="5400720" cy="405108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2556000" y="2276640"/>
              <a:ext cx="540072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6731280" y="5877000"/>
              <a:ext cx="115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050920" y="1252440"/>
            <a:ext cx="5614920" cy="581400"/>
            <a:chOff x="2050920" y="1252440"/>
            <a:chExt cx="5614920" cy="581400"/>
          </a:xfrm>
        </p:grpSpPr>
        <p:sp>
          <p:nvSpPr>
            <p:cNvPr id="444" name=""/>
            <p:cNvSpPr/>
            <p:nvPr/>
          </p:nvSpPr>
          <p:spPr>
            <a:xfrm>
              <a:off x="2050920" y="1252440"/>
              <a:ext cx="2232000" cy="581400"/>
            </a:xfrm>
            <a:prstGeom prst="rect">
              <a:avLst/>
            </a:prstGeom>
            <a:solidFill>
              <a:srgbClr val="ff99cc">
                <a:alpha val="20000"/>
              </a:srgbClr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モール５０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40000" y="12524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86200" y="1252440"/>
              <a:ext cx="2879640" cy="5814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学生のたまり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547640" y="636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的な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47640" y="11415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556000" y="2276640"/>
            <a:ext cx="5400720" cy="4051080"/>
            <a:chOff x="2556000" y="2276640"/>
            <a:chExt cx="5400720" cy="4051080"/>
          </a:xfrm>
        </p:grpSpPr>
        <p:pic>
          <p:nvPicPr>
            <p:cNvPr id="450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2556000" y="2276640"/>
              <a:ext cx="540072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6732720" y="5877000"/>
              <a:ext cx="115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土浦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" y="907920"/>
            <a:ext cx="845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目指す都市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83664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わたしたちの目指す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市の都市像とは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1916280"/>
            <a:ext cx="3311640" cy="1439640"/>
          </a:xfrm>
          <a:prstGeom prst="roundRect">
            <a:avLst>
              <a:gd name="adj" fmla="val 16667"/>
            </a:avLst>
          </a:prstGeom>
          <a:solidFill>
            <a:srgbClr val="99ccff">
              <a:alpha val="30000"/>
            </a:srgbClr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民の満足度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いま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1916280"/>
            <a:ext cx="3311640" cy="1439640"/>
          </a:xfrm>
          <a:prstGeom prst="roundRect">
            <a:avLst>
              <a:gd name="adj" fmla="val 16667"/>
            </a:avLst>
          </a:prstGeom>
          <a:solidFill>
            <a:srgbClr val="ff99cc">
              <a:alpha val="30000"/>
            </a:srgbClr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にぎわいのあ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気なま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4221000"/>
            <a:ext cx="7488000" cy="115272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離したくない土浦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28640" y="1916280"/>
            <a:ext cx="32277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行書体"/>
                <a:ea typeface="HG行書体"/>
              </a:rPr>
              <a:t>話すけど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HG行書体"/>
                <a:ea typeface="HG行書体"/>
              </a:rPr>
              <a:t>　　離したくない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G行書体"/>
                <a:ea typeface="HG行書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HG行書体"/>
                <a:ea typeface="HG行書体"/>
              </a:rPr>
              <a:t>　　　　土浦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50028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2556000" y="2276640"/>
            <a:ext cx="5400720" cy="4051080"/>
            <a:chOff x="2556000" y="2276640"/>
            <a:chExt cx="5400720" cy="4051080"/>
          </a:xfrm>
        </p:grpSpPr>
        <p:pic>
          <p:nvPicPr>
            <p:cNvPr id="454" name="" descr=""/>
            <p:cNvPicPr/>
            <p:nvPr/>
          </p:nvPicPr>
          <p:blipFill>
            <a:blip r:embed="rId1">
              <a:lum bright="12000"/>
              <a:alphaModFix amt="20000"/>
            </a:blip>
            <a:stretch/>
          </p:blipFill>
          <p:spPr>
            <a:xfrm>
              <a:off x="2556000" y="2276640"/>
              <a:ext cx="540072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732720" y="5877000"/>
              <a:ext cx="115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7636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どんな店舗があるの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92720" y="4581360"/>
            <a:ext cx="1152360" cy="1081080"/>
          </a:xfrm>
          <a:prstGeom prst="roundRect">
            <a:avLst>
              <a:gd name="adj" fmla="val 16667"/>
            </a:avLst>
          </a:prstGeom>
          <a:solidFill>
            <a:srgbClr val="ffff99">
              <a:alpha val="20000"/>
            </a:srgbClr>
          </a:solidFill>
          <a:ln w="381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1640" y="4869000"/>
            <a:ext cx="1440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駐輪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5084640"/>
            <a:ext cx="1295280" cy="73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60000">
            <a:off x="2916360" y="3068280"/>
            <a:ext cx="1439640" cy="1081080"/>
          </a:xfrm>
          <a:prstGeom prst="roundRect">
            <a:avLst>
              <a:gd name="adj" fmla="val 16667"/>
            </a:avLst>
          </a:prstGeom>
          <a:solidFill>
            <a:srgbClr val="ccffff">
              <a:alpha val="20000"/>
            </a:srgbClr>
          </a:solidFill>
          <a:ln w="2844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195640" y="2923920"/>
            <a:ext cx="1008000" cy="6490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87280" y="2349360"/>
            <a:ext cx="2087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書喫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43280" y="4581360"/>
            <a:ext cx="1439640" cy="115272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3816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916360" y="5373720"/>
            <a:ext cx="503280" cy="64764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00000">
            <a:off x="6514920" y="3584160"/>
            <a:ext cx="790560" cy="79236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792360"/>
              <a:gd name="textAreaBottom" fmla="*/ 753840 h 792360"/>
            </a:gdLst>
            <a:ahLst/>
            <a:rect l="textAreaLeft" t="textAreaTop" r="textAreaRight" b="textAreaBottom"/>
            <a:pathLst>
              <a:path w="21600" h="21649">
                <a:moveTo>
                  <a:pt x="3600" y="0"/>
                </a:moveTo>
                <a:arcTo wR="3600" hR="3600" stAng="16200000" swAng="-5400000"/>
                <a:lnTo>
                  <a:pt x="0" y="18049"/>
                </a:lnTo>
                <a:arcTo wR="3600" hR="3600" stAng="10800000" swAng="-5400000"/>
                <a:lnTo>
                  <a:pt x="18000" y="216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20000"/>
            </a:srgbClr>
          </a:solidFill>
          <a:ln w="2844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092720" y="3068640"/>
            <a:ext cx="215640" cy="86508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08000" y="6021360"/>
            <a:ext cx="2087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書喫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12000" y="2492280"/>
            <a:ext cx="20872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おふくろ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1557360"/>
            <a:ext cx="41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土浦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ff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ff99cc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56000" y="1773360"/>
            <a:ext cx="47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をターゲットに活性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43280" y="2565360"/>
            <a:ext cx="648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1125360"/>
            <a:ext cx="1728720" cy="581400"/>
          </a:xfrm>
          <a:prstGeom prst="rect">
            <a:avLst/>
          </a:prstGeom>
          <a:solidFill>
            <a:srgbClr val="ff5050">
              <a:alpha val="50000"/>
            </a:srgbClr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56000" y="3286080"/>
            <a:ext cx="47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廃れていた駅前に</a:t>
            </a:r>
            <a:br>
              <a:rPr sz="3200"/>
            </a:b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人の交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を生み出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43280" y="4510080"/>
            <a:ext cx="648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9280" y="5302080"/>
            <a:ext cx="6697800" cy="93528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土浦駅前に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  <a:ea typeface="HG行書体"/>
              </a:rPr>
              <a:t>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-679320" y="404640"/>
            <a:ext cx="152532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駅前の活性化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土浦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交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16360" y="407664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916360" y="479736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土浦駅ロータリーの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87280" y="836640"/>
            <a:ext cx="4608360" cy="520560"/>
            <a:chOff x="1187280" y="836640"/>
            <a:chExt cx="4608360" cy="520560"/>
          </a:xfrm>
        </p:grpSpPr>
        <p:sp>
          <p:nvSpPr>
            <p:cNvPr id="494" name=""/>
            <p:cNvSpPr/>
            <p:nvPr/>
          </p:nvSpPr>
          <p:spPr>
            <a:xfrm>
              <a:off x="1266480" y="836640"/>
              <a:ext cx="45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在の土浦駅西口の問題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87280" y="1339920"/>
              <a:ext cx="46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603520" cy="50846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274200" y="2997360"/>
            <a:ext cx="911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2997360"/>
            <a:ext cx="911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ウラ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2720" y="4870440"/>
            <a:ext cx="1438200" cy="1368360"/>
          </a:xfrm>
          <a:prstGeom prst="roundRect">
            <a:avLst>
              <a:gd name="adj" fmla="val 16667"/>
            </a:avLst>
          </a:prstGeom>
          <a:solidFill>
            <a:srgbClr val="99cc00">
              <a:alpha val="30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16360" y="1917720"/>
            <a:ext cx="360360" cy="144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440000"/>
              <a:gd name="textAreaBottom" fmla="*/ 1422720 h 1440000"/>
            </a:gdLst>
            <a:ahLst/>
            <a:rect l="textAreaLeft" t="textAreaTop" r="textAreaRight" b="textAreaBottom"/>
            <a:pathLst>
              <a:path w="21600" h="86249">
                <a:moveTo>
                  <a:pt x="3600" y="0"/>
                </a:moveTo>
                <a:arcTo wR="3600" hR="3600" stAng="16200000" swAng="-5400000"/>
                <a:lnTo>
                  <a:pt x="0" y="82649"/>
                </a:lnTo>
                <a:arcTo wR="3600" hR="3600" stAng="10800000" swAng="-5400000"/>
                <a:lnTo>
                  <a:pt x="18000" y="862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>
              <a:alpha val="40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03280" y="4726080"/>
            <a:ext cx="792360" cy="1008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5640" y="1844640"/>
            <a:ext cx="0" cy="28814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20720" y="1773360"/>
            <a:ext cx="187164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60720" y="1773360"/>
            <a:ext cx="0" cy="20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64000" y="1773360"/>
            <a:ext cx="0" cy="4608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268000" y="3789360"/>
            <a:ext cx="129564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8000" y="5589720"/>
            <a:ext cx="1656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716360" y="6381720"/>
            <a:ext cx="93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53080" y="61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537372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132000" y="1844280"/>
            <a:ext cx="15861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718160" y="14860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迎スペ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5157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ロータ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158840" y="1763640"/>
            <a:ext cx="1239840" cy="4095720"/>
          </a:xfrm>
          <a:custGeom>
            <a:avLst/>
            <a:gdLst/>
            <a:ahLst/>
            <a:rect l="l" t="t" r="r" b="b"/>
            <a:pathLst>
              <a:path w="781" h="2580">
                <a:moveTo>
                  <a:pt x="158" y="2575"/>
                </a:moveTo>
                <a:cubicBezTo>
                  <a:pt x="168" y="2541"/>
                  <a:pt x="198" y="2540"/>
                  <a:pt x="225" y="2521"/>
                </a:cubicBezTo>
                <a:cubicBezTo>
                  <a:pt x="240" y="2479"/>
                  <a:pt x="293" y="2455"/>
                  <a:pt x="334" y="2440"/>
                </a:cubicBezTo>
                <a:cubicBezTo>
                  <a:pt x="348" y="2426"/>
                  <a:pt x="361" y="2413"/>
                  <a:pt x="375" y="2399"/>
                </a:cubicBezTo>
                <a:cubicBezTo>
                  <a:pt x="382" y="2392"/>
                  <a:pt x="378" y="2381"/>
                  <a:pt x="381" y="2372"/>
                </a:cubicBezTo>
                <a:cubicBezTo>
                  <a:pt x="392" y="2333"/>
                  <a:pt x="401" y="2313"/>
                  <a:pt x="436" y="2291"/>
                </a:cubicBezTo>
                <a:cubicBezTo>
                  <a:pt x="468" y="2251"/>
                  <a:pt x="502" y="2218"/>
                  <a:pt x="544" y="2189"/>
                </a:cubicBezTo>
                <a:cubicBezTo>
                  <a:pt x="576" y="2143"/>
                  <a:pt x="637" y="2125"/>
                  <a:pt x="673" y="2081"/>
                </a:cubicBezTo>
                <a:cubicBezTo>
                  <a:pt x="705" y="2042"/>
                  <a:pt x="717" y="1996"/>
                  <a:pt x="754" y="1959"/>
                </a:cubicBezTo>
                <a:cubicBezTo>
                  <a:pt x="759" y="1945"/>
                  <a:pt x="763" y="1932"/>
                  <a:pt x="768" y="1918"/>
                </a:cubicBezTo>
                <a:cubicBezTo>
                  <a:pt x="773" y="1904"/>
                  <a:pt x="781" y="1877"/>
                  <a:pt x="781" y="1877"/>
                </a:cubicBezTo>
                <a:cubicBezTo>
                  <a:pt x="779" y="1285"/>
                  <a:pt x="778" y="694"/>
                  <a:pt x="774" y="102"/>
                </a:cubicBezTo>
                <a:cubicBezTo>
                  <a:pt x="774" y="75"/>
                  <a:pt x="761" y="55"/>
                  <a:pt x="740" y="41"/>
                </a:cubicBezTo>
                <a:cubicBezTo>
                  <a:pt x="730" y="7"/>
                  <a:pt x="741" y="23"/>
                  <a:pt x="693" y="7"/>
                </a:cubicBezTo>
                <a:cubicBezTo>
                  <a:pt x="686" y="5"/>
                  <a:pt x="673" y="0"/>
                  <a:pt x="673" y="0"/>
                </a:cubicBezTo>
                <a:cubicBezTo>
                  <a:pt x="617" y="5"/>
                  <a:pt x="599" y="1"/>
                  <a:pt x="558" y="27"/>
                </a:cubicBezTo>
                <a:cubicBezTo>
                  <a:pt x="556" y="34"/>
                  <a:pt x="555" y="42"/>
                  <a:pt x="551" y="48"/>
                </a:cubicBezTo>
                <a:cubicBezTo>
                  <a:pt x="546" y="56"/>
                  <a:pt x="535" y="60"/>
                  <a:pt x="530" y="68"/>
                </a:cubicBezTo>
                <a:cubicBezTo>
                  <a:pt x="523" y="81"/>
                  <a:pt x="517" y="109"/>
                  <a:pt x="517" y="109"/>
                </a:cubicBezTo>
                <a:cubicBezTo>
                  <a:pt x="492" y="467"/>
                  <a:pt x="502" y="721"/>
                  <a:pt x="497" y="1146"/>
                </a:cubicBezTo>
                <a:cubicBezTo>
                  <a:pt x="496" y="1254"/>
                  <a:pt x="499" y="1381"/>
                  <a:pt x="476" y="1491"/>
                </a:cubicBezTo>
                <a:cubicBezTo>
                  <a:pt x="474" y="1566"/>
                  <a:pt x="473" y="1640"/>
                  <a:pt x="469" y="1715"/>
                </a:cubicBezTo>
                <a:cubicBezTo>
                  <a:pt x="465" y="1785"/>
                  <a:pt x="424" y="1826"/>
                  <a:pt x="395" y="1884"/>
                </a:cubicBezTo>
                <a:cubicBezTo>
                  <a:pt x="379" y="1917"/>
                  <a:pt x="344" y="2000"/>
                  <a:pt x="307" y="2013"/>
                </a:cubicBezTo>
                <a:cubicBezTo>
                  <a:pt x="287" y="2042"/>
                  <a:pt x="255" y="2054"/>
                  <a:pt x="232" y="2081"/>
                </a:cubicBezTo>
                <a:cubicBezTo>
                  <a:pt x="205" y="2113"/>
                  <a:pt x="179" y="2152"/>
                  <a:pt x="144" y="2176"/>
                </a:cubicBezTo>
                <a:cubicBezTo>
                  <a:pt x="134" y="2204"/>
                  <a:pt x="116" y="2207"/>
                  <a:pt x="97" y="2230"/>
                </a:cubicBezTo>
                <a:cubicBezTo>
                  <a:pt x="78" y="2252"/>
                  <a:pt x="80" y="2267"/>
                  <a:pt x="56" y="2284"/>
                </a:cubicBezTo>
                <a:cubicBezTo>
                  <a:pt x="49" y="2304"/>
                  <a:pt x="43" y="2325"/>
                  <a:pt x="36" y="2345"/>
                </a:cubicBezTo>
                <a:cubicBezTo>
                  <a:pt x="40" y="2439"/>
                  <a:pt x="0" y="2531"/>
                  <a:pt x="90" y="2562"/>
                </a:cubicBezTo>
                <a:cubicBezTo>
                  <a:pt x="251" y="2550"/>
                  <a:pt x="154" y="2580"/>
                  <a:pt x="198" y="2528"/>
                </a:cubicBezTo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73240" y="1666800"/>
            <a:ext cx="1704960" cy="2313000"/>
          </a:xfrm>
          <a:custGeom>
            <a:avLst/>
            <a:gdLst/>
            <a:ahLst/>
            <a:rect l="l" t="t" r="r" b="b"/>
            <a:pathLst>
              <a:path w="1074" h="1457">
                <a:moveTo>
                  <a:pt x="835" y="1254"/>
                </a:moveTo>
                <a:cubicBezTo>
                  <a:pt x="816" y="1255"/>
                  <a:pt x="616" y="1266"/>
                  <a:pt x="591" y="1268"/>
                </a:cubicBezTo>
                <a:cubicBezTo>
                  <a:pt x="563" y="1271"/>
                  <a:pt x="490" y="1261"/>
                  <a:pt x="490" y="1261"/>
                </a:cubicBezTo>
                <a:cubicBezTo>
                  <a:pt x="337" y="1258"/>
                  <a:pt x="210" y="1265"/>
                  <a:pt x="63" y="1274"/>
                </a:cubicBezTo>
                <a:cubicBezTo>
                  <a:pt x="19" y="1289"/>
                  <a:pt x="16" y="1286"/>
                  <a:pt x="2" y="1329"/>
                </a:cubicBezTo>
                <a:cubicBezTo>
                  <a:pt x="4" y="1344"/>
                  <a:pt x="0" y="1399"/>
                  <a:pt x="22" y="1417"/>
                </a:cubicBezTo>
                <a:cubicBezTo>
                  <a:pt x="41" y="1432"/>
                  <a:pt x="134" y="1452"/>
                  <a:pt x="164" y="1457"/>
                </a:cubicBezTo>
                <a:cubicBezTo>
                  <a:pt x="236" y="1451"/>
                  <a:pt x="302" y="1436"/>
                  <a:pt x="375" y="1430"/>
                </a:cubicBezTo>
                <a:cubicBezTo>
                  <a:pt x="415" y="1420"/>
                  <a:pt x="443" y="1428"/>
                  <a:pt x="483" y="1417"/>
                </a:cubicBezTo>
                <a:cubicBezTo>
                  <a:pt x="625" y="1419"/>
                  <a:pt x="775" y="1430"/>
                  <a:pt x="917" y="1430"/>
                </a:cubicBezTo>
                <a:cubicBezTo>
                  <a:pt x="1030" y="1404"/>
                  <a:pt x="1030" y="1419"/>
                  <a:pt x="1052" y="1234"/>
                </a:cubicBezTo>
                <a:cubicBezTo>
                  <a:pt x="1074" y="1049"/>
                  <a:pt x="1053" y="513"/>
                  <a:pt x="1052" y="319"/>
                </a:cubicBezTo>
                <a:cubicBezTo>
                  <a:pt x="1050" y="235"/>
                  <a:pt x="1049" y="152"/>
                  <a:pt x="1045" y="68"/>
                </a:cubicBezTo>
                <a:cubicBezTo>
                  <a:pt x="1043" y="30"/>
                  <a:pt x="1033" y="37"/>
                  <a:pt x="998" y="14"/>
                </a:cubicBezTo>
                <a:cubicBezTo>
                  <a:pt x="991" y="9"/>
                  <a:pt x="978" y="0"/>
                  <a:pt x="978" y="0"/>
                </a:cubicBezTo>
                <a:cubicBezTo>
                  <a:pt x="924" y="5"/>
                  <a:pt x="885" y="13"/>
                  <a:pt x="835" y="27"/>
                </a:cubicBezTo>
                <a:cubicBezTo>
                  <a:pt x="828" y="50"/>
                  <a:pt x="816" y="66"/>
                  <a:pt x="808" y="88"/>
                </a:cubicBezTo>
                <a:cubicBezTo>
                  <a:pt x="819" y="477"/>
                  <a:pt x="830" y="865"/>
                  <a:pt x="835" y="1254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11640" y="2637000"/>
            <a:ext cx="4753080" cy="1871640"/>
          </a:xfrm>
          <a:custGeom>
            <a:avLst/>
            <a:gdLst>
              <a:gd name="textAreaLeft" fmla="*/ 1085040 w 4753080"/>
              <a:gd name="textAreaRight" fmla="*/ 3668040 w 475308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過交通が多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187280" y="836640"/>
            <a:ext cx="4608360" cy="520560"/>
            <a:chOff x="1187280" y="836640"/>
            <a:chExt cx="4608360" cy="520560"/>
          </a:xfrm>
        </p:grpSpPr>
        <p:sp>
          <p:nvSpPr>
            <p:cNvPr id="522" name=""/>
            <p:cNvSpPr/>
            <p:nvPr/>
          </p:nvSpPr>
          <p:spPr>
            <a:xfrm>
              <a:off x="1266480" y="836640"/>
              <a:ext cx="45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在の土浦駅西口の問題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87280" y="1339920"/>
              <a:ext cx="46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603520" cy="5084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274200" y="2997360"/>
            <a:ext cx="911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40760" y="2997360"/>
            <a:ext cx="911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ウラ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2720" y="4870440"/>
            <a:ext cx="1438200" cy="1368360"/>
          </a:xfrm>
          <a:prstGeom prst="roundRect">
            <a:avLst>
              <a:gd name="adj" fmla="val 16667"/>
            </a:avLst>
          </a:prstGeom>
          <a:solidFill>
            <a:srgbClr val="99cc00">
              <a:alpha val="30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16360" y="1917720"/>
            <a:ext cx="360360" cy="144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440000"/>
              <a:gd name="textAreaBottom" fmla="*/ 1422720 h 1440000"/>
            </a:gdLst>
            <a:ahLst/>
            <a:rect l="textAreaLeft" t="textAreaTop" r="textAreaRight" b="textAreaBottom"/>
            <a:pathLst>
              <a:path w="21600" h="86249">
                <a:moveTo>
                  <a:pt x="3600" y="0"/>
                </a:moveTo>
                <a:arcTo wR="3600" hR="3600" stAng="16200000" swAng="-5400000"/>
                <a:lnTo>
                  <a:pt x="0" y="82649"/>
                </a:lnTo>
                <a:arcTo wR="3600" hR="3600" stAng="10800000" swAng="-5400000"/>
                <a:lnTo>
                  <a:pt x="18000" y="862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>
              <a:alpha val="40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403280" y="4726080"/>
            <a:ext cx="792360" cy="1008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195640" y="1844640"/>
            <a:ext cx="0" cy="28814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20720" y="1773360"/>
            <a:ext cx="187164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60720" y="1773360"/>
            <a:ext cx="0" cy="20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1773360"/>
            <a:ext cx="0" cy="4608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268000" y="3789360"/>
            <a:ext cx="129564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908000" y="5589720"/>
            <a:ext cx="1656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51008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87640" y="487044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195640" y="20620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6381720"/>
            <a:ext cx="93672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16360" y="602136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5308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53080" y="61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11280" y="1917720"/>
            <a:ext cx="1441440" cy="287280"/>
          </a:xfrm>
          <a:prstGeom prst="ellipse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63920" y="4365720"/>
            <a:ext cx="287280" cy="287280"/>
          </a:xfrm>
          <a:prstGeom prst="ellipse">
            <a:avLst/>
          </a:pr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44720" y="5229360"/>
            <a:ext cx="287280" cy="865080"/>
          </a:xfrm>
          <a:prstGeom prst="ellipse">
            <a:avLst/>
          </a:pr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11640" y="2637000"/>
            <a:ext cx="4753080" cy="1871640"/>
          </a:xfrm>
          <a:custGeom>
            <a:avLst/>
            <a:gdLst>
              <a:gd name="textAreaLeft" fmla="*/ 1085040 w 4753080"/>
              <a:gd name="textAreaRight" fmla="*/ 3668040 w 475308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導線が交錯し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98720" y="1081080"/>
            <a:ext cx="812880" cy="1260360"/>
          </a:xfrm>
          <a:custGeom>
            <a:avLst/>
            <a:gdLst>
              <a:gd name="textAreaLeft" fmla="*/ 39600 w 812880"/>
              <a:gd name="textAreaRight" fmla="*/ 773280 w 812880"/>
              <a:gd name="textAreaTop" fmla="*/ 39600 h 1260360"/>
              <a:gd name="textAreaBottom" fmla="*/ 1220760 h 126036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>
              <a:alpha val="3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87640" y="1125360"/>
            <a:ext cx="4753080" cy="11692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過交通が多く危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様々な導線が交錯して危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27640" y="2421000"/>
            <a:ext cx="10094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3213000"/>
            <a:ext cx="3816360" cy="581400"/>
          </a:xfrm>
          <a:prstGeom prst="rect">
            <a:avLst/>
          </a:prstGeom>
          <a:solidFill>
            <a:srgbClr val="3366ff">
              <a:alpha val="2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54760" y="3213000"/>
            <a:ext cx="3711240" cy="581400"/>
          </a:xfrm>
          <a:prstGeom prst="rect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タリーの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20760" y="3860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通過交通の排除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にぎわいの創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4560" y="3860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西口・東口の用途分離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安全性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551560" y="4792680"/>
            <a:ext cx="1297080" cy="8794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 rot="21000000">
            <a:off x="1590840" y="5086080"/>
            <a:ext cx="1149120" cy="7142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 rot="21420000">
            <a:off x="2887200" y="4654080"/>
            <a:ext cx="1656000" cy="10018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 rot="600000">
            <a:off x="7135560" y="5086440"/>
            <a:ext cx="1019160" cy="6825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258920" y="5589720"/>
            <a:ext cx="7488360" cy="100800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・快適・にぎわう中心市街地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～施策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交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16360" y="407664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16360" y="479736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土浦駅ロータリーの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indefinite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08000" y="1413000"/>
            <a:ext cx="1513080" cy="825480"/>
          </a:xfrm>
          <a:prstGeom prst="rect">
            <a:avLst/>
          </a:prstGeom>
          <a:solidFill>
            <a:srgbClr val="3366ff">
              <a:alpha val="2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土浦駅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口周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64000" y="1413000"/>
            <a:ext cx="4535280" cy="82512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通過交通が多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3429000"/>
            <a:ext cx="936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47640" y="2205000"/>
            <a:ext cx="6985080" cy="1152720"/>
          </a:xfrm>
          <a:custGeom>
            <a:avLst/>
            <a:gdLst>
              <a:gd name="textAreaLeft" fmla="*/ 1594440 w 6985080"/>
              <a:gd name="textAreaRight" fmla="*/ 5390640 w 698508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歩行者・自転車にとって危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340000" y="4149720"/>
            <a:ext cx="5256360" cy="647640"/>
            <a:chOff x="2340000" y="4149720"/>
            <a:chExt cx="5256360" cy="647640"/>
          </a:xfrm>
        </p:grpSpPr>
        <p:sp>
          <p:nvSpPr>
            <p:cNvPr id="579" name=""/>
            <p:cNvSpPr/>
            <p:nvPr/>
          </p:nvSpPr>
          <p:spPr>
            <a:xfrm>
              <a:off x="2411640" y="414972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ロードプライシング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の実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40000" y="4797360"/>
              <a:ext cx="525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042920" y="5589720"/>
            <a:ext cx="7921800" cy="79200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西口を歩行者・自転車にやさしい空間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4941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車の流入を規制・通過交通の排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258920" y="981000"/>
            <a:ext cx="5256360" cy="647640"/>
            <a:chOff x="1258920" y="981000"/>
            <a:chExt cx="5256360" cy="647640"/>
          </a:xfrm>
        </p:grpSpPr>
        <p:sp>
          <p:nvSpPr>
            <p:cNvPr id="587" name=""/>
            <p:cNvSpPr/>
            <p:nvPr/>
          </p:nvSpPr>
          <p:spPr>
            <a:xfrm>
              <a:off x="1330560" y="981000"/>
              <a:ext cx="51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プライシングによる影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8920" y="1628640"/>
              <a:ext cx="525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4360680" cy="61675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516720" y="1773360"/>
            <a:ext cx="936720" cy="520560"/>
          </a:xfrm>
          <a:prstGeom prst="rect">
            <a:avLst/>
          </a:prstGeom>
          <a:solidFill>
            <a:srgbClr val="ffff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現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51640" y="2349360"/>
            <a:ext cx="3168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国道６号が混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土浦駅西口周辺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混雑が見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19280" y="2060640"/>
            <a:ext cx="2711520" cy="4390920"/>
          </a:xfrm>
          <a:custGeom>
            <a:avLst/>
            <a:gdLst/>
            <a:ahLst/>
            <a:rect l="l" t="t" r="r" b="b"/>
            <a:pathLst>
              <a:path w="1708" h="2766">
                <a:moveTo>
                  <a:pt x="1583" y="392"/>
                </a:moveTo>
                <a:cubicBezTo>
                  <a:pt x="1553" y="399"/>
                  <a:pt x="1525" y="408"/>
                  <a:pt x="1499" y="425"/>
                </a:cubicBezTo>
                <a:cubicBezTo>
                  <a:pt x="1476" y="460"/>
                  <a:pt x="1502" y="428"/>
                  <a:pt x="1471" y="448"/>
                </a:cubicBezTo>
                <a:cubicBezTo>
                  <a:pt x="1452" y="461"/>
                  <a:pt x="1446" y="479"/>
                  <a:pt x="1426" y="492"/>
                </a:cubicBezTo>
                <a:cubicBezTo>
                  <a:pt x="1420" y="500"/>
                  <a:pt x="1416" y="509"/>
                  <a:pt x="1409" y="515"/>
                </a:cubicBezTo>
                <a:cubicBezTo>
                  <a:pt x="1403" y="520"/>
                  <a:pt x="1393" y="520"/>
                  <a:pt x="1387" y="526"/>
                </a:cubicBezTo>
                <a:cubicBezTo>
                  <a:pt x="1383" y="530"/>
                  <a:pt x="1385" y="538"/>
                  <a:pt x="1381" y="543"/>
                </a:cubicBezTo>
                <a:cubicBezTo>
                  <a:pt x="1377" y="548"/>
                  <a:pt x="1370" y="550"/>
                  <a:pt x="1365" y="554"/>
                </a:cubicBezTo>
                <a:cubicBezTo>
                  <a:pt x="1350" y="596"/>
                  <a:pt x="1307" y="605"/>
                  <a:pt x="1286" y="638"/>
                </a:cubicBezTo>
                <a:cubicBezTo>
                  <a:pt x="1267" y="668"/>
                  <a:pt x="1261" y="699"/>
                  <a:pt x="1225" y="710"/>
                </a:cubicBezTo>
                <a:cubicBezTo>
                  <a:pt x="1202" y="735"/>
                  <a:pt x="1177" y="754"/>
                  <a:pt x="1152" y="777"/>
                </a:cubicBezTo>
                <a:cubicBezTo>
                  <a:pt x="1143" y="801"/>
                  <a:pt x="1121" y="816"/>
                  <a:pt x="1102" y="833"/>
                </a:cubicBezTo>
                <a:cubicBezTo>
                  <a:pt x="1078" y="854"/>
                  <a:pt x="1061" y="877"/>
                  <a:pt x="1035" y="895"/>
                </a:cubicBezTo>
                <a:cubicBezTo>
                  <a:pt x="1019" y="917"/>
                  <a:pt x="1001" y="936"/>
                  <a:pt x="979" y="951"/>
                </a:cubicBezTo>
                <a:cubicBezTo>
                  <a:pt x="966" y="970"/>
                  <a:pt x="949" y="979"/>
                  <a:pt x="934" y="996"/>
                </a:cubicBezTo>
                <a:cubicBezTo>
                  <a:pt x="908" y="1026"/>
                  <a:pt x="890" y="1060"/>
                  <a:pt x="867" y="1091"/>
                </a:cubicBezTo>
                <a:cubicBezTo>
                  <a:pt x="847" y="1118"/>
                  <a:pt x="826" y="1139"/>
                  <a:pt x="811" y="1169"/>
                </a:cubicBezTo>
                <a:cubicBezTo>
                  <a:pt x="803" y="1206"/>
                  <a:pt x="789" y="1231"/>
                  <a:pt x="772" y="1264"/>
                </a:cubicBezTo>
                <a:cubicBezTo>
                  <a:pt x="763" y="1283"/>
                  <a:pt x="765" y="1294"/>
                  <a:pt x="749" y="1309"/>
                </a:cubicBezTo>
                <a:cubicBezTo>
                  <a:pt x="742" y="1333"/>
                  <a:pt x="736" y="1357"/>
                  <a:pt x="727" y="1381"/>
                </a:cubicBezTo>
                <a:cubicBezTo>
                  <a:pt x="702" y="1522"/>
                  <a:pt x="702" y="1653"/>
                  <a:pt x="654" y="1790"/>
                </a:cubicBezTo>
                <a:cubicBezTo>
                  <a:pt x="644" y="1894"/>
                  <a:pt x="641" y="1999"/>
                  <a:pt x="632" y="2103"/>
                </a:cubicBezTo>
                <a:cubicBezTo>
                  <a:pt x="628" y="2152"/>
                  <a:pt x="620" y="2212"/>
                  <a:pt x="593" y="2254"/>
                </a:cubicBezTo>
                <a:cubicBezTo>
                  <a:pt x="583" y="2301"/>
                  <a:pt x="555" y="2323"/>
                  <a:pt x="531" y="2360"/>
                </a:cubicBezTo>
                <a:cubicBezTo>
                  <a:pt x="527" y="2380"/>
                  <a:pt x="524" y="2404"/>
                  <a:pt x="514" y="2422"/>
                </a:cubicBezTo>
                <a:cubicBezTo>
                  <a:pt x="508" y="2434"/>
                  <a:pt x="492" y="2455"/>
                  <a:pt x="492" y="2455"/>
                </a:cubicBezTo>
                <a:cubicBezTo>
                  <a:pt x="483" y="2485"/>
                  <a:pt x="453" y="2511"/>
                  <a:pt x="431" y="2533"/>
                </a:cubicBezTo>
                <a:cubicBezTo>
                  <a:pt x="394" y="2570"/>
                  <a:pt x="362" y="2613"/>
                  <a:pt x="324" y="2651"/>
                </a:cubicBezTo>
                <a:cubicBezTo>
                  <a:pt x="310" y="2665"/>
                  <a:pt x="298" y="2680"/>
                  <a:pt x="280" y="2690"/>
                </a:cubicBezTo>
                <a:cubicBezTo>
                  <a:pt x="265" y="2698"/>
                  <a:pt x="235" y="2712"/>
                  <a:pt x="235" y="2712"/>
                </a:cubicBezTo>
                <a:cubicBezTo>
                  <a:pt x="212" y="2737"/>
                  <a:pt x="183" y="2743"/>
                  <a:pt x="151" y="2752"/>
                </a:cubicBezTo>
                <a:cubicBezTo>
                  <a:pt x="1" y="2743"/>
                  <a:pt x="82" y="2766"/>
                  <a:pt x="28" y="2712"/>
                </a:cubicBezTo>
                <a:cubicBezTo>
                  <a:pt x="19" y="2689"/>
                  <a:pt x="8" y="2668"/>
                  <a:pt x="0" y="2645"/>
                </a:cubicBezTo>
                <a:cubicBezTo>
                  <a:pt x="3" y="2527"/>
                  <a:pt x="2" y="2423"/>
                  <a:pt x="22" y="2310"/>
                </a:cubicBezTo>
                <a:cubicBezTo>
                  <a:pt x="27" y="2247"/>
                  <a:pt x="34" y="2183"/>
                  <a:pt x="78" y="2136"/>
                </a:cubicBezTo>
                <a:cubicBezTo>
                  <a:pt x="84" y="2114"/>
                  <a:pt x="113" y="2044"/>
                  <a:pt x="129" y="2030"/>
                </a:cubicBezTo>
                <a:cubicBezTo>
                  <a:pt x="139" y="1996"/>
                  <a:pt x="138" y="1957"/>
                  <a:pt x="151" y="1924"/>
                </a:cubicBezTo>
                <a:cubicBezTo>
                  <a:pt x="153" y="1918"/>
                  <a:pt x="159" y="1913"/>
                  <a:pt x="162" y="1907"/>
                </a:cubicBezTo>
                <a:cubicBezTo>
                  <a:pt x="165" y="1902"/>
                  <a:pt x="166" y="1896"/>
                  <a:pt x="168" y="1890"/>
                </a:cubicBezTo>
                <a:cubicBezTo>
                  <a:pt x="180" y="1853"/>
                  <a:pt x="183" y="1823"/>
                  <a:pt x="213" y="1795"/>
                </a:cubicBezTo>
                <a:cubicBezTo>
                  <a:pt x="221" y="1749"/>
                  <a:pt x="251" y="1712"/>
                  <a:pt x="263" y="1667"/>
                </a:cubicBezTo>
                <a:cubicBezTo>
                  <a:pt x="276" y="1544"/>
                  <a:pt x="271" y="1600"/>
                  <a:pt x="280" y="1499"/>
                </a:cubicBezTo>
                <a:cubicBezTo>
                  <a:pt x="282" y="1398"/>
                  <a:pt x="282" y="1298"/>
                  <a:pt x="285" y="1197"/>
                </a:cubicBezTo>
                <a:cubicBezTo>
                  <a:pt x="286" y="1170"/>
                  <a:pt x="312" y="1131"/>
                  <a:pt x="324" y="1107"/>
                </a:cubicBezTo>
                <a:cubicBezTo>
                  <a:pt x="360" y="1036"/>
                  <a:pt x="335" y="990"/>
                  <a:pt x="408" y="934"/>
                </a:cubicBezTo>
                <a:cubicBezTo>
                  <a:pt x="422" y="894"/>
                  <a:pt x="434" y="863"/>
                  <a:pt x="459" y="828"/>
                </a:cubicBezTo>
                <a:cubicBezTo>
                  <a:pt x="466" y="818"/>
                  <a:pt x="479" y="814"/>
                  <a:pt x="487" y="805"/>
                </a:cubicBezTo>
                <a:cubicBezTo>
                  <a:pt x="501" y="788"/>
                  <a:pt x="507" y="778"/>
                  <a:pt x="526" y="766"/>
                </a:cubicBezTo>
                <a:cubicBezTo>
                  <a:pt x="537" y="731"/>
                  <a:pt x="579" y="702"/>
                  <a:pt x="604" y="677"/>
                </a:cubicBezTo>
                <a:cubicBezTo>
                  <a:pt x="615" y="666"/>
                  <a:pt x="628" y="656"/>
                  <a:pt x="638" y="643"/>
                </a:cubicBezTo>
                <a:cubicBezTo>
                  <a:pt x="650" y="627"/>
                  <a:pt x="654" y="604"/>
                  <a:pt x="671" y="593"/>
                </a:cubicBezTo>
                <a:cubicBezTo>
                  <a:pt x="701" y="573"/>
                  <a:pt x="683" y="587"/>
                  <a:pt x="721" y="548"/>
                </a:cubicBezTo>
                <a:cubicBezTo>
                  <a:pt x="739" y="529"/>
                  <a:pt x="752" y="513"/>
                  <a:pt x="777" y="503"/>
                </a:cubicBezTo>
                <a:cubicBezTo>
                  <a:pt x="799" y="483"/>
                  <a:pt x="827" y="473"/>
                  <a:pt x="850" y="453"/>
                </a:cubicBezTo>
                <a:cubicBezTo>
                  <a:pt x="867" y="438"/>
                  <a:pt x="876" y="421"/>
                  <a:pt x="895" y="408"/>
                </a:cubicBezTo>
                <a:cubicBezTo>
                  <a:pt x="916" y="377"/>
                  <a:pt x="946" y="374"/>
                  <a:pt x="973" y="352"/>
                </a:cubicBezTo>
                <a:cubicBezTo>
                  <a:pt x="1010" y="322"/>
                  <a:pt x="1039" y="271"/>
                  <a:pt x="1074" y="246"/>
                </a:cubicBezTo>
                <a:cubicBezTo>
                  <a:pt x="1081" y="241"/>
                  <a:pt x="1089" y="240"/>
                  <a:pt x="1096" y="235"/>
                </a:cubicBezTo>
                <a:cubicBezTo>
                  <a:pt x="1123" y="215"/>
                  <a:pt x="1128" y="184"/>
                  <a:pt x="1163" y="174"/>
                </a:cubicBezTo>
                <a:cubicBezTo>
                  <a:pt x="1182" y="144"/>
                  <a:pt x="1163" y="166"/>
                  <a:pt x="1191" y="151"/>
                </a:cubicBezTo>
                <a:cubicBezTo>
                  <a:pt x="1203" y="145"/>
                  <a:pt x="1225" y="129"/>
                  <a:pt x="1225" y="129"/>
                </a:cubicBezTo>
                <a:cubicBezTo>
                  <a:pt x="1233" y="100"/>
                  <a:pt x="1270" y="94"/>
                  <a:pt x="1297" y="84"/>
                </a:cubicBezTo>
                <a:cubicBezTo>
                  <a:pt x="1309" y="73"/>
                  <a:pt x="1328" y="53"/>
                  <a:pt x="1342" y="45"/>
                </a:cubicBezTo>
                <a:cubicBezTo>
                  <a:pt x="1361" y="34"/>
                  <a:pt x="1398" y="28"/>
                  <a:pt x="1420" y="23"/>
                </a:cubicBezTo>
                <a:cubicBezTo>
                  <a:pt x="1428" y="19"/>
                  <a:pt x="1435" y="14"/>
                  <a:pt x="1443" y="11"/>
                </a:cubicBezTo>
                <a:cubicBezTo>
                  <a:pt x="1456" y="6"/>
                  <a:pt x="1482" y="0"/>
                  <a:pt x="1482" y="0"/>
                </a:cubicBezTo>
                <a:cubicBezTo>
                  <a:pt x="1514" y="2"/>
                  <a:pt x="1546" y="1"/>
                  <a:pt x="1577" y="6"/>
                </a:cubicBezTo>
                <a:cubicBezTo>
                  <a:pt x="1598" y="9"/>
                  <a:pt x="1639" y="23"/>
                  <a:pt x="1639" y="23"/>
                </a:cubicBezTo>
                <a:cubicBezTo>
                  <a:pt x="1646" y="47"/>
                  <a:pt x="1660" y="61"/>
                  <a:pt x="1678" y="78"/>
                </a:cubicBezTo>
                <a:cubicBezTo>
                  <a:pt x="1685" y="92"/>
                  <a:pt x="1699" y="103"/>
                  <a:pt x="1700" y="118"/>
                </a:cubicBezTo>
                <a:cubicBezTo>
                  <a:pt x="1702" y="160"/>
                  <a:pt x="1708" y="269"/>
                  <a:pt x="1650" y="291"/>
                </a:cubicBezTo>
                <a:cubicBezTo>
                  <a:pt x="1629" y="312"/>
                  <a:pt x="1618" y="332"/>
                  <a:pt x="1588" y="341"/>
                </a:cubicBezTo>
                <a:cubicBezTo>
                  <a:pt x="1581" y="352"/>
                  <a:pt x="1570" y="362"/>
                  <a:pt x="1566" y="375"/>
                </a:cubicBezTo>
                <a:cubicBezTo>
                  <a:pt x="1564" y="381"/>
                  <a:pt x="1556" y="388"/>
                  <a:pt x="1560" y="392"/>
                </a:cubicBezTo>
                <a:cubicBezTo>
                  <a:pt x="1565" y="397"/>
                  <a:pt x="1575" y="392"/>
                  <a:pt x="1583" y="392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1908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80000" y="3357720"/>
            <a:ext cx="649080" cy="861840"/>
          </a:xfrm>
          <a:prstGeom prst="ellipse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679320" y="907920"/>
            <a:ext cx="15253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現状の問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9079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4076640"/>
            <a:ext cx="1727280" cy="503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068640"/>
            <a:ext cx="1081080" cy="93492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4653000"/>
            <a:ext cx="1152720" cy="72072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3213000"/>
            <a:ext cx="1152720" cy="122400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484280"/>
            <a:ext cx="1512720" cy="1944720"/>
          </a:xfrm>
          <a:prstGeom prst="ellipse">
            <a:avLst/>
          </a:prstGeom>
          <a:solidFill>
            <a:srgbClr val="b0ee0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5516640"/>
            <a:ext cx="647640" cy="1079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400000">
            <a:off x="4642920" y="4941360"/>
            <a:ext cx="648000" cy="1224000"/>
          </a:xfrm>
          <a:prstGeom prst="ellipse">
            <a:avLst/>
          </a:prstGeom>
          <a:solidFill>
            <a:srgbClr val="cc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1557360"/>
            <a:ext cx="2016000" cy="459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医療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5157720"/>
            <a:ext cx="324000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３つの駅それぞれの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求心力の低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整備が不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3429000"/>
            <a:ext cx="1873440" cy="45972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園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5229360"/>
            <a:ext cx="28796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地区内交通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211640" y="1844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987640" y="3573000"/>
            <a:ext cx="19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3716280"/>
            <a:ext cx="1079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5445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29264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393372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64911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まちづくりアンケートの結果よ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80000" y="5950080"/>
            <a:ext cx="1800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628640"/>
            <a:ext cx="865080" cy="719280"/>
          </a:xfrm>
          <a:prstGeom prst="ellipse">
            <a:avLst/>
          </a:prstGeom>
          <a:solidFill>
            <a:srgbClr val="cc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916360" y="1341000"/>
            <a:ext cx="1079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907920"/>
            <a:ext cx="2521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公共交通の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99" name="" descr=""/>
            <p:cNvPicPr/>
            <p:nvPr/>
          </p:nvPicPr>
          <p:blipFill>
            <a:blip r:embed="rId2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332000" y="554040"/>
            <a:ext cx="4425840" cy="62578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940360" y="1773360"/>
            <a:ext cx="2519280" cy="520560"/>
          </a:xfrm>
          <a:prstGeom prst="rect">
            <a:avLst/>
          </a:prstGeom>
          <a:solidFill>
            <a:srgbClr val="ffff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ライシ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508720" y="2421000"/>
            <a:ext cx="3529080" cy="2244600"/>
            <a:chOff x="5508720" y="2421000"/>
            <a:chExt cx="3529080" cy="2244600"/>
          </a:xfrm>
        </p:grpSpPr>
        <p:sp>
          <p:nvSpPr>
            <p:cNvPr id="605" name=""/>
            <p:cNvSpPr/>
            <p:nvPr/>
          </p:nvSpPr>
          <p:spPr>
            <a:xfrm>
              <a:off x="5508720" y="2421000"/>
              <a:ext cx="352908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・土浦駅西口周辺で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ロードプライシン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・　　　方向に進む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円課金され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5715000" y="3420720"/>
              <a:ext cx="767520" cy="765720"/>
              <a:chOff x="5715000" y="3420720"/>
              <a:chExt cx="767520" cy="765720"/>
            </a:xfrm>
          </p:grpSpPr>
          <p:sp>
            <p:nvSpPr>
              <p:cNvPr id="607" name=""/>
              <p:cNvSpPr/>
              <p:nvPr/>
            </p:nvSpPr>
            <p:spPr>
              <a:xfrm rot="20460000">
                <a:off x="5796360" y="3502800"/>
                <a:ext cx="604800" cy="60156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781600" y="3802680"/>
                <a:ext cx="641880" cy="828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2411280" y="2565360"/>
            <a:ext cx="1612800" cy="2762280"/>
            <a:chOff x="2411280" y="2565360"/>
            <a:chExt cx="1612800" cy="2762280"/>
          </a:xfrm>
        </p:grpSpPr>
        <p:grpSp>
          <p:nvGrpSpPr>
            <p:cNvPr id="610" name=""/>
            <p:cNvGrpSpPr/>
            <p:nvPr/>
          </p:nvGrpSpPr>
          <p:grpSpPr>
            <a:xfrm>
              <a:off x="2411280" y="4726080"/>
              <a:ext cx="604800" cy="601560"/>
              <a:chOff x="2411280" y="4726080"/>
              <a:chExt cx="604800" cy="601560"/>
            </a:xfrm>
          </p:grpSpPr>
          <p:sp>
            <p:nvSpPr>
              <p:cNvPr id="611" name=""/>
              <p:cNvSpPr/>
              <p:nvPr/>
            </p:nvSpPr>
            <p:spPr>
              <a:xfrm>
                <a:off x="2411280" y="4726080"/>
                <a:ext cx="604800" cy="60156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2593800" y="4757760"/>
                <a:ext cx="214560" cy="5652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662200" y="3684600"/>
              <a:ext cx="609480" cy="601560"/>
              <a:chOff x="2662200" y="3684600"/>
              <a:chExt cx="609480" cy="601560"/>
            </a:xfrm>
          </p:grpSpPr>
          <p:sp>
            <p:nvSpPr>
              <p:cNvPr id="614" name=""/>
              <p:cNvSpPr/>
              <p:nvPr/>
            </p:nvSpPr>
            <p:spPr>
              <a:xfrm>
                <a:off x="2662200" y="3684600"/>
                <a:ext cx="604800" cy="60156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62200" y="3889080"/>
                <a:ext cx="609480" cy="201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2628720" y="2997360"/>
              <a:ext cx="604800" cy="601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32120" y="3011400"/>
              <a:ext cx="277560" cy="4842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3419280" y="2565360"/>
              <a:ext cx="604800" cy="601920"/>
              <a:chOff x="3419280" y="2565360"/>
              <a:chExt cx="604800" cy="601920"/>
            </a:xfrm>
          </p:grpSpPr>
          <p:sp>
            <p:nvSpPr>
              <p:cNvPr id="619" name=""/>
              <p:cNvSpPr/>
              <p:nvPr/>
            </p:nvSpPr>
            <p:spPr>
              <a:xfrm>
                <a:off x="3419280" y="2565360"/>
                <a:ext cx="604800" cy="60192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571200" y="2667240"/>
                <a:ext cx="360360" cy="44748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604960" y="3363840"/>
              <a:ext cx="463680" cy="1573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4360680" cy="61675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5940360" y="1773360"/>
            <a:ext cx="2519280" cy="520560"/>
          </a:xfrm>
          <a:prstGeom prst="rect">
            <a:avLst/>
          </a:prstGeom>
          <a:solidFill>
            <a:srgbClr val="ffff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ライシング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08360" y="3573360"/>
            <a:ext cx="432000" cy="792360"/>
          </a:xfrm>
          <a:prstGeom prst="ellipse">
            <a:avLst/>
          </a:prstGeom>
          <a:solidFill>
            <a:srgbClr val="99ccff">
              <a:alpha val="4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2421000"/>
            <a:ext cx="2736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駅西口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混雑度が減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77080" y="357336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060640"/>
            <a:ext cx="2711520" cy="4390920"/>
          </a:xfrm>
          <a:custGeom>
            <a:avLst/>
            <a:gdLst/>
            <a:ahLst/>
            <a:rect l="l" t="t" r="r" b="b"/>
            <a:pathLst>
              <a:path w="1708" h="2766">
                <a:moveTo>
                  <a:pt x="1583" y="392"/>
                </a:moveTo>
                <a:cubicBezTo>
                  <a:pt x="1553" y="399"/>
                  <a:pt x="1525" y="408"/>
                  <a:pt x="1499" y="425"/>
                </a:cubicBezTo>
                <a:cubicBezTo>
                  <a:pt x="1476" y="460"/>
                  <a:pt x="1502" y="428"/>
                  <a:pt x="1471" y="448"/>
                </a:cubicBezTo>
                <a:cubicBezTo>
                  <a:pt x="1452" y="461"/>
                  <a:pt x="1446" y="479"/>
                  <a:pt x="1426" y="492"/>
                </a:cubicBezTo>
                <a:cubicBezTo>
                  <a:pt x="1420" y="500"/>
                  <a:pt x="1416" y="509"/>
                  <a:pt x="1409" y="515"/>
                </a:cubicBezTo>
                <a:cubicBezTo>
                  <a:pt x="1403" y="520"/>
                  <a:pt x="1393" y="520"/>
                  <a:pt x="1387" y="526"/>
                </a:cubicBezTo>
                <a:cubicBezTo>
                  <a:pt x="1383" y="530"/>
                  <a:pt x="1385" y="538"/>
                  <a:pt x="1381" y="543"/>
                </a:cubicBezTo>
                <a:cubicBezTo>
                  <a:pt x="1377" y="548"/>
                  <a:pt x="1370" y="550"/>
                  <a:pt x="1365" y="554"/>
                </a:cubicBezTo>
                <a:cubicBezTo>
                  <a:pt x="1350" y="596"/>
                  <a:pt x="1307" y="605"/>
                  <a:pt x="1286" y="638"/>
                </a:cubicBezTo>
                <a:cubicBezTo>
                  <a:pt x="1267" y="668"/>
                  <a:pt x="1261" y="699"/>
                  <a:pt x="1225" y="710"/>
                </a:cubicBezTo>
                <a:cubicBezTo>
                  <a:pt x="1202" y="735"/>
                  <a:pt x="1177" y="754"/>
                  <a:pt x="1152" y="777"/>
                </a:cubicBezTo>
                <a:cubicBezTo>
                  <a:pt x="1143" y="801"/>
                  <a:pt x="1121" y="816"/>
                  <a:pt x="1102" y="833"/>
                </a:cubicBezTo>
                <a:cubicBezTo>
                  <a:pt x="1078" y="854"/>
                  <a:pt x="1061" y="877"/>
                  <a:pt x="1035" y="895"/>
                </a:cubicBezTo>
                <a:cubicBezTo>
                  <a:pt x="1019" y="917"/>
                  <a:pt x="1001" y="936"/>
                  <a:pt x="979" y="951"/>
                </a:cubicBezTo>
                <a:cubicBezTo>
                  <a:pt x="966" y="970"/>
                  <a:pt x="949" y="979"/>
                  <a:pt x="934" y="996"/>
                </a:cubicBezTo>
                <a:cubicBezTo>
                  <a:pt x="908" y="1026"/>
                  <a:pt x="890" y="1060"/>
                  <a:pt x="867" y="1091"/>
                </a:cubicBezTo>
                <a:cubicBezTo>
                  <a:pt x="847" y="1118"/>
                  <a:pt x="826" y="1139"/>
                  <a:pt x="811" y="1169"/>
                </a:cubicBezTo>
                <a:cubicBezTo>
                  <a:pt x="803" y="1206"/>
                  <a:pt x="789" y="1231"/>
                  <a:pt x="772" y="1264"/>
                </a:cubicBezTo>
                <a:cubicBezTo>
                  <a:pt x="763" y="1283"/>
                  <a:pt x="765" y="1294"/>
                  <a:pt x="749" y="1309"/>
                </a:cubicBezTo>
                <a:cubicBezTo>
                  <a:pt x="742" y="1333"/>
                  <a:pt x="736" y="1357"/>
                  <a:pt x="727" y="1381"/>
                </a:cubicBezTo>
                <a:cubicBezTo>
                  <a:pt x="702" y="1522"/>
                  <a:pt x="702" y="1653"/>
                  <a:pt x="654" y="1790"/>
                </a:cubicBezTo>
                <a:cubicBezTo>
                  <a:pt x="644" y="1894"/>
                  <a:pt x="641" y="1999"/>
                  <a:pt x="632" y="2103"/>
                </a:cubicBezTo>
                <a:cubicBezTo>
                  <a:pt x="628" y="2152"/>
                  <a:pt x="620" y="2212"/>
                  <a:pt x="593" y="2254"/>
                </a:cubicBezTo>
                <a:cubicBezTo>
                  <a:pt x="583" y="2301"/>
                  <a:pt x="555" y="2323"/>
                  <a:pt x="531" y="2360"/>
                </a:cubicBezTo>
                <a:cubicBezTo>
                  <a:pt x="527" y="2380"/>
                  <a:pt x="524" y="2404"/>
                  <a:pt x="514" y="2422"/>
                </a:cubicBezTo>
                <a:cubicBezTo>
                  <a:pt x="508" y="2434"/>
                  <a:pt x="492" y="2455"/>
                  <a:pt x="492" y="2455"/>
                </a:cubicBezTo>
                <a:cubicBezTo>
                  <a:pt x="483" y="2485"/>
                  <a:pt x="453" y="2511"/>
                  <a:pt x="431" y="2533"/>
                </a:cubicBezTo>
                <a:cubicBezTo>
                  <a:pt x="394" y="2570"/>
                  <a:pt x="362" y="2613"/>
                  <a:pt x="324" y="2651"/>
                </a:cubicBezTo>
                <a:cubicBezTo>
                  <a:pt x="310" y="2665"/>
                  <a:pt x="298" y="2680"/>
                  <a:pt x="280" y="2690"/>
                </a:cubicBezTo>
                <a:cubicBezTo>
                  <a:pt x="265" y="2698"/>
                  <a:pt x="235" y="2712"/>
                  <a:pt x="235" y="2712"/>
                </a:cubicBezTo>
                <a:cubicBezTo>
                  <a:pt x="212" y="2737"/>
                  <a:pt x="183" y="2743"/>
                  <a:pt x="151" y="2752"/>
                </a:cubicBezTo>
                <a:cubicBezTo>
                  <a:pt x="1" y="2743"/>
                  <a:pt x="82" y="2766"/>
                  <a:pt x="28" y="2712"/>
                </a:cubicBezTo>
                <a:cubicBezTo>
                  <a:pt x="19" y="2689"/>
                  <a:pt x="8" y="2668"/>
                  <a:pt x="0" y="2645"/>
                </a:cubicBezTo>
                <a:cubicBezTo>
                  <a:pt x="3" y="2527"/>
                  <a:pt x="2" y="2423"/>
                  <a:pt x="22" y="2310"/>
                </a:cubicBezTo>
                <a:cubicBezTo>
                  <a:pt x="27" y="2247"/>
                  <a:pt x="34" y="2183"/>
                  <a:pt x="78" y="2136"/>
                </a:cubicBezTo>
                <a:cubicBezTo>
                  <a:pt x="84" y="2114"/>
                  <a:pt x="113" y="2044"/>
                  <a:pt x="129" y="2030"/>
                </a:cubicBezTo>
                <a:cubicBezTo>
                  <a:pt x="139" y="1996"/>
                  <a:pt x="138" y="1957"/>
                  <a:pt x="151" y="1924"/>
                </a:cubicBezTo>
                <a:cubicBezTo>
                  <a:pt x="153" y="1918"/>
                  <a:pt x="159" y="1913"/>
                  <a:pt x="162" y="1907"/>
                </a:cubicBezTo>
                <a:cubicBezTo>
                  <a:pt x="165" y="1902"/>
                  <a:pt x="166" y="1896"/>
                  <a:pt x="168" y="1890"/>
                </a:cubicBezTo>
                <a:cubicBezTo>
                  <a:pt x="180" y="1853"/>
                  <a:pt x="183" y="1823"/>
                  <a:pt x="213" y="1795"/>
                </a:cubicBezTo>
                <a:cubicBezTo>
                  <a:pt x="221" y="1749"/>
                  <a:pt x="251" y="1712"/>
                  <a:pt x="263" y="1667"/>
                </a:cubicBezTo>
                <a:cubicBezTo>
                  <a:pt x="276" y="1544"/>
                  <a:pt x="271" y="1600"/>
                  <a:pt x="280" y="1499"/>
                </a:cubicBezTo>
                <a:cubicBezTo>
                  <a:pt x="282" y="1398"/>
                  <a:pt x="282" y="1298"/>
                  <a:pt x="285" y="1197"/>
                </a:cubicBezTo>
                <a:cubicBezTo>
                  <a:pt x="286" y="1170"/>
                  <a:pt x="312" y="1131"/>
                  <a:pt x="324" y="1107"/>
                </a:cubicBezTo>
                <a:cubicBezTo>
                  <a:pt x="360" y="1036"/>
                  <a:pt x="335" y="990"/>
                  <a:pt x="408" y="934"/>
                </a:cubicBezTo>
                <a:cubicBezTo>
                  <a:pt x="422" y="894"/>
                  <a:pt x="434" y="863"/>
                  <a:pt x="459" y="828"/>
                </a:cubicBezTo>
                <a:cubicBezTo>
                  <a:pt x="466" y="818"/>
                  <a:pt x="479" y="814"/>
                  <a:pt x="487" y="805"/>
                </a:cubicBezTo>
                <a:cubicBezTo>
                  <a:pt x="501" y="788"/>
                  <a:pt x="507" y="778"/>
                  <a:pt x="526" y="766"/>
                </a:cubicBezTo>
                <a:cubicBezTo>
                  <a:pt x="537" y="731"/>
                  <a:pt x="579" y="702"/>
                  <a:pt x="604" y="677"/>
                </a:cubicBezTo>
                <a:cubicBezTo>
                  <a:pt x="615" y="666"/>
                  <a:pt x="628" y="656"/>
                  <a:pt x="638" y="643"/>
                </a:cubicBezTo>
                <a:cubicBezTo>
                  <a:pt x="650" y="627"/>
                  <a:pt x="654" y="604"/>
                  <a:pt x="671" y="593"/>
                </a:cubicBezTo>
                <a:cubicBezTo>
                  <a:pt x="701" y="573"/>
                  <a:pt x="683" y="587"/>
                  <a:pt x="721" y="548"/>
                </a:cubicBezTo>
                <a:cubicBezTo>
                  <a:pt x="739" y="529"/>
                  <a:pt x="752" y="513"/>
                  <a:pt x="777" y="503"/>
                </a:cubicBezTo>
                <a:cubicBezTo>
                  <a:pt x="799" y="483"/>
                  <a:pt x="827" y="473"/>
                  <a:pt x="850" y="453"/>
                </a:cubicBezTo>
                <a:cubicBezTo>
                  <a:pt x="867" y="438"/>
                  <a:pt x="876" y="421"/>
                  <a:pt x="895" y="408"/>
                </a:cubicBezTo>
                <a:cubicBezTo>
                  <a:pt x="916" y="377"/>
                  <a:pt x="946" y="374"/>
                  <a:pt x="973" y="352"/>
                </a:cubicBezTo>
                <a:cubicBezTo>
                  <a:pt x="1010" y="322"/>
                  <a:pt x="1039" y="271"/>
                  <a:pt x="1074" y="246"/>
                </a:cubicBezTo>
                <a:cubicBezTo>
                  <a:pt x="1081" y="241"/>
                  <a:pt x="1089" y="240"/>
                  <a:pt x="1096" y="235"/>
                </a:cubicBezTo>
                <a:cubicBezTo>
                  <a:pt x="1123" y="215"/>
                  <a:pt x="1128" y="184"/>
                  <a:pt x="1163" y="174"/>
                </a:cubicBezTo>
                <a:cubicBezTo>
                  <a:pt x="1182" y="144"/>
                  <a:pt x="1163" y="166"/>
                  <a:pt x="1191" y="151"/>
                </a:cubicBezTo>
                <a:cubicBezTo>
                  <a:pt x="1203" y="145"/>
                  <a:pt x="1225" y="129"/>
                  <a:pt x="1225" y="129"/>
                </a:cubicBezTo>
                <a:cubicBezTo>
                  <a:pt x="1233" y="100"/>
                  <a:pt x="1270" y="94"/>
                  <a:pt x="1297" y="84"/>
                </a:cubicBezTo>
                <a:cubicBezTo>
                  <a:pt x="1309" y="73"/>
                  <a:pt x="1328" y="53"/>
                  <a:pt x="1342" y="45"/>
                </a:cubicBezTo>
                <a:cubicBezTo>
                  <a:pt x="1361" y="34"/>
                  <a:pt x="1398" y="28"/>
                  <a:pt x="1420" y="23"/>
                </a:cubicBezTo>
                <a:cubicBezTo>
                  <a:pt x="1428" y="19"/>
                  <a:pt x="1435" y="14"/>
                  <a:pt x="1443" y="11"/>
                </a:cubicBezTo>
                <a:cubicBezTo>
                  <a:pt x="1456" y="6"/>
                  <a:pt x="1482" y="0"/>
                  <a:pt x="1482" y="0"/>
                </a:cubicBezTo>
                <a:cubicBezTo>
                  <a:pt x="1514" y="2"/>
                  <a:pt x="1546" y="1"/>
                  <a:pt x="1577" y="6"/>
                </a:cubicBezTo>
                <a:cubicBezTo>
                  <a:pt x="1598" y="9"/>
                  <a:pt x="1639" y="23"/>
                  <a:pt x="1639" y="23"/>
                </a:cubicBezTo>
                <a:cubicBezTo>
                  <a:pt x="1646" y="47"/>
                  <a:pt x="1660" y="61"/>
                  <a:pt x="1678" y="78"/>
                </a:cubicBezTo>
                <a:cubicBezTo>
                  <a:pt x="1685" y="92"/>
                  <a:pt x="1699" y="103"/>
                  <a:pt x="1700" y="118"/>
                </a:cubicBezTo>
                <a:cubicBezTo>
                  <a:pt x="1702" y="160"/>
                  <a:pt x="1708" y="269"/>
                  <a:pt x="1650" y="291"/>
                </a:cubicBezTo>
                <a:cubicBezTo>
                  <a:pt x="1629" y="312"/>
                  <a:pt x="1618" y="332"/>
                  <a:pt x="1588" y="341"/>
                </a:cubicBezTo>
                <a:cubicBezTo>
                  <a:pt x="1581" y="352"/>
                  <a:pt x="1570" y="362"/>
                  <a:pt x="1566" y="375"/>
                </a:cubicBezTo>
                <a:cubicBezTo>
                  <a:pt x="1564" y="381"/>
                  <a:pt x="1556" y="388"/>
                  <a:pt x="1560" y="392"/>
                </a:cubicBezTo>
                <a:cubicBezTo>
                  <a:pt x="1565" y="397"/>
                  <a:pt x="1575" y="392"/>
                  <a:pt x="1583" y="392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1908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08720" y="4365720"/>
            <a:ext cx="349236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土浦駅東口付近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道６号がさらに混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84480" y="3173400"/>
            <a:ext cx="1087560" cy="995400"/>
          </a:xfrm>
          <a:custGeom>
            <a:avLst/>
            <a:gdLst/>
            <a:ahLst/>
            <a:rect l="l" t="t" r="r" b="b"/>
            <a:pathLst>
              <a:path w="685" h="627">
                <a:moveTo>
                  <a:pt x="511" y="23"/>
                </a:moveTo>
                <a:cubicBezTo>
                  <a:pt x="475" y="34"/>
                  <a:pt x="464" y="67"/>
                  <a:pt x="438" y="90"/>
                </a:cubicBezTo>
                <a:cubicBezTo>
                  <a:pt x="428" y="99"/>
                  <a:pt x="415" y="105"/>
                  <a:pt x="404" y="113"/>
                </a:cubicBezTo>
                <a:cubicBezTo>
                  <a:pt x="376" y="132"/>
                  <a:pt x="370" y="163"/>
                  <a:pt x="336" y="175"/>
                </a:cubicBezTo>
                <a:cubicBezTo>
                  <a:pt x="330" y="181"/>
                  <a:pt x="325" y="187"/>
                  <a:pt x="319" y="192"/>
                </a:cubicBezTo>
                <a:cubicBezTo>
                  <a:pt x="308" y="200"/>
                  <a:pt x="285" y="215"/>
                  <a:pt x="285" y="215"/>
                </a:cubicBezTo>
                <a:cubicBezTo>
                  <a:pt x="272" y="235"/>
                  <a:pt x="260" y="247"/>
                  <a:pt x="240" y="260"/>
                </a:cubicBezTo>
                <a:cubicBezTo>
                  <a:pt x="226" y="281"/>
                  <a:pt x="210" y="290"/>
                  <a:pt x="189" y="305"/>
                </a:cubicBezTo>
                <a:cubicBezTo>
                  <a:pt x="160" y="350"/>
                  <a:pt x="198" y="296"/>
                  <a:pt x="161" y="333"/>
                </a:cubicBezTo>
                <a:cubicBezTo>
                  <a:pt x="133" y="361"/>
                  <a:pt x="116" y="387"/>
                  <a:pt x="76" y="401"/>
                </a:cubicBezTo>
                <a:cubicBezTo>
                  <a:pt x="65" y="450"/>
                  <a:pt x="30" y="478"/>
                  <a:pt x="14" y="525"/>
                </a:cubicBezTo>
                <a:cubicBezTo>
                  <a:pt x="19" y="601"/>
                  <a:pt x="0" y="608"/>
                  <a:pt x="54" y="627"/>
                </a:cubicBezTo>
                <a:cubicBezTo>
                  <a:pt x="107" y="616"/>
                  <a:pt x="97" y="612"/>
                  <a:pt x="138" y="599"/>
                </a:cubicBezTo>
                <a:cubicBezTo>
                  <a:pt x="144" y="595"/>
                  <a:pt x="149" y="590"/>
                  <a:pt x="155" y="587"/>
                </a:cubicBezTo>
                <a:cubicBezTo>
                  <a:pt x="160" y="584"/>
                  <a:pt x="168" y="586"/>
                  <a:pt x="172" y="582"/>
                </a:cubicBezTo>
                <a:cubicBezTo>
                  <a:pt x="176" y="578"/>
                  <a:pt x="175" y="570"/>
                  <a:pt x="178" y="565"/>
                </a:cubicBezTo>
                <a:cubicBezTo>
                  <a:pt x="188" y="549"/>
                  <a:pt x="207" y="548"/>
                  <a:pt x="223" y="542"/>
                </a:cubicBezTo>
                <a:cubicBezTo>
                  <a:pt x="232" y="518"/>
                  <a:pt x="260" y="510"/>
                  <a:pt x="285" y="503"/>
                </a:cubicBezTo>
                <a:cubicBezTo>
                  <a:pt x="304" y="484"/>
                  <a:pt x="343" y="472"/>
                  <a:pt x="370" y="463"/>
                </a:cubicBezTo>
                <a:cubicBezTo>
                  <a:pt x="380" y="436"/>
                  <a:pt x="405" y="436"/>
                  <a:pt x="432" y="429"/>
                </a:cubicBezTo>
                <a:cubicBezTo>
                  <a:pt x="442" y="422"/>
                  <a:pt x="465" y="408"/>
                  <a:pt x="472" y="401"/>
                </a:cubicBezTo>
                <a:cubicBezTo>
                  <a:pt x="495" y="378"/>
                  <a:pt x="469" y="388"/>
                  <a:pt x="500" y="367"/>
                </a:cubicBezTo>
                <a:cubicBezTo>
                  <a:pt x="515" y="357"/>
                  <a:pt x="539" y="350"/>
                  <a:pt x="556" y="345"/>
                </a:cubicBezTo>
                <a:cubicBezTo>
                  <a:pt x="560" y="341"/>
                  <a:pt x="565" y="338"/>
                  <a:pt x="568" y="333"/>
                </a:cubicBezTo>
                <a:cubicBezTo>
                  <a:pt x="571" y="328"/>
                  <a:pt x="569" y="321"/>
                  <a:pt x="573" y="316"/>
                </a:cubicBezTo>
                <a:cubicBezTo>
                  <a:pt x="598" y="283"/>
                  <a:pt x="595" y="296"/>
                  <a:pt x="618" y="277"/>
                </a:cubicBezTo>
                <a:cubicBezTo>
                  <a:pt x="632" y="266"/>
                  <a:pt x="640" y="250"/>
                  <a:pt x="652" y="237"/>
                </a:cubicBezTo>
                <a:cubicBezTo>
                  <a:pt x="674" y="175"/>
                  <a:pt x="685" y="95"/>
                  <a:pt x="635" y="45"/>
                </a:cubicBezTo>
                <a:cubicBezTo>
                  <a:pt x="633" y="39"/>
                  <a:pt x="634" y="32"/>
                  <a:pt x="630" y="28"/>
                </a:cubicBezTo>
                <a:cubicBezTo>
                  <a:pt x="627" y="25"/>
                  <a:pt x="569" y="3"/>
                  <a:pt x="562" y="0"/>
                </a:cubicBezTo>
                <a:cubicBezTo>
                  <a:pt x="543" y="2"/>
                  <a:pt x="525" y="3"/>
                  <a:pt x="506" y="6"/>
                </a:cubicBezTo>
                <a:cubicBezTo>
                  <a:pt x="500" y="7"/>
                  <a:pt x="492" y="6"/>
                  <a:pt x="489" y="11"/>
                </a:cubicBezTo>
                <a:cubicBezTo>
                  <a:pt x="483" y="19"/>
                  <a:pt x="485" y="30"/>
                  <a:pt x="483" y="40"/>
                </a:cubicBezTo>
                <a:cubicBezTo>
                  <a:pt x="481" y="46"/>
                  <a:pt x="477" y="57"/>
                  <a:pt x="477" y="57"/>
                </a:cubicBezTo>
                <a:lnTo>
                  <a:pt x="511" y="23"/>
                </a:lnTo>
                <a:close/>
              </a:path>
            </a:pathLst>
          </a:custGeom>
          <a:solidFill>
            <a:srgbClr val="ffccff">
              <a:alpha val="50000"/>
            </a:srgbClr>
          </a:soli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4357440" cy="61624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6227640" y="1773360"/>
            <a:ext cx="2016360" cy="520560"/>
          </a:xfrm>
          <a:prstGeom prst="rect">
            <a:avLst/>
          </a:prstGeom>
          <a:solidFill>
            <a:srgbClr val="ffff99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道路拡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80000" y="2421000"/>
            <a:ext cx="3384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東口の拡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１→２車線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国道６号の拡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２→４車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48360" y="4365720"/>
            <a:ext cx="648000" cy="792000"/>
          </a:xfrm>
          <a:prstGeom prst="downArrow">
            <a:avLst>
              <a:gd name="adj1" fmla="val 50000"/>
              <a:gd name="adj2" fmla="val 30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50920" y="1989000"/>
            <a:ext cx="2360880" cy="3675240"/>
          </a:xfrm>
          <a:custGeom>
            <a:avLst/>
            <a:gdLst/>
            <a:ahLst/>
            <a:rect l="l" t="t" r="r" b="b"/>
            <a:pathLst>
              <a:path w="1487" h="2315">
                <a:moveTo>
                  <a:pt x="1345" y="338"/>
                </a:moveTo>
                <a:cubicBezTo>
                  <a:pt x="1267" y="352"/>
                  <a:pt x="1250" y="386"/>
                  <a:pt x="1192" y="429"/>
                </a:cubicBezTo>
                <a:cubicBezTo>
                  <a:pt x="1182" y="462"/>
                  <a:pt x="1110" y="516"/>
                  <a:pt x="1079" y="536"/>
                </a:cubicBezTo>
                <a:cubicBezTo>
                  <a:pt x="1072" y="561"/>
                  <a:pt x="1059" y="566"/>
                  <a:pt x="1040" y="581"/>
                </a:cubicBezTo>
                <a:cubicBezTo>
                  <a:pt x="1020" y="597"/>
                  <a:pt x="1010" y="618"/>
                  <a:pt x="989" y="632"/>
                </a:cubicBezTo>
                <a:cubicBezTo>
                  <a:pt x="976" y="653"/>
                  <a:pt x="967" y="653"/>
                  <a:pt x="944" y="660"/>
                </a:cubicBezTo>
                <a:cubicBezTo>
                  <a:pt x="930" y="675"/>
                  <a:pt x="926" y="692"/>
                  <a:pt x="916" y="705"/>
                </a:cubicBezTo>
                <a:cubicBezTo>
                  <a:pt x="908" y="716"/>
                  <a:pt x="893" y="722"/>
                  <a:pt x="887" y="734"/>
                </a:cubicBezTo>
                <a:cubicBezTo>
                  <a:pt x="874" y="761"/>
                  <a:pt x="882" y="750"/>
                  <a:pt x="865" y="768"/>
                </a:cubicBezTo>
                <a:cubicBezTo>
                  <a:pt x="850" y="809"/>
                  <a:pt x="871" y="762"/>
                  <a:pt x="842" y="796"/>
                </a:cubicBezTo>
                <a:cubicBezTo>
                  <a:pt x="829" y="812"/>
                  <a:pt x="824" y="826"/>
                  <a:pt x="808" y="841"/>
                </a:cubicBezTo>
                <a:cubicBezTo>
                  <a:pt x="801" y="865"/>
                  <a:pt x="781" y="885"/>
                  <a:pt x="763" y="903"/>
                </a:cubicBezTo>
                <a:cubicBezTo>
                  <a:pt x="752" y="927"/>
                  <a:pt x="751" y="940"/>
                  <a:pt x="729" y="954"/>
                </a:cubicBezTo>
                <a:cubicBezTo>
                  <a:pt x="722" y="978"/>
                  <a:pt x="699" y="1013"/>
                  <a:pt x="679" y="1027"/>
                </a:cubicBezTo>
                <a:cubicBezTo>
                  <a:pt x="672" y="1046"/>
                  <a:pt x="665" y="1054"/>
                  <a:pt x="650" y="1067"/>
                </a:cubicBezTo>
                <a:cubicBezTo>
                  <a:pt x="637" y="1111"/>
                  <a:pt x="595" y="1145"/>
                  <a:pt x="571" y="1185"/>
                </a:cubicBezTo>
                <a:cubicBezTo>
                  <a:pt x="554" y="1213"/>
                  <a:pt x="550" y="1235"/>
                  <a:pt x="526" y="1259"/>
                </a:cubicBezTo>
                <a:cubicBezTo>
                  <a:pt x="517" y="1284"/>
                  <a:pt x="506" y="1310"/>
                  <a:pt x="492" y="1332"/>
                </a:cubicBezTo>
                <a:cubicBezTo>
                  <a:pt x="481" y="1384"/>
                  <a:pt x="450" y="1426"/>
                  <a:pt x="441" y="1479"/>
                </a:cubicBezTo>
                <a:cubicBezTo>
                  <a:pt x="438" y="1584"/>
                  <a:pt x="431" y="1671"/>
                  <a:pt x="424" y="1773"/>
                </a:cubicBezTo>
                <a:cubicBezTo>
                  <a:pt x="421" y="1883"/>
                  <a:pt x="430" y="1994"/>
                  <a:pt x="368" y="2089"/>
                </a:cubicBezTo>
                <a:cubicBezTo>
                  <a:pt x="362" y="2113"/>
                  <a:pt x="359" y="2131"/>
                  <a:pt x="345" y="2151"/>
                </a:cubicBezTo>
                <a:cubicBezTo>
                  <a:pt x="336" y="2183"/>
                  <a:pt x="317" y="2212"/>
                  <a:pt x="289" y="2230"/>
                </a:cubicBezTo>
                <a:cubicBezTo>
                  <a:pt x="262" y="2272"/>
                  <a:pt x="296" y="2224"/>
                  <a:pt x="261" y="2258"/>
                </a:cubicBezTo>
                <a:cubicBezTo>
                  <a:pt x="235" y="2283"/>
                  <a:pt x="224" y="2302"/>
                  <a:pt x="187" y="2315"/>
                </a:cubicBezTo>
                <a:cubicBezTo>
                  <a:pt x="140" y="2311"/>
                  <a:pt x="123" y="2311"/>
                  <a:pt x="86" y="2298"/>
                </a:cubicBezTo>
                <a:cubicBezTo>
                  <a:pt x="69" y="2282"/>
                  <a:pt x="57" y="2263"/>
                  <a:pt x="40" y="2247"/>
                </a:cubicBezTo>
                <a:cubicBezTo>
                  <a:pt x="30" y="2213"/>
                  <a:pt x="13" y="2186"/>
                  <a:pt x="7" y="2151"/>
                </a:cubicBezTo>
                <a:cubicBezTo>
                  <a:pt x="9" y="1967"/>
                  <a:pt x="10" y="1782"/>
                  <a:pt x="12" y="1598"/>
                </a:cubicBezTo>
                <a:cubicBezTo>
                  <a:pt x="12" y="1595"/>
                  <a:pt x="0" y="1233"/>
                  <a:pt x="69" y="1169"/>
                </a:cubicBezTo>
                <a:cubicBezTo>
                  <a:pt x="83" y="1123"/>
                  <a:pt x="63" y="1179"/>
                  <a:pt x="86" y="1140"/>
                </a:cubicBezTo>
                <a:cubicBezTo>
                  <a:pt x="100" y="1116"/>
                  <a:pt x="92" y="1092"/>
                  <a:pt x="119" y="1073"/>
                </a:cubicBezTo>
                <a:cubicBezTo>
                  <a:pt x="153" y="1049"/>
                  <a:pt x="167" y="1023"/>
                  <a:pt x="193" y="993"/>
                </a:cubicBezTo>
                <a:cubicBezTo>
                  <a:pt x="219" y="963"/>
                  <a:pt x="253" y="941"/>
                  <a:pt x="278" y="909"/>
                </a:cubicBezTo>
                <a:cubicBezTo>
                  <a:pt x="305" y="873"/>
                  <a:pt x="311" y="839"/>
                  <a:pt x="351" y="813"/>
                </a:cubicBezTo>
                <a:cubicBezTo>
                  <a:pt x="371" y="783"/>
                  <a:pt x="357" y="801"/>
                  <a:pt x="396" y="762"/>
                </a:cubicBezTo>
                <a:cubicBezTo>
                  <a:pt x="402" y="756"/>
                  <a:pt x="413" y="745"/>
                  <a:pt x="413" y="745"/>
                </a:cubicBezTo>
                <a:cubicBezTo>
                  <a:pt x="422" y="720"/>
                  <a:pt x="444" y="710"/>
                  <a:pt x="464" y="694"/>
                </a:cubicBezTo>
                <a:cubicBezTo>
                  <a:pt x="488" y="674"/>
                  <a:pt x="499" y="649"/>
                  <a:pt x="526" y="632"/>
                </a:cubicBezTo>
                <a:cubicBezTo>
                  <a:pt x="543" y="609"/>
                  <a:pt x="566" y="584"/>
                  <a:pt x="594" y="576"/>
                </a:cubicBezTo>
                <a:cubicBezTo>
                  <a:pt x="611" y="558"/>
                  <a:pt x="627" y="536"/>
                  <a:pt x="645" y="519"/>
                </a:cubicBezTo>
                <a:cubicBezTo>
                  <a:pt x="657" y="496"/>
                  <a:pt x="659" y="487"/>
                  <a:pt x="684" y="480"/>
                </a:cubicBezTo>
                <a:cubicBezTo>
                  <a:pt x="703" y="460"/>
                  <a:pt x="722" y="447"/>
                  <a:pt x="746" y="434"/>
                </a:cubicBezTo>
                <a:cubicBezTo>
                  <a:pt x="765" y="407"/>
                  <a:pt x="788" y="376"/>
                  <a:pt x="820" y="367"/>
                </a:cubicBezTo>
                <a:cubicBezTo>
                  <a:pt x="831" y="355"/>
                  <a:pt x="841" y="328"/>
                  <a:pt x="848" y="321"/>
                </a:cubicBezTo>
                <a:cubicBezTo>
                  <a:pt x="854" y="315"/>
                  <a:pt x="864" y="314"/>
                  <a:pt x="871" y="310"/>
                </a:cubicBezTo>
                <a:cubicBezTo>
                  <a:pt x="891" y="299"/>
                  <a:pt x="909" y="279"/>
                  <a:pt x="927" y="265"/>
                </a:cubicBezTo>
                <a:cubicBezTo>
                  <a:pt x="958" y="239"/>
                  <a:pt x="974" y="204"/>
                  <a:pt x="1012" y="186"/>
                </a:cubicBezTo>
                <a:cubicBezTo>
                  <a:pt x="1051" y="147"/>
                  <a:pt x="1033" y="161"/>
                  <a:pt x="1063" y="141"/>
                </a:cubicBezTo>
                <a:cubicBezTo>
                  <a:pt x="1070" y="117"/>
                  <a:pt x="1080" y="120"/>
                  <a:pt x="1102" y="113"/>
                </a:cubicBezTo>
                <a:cubicBezTo>
                  <a:pt x="1112" y="102"/>
                  <a:pt x="1125" y="82"/>
                  <a:pt x="1136" y="73"/>
                </a:cubicBezTo>
                <a:cubicBezTo>
                  <a:pt x="1141" y="69"/>
                  <a:pt x="1148" y="70"/>
                  <a:pt x="1153" y="67"/>
                </a:cubicBezTo>
                <a:cubicBezTo>
                  <a:pt x="1197" y="45"/>
                  <a:pt x="1225" y="31"/>
                  <a:pt x="1271" y="17"/>
                </a:cubicBezTo>
                <a:cubicBezTo>
                  <a:pt x="1364" y="21"/>
                  <a:pt x="1427" y="0"/>
                  <a:pt x="1469" y="84"/>
                </a:cubicBezTo>
                <a:cubicBezTo>
                  <a:pt x="1467" y="129"/>
                  <a:pt x="1487" y="223"/>
                  <a:pt x="1424" y="242"/>
                </a:cubicBezTo>
                <a:cubicBezTo>
                  <a:pt x="1411" y="256"/>
                  <a:pt x="1400" y="266"/>
                  <a:pt x="1384" y="276"/>
                </a:cubicBezTo>
                <a:cubicBezTo>
                  <a:pt x="1375" y="305"/>
                  <a:pt x="1361" y="307"/>
                  <a:pt x="1334" y="316"/>
                </a:cubicBezTo>
                <a:cubicBezTo>
                  <a:pt x="1320" y="329"/>
                  <a:pt x="1300" y="361"/>
                  <a:pt x="1300" y="361"/>
                </a:cubicBezTo>
              </a:path>
            </a:pathLst>
          </a:custGeom>
          <a:solidFill>
            <a:srgbClr val="99ccff">
              <a:alpha val="30000"/>
            </a:srgbClr>
          </a:soli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84480" y="3173400"/>
            <a:ext cx="1087560" cy="995400"/>
          </a:xfrm>
          <a:custGeom>
            <a:avLst/>
            <a:gdLst/>
            <a:ahLst/>
            <a:rect l="l" t="t" r="r" b="b"/>
            <a:pathLst>
              <a:path w="685" h="627">
                <a:moveTo>
                  <a:pt x="511" y="23"/>
                </a:moveTo>
                <a:cubicBezTo>
                  <a:pt x="475" y="34"/>
                  <a:pt x="464" y="67"/>
                  <a:pt x="438" y="90"/>
                </a:cubicBezTo>
                <a:cubicBezTo>
                  <a:pt x="428" y="99"/>
                  <a:pt x="415" y="105"/>
                  <a:pt x="404" y="113"/>
                </a:cubicBezTo>
                <a:cubicBezTo>
                  <a:pt x="376" y="132"/>
                  <a:pt x="370" y="163"/>
                  <a:pt x="336" y="175"/>
                </a:cubicBezTo>
                <a:cubicBezTo>
                  <a:pt x="330" y="181"/>
                  <a:pt x="325" y="187"/>
                  <a:pt x="319" y="192"/>
                </a:cubicBezTo>
                <a:cubicBezTo>
                  <a:pt x="308" y="200"/>
                  <a:pt x="285" y="215"/>
                  <a:pt x="285" y="215"/>
                </a:cubicBezTo>
                <a:cubicBezTo>
                  <a:pt x="272" y="235"/>
                  <a:pt x="260" y="247"/>
                  <a:pt x="240" y="260"/>
                </a:cubicBezTo>
                <a:cubicBezTo>
                  <a:pt x="226" y="281"/>
                  <a:pt x="210" y="290"/>
                  <a:pt x="189" y="305"/>
                </a:cubicBezTo>
                <a:cubicBezTo>
                  <a:pt x="160" y="350"/>
                  <a:pt x="198" y="296"/>
                  <a:pt x="161" y="333"/>
                </a:cubicBezTo>
                <a:cubicBezTo>
                  <a:pt x="133" y="361"/>
                  <a:pt x="116" y="387"/>
                  <a:pt x="76" y="401"/>
                </a:cubicBezTo>
                <a:cubicBezTo>
                  <a:pt x="65" y="450"/>
                  <a:pt x="30" y="478"/>
                  <a:pt x="14" y="525"/>
                </a:cubicBezTo>
                <a:cubicBezTo>
                  <a:pt x="19" y="601"/>
                  <a:pt x="0" y="608"/>
                  <a:pt x="54" y="627"/>
                </a:cubicBezTo>
                <a:cubicBezTo>
                  <a:pt x="107" y="616"/>
                  <a:pt x="97" y="612"/>
                  <a:pt x="138" y="599"/>
                </a:cubicBezTo>
                <a:cubicBezTo>
                  <a:pt x="144" y="595"/>
                  <a:pt x="149" y="590"/>
                  <a:pt x="155" y="587"/>
                </a:cubicBezTo>
                <a:cubicBezTo>
                  <a:pt x="160" y="584"/>
                  <a:pt x="168" y="586"/>
                  <a:pt x="172" y="582"/>
                </a:cubicBezTo>
                <a:cubicBezTo>
                  <a:pt x="176" y="578"/>
                  <a:pt x="175" y="570"/>
                  <a:pt x="178" y="565"/>
                </a:cubicBezTo>
                <a:cubicBezTo>
                  <a:pt x="188" y="549"/>
                  <a:pt x="207" y="548"/>
                  <a:pt x="223" y="542"/>
                </a:cubicBezTo>
                <a:cubicBezTo>
                  <a:pt x="232" y="518"/>
                  <a:pt x="260" y="510"/>
                  <a:pt x="285" y="503"/>
                </a:cubicBezTo>
                <a:cubicBezTo>
                  <a:pt x="304" y="484"/>
                  <a:pt x="343" y="472"/>
                  <a:pt x="370" y="463"/>
                </a:cubicBezTo>
                <a:cubicBezTo>
                  <a:pt x="380" y="436"/>
                  <a:pt x="405" y="436"/>
                  <a:pt x="432" y="429"/>
                </a:cubicBezTo>
                <a:cubicBezTo>
                  <a:pt x="442" y="422"/>
                  <a:pt x="465" y="408"/>
                  <a:pt x="472" y="401"/>
                </a:cubicBezTo>
                <a:cubicBezTo>
                  <a:pt x="495" y="378"/>
                  <a:pt x="469" y="388"/>
                  <a:pt x="500" y="367"/>
                </a:cubicBezTo>
                <a:cubicBezTo>
                  <a:pt x="515" y="357"/>
                  <a:pt x="539" y="350"/>
                  <a:pt x="556" y="345"/>
                </a:cubicBezTo>
                <a:cubicBezTo>
                  <a:pt x="560" y="341"/>
                  <a:pt x="565" y="338"/>
                  <a:pt x="568" y="333"/>
                </a:cubicBezTo>
                <a:cubicBezTo>
                  <a:pt x="571" y="328"/>
                  <a:pt x="569" y="321"/>
                  <a:pt x="573" y="316"/>
                </a:cubicBezTo>
                <a:cubicBezTo>
                  <a:pt x="598" y="283"/>
                  <a:pt x="595" y="296"/>
                  <a:pt x="618" y="277"/>
                </a:cubicBezTo>
                <a:cubicBezTo>
                  <a:pt x="632" y="266"/>
                  <a:pt x="640" y="250"/>
                  <a:pt x="652" y="237"/>
                </a:cubicBezTo>
                <a:cubicBezTo>
                  <a:pt x="674" y="175"/>
                  <a:pt x="685" y="95"/>
                  <a:pt x="635" y="45"/>
                </a:cubicBezTo>
                <a:cubicBezTo>
                  <a:pt x="633" y="39"/>
                  <a:pt x="634" y="32"/>
                  <a:pt x="630" y="28"/>
                </a:cubicBezTo>
                <a:cubicBezTo>
                  <a:pt x="627" y="25"/>
                  <a:pt x="569" y="3"/>
                  <a:pt x="562" y="0"/>
                </a:cubicBezTo>
                <a:cubicBezTo>
                  <a:pt x="543" y="2"/>
                  <a:pt x="525" y="3"/>
                  <a:pt x="506" y="6"/>
                </a:cubicBezTo>
                <a:cubicBezTo>
                  <a:pt x="500" y="7"/>
                  <a:pt x="492" y="6"/>
                  <a:pt x="489" y="11"/>
                </a:cubicBezTo>
                <a:cubicBezTo>
                  <a:pt x="483" y="19"/>
                  <a:pt x="485" y="30"/>
                  <a:pt x="483" y="40"/>
                </a:cubicBezTo>
                <a:cubicBezTo>
                  <a:pt x="481" y="46"/>
                  <a:pt x="477" y="57"/>
                  <a:pt x="477" y="57"/>
                </a:cubicBezTo>
                <a:lnTo>
                  <a:pt x="511" y="23"/>
                </a:lnTo>
                <a:close/>
              </a:path>
            </a:pathLst>
          </a:custGeom>
          <a:solidFill>
            <a:srgbClr val="99ccff">
              <a:alpha val="30000"/>
            </a:srgbClr>
          </a:solid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84720" y="5445000"/>
            <a:ext cx="2376720" cy="7034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混雑緩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-566280" y="907920"/>
            <a:ext cx="1412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～プライシング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2997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332000" y="981000"/>
            <a:ext cx="4463640" cy="520560"/>
            <a:chOff x="1332000" y="981000"/>
            <a:chExt cx="4463640" cy="520560"/>
          </a:xfrm>
        </p:grpSpPr>
        <p:sp>
          <p:nvSpPr>
            <p:cNvPr id="652" name=""/>
            <p:cNvSpPr/>
            <p:nvPr/>
          </p:nvSpPr>
          <p:spPr>
            <a:xfrm>
              <a:off x="1332000" y="981000"/>
              <a:ext cx="44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プライシングの課金システ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1485720"/>
              <a:ext cx="432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5184720" cy="43513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4427640" y="2852640"/>
            <a:ext cx="1224000" cy="3168720"/>
          </a:xfrm>
          <a:prstGeom prst="ellipse">
            <a:avLst/>
          </a:prstGeom>
          <a:noFill/>
          <a:ln w="414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219640" y="2133720"/>
            <a:ext cx="1368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88000" y="1628640"/>
            <a:ext cx="2160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課金ゲ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46680" y="2781360"/>
            <a:ext cx="3313080" cy="1584360"/>
          </a:xfrm>
          <a:prstGeom prst="wedgeRoundRectCallout">
            <a:avLst>
              <a:gd name="adj1" fmla="val -5819"/>
              <a:gd name="adj2" fmla="val -836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ゲートを通るときに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磁気カードをかざ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87280" y="623736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駐車場の課金システムの先行事例を参照し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交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16360" y="407664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16360" y="4797360"/>
            <a:ext cx="4392360" cy="581400"/>
          </a:xfrm>
          <a:prstGeom prst="rect">
            <a:avLst/>
          </a:prstGeom>
          <a:solidFill>
            <a:srgbClr val="bdde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土浦駅ロータリーの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00720" y="2997360"/>
            <a:ext cx="647640" cy="718920"/>
          </a:xfrm>
          <a:prstGeom prst="downArrow">
            <a:avLst>
              <a:gd name="adj1" fmla="val 50000"/>
              <a:gd name="adj2" fmla="val 277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15480" y="4653000"/>
            <a:ext cx="911880" cy="720720"/>
          </a:xfrm>
          <a:prstGeom prst="rect">
            <a:avLst/>
          </a:prstGeom>
          <a:solidFill>
            <a:srgbClr val="0066ff">
              <a:alpha val="2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541640" y="4653000"/>
            <a:ext cx="911880" cy="720720"/>
          </a:xfrm>
          <a:prstGeom prst="rect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東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08000" y="4508640"/>
            <a:ext cx="2808360" cy="9471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共交通ゾーン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バス・タクシ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003640" y="4508640"/>
            <a:ext cx="280836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迎ゾーン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家用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116000" y="5734080"/>
            <a:ext cx="7488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わかりやすく、安全な駅前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19280" y="1125360"/>
            <a:ext cx="1512720" cy="703800"/>
          </a:xfrm>
          <a:prstGeom prst="rect">
            <a:avLst/>
          </a:prstGeom>
          <a:solidFill>
            <a:srgbClr val="3366ff">
              <a:alpha val="2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土浦駅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西口周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03640" y="1125360"/>
            <a:ext cx="4608360" cy="70344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導線が交錯してい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332000" y="1773360"/>
            <a:ext cx="6985080" cy="1152360"/>
          </a:xfrm>
          <a:custGeom>
            <a:avLst/>
            <a:gdLst>
              <a:gd name="textAreaLeft" fmla="*/ 1594440 w 6985080"/>
              <a:gd name="textAreaRight" fmla="*/ 5390640 w 698508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歩行者・自転車にとって危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050920" y="3646440"/>
            <a:ext cx="5616720" cy="719280"/>
            <a:chOff x="2050920" y="3646440"/>
            <a:chExt cx="5616720" cy="719280"/>
          </a:xfrm>
        </p:grpSpPr>
        <p:sp>
          <p:nvSpPr>
            <p:cNvPr id="679" name=""/>
            <p:cNvSpPr/>
            <p:nvPr/>
          </p:nvSpPr>
          <p:spPr>
            <a:xfrm>
              <a:off x="2195640" y="36464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西口・東口の用途を分け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50920" y="436572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-509760" y="907920"/>
            <a:ext cx="1355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行書体"/>
              </a:rPr>
              <a:t>～東口ロータリー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500720" y="2997360"/>
            <a:ext cx="647640" cy="718920"/>
          </a:xfrm>
          <a:prstGeom prst="downArrow">
            <a:avLst>
              <a:gd name="adj1" fmla="val 50000"/>
              <a:gd name="adj2" fmla="val 277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5480" y="4653000"/>
            <a:ext cx="911880" cy="720720"/>
          </a:xfrm>
          <a:prstGeom prst="rect">
            <a:avLst/>
          </a:prstGeom>
          <a:solidFill>
            <a:srgbClr val="0066ff">
              <a:alpha val="2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41640" y="4653000"/>
            <a:ext cx="911880" cy="720720"/>
          </a:xfrm>
          <a:prstGeom prst="rect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東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908000" y="4508640"/>
            <a:ext cx="2808360" cy="9471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共交通ゾーン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バス・タクシ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03640" y="4508640"/>
            <a:ext cx="280836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迎ゾーン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家用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16000" y="5734080"/>
            <a:ext cx="7488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わかりやすく、安全な駅前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19280" y="1125360"/>
            <a:ext cx="1512720" cy="703800"/>
          </a:xfrm>
          <a:prstGeom prst="rect">
            <a:avLst/>
          </a:prstGeom>
          <a:solidFill>
            <a:srgbClr val="3366ff">
              <a:alpha val="2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土浦駅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西口周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03640" y="1125360"/>
            <a:ext cx="4608360" cy="70344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導線が交錯してい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332000" y="1773360"/>
            <a:ext cx="6985080" cy="1152360"/>
          </a:xfrm>
          <a:custGeom>
            <a:avLst/>
            <a:gdLst>
              <a:gd name="textAreaLeft" fmla="*/ 1594440 w 6985080"/>
              <a:gd name="textAreaRight" fmla="*/ 5390640 w 698508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歩行者・自転車にとって危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050920" y="3646440"/>
            <a:ext cx="5616720" cy="719280"/>
            <a:chOff x="2050920" y="3646440"/>
            <a:chExt cx="5616720" cy="719280"/>
          </a:xfrm>
        </p:grpSpPr>
        <p:sp>
          <p:nvSpPr>
            <p:cNvPr id="695" name=""/>
            <p:cNvSpPr/>
            <p:nvPr/>
          </p:nvSpPr>
          <p:spPr>
            <a:xfrm>
              <a:off x="2195640" y="36464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西口・東口の用途を分け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0920" y="436572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979640" y="1484280"/>
            <a:ext cx="6337440" cy="2087640"/>
          </a:xfrm>
          <a:prstGeom prst="wedgeRoundRectCallout">
            <a:avLst>
              <a:gd name="adj1" fmla="val 13277"/>
              <a:gd name="adj2" fmla="val 86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ライシングによ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迎車は今までの西口ではなく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東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利用すると予想され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-509760" y="907920"/>
            <a:ext cx="1355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行書体"/>
              </a:rPr>
              <a:t>～東口ロータリー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indefinite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indefinite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indefinite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indefinite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indefinite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indefinite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indefinite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indefinite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-509760" y="907920"/>
            <a:ext cx="1355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行書体"/>
              </a:rPr>
              <a:t>～東口ロータリー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3716280"/>
            <a:ext cx="1008000" cy="459720"/>
          </a:xfrm>
          <a:prstGeom prst="rect">
            <a:avLst/>
          </a:prstGeom>
          <a:solidFill>
            <a:srgbClr val="ff0000">
              <a:alpha val="3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187280" y="2708280"/>
            <a:ext cx="7704360" cy="581400"/>
            <a:chOff x="1187280" y="2708280"/>
            <a:chExt cx="7704360" cy="581400"/>
          </a:xfrm>
        </p:grpSpPr>
        <p:sp>
          <p:nvSpPr>
            <p:cNvPr id="705" name=""/>
            <p:cNvSpPr/>
            <p:nvPr/>
          </p:nvSpPr>
          <p:spPr>
            <a:xfrm>
              <a:off x="1187280" y="2708280"/>
              <a:ext cx="77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西口ロータリーにおける</a:t>
              </a:r>
              <a:r>
                <a:rPr b="0" lang="zh-CN" sz="3200" spc="-1" strike="noStrike">
                  <a:solidFill>
                    <a:srgbClr val="0066ff"/>
                  </a:solidFill>
                  <a:latin typeface="Arial"/>
                </a:rPr>
                <a:t>交通量調査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の実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32000" y="3284280"/>
              <a:ext cx="74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788000" y="206064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3640" y="3716280"/>
            <a:ext cx="468000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送迎スペースに適した面積の算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24000" y="4292640"/>
            <a:ext cx="1008000" cy="459720"/>
          </a:xfrm>
          <a:prstGeom prst="rect">
            <a:avLst/>
          </a:prstGeom>
          <a:solidFill>
            <a:srgbClr val="99ccff">
              <a:alpha val="3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項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03640" y="4292640"/>
            <a:ext cx="4681440" cy="155700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５分ごとの自家用車の出入り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　　　　　　〃　　　　　　 停車数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１台あたりの停車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124000" y="5589720"/>
            <a:ext cx="1008000" cy="459720"/>
          </a:xfrm>
          <a:prstGeom prst="rect">
            <a:avLst/>
          </a:prstGeom>
          <a:solidFill>
            <a:srgbClr val="99cc00">
              <a:alpha val="30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203640" y="5589720"/>
            <a:ext cx="4681440" cy="82548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月）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火）朝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9280" y="1197000"/>
            <a:ext cx="69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迎車スペースに必要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広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はどのくらい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968400" y="620640"/>
          <a:ext cx="7989840" cy="58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20640"/>
                    <a:ext cx="798984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284720" y="1628640"/>
            <a:ext cx="5032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443640" y="6308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547640" y="692280"/>
            <a:ext cx="1081080" cy="520560"/>
            <a:chOff x="1547640" y="692280"/>
            <a:chExt cx="1081080" cy="520560"/>
          </a:xfrm>
        </p:grpSpPr>
        <p:sp>
          <p:nvSpPr>
            <p:cNvPr id="722" name=""/>
            <p:cNvSpPr/>
            <p:nvPr/>
          </p:nvSpPr>
          <p:spPr>
            <a:xfrm>
              <a:off x="1547640" y="69228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87240" y="1197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116000" y="3716280"/>
            <a:ext cx="7632720" cy="1727280"/>
          </a:xfrm>
          <a:prstGeom prst="ellipse">
            <a:avLst/>
          </a:prstGeom>
          <a:solidFill>
            <a:srgbClr val="bdde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約１５台分のスペースが必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800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-509760" y="907920"/>
            <a:ext cx="1355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行書体"/>
              </a:rPr>
              <a:t>～東口ロータリー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335640" cy="47530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1403280" y="620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東口ロータリーの完成予想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76360" y="112536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98920" y="4149720"/>
            <a:ext cx="2592360" cy="180036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624720" cy="47754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2050920" y="6165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１５台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送迎スペースを確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-509760" y="907920"/>
            <a:ext cx="1355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行書体"/>
              </a:rPr>
              <a:t>～東口ロータリー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679320" y="907920"/>
            <a:ext cx="15253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現状の問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1211" t="8953" r="9598" b="4935"/>
          <a:stretch/>
        </p:blipFill>
        <p:spPr>
          <a:xfrm>
            <a:off x="2627280" y="907920"/>
            <a:ext cx="4788000" cy="595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35280" y="4076640"/>
            <a:ext cx="1727280" cy="503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3213000"/>
            <a:ext cx="1152720" cy="122400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1484280"/>
            <a:ext cx="1512720" cy="1944720"/>
          </a:xfrm>
          <a:prstGeom prst="ellipse">
            <a:avLst/>
          </a:prstGeom>
          <a:solidFill>
            <a:srgbClr val="b0ee0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516640"/>
            <a:ext cx="647640" cy="1079280"/>
          </a:xfrm>
          <a:prstGeom prst="ellipse">
            <a:avLst/>
          </a:prstGeom>
          <a:solidFill>
            <a:srgbClr val="ff505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1413000"/>
            <a:ext cx="3384360" cy="1191240"/>
          </a:xfrm>
          <a:prstGeom prst="rect">
            <a:avLst/>
          </a:prstGeom>
          <a:solidFill>
            <a:srgbClr val="99cc00">
              <a:alpha val="10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どもから高齢者まで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近に医療を感じられ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心の居住空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5157720"/>
            <a:ext cx="3240000" cy="825480"/>
          </a:xfrm>
          <a:prstGeom prst="rect">
            <a:avLst/>
          </a:prstGeom>
          <a:solidFill>
            <a:srgbClr val="ff0000">
              <a:alpha val="10000"/>
            </a:srgbClr>
          </a:solidFill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ぎわいのある魅力的で安全な駅前空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1844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393372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4911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まちづくりアンケートの結果よ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80000" y="5950080"/>
            <a:ext cx="1800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64000" y="1628640"/>
            <a:ext cx="865080" cy="719280"/>
          </a:xfrm>
          <a:prstGeom prst="ellipse">
            <a:avLst/>
          </a:prstGeom>
          <a:solidFill>
            <a:srgbClr val="cc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716280"/>
            <a:ext cx="2303640" cy="1191240"/>
          </a:xfrm>
          <a:prstGeom prst="rect">
            <a:avLst/>
          </a:prstGeom>
          <a:solidFill>
            <a:srgbClr val="99ccff">
              <a:alpha val="2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車に頼ら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楽に移動できる快適な空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1989000"/>
            <a:ext cx="1584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bdd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ff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交通～まとめ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58920" y="1989000"/>
            <a:ext cx="3456000" cy="581400"/>
          </a:xfrm>
          <a:prstGeom prst="rect">
            <a:avLst/>
          </a:prstGeom>
          <a:solidFill>
            <a:srgbClr val="99ccff">
              <a:alpha val="3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19640" y="1989000"/>
            <a:ext cx="3456000" cy="581400"/>
          </a:xfrm>
          <a:prstGeom prst="rect">
            <a:avLst/>
          </a:prstGeom>
          <a:solidFill>
            <a:srgbClr val="ff0000">
              <a:alpha val="2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ロータリーの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58920" y="2637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通過交通の排除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駅前のにぎわいの創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292720" y="2637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西口・東口の用途分離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安全性の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3860640"/>
            <a:ext cx="792000" cy="935280"/>
          </a:xfrm>
          <a:prstGeom prst="downArrow">
            <a:avLst>
              <a:gd name="adj1" fmla="val 50000"/>
              <a:gd name="adj2" fmla="val 295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5580000" y="4287960"/>
            <a:ext cx="1297080" cy="8794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 rot="21000000">
            <a:off x="1619280" y="4581000"/>
            <a:ext cx="1149480" cy="7146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"/>
          <a:stretch/>
        </p:blipFill>
        <p:spPr>
          <a:xfrm rot="21420000">
            <a:off x="2916000" y="4149360"/>
            <a:ext cx="1655640" cy="10018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4"/>
          <a:stretch/>
        </p:blipFill>
        <p:spPr>
          <a:xfrm rot="600000">
            <a:off x="7164000" y="4581360"/>
            <a:ext cx="1019160" cy="6829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287360" y="5084640"/>
            <a:ext cx="7488360" cy="100836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・快適・にぎわう中心市街地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60" y="907920"/>
            <a:ext cx="8456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まと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30720" y="1760400"/>
            <a:ext cx="1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00360" y="1700280"/>
            <a:ext cx="20858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住みよ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居住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32360" y="1700280"/>
            <a:ext cx="20876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心市街地の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523400" y="3211560"/>
            <a:ext cx="789840" cy="2160720"/>
          </a:xfrm>
          <a:prstGeom prst="rect">
            <a:avLst/>
          </a:prstGeom>
          <a:solidFill>
            <a:srgbClr val="bddeff">
              <a:alpha val="50000"/>
            </a:srgbClr>
          </a:solidFill>
          <a:ln w="19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17560" y="3211560"/>
            <a:ext cx="1399320" cy="21607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駅前活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18320" y="3213000"/>
            <a:ext cx="789840" cy="2160720"/>
          </a:xfrm>
          <a:prstGeom prst="rect">
            <a:avLst/>
          </a:prstGeom>
          <a:solidFill>
            <a:srgbClr val="99cc00">
              <a:alpha val="50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"/>
          <p:cNvCxnSpPr>
            <a:stCxn id="754" idx="2"/>
            <a:endCxn id="758" idx="0"/>
          </p:cNvCxnSpPr>
          <p:nvPr/>
        </p:nvCxnSpPr>
        <p:spPr>
          <a:xfrm flipH="1">
            <a:off x="2601720" y="2655720"/>
            <a:ext cx="1141920" cy="548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54" idx="2"/>
            <a:endCxn id="756" idx="0"/>
          </p:cNvCxnSpPr>
          <p:nvPr/>
        </p:nvCxnSpPr>
        <p:spPr>
          <a:xfrm>
            <a:off x="3743280" y="2655360"/>
            <a:ext cx="116424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5" idx="2"/>
            <a:endCxn id="756" idx="0"/>
          </p:cNvCxnSpPr>
          <p:nvPr/>
        </p:nvCxnSpPr>
        <p:spPr>
          <a:xfrm flipH="1">
            <a:off x="4906080" y="2655360"/>
            <a:ext cx="107100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5" idx="2"/>
            <a:endCxn id="757" idx="0"/>
          </p:cNvCxnSpPr>
          <p:nvPr/>
        </p:nvCxnSpPr>
        <p:spPr>
          <a:xfrm>
            <a:off x="5977080" y="2655360"/>
            <a:ext cx="123408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6804000" y="5589720"/>
            <a:ext cx="2016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03640" y="6237360"/>
            <a:ext cx="381636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71640" y="5589720"/>
            <a:ext cx="2016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08360" y="5589720"/>
            <a:ext cx="2448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タリー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2728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2300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6237360"/>
            <a:ext cx="388764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772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908000" y="836640"/>
            <a:ext cx="5832720" cy="71928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行書体"/>
              </a:rPr>
              <a:t>離したくない土浦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60" y="907920"/>
            <a:ext cx="845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今後の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03280" y="5445000"/>
            <a:ext cx="7272360" cy="505080"/>
          </a:xfrm>
          <a:prstGeom prst="rightArrow">
            <a:avLst>
              <a:gd name="adj1" fmla="val 34991"/>
              <a:gd name="adj2" fmla="val 149184"/>
            </a:avLst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40000" y="5516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50920" y="602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５年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781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916360" y="2781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発表練習中に感じた課題をもと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0" y="907920"/>
            <a:ext cx="845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07520" y="321300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ids.wanpug.com/top_person.htm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人・人物のイラ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788" name="" descr=""/>
            <p:cNvPicPr/>
            <p:nvPr/>
          </p:nvPicPr>
          <p:blipFill>
            <a:blip r:embed="rId3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4360" y="256536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ご清聴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　　ありがとうございまし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793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44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ef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79320" y="907920"/>
            <a:ext cx="15253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実現への施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30720" y="1760400"/>
            <a:ext cx="1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836640"/>
            <a:ext cx="5832720" cy="719280"/>
          </a:xfrm>
          <a:prstGeom prst="ellipse">
            <a:avLst/>
          </a:prstGeom>
          <a:solidFill>
            <a:srgbClr val="ffe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行書体"/>
              </a:rPr>
              <a:t>離したくない土浦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1700280"/>
            <a:ext cx="20858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住みよ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居住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1700280"/>
            <a:ext cx="20876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心市街地の活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23400" y="3211560"/>
            <a:ext cx="789840" cy="2160720"/>
          </a:xfrm>
          <a:prstGeom prst="rect">
            <a:avLst/>
          </a:prstGeom>
          <a:solidFill>
            <a:srgbClr val="bddeff">
              <a:alpha val="50000"/>
            </a:srgbClr>
          </a:solidFill>
          <a:ln w="19080">
            <a:solidFill>
              <a:srgbClr val="bd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17560" y="3211560"/>
            <a:ext cx="1399320" cy="21607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駅前活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18320" y="3213000"/>
            <a:ext cx="789840" cy="2160720"/>
          </a:xfrm>
          <a:prstGeom prst="rect">
            <a:avLst/>
          </a:prstGeom>
          <a:solidFill>
            <a:srgbClr val="99cc00">
              <a:alpha val="50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2"/>
            <a:endCxn id="129" idx="0"/>
          </p:cNvCxnSpPr>
          <p:nvPr/>
        </p:nvCxnSpPr>
        <p:spPr>
          <a:xfrm flipH="1">
            <a:off x="2601720" y="2655720"/>
            <a:ext cx="1141920" cy="548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5" idx="2"/>
            <a:endCxn id="127" idx="0"/>
          </p:cNvCxnSpPr>
          <p:nvPr/>
        </p:nvCxnSpPr>
        <p:spPr>
          <a:xfrm>
            <a:off x="3743280" y="2655360"/>
            <a:ext cx="116424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6" idx="2"/>
            <a:endCxn id="127" idx="0"/>
          </p:cNvCxnSpPr>
          <p:nvPr/>
        </p:nvCxnSpPr>
        <p:spPr>
          <a:xfrm flipH="1">
            <a:off x="4906080" y="2655360"/>
            <a:ext cx="107100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6" idx="2"/>
            <a:endCxn id="128" idx="0"/>
          </p:cNvCxnSpPr>
          <p:nvPr/>
        </p:nvCxnSpPr>
        <p:spPr>
          <a:xfrm>
            <a:off x="5977080" y="2655360"/>
            <a:ext cx="123408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804000" y="5589720"/>
            <a:ext cx="2016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駅前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6237360"/>
            <a:ext cx="381636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5589720"/>
            <a:ext cx="2016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589720"/>
            <a:ext cx="244800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タリー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2300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6237360"/>
            <a:ext cx="3887640" cy="52056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5373720"/>
            <a:ext cx="0" cy="863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5373720"/>
            <a:ext cx="0" cy="863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5373720"/>
            <a:ext cx="0" cy="863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5373720"/>
            <a:ext cx="0" cy="863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6242040"/>
            <a:ext cx="3887640" cy="520560"/>
          </a:xfrm>
          <a:prstGeom prst="rect">
            <a:avLst/>
          </a:prstGeom>
          <a:solidFill>
            <a:srgbClr val="99cc00">
              <a:alpha val="5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6242040"/>
            <a:ext cx="38163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ードプライシ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67640" y="189000"/>
            <a:ext cx="1224000" cy="1157040"/>
            <a:chOff x="7667640" y="189000"/>
            <a:chExt cx="1224000" cy="11570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27061" t="25932" r="31701" b="32975"/>
            <a:stretch/>
          </p:blipFill>
          <p:spPr>
            <a:xfrm>
              <a:off x="7667640" y="189000"/>
              <a:ext cx="12240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56720" y="476280"/>
              <a:ext cx="7840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lnSpc>
                  <a:spcPct val="93000"/>
                </a:lnSpc>
                <a:spcBef>
                  <a:spcPts val="25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HG行書体"/>
                </a:rPr>
                <a:t>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637000"/>
            <a:ext cx="61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HGP行書体"/>
              </a:rPr>
              <a:t>医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005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師の派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797360"/>
            <a:ext cx="3166920" cy="581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ス路線の拡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158080" cy="5753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284720" y="765000"/>
            <a:ext cx="2952720" cy="520560"/>
            <a:chOff x="4284720" y="765000"/>
            <a:chExt cx="2952720" cy="520560"/>
          </a:xfrm>
        </p:grpSpPr>
        <p:sp>
          <p:nvSpPr>
            <p:cNvPr id="163" name=""/>
            <p:cNvSpPr/>
            <p:nvPr/>
          </p:nvSpPr>
          <p:spPr>
            <a:xfrm>
              <a:off x="4284720" y="76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町丁目ごとの人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84720" y="1268280"/>
              <a:ext cx="28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5440" cy="6858000"/>
          </a:xfrm>
          <a:custGeom>
            <a:avLst/>
            <a:gdLst/>
            <a:ahLst/>
            <a:rect l="l" t="t" r="r" b="b"/>
            <a:pathLst>
              <a:path w="28004" h="21001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0996"/>
                </a:lnTo>
                <a:cubicBezTo>
                  <a:pt x="0" y="20998"/>
                  <a:pt x="1" y="21000"/>
                  <a:pt x="3" y="21000"/>
                </a:cubicBezTo>
                <a:lnTo>
                  <a:pt x="27999" y="21000"/>
                </a:lnTo>
                <a:cubicBezTo>
                  <a:pt x="28001" y="21000"/>
                  <a:pt x="28003" y="20998"/>
                  <a:pt x="28003" y="20996"/>
                </a:cubicBezTo>
                <a:lnTo>
                  <a:pt x="28003" y="3"/>
                </a:lnTo>
                <a:cubicBezTo>
                  <a:pt x="28003" y="1"/>
                  <a:pt x="28001" y="0"/>
                  <a:pt x="27999" y="0"/>
                </a:cubicBezTo>
                <a:lnTo>
                  <a:pt x="3" y="0"/>
                </a:lnTo>
                <a:close/>
                <a:moveTo>
                  <a:pt x="6082" y="2002"/>
                </a:moveTo>
                <a:cubicBezTo>
                  <a:pt x="4540" y="2002"/>
                  <a:pt x="2999" y="3543"/>
                  <a:pt x="2999" y="5085"/>
                </a:cubicBezTo>
                <a:lnTo>
                  <a:pt x="2999" y="17418"/>
                </a:lnTo>
                <a:cubicBezTo>
                  <a:pt x="2999" y="18960"/>
                  <a:pt x="4540" y="20502"/>
                  <a:pt x="6082" y="20502"/>
                </a:cubicBezTo>
                <a:lnTo>
                  <a:pt x="24416" y="20502"/>
                </a:lnTo>
                <a:cubicBezTo>
                  <a:pt x="25958" y="20502"/>
                  <a:pt x="27500" y="18960"/>
                  <a:pt x="27500" y="17418"/>
                </a:cubicBezTo>
                <a:lnTo>
                  <a:pt x="27500" y="5085"/>
                </a:lnTo>
                <a:cubicBezTo>
                  <a:pt x="27500" y="3543"/>
                  <a:pt x="25958" y="2002"/>
                  <a:pt x="24416" y="2002"/>
                </a:cubicBezTo>
                <a:lnTo>
                  <a:pt x="6082" y="2002"/>
                </a:lnTo>
                <a:close/>
              </a:path>
            </a:pathLst>
          </a:cu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38920" y="195120"/>
            <a:ext cx="1140120" cy="1101960"/>
          </a:xfrm>
          <a:custGeom>
            <a:avLst/>
            <a:gdLst/>
            <a:ahLst/>
            <a:rect l="l" t="t" r="r" b="b"/>
            <a:pathLst>
              <a:path w="3493" h="3374">
                <a:moveTo>
                  <a:pt x="1746" y="2138"/>
                </a:moveTo>
                <a:cubicBezTo>
                  <a:pt x="1152" y="2138"/>
                  <a:pt x="670" y="1659"/>
                  <a:pt x="670" y="1069"/>
                </a:cubicBezTo>
                <a:cubicBezTo>
                  <a:pt x="670" y="479"/>
                  <a:pt x="1152" y="0"/>
                  <a:pt x="1746" y="0"/>
                </a:cubicBezTo>
                <a:cubicBezTo>
                  <a:pt x="2340" y="0"/>
                  <a:pt x="2822" y="479"/>
                  <a:pt x="2822" y="1069"/>
                </a:cubicBezTo>
                <a:cubicBezTo>
                  <a:pt x="2822" y="1659"/>
                  <a:pt x="2340" y="2138"/>
                  <a:pt x="1746" y="2138"/>
                </a:cubicBezTo>
                <a:close/>
                <a:moveTo>
                  <a:pt x="1076" y="3373"/>
                </a:moveTo>
                <a:cubicBezTo>
                  <a:pt x="482" y="3373"/>
                  <a:pt x="0" y="2894"/>
                  <a:pt x="0" y="2304"/>
                </a:cubicBezTo>
                <a:cubicBezTo>
                  <a:pt x="0" y="1714"/>
                  <a:pt x="482" y="1235"/>
                  <a:pt x="1076" y="1235"/>
                </a:cubicBezTo>
                <a:cubicBezTo>
                  <a:pt x="1671" y="1235"/>
                  <a:pt x="2153" y="1714"/>
                  <a:pt x="2153" y="2304"/>
                </a:cubicBezTo>
                <a:cubicBezTo>
                  <a:pt x="2153" y="2894"/>
                  <a:pt x="1671" y="3373"/>
                  <a:pt x="1076" y="3373"/>
                </a:cubicBezTo>
                <a:close/>
                <a:moveTo>
                  <a:pt x="2416" y="3373"/>
                </a:moveTo>
                <a:cubicBezTo>
                  <a:pt x="1821" y="3373"/>
                  <a:pt x="1339" y="2894"/>
                  <a:pt x="1339" y="2304"/>
                </a:cubicBezTo>
                <a:cubicBezTo>
                  <a:pt x="1339" y="1714"/>
                  <a:pt x="1821" y="1235"/>
                  <a:pt x="2416" y="1235"/>
                </a:cubicBezTo>
                <a:cubicBezTo>
                  <a:pt x="3010" y="1235"/>
                  <a:pt x="3492" y="1714"/>
                  <a:pt x="3492" y="2304"/>
                </a:cubicBezTo>
                <a:cubicBezTo>
                  <a:pt x="3492" y="2894"/>
                  <a:pt x="3010" y="3373"/>
                  <a:pt x="2416" y="3373"/>
                </a:cubicBezTo>
                <a:close/>
              </a:path>
            </a:pathLst>
          </a:custGeom>
          <a:solidFill>
            <a:srgbClr val="99cc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42320" y="428760"/>
            <a:ext cx="784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行書体"/>
              </a:rPr>
              <a:t>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907160" cy="5473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284720" y="765000"/>
            <a:ext cx="2952720" cy="520560"/>
            <a:chOff x="4284720" y="765000"/>
            <a:chExt cx="2952720" cy="520560"/>
          </a:xfrm>
        </p:grpSpPr>
        <p:sp>
          <p:nvSpPr>
            <p:cNvPr id="170" name=""/>
            <p:cNvSpPr/>
            <p:nvPr/>
          </p:nvSpPr>
          <p:spPr>
            <a:xfrm>
              <a:off x="4284720" y="765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診療所の分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4720" y="1268280"/>
              <a:ext cx="28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236000" y="6059520"/>
            <a:ext cx="358560" cy="287280"/>
          </a:xfrm>
          <a:prstGeom prst="plus">
            <a:avLst>
              <a:gd name="adj" fmla="val 4362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5950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" y="907920"/>
            <a:ext cx="84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HG行書体"/>
              </a:rPr>
              <a:t>医療～問題点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19:28Z</dcterms:created>
  <dc:creator>社会工学類</dc:creator>
  <dc:description/>
  <dc:language>en-US</dc:language>
  <cp:lastModifiedBy>社会工学類</cp:lastModifiedBy>
  <dcterms:modified xsi:type="dcterms:W3CDTF">2010-03-01T08:34:42Z</dcterms:modified>
  <cp:revision>79</cp:revision>
  <dc:subject/>
  <dc:title>スライド 1</dc:title>
</cp:coreProperties>
</file>