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50.wmf" ContentType="image/x-wmf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44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14.jpeg" ContentType="image/jpeg"/>
  <Override PartName="/ppt/media/image41.wmf" ContentType="image/x-wmf"/>
  <Override PartName="/ppt/media/image8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13.png" ContentType="image/png"/>
  <Override PartName="/ppt/media/image45.jpeg" ContentType="image/jpeg"/>
  <Override PartName="/ppt/media/image46.jpeg" ContentType="image/jpeg"/>
  <Override PartName="/ppt/media/image49.png" ContentType="image/png"/>
  <Override PartName="/ppt/media/image1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51.wmf" ContentType="image/x-wmf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9939338" cy="680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39600" cy="680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076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8800" y="511200"/>
            <a:ext cx="3402000" cy="25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3240" y="3233880"/>
            <a:ext cx="795204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076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F576-3F9C-4F38-9ED6-44080C46A1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563076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21A6-522D-45D9-824B-BF3DE8A179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563076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324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93240" y="3233520"/>
            <a:ext cx="795204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563076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A19F-DA79-4B6F-9AE0-42447325B5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63076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3267000" y="51768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93240" y="3233880"/>
            <a:ext cx="795204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563076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FF0F-90DF-4CC3-BA17-90EBF4186B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563076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324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93240" y="3233520"/>
            <a:ext cx="795204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563076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5739-D023-41EB-8054-A5D8218A98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563076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324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93240" y="3233520"/>
            <a:ext cx="795204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563076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476B-139D-47FC-9CF3-D150639B893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563076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267000" y="51768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93240" y="3233880"/>
            <a:ext cx="795204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563076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D569-534C-4930-ABD8-2D05A07865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563076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3267000" y="51768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93240" y="3233880"/>
            <a:ext cx="795204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563076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BE93-4DFC-46CF-82F4-3568EFBCC9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63076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3267000" y="51768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93240" y="3233880"/>
            <a:ext cx="795204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563076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5A0B-341E-45EC-BE3C-516680D8F7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563076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324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93240" y="3233520"/>
            <a:ext cx="795204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563076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D311-C088-4550-AFF0-8885B4E319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563076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324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93240" y="3233520"/>
            <a:ext cx="795204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563076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CDBD-185B-4C8E-B0C6-80DA17A420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563076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3267000" y="51768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93240" y="3233880"/>
            <a:ext cx="795204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563076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9D3D-43BC-417E-AF6B-73992AC0AA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63076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3267000" y="51768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93240" y="3233880"/>
            <a:ext cx="795204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563076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21DF-2D1C-461C-8D9E-FBAAE4ECC4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563076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3267000" y="51768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93240" y="3233880"/>
            <a:ext cx="795204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563076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3D5C-DDF4-4700-9094-87DF65B27FA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563076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3267000" y="51768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93240" y="3233880"/>
            <a:ext cx="795204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563076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14B6-B4A3-4E32-876E-EFF25273CB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5630760" y="0"/>
            <a:ext cx="4307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3267000" y="517680"/>
            <a:ext cx="3403800" cy="25524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93240" y="3233880"/>
            <a:ext cx="795204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DF8-C839-4AB3-ACFA-7542308B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7CD-C59A-44DA-8F7F-67AB5F1E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386-847E-4362-BB17-C82D2AB7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F5F-B5B6-4380-BB9A-53FAE791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A07-5BE1-4B98-A43E-8AC67A4D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2EE-95F9-45EA-B68B-A897CFC7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8DF-8CB1-44F9-BB4D-C8F82512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95C-E917-4D33-8E4E-932C83A3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4866-B75B-4890-B0EE-3EB39AC0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D8C-22FC-46FC-A4B4-12F17974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8B0-2F66-4BC5-98D4-915CC2F1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3AF-0BC4-42AB-8BF4-018A1F48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98E6-E294-4C2E-9098-8AE88895B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rifu-tmo.jp/" TargetMode="External"/><Relationship Id="rId2" Type="http://schemas.openxmlformats.org/officeDocument/2006/relationships/hyperlink" Target="http://yorunokokucha.web.fc2.com/" TargetMode="External"/><Relationship Id="rId3" Type="http://schemas.openxmlformats.org/officeDocument/2006/relationships/hyperlink" Target="http://www.jice.or.jp/" TargetMode="External"/><Relationship Id="rId4" Type="http://schemas.openxmlformats.org/officeDocument/2006/relationships/hyperlink" Target="http://suumo.jp/tochi/kansai/" TargetMode="External"/><Relationship Id="rId5" Type="http://schemas.openxmlformats.org/officeDocument/2006/relationships/hyperlink" Target="http://surryhills.jams.tv/issue/" TargetMode="External"/><Relationship Id="rId6" Type="http://schemas.openxmlformats.org/officeDocument/2006/relationships/hyperlink" Target="http://agency.fin-bigbox.com/" TargetMode="External"/><Relationship Id="rId7" Type="http://schemas.openxmlformats.org/officeDocument/2006/relationships/hyperlink" Target="http://www.shimotsuke.co.jp/" TargetMode="External"/><Relationship Id="rId8" Type="http://schemas.openxmlformats.org/officeDocument/2006/relationships/hyperlink" Target="http://www.city.yokohama.jp/me/kankyou/" TargetMode="External"/><Relationship Id="rId9" Type="http://schemas.openxmlformats.org/officeDocument/2006/relationships/hyperlink" Target="http://www.romancecar.org/park/" TargetMode="External"/><Relationship Id="rId10" Type="http://schemas.openxmlformats.org/officeDocument/2006/relationships/hyperlink" Target="http://www.japandesign.ne.jp/" TargetMode="External"/><Relationship Id="rId1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300" spc="-1" strike="noStrike">
                <a:solidFill>
                  <a:srgbClr val="000000"/>
                </a:solidFill>
                <a:latin typeface="Arial"/>
                <a:ea typeface="HGP行書体"/>
              </a:rPr>
              <a:t>灯</a:t>
            </a: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HGP行書体"/>
              </a:rPr>
              <a:t>　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68560" y="260280"/>
            <a:ext cx="24120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都市計画マスタープラン策定実習　１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　　　</a:t>
            </a:r>
            <a:r>
              <a:rPr b="0" lang="en-US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■班員）工藤はるな　瀬田麗子　飯田マ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　　　　　</a:t>
            </a:r>
            <a:r>
              <a:rPr b="0" lang="en-US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　　 　東川聡志　横手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　　  ■導人） 今井唯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22100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P行書体"/>
              </a:rPr>
              <a:t>～民の声は街の声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54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行書体"/>
              </a:rPr>
              <a:t>ともし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179280" y="115920"/>
            <a:ext cx="485928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2160720"/>
            <a:ext cx="6192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HGP行書体"/>
              </a:rPr>
              <a:t>居住環境の向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5789520"/>
            <a:ext cx="1079640" cy="52056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5068800"/>
            <a:ext cx="4032000" cy="520560"/>
          </a:xfrm>
          <a:prstGeom prst="rect">
            <a:avLst/>
          </a:prstGeom>
          <a:solidFill>
            <a:srgbClr val="cc99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初期医療の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68800"/>
            <a:ext cx="1079640" cy="520560"/>
          </a:xfrm>
          <a:prstGeom prst="rect">
            <a:avLst/>
          </a:prstGeom>
          <a:solidFill>
            <a:srgbClr val="cc99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医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9640" y="5773680"/>
            <a:ext cx="4032000" cy="52056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身近な交流場所の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0" y="622440"/>
            <a:ext cx="5094360" cy="6119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3520" y="0"/>
            <a:ext cx="1003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HGP行書体"/>
              </a:rPr>
              <a:t>小児科分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340000" y="606600"/>
            <a:ext cx="5005440" cy="6062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56000" y="1125360"/>
            <a:ext cx="1800000" cy="1943280"/>
          </a:xfrm>
          <a:prstGeom prst="ellipse">
            <a:avLst/>
          </a:prstGeom>
          <a:solidFill>
            <a:srgbClr val="0000ff">
              <a:alpha val="15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2708280"/>
            <a:ext cx="1800360" cy="1942920"/>
          </a:xfrm>
          <a:prstGeom prst="ellipse">
            <a:avLst/>
          </a:prstGeom>
          <a:solidFill>
            <a:srgbClr val="0000ff">
              <a:alpha val="15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84640"/>
            <a:ext cx="934920" cy="1224000"/>
          </a:xfrm>
          <a:prstGeom prst="ellipse">
            <a:avLst/>
          </a:prstGeom>
          <a:solidFill>
            <a:srgbClr val="0000ff">
              <a:alpha val="15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164360" y="5157720"/>
            <a:ext cx="16286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465280" y="520560"/>
            <a:ext cx="5024520" cy="6186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484360" y="549360"/>
            <a:ext cx="4932360" cy="6089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63520" y="0"/>
            <a:ext cx="1003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HGP行書体"/>
              </a:rPr>
              <a:t>内科分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56000" y="936720"/>
            <a:ext cx="1800000" cy="1942920"/>
          </a:xfrm>
          <a:prstGeom prst="ellipse">
            <a:avLst/>
          </a:prstGeom>
          <a:solidFill>
            <a:srgbClr val="ff0000">
              <a:alpha val="15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24360" y="2879640"/>
            <a:ext cx="1511640" cy="1656000"/>
          </a:xfrm>
          <a:prstGeom prst="ellipse">
            <a:avLst/>
          </a:prstGeom>
          <a:solidFill>
            <a:srgbClr val="ff0000">
              <a:alpha val="15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867280" y="4968720"/>
            <a:ext cx="172404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282920" y="2708280"/>
            <a:ext cx="863640" cy="2521080"/>
          </a:xfrm>
          <a:prstGeom prst="downArrow">
            <a:avLst>
              <a:gd name="adj1" fmla="val 42278"/>
              <a:gd name="adj2" fmla="val 59369"/>
            </a:avLst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997360"/>
            <a:ext cx="4680000" cy="574560"/>
          </a:xfrm>
          <a:prstGeom prst="roundRect">
            <a:avLst>
              <a:gd name="adj" fmla="val 218"/>
            </a:avLst>
          </a:prstGeom>
          <a:solidFill>
            <a:srgbClr val="cc99ff"/>
          </a:solidFill>
          <a:ln w="360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科、小児科の医師派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8000" y="3789360"/>
            <a:ext cx="5472360" cy="647640"/>
          </a:xfrm>
          <a:prstGeom prst="roundRect">
            <a:avLst>
              <a:gd name="adj" fmla="val 218"/>
            </a:avLst>
          </a:prstGeom>
          <a:solidFill>
            <a:srgbClr val="cc99ff"/>
          </a:solidFill>
          <a:ln w="360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中学校の空き教室を利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" y="836640"/>
            <a:ext cx="10033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医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56000" y="5516640"/>
            <a:ext cx="4338360" cy="755640"/>
          </a:xfrm>
          <a:prstGeom prst="roundRect">
            <a:avLst>
              <a:gd name="adj" fmla="val 176"/>
            </a:avLst>
          </a:prstGeom>
          <a:solidFill>
            <a:srgbClr val="ffffff">
              <a:alpha val="20000"/>
            </a:srgbClr>
          </a:solidFill>
          <a:ln w="360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初期医療の充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835200"/>
            <a:ext cx="5616360" cy="1441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問題点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次病院の数が少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病院の分布に偏り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492360" y="9079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医師を小中学校に派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3213000"/>
            <a:ext cx="36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院間のネットワークを作ること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よりスムーズな医療体制を構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639000" y="476280"/>
            <a:ext cx="18262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初期医療の充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179280" y="115920"/>
            <a:ext cx="485928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19280" y="2421000"/>
            <a:ext cx="6192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HGP行書体"/>
              </a:rPr>
              <a:t>駅前の活性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30640" y="5091120"/>
            <a:ext cx="179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9920" y="4022640"/>
            <a:ext cx="900000" cy="2430720"/>
          </a:xfrm>
          <a:custGeom>
            <a:avLst/>
            <a:gdLst>
              <a:gd name="textAreaLeft" fmla="*/ 360 w 900000"/>
              <a:gd name="textAreaRight" fmla="*/ 899640 w 900000"/>
              <a:gd name="textAreaTop" fmla="*/ 360 h 2430720"/>
              <a:gd name="textAreaBottom" fmla="*/ 2430360 h 2430720"/>
            </a:gdLst>
            <a:ahLst/>
            <a:rect l="textAreaLeft" t="textAreaTop" r="textAreaRight" b="textAreaBottom"/>
            <a:pathLst>
              <a:path w="21600" h="58323">
                <a:moveTo>
                  <a:pt x="38" y="0"/>
                </a:moveTo>
                <a:arcTo wR="38" hR="38" stAng="16200000" swAng="-5400000"/>
                <a:lnTo>
                  <a:pt x="0" y="58285"/>
                </a:lnTo>
                <a:arcTo wR="38" hR="38" stAng="10800000" swAng="-5400000"/>
                <a:lnTo>
                  <a:pt x="21562" y="58323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7000" bIns="2700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居住環境の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84640" y="4022640"/>
            <a:ext cx="900360" cy="2430720"/>
          </a:xfrm>
          <a:custGeom>
            <a:avLst/>
            <a:gdLst>
              <a:gd name="textAreaLeft" fmla="*/ 360 w 900360"/>
              <a:gd name="textAreaRight" fmla="*/ 900000 w 900360"/>
              <a:gd name="textAreaTop" fmla="*/ 360 h 2430720"/>
              <a:gd name="textAreaBottom" fmla="*/ 2430360 h 2430720"/>
            </a:gdLst>
            <a:ahLst/>
            <a:rect l="textAreaLeft" t="textAreaTop" r="textAreaRight" b="textAreaBottom"/>
            <a:pathLst>
              <a:path w="21600" h="58299">
                <a:moveTo>
                  <a:pt x="38" y="0"/>
                </a:moveTo>
                <a:arcTo wR="38" hR="38" stAng="16200000" swAng="-5400000"/>
                <a:lnTo>
                  <a:pt x="0" y="58261"/>
                </a:lnTo>
                <a:arcTo wR="38" hR="38" stAng="10800000" swAng="-5400000"/>
                <a:lnTo>
                  <a:pt x="21562" y="58299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99ccff">
              <a:alpha val="7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7000" bIns="2700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歩行者中心の交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6280" y="4022640"/>
            <a:ext cx="900360" cy="2430720"/>
          </a:xfrm>
          <a:custGeom>
            <a:avLst/>
            <a:gdLst>
              <a:gd name="textAreaLeft" fmla="*/ 360 w 900360"/>
              <a:gd name="textAreaRight" fmla="*/ 900000 w 900360"/>
              <a:gd name="textAreaTop" fmla="*/ 360 h 2430720"/>
              <a:gd name="textAreaBottom" fmla="*/ 2430360 h 2430720"/>
            </a:gdLst>
            <a:ahLst/>
            <a:rect l="textAreaLeft" t="textAreaTop" r="textAreaRight" b="textAreaBottom"/>
            <a:pathLst>
              <a:path w="21600" h="58299">
                <a:moveTo>
                  <a:pt x="38" y="0"/>
                </a:moveTo>
                <a:arcTo wR="38" hR="38" stAng="16200000" swAng="-5400000"/>
                <a:lnTo>
                  <a:pt x="0" y="58261"/>
                </a:lnTo>
                <a:arcTo wR="38" hR="38" stAng="10800000" swAng="-5400000"/>
                <a:lnTo>
                  <a:pt x="21562" y="58299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dfff85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7000" bIns="2700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住民同士の交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13000" y="4022640"/>
            <a:ext cx="900360" cy="2430720"/>
          </a:xfrm>
          <a:custGeom>
            <a:avLst/>
            <a:gdLst>
              <a:gd name="textAreaLeft" fmla="*/ 360 w 900360"/>
              <a:gd name="textAreaRight" fmla="*/ 900000 w 900360"/>
              <a:gd name="textAreaTop" fmla="*/ 360 h 2430720"/>
              <a:gd name="textAreaBottom" fmla="*/ 2430360 h 2430720"/>
            </a:gdLst>
            <a:ahLst/>
            <a:rect l="textAreaLeft" t="textAreaTop" r="textAreaRight" b="textAreaBottom"/>
            <a:pathLst>
              <a:path w="21600" h="58299">
                <a:moveTo>
                  <a:pt x="38" y="0"/>
                </a:moveTo>
                <a:arcTo wR="38" hR="38" stAng="16200000" swAng="-5400000"/>
                <a:lnTo>
                  <a:pt x="0" y="58261"/>
                </a:lnTo>
                <a:arcTo wR="38" hR="38" stAng="10800000" swAng="-5400000"/>
                <a:lnTo>
                  <a:pt x="21562" y="58299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ff5050">
              <a:alpha val="4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7000" bIns="2700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駅前の活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6640" y="3878280"/>
            <a:ext cx="748836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indefinite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819720" y="836640"/>
            <a:ext cx="1826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駅前の活性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21211" t="8953" r="9598" b="4935"/>
          <a:stretch/>
        </p:blipFill>
        <p:spPr>
          <a:xfrm>
            <a:off x="2627280" y="693720"/>
            <a:ext cx="4788000" cy="5950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508720" y="5229360"/>
            <a:ext cx="3311280" cy="1373760"/>
          </a:xfrm>
          <a:prstGeom prst="rect">
            <a:avLst/>
          </a:prstGeom>
          <a:solidFill>
            <a:srgbClr val="ffd5ea"/>
          </a:solidFill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駅それぞれに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テーマ性をもたせ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効果的に活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587000">
            <a:off x="2771280" y="2033640"/>
            <a:ext cx="5473800" cy="1376280"/>
          </a:xfrm>
          <a:prstGeom prst="ellipse">
            <a:avLst/>
          </a:prstGeom>
          <a:solidFill>
            <a:srgbClr val="ffff99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412400">
            <a:off x="3446640" y="3428640"/>
            <a:ext cx="2722320" cy="1449360"/>
          </a:xfrm>
          <a:prstGeom prst="ellipse">
            <a:avLst/>
          </a:prstGeom>
          <a:solidFill>
            <a:srgbClr val="ffff99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506000">
            <a:off x="2727000" y="5003280"/>
            <a:ext cx="2306520" cy="1473480"/>
          </a:xfrm>
          <a:prstGeom prst="ellipse">
            <a:avLst/>
          </a:prstGeom>
          <a:solidFill>
            <a:srgbClr val="ffff99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54560" y="3933720"/>
            <a:ext cx="1152360" cy="505080"/>
          </a:xfrm>
          <a:prstGeom prst="ellipse">
            <a:avLst/>
          </a:prstGeom>
          <a:solidFill>
            <a:srgbClr val="ff5050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3068640"/>
            <a:ext cx="2160720" cy="825480"/>
          </a:xfrm>
          <a:prstGeom prst="rect">
            <a:avLst/>
          </a:prstGeom>
          <a:noFill/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活気あふれる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市街地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0" y="3500280"/>
            <a:ext cx="129528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64000" y="5516640"/>
            <a:ext cx="792000" cy="576360"/>
          </a:xfrm>
          <a:prstGeom prst="ellipse">
            <a:avLst/>
          </a:prstGeom>
          <a:solidFill>
            <a:srgbClr val="ff5050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2708280"/>
            <a:ext cx="792360" cy="576360"/>
          </a:xfrm>
          <a:prstGeom prst="ellipse">
            <a:avLst/>
          </a:prstGeom>
          <a:solidFill>
            <a:srgbClr val="ff5050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274560" y="2349360"/>
            <a:ext cx="3527640" cy="4321080"/>
            <a:chOff x="3274560" y="2349360"/>
            <a:chExt cx="3527640" cy="4321080"/>
          </a:xfrm>
        </p:grpSpPr>
        <p:sp>
          <p:nvSpPr>
            <p:cNvPr id="221" name=""/>
            <p:cNvSpPr/>
            <p:nvPr/>
          </p:nvSpPr>
          <p:spPr>
            <a:xfrm flipH="1">
              <a:off x="3274560" y="2349360"/>
              <a:ext cx="3527640" cy="432108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2280000">
              <a:off x="3922560" y="5589360"/>
              <a:ext cx="14436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280000">
              <a:off x="6227280" y="2780640"/>
              <a:ext cx="14472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280000">
              <a:off x="5146200" y="4077720"/>
              <a:ext cx="14472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62000" y="142920"/>
            <a:ext cx="1728720" cy="39888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Arial"/>
              </a:rPr>
              <a:t>目指す都市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2000" y="142920"/>
            <a:ext cx="1728720" cy="398880"/>
          </a:xfrm>
          <a:prstGeom prst="rect">
            <a:avLst/>
          </a:prstGeom>
          <a:solidFill>
            <a:srgbClr val="ffff99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実現への施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16640" y="142920"/>
            <a:ext cx="1728720" cy="39888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Arial"/>
              </a:rPr>
              <a:t>今後の方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2061360" y="22464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5975640" y="22464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02000" y="142920"/>
            <a:ext cx="1530360" cy="398880"/>
          </a:xfrm>
          <a:prstGeom prst="rect">
            <a:avLst/>
          </a:prstGeom>
          <a:solidFill>
            <a:srgbClr val="ff0000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駅前活性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819720" y="836640"/>
            <a:ext cx="18262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駅前活性化〔土浦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40000" y="1484280"/>
            <a:ext cx="1871640" cy="703440"/>
          </a:xfrm>
          <a:prstGeom prst="rect">
            <a:avLst/>
          </a:prstGeom>
          <a:solidFill>
            <a:srgbClr val="ff5050">
              <a:alpha val="50000"/>
            </a:srgbClr>
          </a:solidFill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土浦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84720" y="1484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03640" y="1484280"/>
            <a:ext cx="2521080" cy="7034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若者エリ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3280" y="414972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00360" y="595008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生のための学習空間を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63640" y="2708280"/>
            <a:ext cx="6480360" cy="1224000"/>
          </a:xfrm>
          <a:prstGeom prst="wedgeRoundRectCallout">
            <a:avLst>
              <a:gd name="adj1" fmla="val -25550"/>
              <a:gd name="adj2" fmla="val -833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駅周辺に多くの学校や塾が立地し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学生が集ま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新図書館設立により学生の需要も増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 rot="19800000">
            <a:off x="2339640" y="4508640"/>
            <a:ext cx="552600" cy="1123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 rot="600000">
            <a:off x="6443640" y="4365720"/>
            <a:ext cx="542880" cy="1123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564000" y="4292640"/>
            <a:ext cx="552240" cy="1123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796000" y="4292640"/>
            <a:ext cx="5810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 rot="1800000">
            <a:off x="6948360" y="4508640"/>
            <a:ext cx="600120" cy="1152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 rot="21000000">
            <a:off x="2916360" y="4292280"/>
            <a:ext cx="552240" cy="1190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908000" y="5157720"/>
            <a:ext cx="6121440" cy="7207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学生をターゲットに活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2000" y="142920"/>
            <a:ext cx="1728720" cy="39888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Arial"/>
              </a:rPr>
              <a:t>目指す都市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2000" y="142920"/>
            <a:ext cx="1728720" cy="398880"/>
          </a:xfrm>
          <a:prstGeom prst="rect">
            <a:avLst/>
          </a:prstGeom>
          <a:solidFill>
            <a:srgbClr val="ffff99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実現への施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16640" y="142920"/>
            <a:ext cx="1728720" cy="39888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Arial"/>
              </a:rPr>
              <a:t>今後の方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2061360" y="22464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975640" y="22464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02000" y="142920"/>
            <a:ext cx="1530360" cy="398880"/>
          </a:xfrm>
          <a:prstGeom prst="rect">
            <a:avLst/>
          </a:prstGeom>
          <a:solidFill>
            <a:srgbClr val="ff0000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駅前活性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-819720" y="836640"/>
            <a:ext cx="18262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駅前活性化〔土浦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87280" y="836640"/>
            <a:ext cx="2305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体的な提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124000" y="1628640"/>
            <a:ext cx="5614920" cy="581400"/>
            <a:chOff x="2124000" y="1628640"/>
            <a:chExt cx="5614920" cy="581400"/>
          </a:xfrm>
        </p:grpSpPr>
        <p:sp>
          <p:nvSpPr>
            <p:cNvPr id="254" name=""/>
            <p:cNvSpPr/>
            <p:nvPr/>
          </p:nvSpPr>
          <p:spPr>
            <a:xfrm>
              <a:off x="2124000" y="1628640"/>
              <a:ext cx="2232000" cy="581400"/>
            </a:xfrm>
            <a:prstGeom prst="rect">
              <a:avLst/>
            </a:prstGeom>
            <a:solidFill>
              <a:srgbClr val="ff99cc">
                <a:alpha val="20000"/>
              </a:srgbClr>
            </a:solidFill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モール５０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13080" y="162864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59280" y="1628640"/>
              <a:ext cx="2879640" cy="581400"/>
            </a:xfrm>
            <a:prstGeom prst="rect">
              <a:avLst/>
            </a:prstGeom>
            <a:noFill/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学生のたまり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4608720" cy="4114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300720" y="3213000"/>
            <a:ext cx="129564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995280" y="4724280"/>
            <a:ext cx="129708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64000" y="2205000"/>
            <a:ext cx="50328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5589720"/>
            <a:ext cx="3457440" cy="73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駅⇔図書館⇔モー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95640" y="5300640"/>
            <a:ext cx="2447640" cy="459720"/>
          </a:xfrm>
          <a:prstGeom prst="rect">
            <a:avLst/>
          </a:prstGeom>
          <a:solidFill>
            <a:srgbClr val="dfff8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デストリア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43640" y="4437000"/>
            <a:ext cx="2557440" cy="73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生が多く集ま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59640" y="4149720"/>
            <a:ext cx="2087640" cy="459720"/>
          </a:xfrm>
          <a:prstGeom prst="rect">
            <a:avLst/>
          </a:prstGeom>
          <a:solidFill>
            <a:srgbClr val="ffdd4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市立図書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-819720" y="836640"/>
            <a:ext cx="18262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駅前活性化〔土浦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2852640"/>
            <a:ext cx="75610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参考書喫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」：参考書のお下がりを集めた勉強スペー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 格安で飲み物を飲め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おふくろ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」：体によいおふくろの味を提供する定食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地元の素材を使用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自習時や塾までの空き時間などに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情報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」：学生のための情報収集スペー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パソコンが設置されてい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・・・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836640"/>
            <a:ext cx="2305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体的な提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124000" y="1628640"/>
            <a:ext cx="5614920" cy="581400"/>
            <a:chOff x="2124000" y="1628640"/>
            <a:chExt cx="5614920" cy="581400"/>
          </a:xfrm>
        </p:grpSpPr>
        <p:sp>
          <p:nvSpPr>
            <p:cNvPr id="269" name=""/>
            <p:cNvSpPr/>
            <p:nvPr/>
          </p:nvSpPr>
          <p:spPr>
            <a:xfrm>
              <a:off x="2124000" y="1628640"/>
              <a:ext cx="2232000" cy="581400"/>
            </a:xfrm>
            <a:prstGeom prst="rect">
              <a:avLst/>
            </a:prstGeom>
            <a:solidFill>
              <a:srgbClr val="ff99cc">
                <a:alpha val="20000"/>
              </a:srgbClr>
            </a:solidFill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モール５０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13080" y="162864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59280" y="1628640"/>
              <a:ext cx="2879640" cy="581400"/>
            </a:xfrm>
            <a:prstGeom prst="rect">
              <a:avLst/>
            </a:prstGeom>
            <a:noFill/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学生のたまり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55640" y="4365720"/>
            <a:ext cx="8209080" cy="1630440"/>
            <a:chOff x="755640" y="4365720"/>
            <a:chExt cx="8209080" cy="1630440"/>
          </a:xfrm>
        </p:grpSpPr>
        <p:sp>
          <p:nvSpPr>
            <p:cNvPr id="53" name=""/>
            <p:cNvSpPr/>
            <p:nvPr/>
          </p:nvSpPr>
          <p:spPr>
            <a:xfrm>
              <a:off x="792360" y="4365720"/>
              <a:ext cx="79912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土浦市民の心に温かな明かり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「</a:t>
              </a:r>
              <a:r>
                <a:rPr b="0" lang="zh-CN" sz="4000" spc="-1" strike="noStrike">
                  <a:solidFill>
                    <a:srgbClr val="ff9933"/>
                  </a:solidFill>
                  <a:latin typeface="Arial"/>
                  <a:ea typeface="HGP行書体"/>
                </a:rPr>
                <a:t>灯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」を燈そ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5640" y="4365720"/>
              <a:ext cx="8209080" cy="1512720"/>
            </a:xfrm>
            <a:prstGeom prst="ellipse">
              <a:avLst/>
            </a:prstGeom>
            <a:solidFill>
              <a:srgbClr val="ffcc00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979640" y="-892080"/>
            <a:ext cx="38876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Arial"/>
                <a:ea typeface="HGP行書体"/>
              </a:rPr>
              <a:t>火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00" y="0"/>
            <a:ext cx="1277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「灯」と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87640" y="-963720"/>
            <a:ext cx="4751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Arial"/>
                <a:ea typeface="HGP行書体"/>
              </a:rPr>
              <a:t>灯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-963720"/>
            <a:ext cx="38876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Arial"/>
                <a:ea typeface="HGP行書体"/>
              </a:rPr>
              <a:t>丁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221000"/>
            <a:ext cx="4104000" cy="581400"/>
          </a:xfrm>
          <a:prstGeom prst="rect">
            <a:avLst/>
          </a:prstGeom>
          <a:solidFill>
            <a:srgbClr val="ffcc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コミュニティーに火を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4221000"/>
            <a:ext cx="2519280" cy="58140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地区単位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00000" y="5445000"/>
            <a:ext cx="8244000" cy="1197000"/>
            <a:chOff x="900000" y="5445000"/>
            <a:chExt cx="8244000" cy="1197000"/>
          </a:xfrm>
        </p:grpSpPr>
        <p:sp>
          <p:nvSpPr>
            <p:cNvPr id="62" name=""/>
            <p:cNvSpPr/>
            <p:nvPr/>
          </p:nvSpPr>
          <p:spPr>
            <a:xfrm>
              <a:off x="900000" y="5445000"/>
              <a:ext cx="8244000" cy="1197000"/>
            </a:xfrm>
            <a:prstGeom prst="ellipse">
              <a:avLst/>
            </a:prstGeom>
            <a:solidFill>
              <a:srgbClr val="ffff9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47640" y="5516640"/>
              <a:ext cx="716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</a:rPr>
                <a:t>地区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それぞれに合ったコミュニティによって土浦を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活性化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させよ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64 0.18899 E">
                                      <p:cBhvr>
                                        <p:cTn id="1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3419E-006 L 0.07101 0.19523 E">
                                      <p:cBhvr>
                                        <p:cTn id="1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47640" y="3284640"/>
            <a:ext cx="720720" cy="2736720"/>
          </a:xfrm>
          <a:prstGeom prst="ellipse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-819720" y="836640"/>
            <a:ext cx="18262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駅前活性化〔土浦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87280" y="836640"/>
            <a:ext cx="2305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体的な提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124000" y="1628640"/>
            <a:ext cx="5614920" cy="581400"/>
            <a:chOff x="2124000" y="1628640"/>
            <a:chExt cx="5614920" cy="581400"/>
          </a:xfrm>
        </p:grpSpPr>
        <p:sp>
          <p:nvSpPr>
            <p:cNvPr id="276" name=""/>
            <p:cNvSpPr/>
            <p:nvPr/>
          </p:nvSpPr>
          <p:spPr>
            <a:xfrm>
              <a:off x="2124000" y="1628640"/>
              <a:ext cx="2232000" cy="581400"/>
            </a:xfrm>
            <a:prstGeom prst="rect">
              <a:avLst/>
            </a:prstGeom>
            <a:solidFill>
              <a:srgbClr val="ff99cc">
                <a:alpha val="20000"/>
              </a:srgbClr>
            </a:solidFill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モール５０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13080" y="162864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59280" y="1628640"/>
              <a:ext cx="2879640" cy="581400"/>
            </a:xfrm>
            <a:prstGeom prst="rect">
              <a:avLst/>
            </a:prstGeom>
            <a:noFill/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学生のたまり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484360" y="3141720"/>
            <a:ext cx="612144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ラッピングによる建物のイメチェン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古い・汚い・暗いイメージを払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３階部分の撤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光が差し込む明るい空間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駐輪スペースの整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学生が訪れやすい環境づく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97000" y="3429000"/>
            <a:ext cx="103356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ハード面の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484360" y="2492280"/>
            <a:ext cx="5400720" cy="4051440"/>
            <a:chOff x="2484360" y="2492280"/>
            <a:chExt cx="5400720" cy="405144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2484360" y="2492280"/>
              <a:ext cx="5400720" cy="40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659640" y="6093000"/>
              <a:ext cx="1150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484360" y="2492280"/>
            <a:ext cx="5400720" cy="4049640"/>
            <a:chOff x="2484360" y="2492280"/>
            <a:chExt cx="5400720" cy="4049640"/>
          </a:xfrm>
        </p:grpSpPr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2484360" y="2492280"/>
              <a:ext cx="5400720" cy="40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659640" y="6092640"/>
              <a:ext cx="1150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16000" y="3089160"/>
            <a:ext cx="8028000" cy="37688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-819720" y="836640"/>
            <a:ext cx="18262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駅前活性化〔神立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20720" y="1052640"/>
            <a:ext cx="1944720" cy="703440"/>
          </a:xfrm>
          <a:prstGeom prst="rect">
            <a:avLst/>
          </a:prstGeom>
          <a:solidFill>
            <a:srgbClr val="dfff85">
              <a:alpha val="6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神立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64000" y="1052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1052640"/>
            <a:ext cx="3384720" cy="7034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HA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エリ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4005360"/>
            <a:ext cx="576360" cy="720720"/>
          </a:xfrm>
          <a:prstGeom prst="downArrow">
            <a:avLst>
              <a:gd name="adj1" fmla="val 50000"/>
              <a:gd name="adj2" fmla="val 312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43280" y="1844640"/>
            <a:ext cx="39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HA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健康・癒し・環境を志向す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ライフスタイ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24000" y="2565360"/>
            <a:ext cx="5616720" cy="1081080"/>
          </a:xfrm>
          <a:prstGeom prst="wedgeRoundRectCallout">
            <a:avLst>
              <a:gd name="adj1" fmla="val -45532"/>
              <a:gd name="adj2" fmla="val -11417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神立駅の西側にハス田が多く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周辺地域で野菜の栽培がさか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908000" y="429264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300720" y="43657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2700360" y="4149720"/>
            <a:ext cx="731880" cy="8319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3564000" y="4221000"/>
            <a:ext cx="792000" cy="7686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7093080" y="4437000"/>
            <a:ext cx="707760" cy="6634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7"/>
          <a:stretch/>
        </p:blipFill>
        <p:spPr>
          <a:xfrm>
            <a:off x="5580000" y="4005360"/>
            <a:ext cx="541440" cy="13460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692360" y="4869000"/>
            <a:ext cx="6696000" cy="9349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然・農業を活かして活性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-819720" y="836640"/>
            <a:ext cx="18262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駅前活性化〔神立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42920" y="907920"/>
            <a:ext cx="2664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駅周辺の現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900000" y="3170160"/>
            <a:ext cx="4680000" cy="354816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4572000" y="1052640"/>
            <a:ext cx="4465800" cy="3384360"/>
            <a:chOff x="4572000" y="1052640"/>
            <a:chExt cx="4465800" cy="3384360"/>
          </a:xfrm>
        </p:grpSpPr>
        <p:sp>
          <p:nvSpPr>
            <p:cNvPr id="306" name=""/>
            <p:cNvSpPr/>
            <p:nvPr/>
          </p:nvSpPr>
          <p:spPr>
            <a:xfrm>
              <a:off x="4572000" y="3213000"/>
              <a:ext cx="122400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2"/>
            <a:stretch/>
          </p:blipFill>
          <p:spPr>
            <a:xfrm>
              <a:off x="4643280" y="1052640"/>
              <a:ext cx="4394520" cy="329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"/>
          <p:cNvSpPr/>
          <p:nvPr/>
        </p:nvSpPr>
        <p:spPr>
          <a:xfrm>
            <a:off x="900000" y="1916280"/>
            <a:ext cx="3673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駅前広場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歩行者、自転車、自家用車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バス、タクシーが入り乱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71640" y="1989000"/>
            <a:ext cx="352908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27280" y="3068640"/>
            <a:ext cx="360360" cy="792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24360" y="4869000"/>
            <a:ext cx="320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駅前通り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車の通行が激しい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歩道空間がほとんど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4941720"/>
            <a:ext cx="288144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43640" y="4076640"/>
            <a:ext cx="720720" cy="86508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16000" y="2924280"/>
            <a:ext cx="7705800" cy="2305080"/>
          </a:xfrm>
          <a:custGeom>
            <a:avLst/>
            <a:gdLst>
              <a:gd name="textAreaLeft" fmla="*/ 1758960 w 7705800"/>
              <a:gd name="textAreaRight" fmla="*/ 5946840 w 7705800"/>
              <a:gd name="textAreaTop" fmla="*/ 525960 h 2305080"/>
              <a:gd name="textAreaBottom" fmla="*/ 1779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を集めるに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駅前の整備が不十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-819720" y="836640"/>
            <a:ext cx="18262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駅前活性化〔神立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42920" y="907920"/>
            <a:ext cx="2737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体的な提案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443640" y="189000"/>
            <a:ext cx="2556000" cy="18795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rcRect l="13397" t="7941" r="6084" b="24768"/>
          <a:stretch/>
        </p:blipFill>
        <p:spPr>
          <a:xfrm>
            <a:off x="3851280" y="3213000"/>
            <a:ext cx="4321080" cy="30546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300720" y="5661000"/>
            <a:ext cx="2664000" cy="947160"/>
          </a:xfrm>
          <a:prstGeom prst="rect">
            <a:avLst/>
          </a:prstGeom>
          <a:solidFill>
            <a:srgbClr val="d9ecff">
              <a:alpha val="90000"/>
            </a:srgbClr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駅前広場・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駅前通りの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00720" y="4941720"/>
            <a:ext cx="1079640" cy="71928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2700000">
            <a:off x="4947840" y="3556080"/>
            <a:ext cx="793800" cy="2158920"/>
          </a:xfrm>
          <a:prstGeom prst="ellipse">
            <a:avLst/>
          </a:prstGeom>
          <a:solidFill>
            <a:srgbClr val="dfff85">
              <a:alpha val="6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2700000">
            <a:off x="5506560" y="3933360"/>
            <a:ext cx="576360" cy="230364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16360" y="3429000"/>
            <a:ext cx="64764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76360" y="1844640"/>
            <a:ext cx="5184720" cy="1557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空き店舗を利用した野菜直売所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オーガニック食材のレストラン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ゆったりとした休憩スペース　　な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63640" y="3141720"/>
            <a:ext cx="4608720" cy="520560"/>
          </a:xfrm>
          <a:prstGeom prst="rect">
            <a:avLst/>
          </a:prstGeom>
          <a:solidFill>
            <a:srgbClr val="dfff8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辺の商店街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HA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風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40" y="836640"/>
            <a:ext cx="10033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駅前活性化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〔荒川沖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1557360"/>
            <a:ext cx="2303640" cy="703440"/>
          </a:xfrm>
          <a:prstGeom prst="rect">
            <a:avLst/>
          </a:prstGeom>
          <a:solidFill>
            <a:srgbClr val="333399">
              <a:alpha val="30000"/>
            </a:srgbClr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荒川沖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11640" y="155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61080" y="1557360"/>
            <a:ext cx="3097080" cy="703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大人エリ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76360" y="2924280"/>
            <a:ext cx="4537080" cy="576000"/>
          </a:xfrm>
          <a:prstGeom prst="wedgeRoundRectCallout">
            <a:avLst>
              <a:gd name="adj1" fmla="val -16129"/>
              <a:gd name="adj2" fmla="val -1464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勤のための駅利用者が多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3933720"/>
            <a:ext cx="576360" cy="720720"/>
          </a:xfrm>
          <a:prstGeom prst="downArrow">
            <a:avLst>
              <a:gd name="adj1" fmla="val 50000"/>
              <a:gd name="adj2" fmla="val 312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 rot="21000000">
            <a:off x="1834920" y="3860280"/>
            <a:ext cx="2143080" cy="154332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5606640" y="3759480"/>
            <a:ext cx="2378520" cy="1892160"/>
            <a:chOff x="5606640" y="3759480"/>
            <a:chExt cx="2378520" cy="189216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 rot="600000">
              <a:off x="5724000" y="3933720"/>
              <a:ext cx="2143080" cy="15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3"/>
            <a:stretch/>
          </p:blipFill>
          <p:spPr>
            <a:xfrm rot="600000">
              <a:off x="6444720" y="4222440"/>
              <a:ext cx="771480" cy="11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1476360" y="4941720"/>
            <a:ext cx="6767640" cy="93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働く世代をターゲットに活性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-819720" y="836640"/>
            <a:ext cx="1826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駅前の活性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21211" t="8953" r="9598" b="4935"/>
          <a:stretch/>
        </p:blipFill>
        <p:spPr>
          <a:xfrm>
            <a:off x="2627280" y="693720"/>
            <a:ext cx="4788000" cy="59500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rot="1587000">
            <a:off x="2771280" y="2033640"/>
            <a:ext cx="5473800" cy="1376280"/>
          </a:xfrm>
          <a:prstGeom prst="ellipse">
            <a:avLst/>
          </a:prstGeom>
          <a:solidFill>
            <a:srgbClr val="dfff85">
              <a:alpha val="37000"/>
            </a:srgbClr>
          </a:solidFill>
          <a:ln cap="rnd" w="1260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412400">
            <a:off x="3446640" y="3428640"/>
            <a:ext cx="2722320" cy="1449360"/>
          </a:xfrm>
          <a:prstGeom prst="ellipse">
            <a:avLst/>
          </a:prstGeom>
          <a:solidFill>
            <a:srgbClr val="ff99cc">
              <a:alpha val="6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506000">
            <a:off x="2727000" y="5003280"/>
            <a:ext cx="2306520" cy="1473480"/>
          </a:xfrm>
          <a:prstGeom prst="ellipse">
            <a:avLst/>
          </a:prstGeom>
          <a:solidFill>
            <a:srgbClr val="99ccff">
              <a:alpha val="3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64000" y="5516640"/>
            <a:ext cx="792000" cy="576360"/>
          </a:xfrm>
          <a:prstGeom prst="ellipse">
            <a:avLst/>
          </a:prstGeom>
          <a:solidFill>
            <a:srgbClr val="ff5050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54560" y="3933720"/>
            <a:ext cx="1152360" cy="505080"/>
          </a:xfrm>
          <a:prstGeom prst="ellipse">
            <a:avLst/>
          </a:prstGeom>
          <a:solidFill>
            <a:srgbClr val="ff5050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2708280"/>
            <a:ext cx="792360" cy="576360"/>
          </a:xfrm>
          <a:prstGeom prst="ellipse">
            <a:avLst/>
          </a:prstGeom>
          <a:solidFill>
            <a:srgbClr val="ff5050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274560" y="2349360"/>
            <a:ext cx="3527640" cy="4321080"/>
            <a:chOff x="3274560" y="2349360"/>
            <a:chExt cx="3527640" cy="4321080"/>
          </a:xfrm>
        </p:grpSpPr>
        <p:sp>
          <p:nvSpPr>
            <p:cNvPr id="346" name=""/>
            <p:cNvSpPr/>
            <p:nvPr/>
          </p:nvSpPr>
          <p:spPr>
            <a:xfrm flipH="1">
              <a:off x="3274560" y="2349360"/>
              <a:ext cx="3527640" cy="432108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2280000">
              <a:off x="3922560" y="5589360"/>
              <a:ext cx="14436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2280000">
              <a:off x="6227280" y="2780640"/>
              <a:ext cx="14472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2280000">
              <a:off x="5146200" y="4077720"/>
              <a:ext cx="14472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416640" y="5364000"/>
            <a:ext cx="2521080" cy="7034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若者エリ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02360" y="4689360"/>
            <a:ext cx="1871640" cy="703440"/>
          </a:xfrm>
          <a:prstGeom prst="rect">
            <a:avLst/>
          </a:prstGeom>
          <a:solidFill>
            <a:srgbClr val="ffd5ea"/>
          </a:solidFill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土浦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81640" y="4284720"/>
            <a:ext cx="720720" cy="718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1042920"/>
            <a:ext cx="3384720" cy="7034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HA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エリ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02360" y="414360"/>
            <a:ext cx="1944720" cy="703440"/>
          </a:xfrm>
          <a:prstGeom prst="rect">
            <a:avLst/>
          </a:prstGeom>
          <a:solidFill>
            <a:srgbClr val="dfff85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神立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551640" y="1763640"/>
            <a:ext cx="990720" cy="11700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280" y="5994360"/>
            <a:ext cx="3097440" cy="703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大人エリ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600" y="5364000"/>
            <a:ext cx="2303640" cy="703440"/>
          </a:xfrm>
          <a:prstGeom prst="rect">
            <a:avLst/>
          </a:prstGeom>
          <a:solidFill>
            <a:srgbClr val="d3d3f1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荒川沖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367000" y="5814720"/>
            <a:ext cx="1349280" cy="44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-179280" y="115920"/>
            <a:ext cx="485928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06640" y="2394000"/>
            <a:ext cx="712944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HGP行書体"/>
              </a:rPr>
              <a:t>歩行者中心の交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32000" y="3878280"/>
            <a:ext cx="504036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ードプライシ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32000" y="5386320"/>
            <a:ext cx="504036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バス利便性の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32000" y="4621320"/>
            <a:ext cx="504036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土浦駅ロータリーの改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30640" y="5091120"/>
            <a:ext cx="179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39920" y="4022640"/>
            <a:ext cx="900000" cy="2430720"/>
          </a:xfrm>
          <a:custGeom>
            <a:avLst/>
            <a:gdLst>
              <a:gd name="textAreaLeft" fmla="*/ 360 w 900000"/>
              <a:gd name="textAreaRight" fmla="*/ 899640 w 900000"/>
              <a:gd name="textAreaTop" fmla="*/ 360 h 2430720"/>
              <a:gd name="textAreaBottom" fmla="*/ 2430360 h 2430720"/>
            </a:gdLst>
            <a:ahLst/>
            <a:rect l="textAreaLeft" t="textAreaTop" r="textAreaRight" b="textAreaBottom"/>
            <a:pathLst>
              <a:path w="21600" h="58323">
                <a:moveTo>
                  <a:pt x="38" y="0"/>
                </a:moveTo>
                <a:arcTo wR="38" hR="38" stAng="16200000" swAng="-5400000"/>
                <a:lnTo>
                  <a:pt x="0" y="58285"/>
                </a:lnTo>
                <a:arcTo wR="38" hR="38" stAng="10800000" swAng="-5400000"/>
                <a:lnTo>
                  <a:pt x="21562" y="58323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7000" bIns="2700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居住環境の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84640" y="4022640"/>
            <a:ext cx="900360" cy="2430720"/>
          </a:xfrm>
          <a:custGeom>
            <a:avLst/>
            <a:gdLst>
              <a:gd name="textAreaLeft" fmla="*/ 360 w 900360"/>
              <a:gd name="textAreaRight" fmla="*/ 900000 w 900360"/>
              <a:gd name="textAreaTop" fmla="*/ 360 h 2430720"/>
              <a:gd name="textAreaBottom" fmla="*/ 2430360 h 2430720"/>
            </a:gdLst>
            <a:ahLst/>
            <a:rect l="textAreaLeft" t="textAreaTop" r="textAreaRight" b="textAreaBottom"/>
            <a:pathLst>
              <a:path w="21600" h="58299">
                <a:moveTo>
                  <a:pt x="38" y="0"/>
                </a:moveTo>
                <a:arcTo wR="38" hR="38" stAng="16200000" swAng="-5400000"/>
                <a:lnTo>
                  <a:pt x="0" y="58261"/>
                </a:lnTo>
                <a:arcTo wR="38" hR="38" stAng="10800000" swAng="-5400000"/>
                <a:lnTo>
                  <a:pt x="21562" y="58299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99ccff">
              <a:alpha val="7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7000" bIns="2700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歩行者中心の交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56280" y="4022640"/>
            <a:ext cx="900360" cy="2430720"/>
          </a:xfrm>
          <a:custGeom>
            <a:avLst/>
            <a:gdLst>
              <a:gd name="textAreaLeft" fmla="*/ 360 w 900360"/>
              <a:gd name="textAreaRight" fmla="*/ 900000 w 900360"/>
              <a:gd name="textAreaTop" fmla="*/ 360 h 2430720"/>
              <a:gd name="textAreaBottom" fmla="*/ 2430360 h 2430720"/>
            </a:gdLst>
            <a:ahLst/>
            <a:rect l="textAreaLeft" t="textAreaTop" r="textAreaRight" b="textAreaBottom"/>
            <a:pathLst>
              <a:path w="21600" h="58299">
                <a:moveTo>
                  <a:pt x="38" y="0"/>
                </a:moveTo>
                <a:arcTo wR="38" hR="38" stAng="16200000" swAng="-5400000"/>
                <a:lnTo>
                  <a:pt x="0" y="58261"/>
                </a:lnTo>
                <a:arcTo wR="38" hR="38" stAng="10800000" swAng="-5400000"/>
                <a:lnTo>
                  <a:pt x="21562" y="58299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dfff85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7000" bIns="2700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住民同士の交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4022640"/>
            <a:ext cx="900360" cy="2430720"/>
          </a:xfrm>
          <a:custGeom>
            <a:avLst/>
            <a:gdLst>
              <a:gd name="textAreaLeft" fmla="*/ 360 w 900360"/>
              <a:gd name="textAreaRight" fmla="*/ 900000 w 900360"/>
              <a:gd name="textAreaTop" fmla="*/ 360 h 2430720"/>
              <a:gd name="textAreaBottom" fmla="*/ 2430360 h 2430720"/>
            </a:gdLst>
            <a:ahLst/>
            <a:rect l="textAreaLeft" t="textAreaTop" r="textAreaRight" b="textAreaBottom"/>
            <a:pathLst>
              <a:path w="21600" h="58299">
                <a:moveTo>
                  <a:pt x="38" y="0"/>
                </a:moveTo>
                <a:arcTo wR="38" hR="38" stAng="16200000" swAng="-5400000"/>
                <a:lnTo>
                  <a:pt x="0" y="58261"/>
                </a:lnTo>
                <a:arcTo wR="38" hR="38" stAng="10800000" swAng="-5400000"/>
                <a:lnTo>
                  <a:pt x="21562" y="58299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ff5050">
              <a:alpha val="4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7000" bIns="2700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駅前の活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6640" y="3878280"/>
            <a:ext cx="748836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indefinite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indefinite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indefinite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16000" y="4886280"/>
            <a:ext cx="7416720" cy="9471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過交通の削減による交通事故に対する危険性の減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歩行者の増やして賑わいを創出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82920" y="3213000"/>
            <a:ext cx="863640" cy="1366920"/>
          </a:xfrm>
          <a:prstGeom prst="downArrow">
            <a:avLst>
              <a:gd name="adj1" fmla="val 50000"/>
              <a:gd name="adj2" fmla="val 39569"/>
            </a:avLst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43280" y="3430440"/>
            <a:ext cx="3744720" cy="6480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ロードプライ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-819720" y="836640"/>
            <a:ext cx="1826280" cy="58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ロードプライシン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637000" y="954000"/>
            <a:ext cx="45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駅周辺の通過交通が多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07000" y="1584360"/>
            <a:ext cx="495360" cy="404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681280" y="1943280"/>
            <a:ext cx="459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駅周辺の通過交通が多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rcRect l="2011" t="2147" r="2815" b="1860"/>
          <a:stretch/>
        </p:blipFill>
        <p:spPr>
          <a:xfrm>
            <a:off x="2185920" y="466560"/>
            <a:ext cx="6391440" cy="63914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 rot="1740000">
            <a:off x="4392360" y="3429000"/>
            <a:ext cx="2016000" cy="1368360"/>
          </a:xfrm>
          <a:prstGeom prst="ellipse">
            <a:avLst/>
          </a:prstGeom>
          <a:solidFill>
            <a:srgbClr val="ff0000">
              <a:alpha val="1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-819720" y="836640"/>
            <a:ext cx="1826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交通の現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07000" y="585936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何がいいたいの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58920" y="4294080"/>
            <a:ext cx="2700360" cy="1150920"/>
          </a:xfrm>
          <a:prstGeom prst="flowChartDocument">
            <a:avLst/>
          </a:prstGeom>
          <a:solidFill>
            <a:srgbClr val="ffff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６号バイパ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拡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38560" y="2852640"/>
            <a:ext cx="720720" cy="1079640"/>
          </a:xfrm>
          <a:prstGeom prst="downArrow">
            <a:avLst>
              <a:gd name="adj1" fmla="val 50000"/>
              <a:gd name="adj2" fmla="val 37450"/>
            </a:avLst>
          </a:prstGeom>
          <a:solidFill>
            <a:srgbClr val="ffff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716360" y="198360"/>
            <a:ext cx="4248360" cy="6399360"/>
            <a:chOff x="4716360" y="198360"/>
            <a:chExt cx="4248360" cy="6399360"/>
          </a:xfrm>
        </p:grpSpPr>
        <p:grpSp>
          <p:nvGrpSpPr>
            <p:cNvPr id="384" name=""/>
            <p:cNvGrpSpPr/>
            <p:nvPr/>
          </p:nvGrpSpPr>
          <p:grpSpPr>
            <a:xfrm>
              <a:off x="4716360" y="198360"/>
              <a:ext cx="4151520" cy="5904000"/>
              <a:chOff x="4716360" y="198360"/>
              <a:chExt cx="4151520" cy="5904000"/>
            </a:xfrm>
          </p:grpSpPr>
          <p:sp>
            <p:nvSpPr>
              <p:cNvPr id="385" name=""/>
              <p:cNvSpPr/>
              <p:nvPr/>
            </p:nvSpPr>
            <p:spPr>
              <a:xfrm>
                <a:off x="4859280" y="198360"/>
                <a:ext cx="1079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現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716360" y="701640"/>
                <a:ext cx="4151520" cy="5400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7" name="" descr=""/>
            <p:cNvPicPr/>
            <p:nvPr/>
          </p:nvPicPr>
          <p:blipFill>
            <a:blip r:embed="rId2"/>
            <a:stretch/>
          </p:blipFill>
          <p:spPr>
            <a:xfrm>
              <a:off x="7093080" y="5238720"/>
              <a:ext cx="1871640" cy="135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"/>
          <p:cNvGrpSpPr/>
          <p:nvPr/>
        </p:nvGrpSpPr>
        <p:grpSpPr>
          <a:xfrm>
            <a:off x="4716360" y="189000"/>
            <a:ext cx="4172040" cy="6479640"/>
            <a:chOff x="4716360" y="189000"/>
            <a:chExt cx="4172040" cy="6479640"/>
          </a:xfrm>
        </p:grpSpPr>
        <p:grpSp>
          <p:nvGrpSpPr>
            <p:cNvPr id="389" name=""/>
            <p:cNvGrpSpPr/>
            <p:nvPr/>
          </p:nvGrpSpPr>
          <p:grpSpPr>
            <a:xfrm>
              <a:off x="4716360" y="189000"/>
              <a:ext cx="4151520" cy="5903280"/>
              <a:chOff x="4716360" y="189000"/>
              <a:chExt cx="4151520" cy="5903280"/>
            </a:xfrm>
          </p:grpSpPr>
          <p:pic>
            <p:nvPicPr>
              <p:cNvPr id="3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16360" y="691920"/>
                <a:ext cx="4151520" cy="540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>
                <a:off x="4788000" y="189000"/>
                <a:ext cx="10792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7054920" y="5338440"/>
              <a:ext cx="1833480" cy="133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4716360" y="115920"/>
            <a:ext cx="4175280" cy="6551640"/>
            <a:chOff x="4716360" y="115920"/>
            <a:chExt cx="4175280" cy="6551640"/>
          </a:xfrm>
        </p:grpSpPr>
        <p:grpSp>
          <p:nvGrpSpPr>
            <p:cNvPr id="394" name=""/>
            <p:cNvGrpSpPr/>
            <p:nvPr/>
          </p:nvGrpSpPr>
          <p:grpSpPr>
            <a:xfrm>
              <a:off x="4716360" y="115920"/>
              <a:ext cx="4151520" cy="5975280"/>
              <a:chOff x="4716360" y="115920"/>
              <a:chExt cx="4151520" cy="59752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16360" y="690480"/>
                <a:ext cx="4151520" cy="540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4788000" y="115920"/>
                <a:ext cx="10792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拡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7" name="" descr=""/>
            <p:cNvPicPr/>
            <p:nvPr/>
          </p:nvPicPr>
          <p:blipFill>
            <a:blip r:embed="rId6"/>
            <a:stretch/>
          </p:blipFill>
          <p:spPr>
            <a:xfrm>
              <a:off x="7020000" y="5308920"/>
              <a:ext cx="1871640" cy="135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"/>
          <p:cNvSpPr/>
          <p:nvPr/>
        </p:nvSpPr>
        <p:spPr>
          <a:xfrm>
            <a:off x="1295280" y="1052640"/>
            <a:ext cx="2700360" cy="1368360"/>
          </a:xfrm>
          <a:prstGeom prst="flowChartDocument">
            <a:avLst/>
          </a:prstGeom>
          <a:solidFill>
            <a:srgbClr val="ffff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土浦駅西口付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５００円課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-819720" y="836640"/>
            <a:ext cx="182628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プライシン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819720" y="836640"/>
            <a:ext cx="1826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発表の流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1700280"/>
            <a:ext cx="324000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指す都市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5589720"/>
            <a:ext cx="324000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後の調査方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3645000"/>
            <a:ext cx="324000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実現への施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27280" y="2637000"/>
            <a:ext cx="576360" cy="720720"/>
          </a:xfrm>
          <a:prstGeom prst="downArrow">
            <a:avLst>
              <a:gd name="adj1" fmla="val 50000"/>
              <a:gd name="adj2" fmla="val 312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7280" y="4581360"/>
            <a:ext cx="576360" cy="720720"/>
          </a:xfrm>
          <a:prstGeom prst="downArrow">
            <a:avLst>
              <a:gd name="adj1" fmla="val 50000"/>
              <a:gd name="adj2" fmla="val 312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51280" y="1673280"/>
            <a:ext cx="4095720" cy="117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状の問題点をふまえ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目指す都市像を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51280" y="3608280"/>
            <a:ext cx="4095720" cy="117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都市像実現のための課題抽出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状と対策の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51280" y="5543640"/>
            <a:ext cx="4095720" cy="676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終発表に向けての課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4932360" y="5587920"/>
            <a:ext cx="720720" cy="0"/>
          </a:xfrm>
          <a:prstGeom prst="line">
            <a:avLst/>
          </a:prstGeom>
          <a:ln w="63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932360" y="6237360"/>
            <a:ext cx="7207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42160" y="537228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581800" y="599616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歩行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231920" y="260280"/>
            <a:ext cx="3267000" cy="6381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619280" y="692280"/>
            <a:ext cx="2160720" cy="0"/>
          </a:xfrm>
          <a:prstGeom prst="line">
            <a:avLst/>
          </a:prstGeom>
          <a:ln w="63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692280"/>
            <a:ext cx="0" cy="4824360"/>
          </a:xfrm>
          <a:prstGeom prst="line">
            <a:avLst/>
          </a:prstGeom>
          <a:ln w="63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690200" y="5516640"/>
            <a:ext cx="2087640" cy="0"/>
          </a:xfrm>
          <a:prstGeom prst="line">
            <a:avLst/>
          </a:prstGeom>
          <a:ln w="63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74920" y="692280"/>
            <a:ext cx="0" cy="2592360"/>
          </a:xfrm>
          <a:prstGeom prst="line">
            <a:avLst/>
          </a:prstGeom>
          <a:ln w="63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124000" y="3284640"/>
            <a:ext cx="1656000" cy="0"/>
          </a:xfrm>
          <a:prstGeom prst="line">
            <a:avLst/>
          </a:prstGeom>
          <a:ln w="63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771640" y="764640"/>
            <a:ext cx="0" cy="1800360"/>
          </a:xfrm>
          <a:prstGeom prst="line">
            <a:avLst/>
          </a:prstGeom>
          <a:ln w="63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124000" y="764640"/>
            <a:ext cx="0" cy="3816360"/>
          </a:xfrm>
          <a:prstGeom prst="line">
            <a:avLst/>
          </a:prstGeom>
          <a:ln w="63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1171800" y="4610520"/>
            <a:ext cx="967680" cy="967680"/>
          </a:xfrm>
          <a:prstGeom prst="line">
            <a:avLst/>
          </a:prstGeom>
          <a:ln w="63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82920" y="981000"/>
            <a:ext cx="16574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564000" y="1844640"/>
            <a:ext cx="6476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48000" y="4941720"/>
            <a:ext cx="936720" cy="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32000" y="4724280"/>
            <a:ext cx="0" cy="158436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84360" y="765000"/>
            <a:ext cx="1728720" cy="432000"/>
          </a:xfrm>
          <a:prstGeom prst="ellipse">
            <a:avLst/>
          </a:prstGeom>
          <a:solidFill>
            <a:srgbClr val="ffff99">
              <a:alpha val="20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348000" y="1628640"/>
            <a:ext cx="936720" cy="432000"/>
          </a:xfrm>
          <a:prstGeom prst="ellipse">
            <a:avLst/>
          </a:prstGeom>
          <a:solidFill>
            <a:srgbClr val="ffff99">
              <a:alpha val="20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19640" y="4581360"/>
            <a:ext cx="718920" cy="719280"/>
          </a:xfrm>
          <a:prstGeom prst="ellipse">
            <a:avLst/>
          </a:prstGeom>
          <a:solidFill>
            <a:srgbClr val="ffff99">
              <a:alpha val="20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771640" y="4653000"/>
            <a:ext cx="719280" cy="1584360"/>
          </a:xfrm>
          <a:prstGeom prst="ellipse">
            <a:avLst/>
          </a:prstGeom>
          <a:solidFill>
            <a:srgbClr val="ffff99">
              <a:alpha val="20000"/>
            </a:srgbClr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38560" y="981000"/>
            <a:ext cx="1655640" cy="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45600" y="2214720"/>
            <a:ext cx="4546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ウラ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142880" y="1916280"/>
            <a:ext cx="4546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土浦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282920" y="1358640"/>
            <a:ext cx="1324080" cy="41436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4067280" y="1916280"/>
            <a:ext cx="1726920" cy="280800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130560" y="1763280"/>
            <a:ext cx="2432160" cy="296244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1640" y="819000"/>
            <a:ext cx="2735280" cy="79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動線が交差し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42000" y="1989000"/>
            <a:ext cx="720720" cy="854280"/>
          </a:xfrm>
          <a:prstGeom prst="downArrow">
            <a:avLst>
              <a:gd name="adj1" fmla="val 50000"/>
              <a:gd name="adj2" fmla="val 2963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81640" y="3068640"/>
            <a:ext cx="3375000" cy="1511280"/>
          </a:xfrm>
          <a:prstGeom prst="rect">
            <a:avLst/>
          </a:prstGeom>
          <a:solidFill>
            <a:srgbClr val="ffff99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歩行者が横断する際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危険性が高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車が停留→渋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40" y="836640"/>
            <a:ext cx="10033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行書体"/>
              </a:rPr>
              <a:t>ロータリー改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5337000" y="1943280"/>
            <a:ext cx="3600720" cy="27000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311640" y="3743280"/>
            <a:ext cx="1260360" cy="2070000"/>
          </a:xfrm>
          <a:prstGeom prst="ellipse">
            <a:avLst/>
          </a:prstGeom>
          <a:solidFill>
            <a:srgbClr val="99ccff">
              <a:alpha val="40000"/>
            </a:srgbClr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302000" y="3699000"/>
            <a:ext cx="1035000" cy="85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562720" y="5049720"/>
            <a:ext cx="3375000" cy="1036800"/>
          </a:xfrm>
          <a:prstGeom prst="wedgeRoundRectCallout">
            <a:avLst>
              <a:gd name="adj1" fmla="val -7291"/>
              <a:gd name="adj2" fmla="val -855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降車スペースの混雑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歩行者とバスの接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240" y="836640"/>
            <a:ext cx="10033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行書体"/>
              </a:rPr>
              <a:t>ロータリー改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62720" y="819000"/>
            <a:ext cx="1530360" cy="541440"/>
          </a:xfrm>
          <a:prstGeom prst="roundRect">
            <a:avLst>
              <a:gd name="adj" fmla="val 16667"/>
            </a:avLst>
          </a:prstGeom>
          <a:solidFill>
            <a:srgbClr val="ff99cc">
              <a:alpha val="30000"/>
            </a:srgbClr>
          </a:solidFill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家用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07000" y="819000"/>
            <a:ext cx="1530000" cy="541440"/>
          </a:xfrm>
          <a:prstGeom prst="roundRect">
            <a:avLst>
              <a:gd name="adj" fmla="val 16667"/>
            </a:avLst>
          </a:prstGeom>
          <a:solidFill>
            <a:srgbClr val="ffff99">
              <a:alpha val="30000"/>
            </a:srgbClr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タクシ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050920" y="817560"/>
            <a:ext cx="1530360" cy="541440"/>
          </a:xfrm>
          <a:prstGeom prst="roundRect">
            <a:avLst>
              <a:gd name="adj" fmla="val 16667"/>
            </a:avLst>
          </a:prstGeom>
          <a:solidFill>
            <a:srgbClr val="99ccff">
              <a:alpha val="30000"/>
            </a:srgbClr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バ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90320" y="1538280"/>
            <a:ext cx="1102320" cy="324000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路線のわかりづら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降車場での混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046040" y="1538280"/>
            <a:ext cx="1102320" cy="3240000"/>
          </a:xfrm>
          <a:prstGeom prst="rect">
            <a:avLst/>
          </a:pr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待機車両のスペ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自家用車との住み分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46040" y="1539720"/>
            <a:ext cx="1102320" cy="324036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送迎スペ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通過交通の排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76640" y="4869000"/>
            <a:ext cx="4725720" cy="45972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動線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672000" y="5452920"/>
            <a:ext cx="2070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97000" y="6218280"/>
            <a:ext cx="7066080" cy="495360"/>
          </a:xfrm>
          <a:prstGeom prst="ellipse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いやすく安全なロータリー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86280" y="4599000"/>
            <a:ext cx="2611080" cy="990720"/>
          </a:xfrm>
          <a:prstGeom prst="wedgeRoundRectCallout">
            <a:avLst>
              <a:gd name="adj1" fmla="val -3435"/>
              <a:gd name="adj2" fmla="val -80768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それぞ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算出が必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967360" y="4869000"/>
            <a:ext cx="541440" cy="495000"/>
          </a:xfrm>
          <a:prstGeom prst="rightArrow">
            <a:avLst>
              <a:gd name="adj1" fmla="val 50000"/>
              <a:gd name="adj2" fmla="val 273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732720" y="4554360"/>
            <a:ext cx="2205000" cy="1033560"/>
          </a:xfrm>
          <a:prstGeom prst="roundRect">
            <a:avLst>
              <a:gd name="adj" fmla="val 16667"/>
            </a:avLst>
          </a:prstGeom>
          <a:solidFill>
            <a:srgbClr val="fff3c1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交通量調査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実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indefinite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indefinite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indefinite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indefinite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indefinite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indefinite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indefinite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indefinite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indefinite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140360" y="2495520"/>
            <a:ext cx="4695840" cy="43624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-819720" y="836640"/>
            <a:ext cx="18262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行書体"/>
              </a:rPr>
              <a:t>交通量調査概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27720" y="1494000"/>
            <a:ext cx="1800360" cy="495000"/>
          </a:xfrm>
          <a:prstGeom prst="borderCallout1">
            <a:avLst>
              <a:gd name="adj1" fmla="val 18750"/>
              <a:gd name="adj2" fmla="val -8333"/>
              <a:gd name="adj3" fmla="val 289101"/>
              <a:gd name="adj4" fmla="val 46912"/>
            </a:avLst>
          </a:prstGeom>
          <a:solidFill>
            <a:srgbClr val="ffffff"/>
          </a:solidFill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調査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71640" y="954000"/>
            <a:ext cx="4103640" cy="4013280"/>
          </a:xfrm>
          <a:prstGeom prst="flowChartDocument">
            <a:avLst/>
          </a:prstGeom>
          <a:solidFill>
            <a:srgbClr val="ffff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（月）夜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2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（火）朝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調査項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ごとの自家用車の出入り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　〃　　　　　     停車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台あたりの滞在時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ロータリーの問題発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226400" y="4643280"/>
            <a:ext cx="7902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ウラ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871040" y="4437000"/>
            <a:ext cx="790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土浦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86640" y="2889360"/>
            <a:ext cx="1216080" cy="2925720"/>
          </a:xfrm>
          <a:prstGeom prst="ellipse">
            <a:avLst/>
          </a:prstGeom>
          <a:solidFill>
            <a:srgbClr val="ffff00">
              <a:alpha val="10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611280" y="1413000"/>
          <a:ext cx="8604000" cy="405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860400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"/>
          <p:cNvSpPr/>
          <p:nvPr/>
        </p:nvSpPr>
        <p:spPr>
          <a:xfrm>
            <a:off x="3240" y="836640"/>
            <a:ext cx="10033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行書体"/>
              </a:rPr>
              <a:t>交通量調査〔朝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1125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台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601640" y="5769000"/>
            <a:ext cx="6750360" cy="863640"/>
          </a:xfrm>
          <a:prstGeom prst="wedgeRectCallout">
            <a:avLst>
              <a:gd name="adj1" fmla="val -12041"/>
              <a:gd name="adj2" fmla="val -32171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送りに来る車がほとんどを占め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滞在時間は短く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出入りが激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22720" y="108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出入者数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: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: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332000" y="2144880"/>
            <a:ext cx="7343640" cy="1728720"/>
          </a:xfrm>
          <a:custGeom>
            <a:avLst/>
            <a:gdLst/>
            <a:ahLst/>
            <a:rect l="l" t="t" r="r" b="b"/>
            <a:pathLst>
              <a:path w="4626" h="1089">
                <a:moveTo>
                  <a:pt x="0" y="582"/>
                </a:moveTo>
                <a:cubicBezTo>
                  <a:pt x="52" y="469"/>
                  <a:pt x="105" y="356"/>
                  <a:pt x="181" y="265"/>
                </a:cubicBezTo>
                <a:cubicBezTo>
                  <a:pt x="257" y="174"/>
                  <a:pt x="347" y="0"/>
                  <a:pt x="453" y="38"/>
                </a:cubicBezTo>
                <a:cubicBezTo>
                  <a:pt x="559" y="76"/>
                  <a:pt x="589" y="393"/>
                  <a:pt x="816" y="491"/>
                </a:cubicBezTo>
                <a:cubicBezTo>
                  <a:pt x="1043" y="589"/>
                  <a:pt x="1497" y="567"/>
                  <a:pt x="1814" y="628"/>
                </a:cubicBezTo>
                <a:cubicBezTo>
                  <a:pt x="2131" y="689"/>
                  <a:pt x="2426" y="794"/>
                  <a:pt x="2721" y="854"/>
                </a:cubicBezTo>
                <a:cubicBezTo>
                  <a:pt x="3016" y="914"/>
                  <a:pt x="3356" y="952"/>
                  <a:pt x="3583" y="990"/>
                </a:cubicBezTo>
                <a:cubicBezTo>
                  <a:pt x="3810" y="1028"/>
                  <a:pt x="3946" y="1073"/>
                  <a:pt x="4082" y="1081"/>
                </a:cubicBezTo>
                <a:cubicBezTo>
                  <a:pt x="4218" y="1089"/>
                  <a:pt x="4309" y="1036"/>
                  <a:pt x="4400" y="1036"/>
                </a:cubicBezTo>
                <a:cubicBezTo>
                  <a:pt x="4491" y="1036"/>
                  <a:pt x="4558" y="1058"/>
                  <a:pt x="4626" y="1081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63640" y="1916280"/>
            <a:ext cx="647640" cy="64764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176640" y="1854360"/>
            <a:ext cx="2232000" cy="936360"/>
          </a:xfrm>
          <a:prstGeom prst="wedgeRectCallout">
            <a:avLst>
              <a:gd name="adj1" fmla="val -91393"/>
              <a:gd name="adj2" fmla="val -19662"/>
            </a:avLst>
          </a:prstGeom>
          <a:solidFill>
            <a:srgbClr val="fff3c1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:10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53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16280" y="773280"/>
            <a:ext cx="2565360" cy="865080"/>
          </a:xfrm>
          <a:prstGeom prst="wedgeRectCallout">
            <a:avLst>
              <a:gd name="adj1" fmla="val -47708"/>
              <a:gd name="adj2" fmla="val 107981"/>
            </a:avLst>
          </a:prstGeom>
          <a:solidFill>
            <a:srgbClr val="c7f2f1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:10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58080" y="5408640"/>
            <a:ext cx="10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時刻（分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62000" y="5138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86280" y="518472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41280" y="4915080"/>
            <a:ext cx="3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21280" y="4869000"/>
            <a:ext cx="3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97720" y="4915080"/>
            <a:ext cx="3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141640" y="49150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86280" y="49150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032360" y="49150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316640" y="49150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77000" y="486900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1640" y="486900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63080" y="518472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880920" y="1449360"/>
          <a:ext cx="81550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920" y="1449360"/>
                    <a:ext cx="81550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1042920" y="1484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台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01080" y="5157720"/>
            <a:ext cx="10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時刻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68360" y="54936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出入者数の推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: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: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57360" y="2214720"/>
            <a:ext cx="6912000" cy="1379520"/>
          </a:xfrm>
          <a:custGeom>
            <a:avLst/>
            <a:gdLst/>
            <a:ahLst/>
            <a:rect l="l" t="t" r="r" b="b"/>
            <a:pathLst>
              <a:path w="4354" h="869">
                <a:moveTo>
                  <a:pt x="0" y="295"/>
                </a:moveTo>
                <a:cubicBezTo>
                  <a:pt x="30" y="552"/>
                  <a:pt x="60" y="809"/>
                  <a:pt x="136" y="839"/>
                </a:cubicBezTo>
                <a:cubicBezTo>
                  <a:pt x="212" y="869"/>
                  <a:pt x="356" y="583"/>
                  <a:pt x="454" y="477"/>
                </a:cubicBezTo>
                <a:cubicBezTo>
                  <a:pt x="552" y="371"/>
                  <a:pt x="635" y="196"/>
                  <a:pt x="726" y="204"/>
                </a:cubicBezTo>
                <a:cubicBezTo>
                  <a:pt x="817" y="212"/>
                  <a:pt x="892" y="537"/>
                  <a:pt x="998" y="522"/>
                </a:cubicBezTo>
                <a:cubicBezTo>
                  <a:pt x="1104" y="507"/>
                  <a:pt x="1270" y="190"/>
                  <a:pt x="1361" y="114"/>
                </a:cubicBezTo>
                <a:cubicBezTo>
                  <a:pt x="1452" y="38"/>
                  <a:pt x="1481" y="0"/>
                  <a:pt x="1542" y="68"/>
                </a:cubicBezTo>
                <a:cubicBezTo>
                  <a:pt x="1603" y="136"/>
                  <a:pt x="1671" y="507"/>
                  <a:pt x="1724" y="522"/>
                </a:cubicBezTo>
                <a:cubicBezTo>
                  <a:pt x="1777" y="537"/>
                  <a:pt x="1762" y="144"/>
                  <a:pt x="1860" y="159"/>
                </a:cubicBezTo>
                <a:cubicBezTo>
                  <a:pt x="1958" y="174"/>
                  <a:pt x="2192" y="606"/>
                  <a:pt x="2313" y="613"/>
                </a:cubicBezTo>
                <a:cubicBezTo>
                  <a:pt x="2434" y="620"/>
                  <a:pt x="2502" y="181"/>
                  <a:pt x="2585" y="204"/>
                </a:cubicBezTo>
                <a:cubicBezTo>
                  <a:pt x="2668" y="227"/>
                  <a:pt x="2661" y="779"/>
                  <a:pt x="2812" y="749"/>
                </a:cubicBezTo>
                <a:cubicBezTo>
                  <a:pt x="2963" y="719"/>
                  <a:pt x="3312" y="16"/>
                  <a:pt x="3493" y="23"/>
                </a:cubicBezTo>
                <a:cubicBezTo>
                  <a:pt x="3674" y="30"/>
                  <a:pt x="3758" y="749"/>
                  <a:pt x="3901" y="794"/>
                </a:cubicBezTo>
                <a:cubicBezTo>
                  <a:pt x="4044" y="839"/>
                  <a:pt x="4199" y="567"/>
                  <a:pt x="4354" y="295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40" y="836640"/>
            <a:ext cx="10033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行書体"/>
              </a:rPr>
              <a:t>交通量調査〔夜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27000" y="5769000"/>
            <a:ext cx="8101080" cy="863640"/>
          </a:xfrm>
          <a:prstGeom prst="wedgeRectCallout">
            <a:avLst>
              <a:gd name="adj1" fmla="val -10041"/>
              <a:gd name="adj2" fmla="val -32171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車の到着に合わせて台数が変動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目立ったピークはなく、長時間にわたって車の出入り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947000" y="5587920"/>
            <a:ext cx="10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時刻（分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50920" y="5318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411280" y="5364000"/>
            <a:ext cx="6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374840" y="5003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37000" y="5003640"/>
            <a:ext cx="40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947000" y="5048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735200" y="500364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37000" y="500364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392720" y="500364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47000" y="5048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91280" y="5048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91280" y="5048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46640" y="5364000"/>
            <a:ext cx="6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4437000" y="3789360"/>
            <a:ext cx="865080" cy="809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-819720" y="836640"/>
            <a:ext cx="18262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行書体"/>
              </a:rPr>
              <a:t>調査結果のまと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106640" y="1944720"/>
            <a:ext cx="3644640" cy="155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滞在車数は少ない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平均滞在時間は約１分半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入れ替わりが激しい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送迎のピークは７時前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021280" y="1944720"/>
            <a:ext cx="3736800" cy="155700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５分以上の停車が多い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平均滞在時間は約４分半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電車の到着に伴い変動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禁止区域での送迎も多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276640" y="1268280"/>
            <a:ext cx="1079280" cy="63036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72360" y="1268280"/>
            <a:ext cx="1079280" cy="630360"/>
          </a:xfrm>
          <a:prstGeom prst="roundRect">
            <a:avLst>
              <a:gd name="adj" fmla="val 16667"/>
            </a:avLst>
          </a:prstGeom>
          <a:solidFill>
            <a:srgbClr val="3366ff">
              <a:alpha val="2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927000" y="4734000"/>
            <a:ext cx="7875720" cy="153036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家用車の通過・駐車・停車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配慮した送迎スペースの改善案を考えてい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835280" y="1197000"/>
            <a:ext cx="6408720" cy="520560"/>
          </a:xfrm>
          <a:prstGeom prst="rect">
            <a:avLst/>
          </a:prstGeom>
          <a:solidFill>
            <a:srgbClr val="00ffff">
              <a:alpha val="20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ードプライシング→安全性、賑わ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35280" y="3284640"/>
            <a:ext cx="6408720" cy="520560"/>
          </a:xfrm>
          <a:prstGeom prst="rect">
            <a:avLst/>
          </a:prstGeom>
          <a:solidFill>
            <a:srgbClr val="00ffff">
              <a:alpha val="20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バス利便性の向上→利便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35280" y="2205000"/>
            <a:ext cx="6408720" cy="520560"/>
          </a:xfrm>
          <a:prstGeom prst="rect">
            <a:avLst/>
          </a:prstGeom>
          <a:solidFill>
            <a:srgbClr val="00ffff">
              <a:alpha val="20000"/>
            </a:srgbClr>
          </a:solid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土浦駅ロータリーの改善→安全性、快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639000" y="189000"/>
            <a:ext cx="1826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行書体"/>
              </a:rPr>
              <a:t>歩行者優先の交通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27640" y="4221000"/>
            <a:ext cx="1081080" cy="93672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35280" y="5445000"/>
            <a:ext cx="6265800" cy="58140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安心、快適に歩ける市街地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-819720" y="836640"/>
            <a:ext cx="1826280" cy="38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行書体"/>
              </a:rPr>
              <a:t>今後の方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962000" y="2259000"/>
            <a:ext cx="639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・居住環境の向上、住民同士の交流についての施策をまとめ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・各駅の活性化案をまとめ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・土浦駅ロータリーの改善案をまとめ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・バス利便性向上の施策をまとめ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241280" y="907560"/>
            <a:ext cx="4608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まちづくり利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ifu-tmo.jp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バスの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yorunokokucha.web.fc2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国土技術研究センタ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jice.or.jp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関西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uumo.jp/tochi/kans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シドニーエリアガイ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surryhills.jams.tv/issu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ログハウスのビッグボック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gency.fin-bigbox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下野新聞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himotsuke.co.jp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横浜市　環境創造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city.yokohama.jp/me/kankyo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40360" y="819000"/>
            <a:ext cx="4103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公園探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romancecar.org/par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海外デザインリポー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japandesign.ne.jp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40" y="836640"/>
            <a:ext cx="1003320" cy="38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行書体"/>
              </a:rPr>
              <a:t>参考文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619280" y="2160720"/>
            <a:ext cx="6192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HGP行書体"/>
              </a:rPr>
              <a:t>資料スライ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819720" y="907920"/>
            <a:ext cx="18262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現状の問題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1979640" y="2131920"/>
            <a:ext cx="865080" cy="459720"/>
          </a:xfrm>
          <a:prstGeom prst="rect">
            <a:avLst/>
          </a:prstGeom>
          <a:solidFill>
            <a:srgbClr val="008000">
              <a:alpha val="20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農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2916360" y="2131920"/>
            <a:ext cx="511164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農業人口の減少、生産力の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1979640" y="2924280"/>
            <a:ext cx="865080" cy="459720"/>
          </a:xfrm>
          <a:prstGeom prst="rect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商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2916360" y="2924280"/>
            <a:ext cx="51116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土浦駅、荒川沖駅前の求心力の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4"/>
          <p:cNvSpPr/>
          <p:nvPr/>
        </p:nvSpPr>
        <p:spPr>
          <a:xfrm>
            <a:off x="1979640" y="3716280"/>
            <a:ext cx="865080" cy="459720"/>
          </a:xfrm>
          <a:prstGeom prst="rect">
            <a:avLst/>
          </a:prstGeom>
          <a:solidFill>
            <a:srgbClr val="808080">
              <a:alpha val="2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2916360" y="3716280"/>
            <a:ext cx="511164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渋滞の発生、市内の循環交通が弱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6"/>
          <p:cNvSpPr/>
          <p:nvPr/>
        </p:nvSpPr>
        <p:spPr>
          <a:xfrm>
            <a:off x="2916360" y="4508640"/>
            <a:ext cx="511164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生のためのスペースの確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7"/>
          <p:cNvSpPr/>
          <p:nvPr/>
        </p:nvSpPr>
        <p:spPr>
          <a:xfrm>
            <a:off x="1979640" y="4508640"/>
            <a:ext cx="865080" cy="4597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教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1979640" y="5300640"/>
            <a:ext cx="865080" cy="459720"/>
          </a:xfrm>
          <a:prstGeom prst="rect">
            <a:avLst/>
          </a:prstGeom>
          <a:solidFill>
            <a:srgbClr val="ffff00">
              <a:alpha val="2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医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2916360" y="5300640"/>
            <a:ext cx="51116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医療施設の分布に偏り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1979640" y="6021360"/>
            <a:ext cx="865080" cy="459720"/>
          </a:xfrm>
          <a:prstGeom prst="rect">
            <a:avLst/>
          </a:prstGeom>
          <a:solidFill>
            <a:srgbClr val="ff6600">
              <a:alpha val="2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観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2916360" y="6021360"/>
            <a:ext cx="511164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ベント以外での集客力が弱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1197000"/>
            <a:ext cx="201600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土浦市全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-179280" y="115920"/>
            <a:ext cx="485928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619280" y="2160720"/>
            <a:ext cx="6192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HGP行書体"/>
              </a:rPr>
              <a:t>居住環境の向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79640" y="3500280"/>
            <a:ext cx="5580000" cy="1619280"/>
          </a:xfrm>
          <a:prstGeom prst="roundRect">
            <a:avLst>
              <a:gd name="adj" fmla="val 97"/>
            </a:avLst>
          </a:prstGeom>
          <a:solidFill>
            <a:srgbClr val="ffff99">
              <a:alpha val="6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まちづくりアンケートをふまえた問題解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身近なエリアの暮らしやすさ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rcRect l="21211" t="8953" r="9598" b="4935"/>
          <a:stretch/>
        </p:blipFill>
        <p:spPr>
          <a:xfrm>
            <a:off x="2627280" y="693720"/>
            <a:ext cx="4788000" cy="59500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2770200" y="836640"/>
            <a:ext cx="2376360" cy="1655640"/>
          </a:xfrm>
          <a:prstGeom prst="ellipse">
            <a:avLst/>
          </a:prstGeom>
          <a:solidFill>
            <a:srgbClr val="99cc00">
              <a:alpha val="3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83280" y="3070080"/>
            <a:ext cx="1297080" cy="1582920"/>
          </a:xfrm>
          <a:prstGeom prst="ellipse">
            <a:avLst/>
          </a:prstGeom>
          <a:solidFill>
            <a:srgbClr val="99cc00">
              <a:alpha val="4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86200" y="4653000"/>
            <a:ext cx="2592360" cy="1942920"/>
          </a:xfrm>
          <a:prstGeom prst="ellipse">
            <a:avLst/>
          </a:prstGeom>
          <a:solidFill>
            <a:srgbClr val="ffff99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851280" y="2565360"/>
            <a:ext cx="1942920" cy="1297080"/>
          </a:xfrm>
          <a:prstGeom prst="ellipse">
            <a:avLst/>
          </a:prstGeom>
          <a:solidFill>
            <a:srgbClr val="ffff99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354560" y="3933720"/>
            <a:ext cx="1152360" cy="505080"/>
          </a:xfrm>
          <a:prstGeom prst="ellipse">
            <a:avLst/>
          </a:prstGeom>
          <a:solidFill>
            <a:srgbClr val="ff5050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720000">
            <a:off x="3351240" y="4408200"/>
            <a:ext cx="2376360" cy="217440"/>
          </a:xfrm>
          <a:prstGeom prst="ellipse">
            <a:avLst/>
          </a:prstGeom>
          <a:solidFill>
            <a:srgbClr val="ccffff">
              <a:alpha val="8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39640" y="5589720"/>
            <a:ext cx="2232000" cy="82548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桜川を活かし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親水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372360" y="5300640"/>
            <a:ext cx="1944720" cy="825480"/>
          </a:xfrm>
          <a:prstGeom prst="rect">
            <a:avLst/>
          </a:pr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快適な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住環境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651640" y="692280"/>
            <a:ext cx="2881080" cy="82548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筑波山を活かし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然保全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516720" y="1844640"/>
            <a:ext cx="25225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ハス田を活かし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然共生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187280" y="3068640"/>
            <a:ext cx="2160720" cy="825480"/>
          </a:xfrm>
          <a:prstGeom prst="rect">
            <a:avLst/>
          </a:prstGeom>
          <a:noFill/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活気あふれる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市街地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804000" y="270828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4284360" y="1052640"/>
            <a:ext cx="1368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348000" y="3500280"/>
            <a:ext cx="129528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0920" y="4365720"/>
            <a:ext cx="1944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076720" y="3357720"/>
            <a:ext cx="158292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788000" y="5589720"/>
            <a:ext cx="158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564000" y="5516640"/>
            <a:ext cx="792000" cy="576360"/>
          </a:xfrm>
          <a:prstGeom prst="ellipse">
            <a:avLst/>
          </a:prstGeom>
          <a:solidFill>
            <a:srgbClr val="ff5050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2708280"/>
            <a:ext cx="792360" cy="576360"/>
          </a:xfrm>
          <a:prstGeom prst="ellipse">
            <a:avLst/>
          </a:prstGeom>
          <a:solidFill>
            <a:srgbClr val="ff5050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274560" y="2349360"/>
            <a:ext cx="3527640" cy="4321080"/>
            <a:chOff x="3274560" y="2349360"/>
            <a:chExt cx="3527640" cy="4321080"/>
          </a:xfrm>
        </p:grpSpPr>
        <p:sp>
          <p:nvSpPr>
            <p:cNvPr id="542" name=""/>
            <p:cNvSpPr/>
            <p:nvPr/>
          </p:nvSpPr>
          <p:spPr>
            <a:xfrm flipH="1">
              <a:off x="3274560" y="2349360"/>
              <a:ext cx="3527640" cy="432108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280000">
              <a:off x="3922560" y="5589360"/>
              <a:ext cx="14436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280000">
              <a:off x="6227280" y="2780640"/>
              <a:ext cx="14472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280000">
              <a:off x="5146200" y="4077720"/>
              <a:ext cx="14472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-819720" y="836640"/>
            <a:ext cx="18262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居住環境の向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16000" y="981000"/>
            <a:ext cx="4248000" cy="1373760"/>
          </a:xfrm>
          <a:prstGeom prst="rect">
            <a:avLst/>
          </a:prstGeom>
          <a:solidFill>
            <a:srgbClr val="ffffc5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住民の憩いの場を増やし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快適空間を創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医療の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835280" y="4869000"/>
            <a:ext cx="5759280" cy="107928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気軽に遊べる小規模の公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08000" y="3645000"/>
            <a:ext cx="5759640" cy="107928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屋上や、駐車場の一画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-819720" y="836640"/>
            <a:ext cx="18262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居住環境の向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474920" y="1341360"/>
            <a:ext cx="1224000" cy="642600"/>
          </a:xfrm>
          <a:prstGeom prst="rect">
            <a:avLst/>
          </a:prstGeom>
          <a:solidFill>
            <a:srgbClr val="dfff85">
              <a:alpha val="70000"/>
            </a:srgbClr>
          </a:solidFill>
          <a:ln w="19080">
            <a:solidFill>
              <a:srgbClr val="b0e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公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1341360"/>
            <a:ext cx="4897440" cy="642600"/>
          </a:xfrm>
          <a:prstGeom prst="rect">
            <a:avLst/>
          </a:prstGeom>
          <a:noFill/>
          <a:ln w="19080">
            <a:solidFill>
              <a:srgbClr val="dff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身近な憩いのスペー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698920" y="13413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19640" y="2133720"/>
            <a:ext cx="4897440" cy="642600"/>
          </a:xfrm>
          <a:prstGeom prst="rect">
            <a:avLst/>
          </a:prstGeom>
          <a:noFill/>
          <a:ln w="19080">
            <a:solidFill>
              <a:srgbClr val="dff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住民の交流の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2627280" y="882720"/>
            <a:ext cx="5832360" cy="5975280"/>
            <a:chOff x="2627280" y="882720"/>
            <a:chExt cx="5832360" cy="5975280"/>
          </a:xfrm>
        </p:grpSpPr>
        <p:pic>
          <p:nvPicPr>
            <p:cNvPr id="556" name="" descr=""/>
            <p:cNvPicPr/>
            <p:nvPr/>
          </p:nvPicPr>
          <p:blipFill>
            <a:blip r:embed="rId1"/>
            <a:stretch/>
          </p:blipFill>
          <p:spPr>
            <a:xfrm>
              <a:off x="2627280" y="882720"/>
              <a:ext cx="4681440" cy="597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2"/>
            <a:stretch/>
          </p:blipFill>
          <p:spPr>
            <a:xfrm>
              <a:off x="6372360" y="6165720"/>
              <a:ext cx="155232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5003640" y="1125360"/>
              <a:ext cx="34560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土浦市内の公園分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2556000" y="836640"/>
            <a:ext cx="1800000" cy="1657440"/>
          </a:xfrm>
          <a:prstGeom prst="ellipse">
            <a:avLst/>
          </a:prstGeom>
          <a:solidFill>
            <a:srgbClr val="00ff00">
              <a:alpha val="15000"/>
            </a:srgbClr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132000" y="3068640"/>
            <a:ext cx="1871640" cy="1800360"/>
          </a:xfrm>
          <a:prstGeom prst="ellipse">
            <a:avLst/>
          </a:prstGeom>
          <a:solidFill>
            <a:srgbClr val="00ff00">
              <a:alpha val="15000"/>
            </a:srgbClr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-819720" y="836640"/>
            <a:ext cx="18262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居住環境の向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58920" y="1773360"/>
            <a:ext cx="7272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</a:rPr>
              <a:t>公園の不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を問題としてあげている住民が多い</a:t>
            </a:r>
            <a:br>
              <a:rPr sz="28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特に二中、四中地区のまちづくりアンケートより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43280" y="1341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筑波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547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屋上公園～桜川屋上公園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6920" y="5083200"/>
            <a:ext cx="4321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東京都下水局の桜橋第２ポンプ場の屋上を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桜川屋上公園"/>
          <p:cNvPicPr/>
          <p:nvPr/>
        </p:nvPicPr>
        <p:blipFill>
          <a:blip r:embed="rId1"/>
          <a:stretch/>
        </p:blipFill>
        <p:spPr>
          <a:xfrm>
            <a:off x="5083200" y="421632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桜川屋上公園"/>
          <p:cNvPicPr/>
          <p:nvPr/>
        </p:nvPicPr>
        <p:blipFill>
          <a:blip r:embed="rId2"/>
          <a:stretch/>
        </p:blipFill>
        <p:spPr>
          <a:xfrm>
            <a:off x="1749600" y="1552680"/>
            <a:ext cx="7143480" cy="23810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-567360" y="387360"/>
            <a:ext cx="18262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HGP行書体"/>
              </a:rPr>
              <a:t>公園事例　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048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沼さわやか公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403280" y="5157720"/>
            <a:ext cx="439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沼ポンプ場の屋上にある公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隣には｢平沼集会所｣が併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1365120" y="1558800"/>
            <a:ext cx="4286520" cy="32385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5607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-568800" y="387360"/>
            <a:ext cx="182628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HGP行書体"/>
              </a:rPr>
              <a:t>公園事例　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249640" y="539640"/>
            <a:ext cx="5219640" cy="90036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初期医療の充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979640" y="2160720"/>
            <a:ext cx="575928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内科、小児科の医師派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79640" y="3419640"/>
            <a:ext cx="575928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中学校の空き教室を利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979640" y="4680000"/>
            <a:ext cx="575928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救急車の出動抑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-819720" y="836640"/>
            <a:ext cx="18262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居住環境の向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63520" y="0"/>
            <a:ext cx="1003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HGP行書体"/>
              </a:rPr>
              <a:t>医療機関分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61960" y="135000"/>
            <a:ext cx="137160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現状把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12120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問題点の抽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140440" y="135000"/>
            <a:ext cx="18050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目指す都市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23276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今後の方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5400000">
            <a:off x="281772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rot="5400000">
            <a:off x="483696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rot="5400000">
            <a:off x="692928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6804000" y="5229360"/>
            <a:ext cx="1731960" cy="13539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2"/>
          <a:srcRect l="0" t="1168" r="0" b="0"/>
          <a:stretch/>
        </p:blipFill>
        <p:spPr>
          <a:xfrm>
            <a:off x="2241720" y="620640"/>
            <a:ext cx="4994280" cy="590544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3"/>
          <a:stretch/>
        </p:blipFill>
        <p:spPr>
          <a:xfrm>
            <a:off x="2411280" y="620640"/>
            <a:ext cx="4753080" cy="59040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2530440" y="1054080"/>
            <a:ext cx="1800360" cy="1943280"/>
          </a:xfrm>
          <a:prstGeom prst="ellipse">
            <a:avLst/>
          </a:prstGeom>
          <a:solidFill>
            <a:srgbClr val="cc99ff">
              <a:alpha val="15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219640" y="2637000"/>
            <a:ext cx="1800360" cy="1942920"/>
          </a:xfrm>
          <a:prstGeom prst="ellipse">
            <a:avLst/>
          </a:prstGeom>
          <a:solidFill>
            <a:srgbClr val="cc99ff">
              <a:alpha val="15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2286000" y="622440"/>
            <a:ext cx="5094360" cy="61196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263520" y="0"/>
            <a:ext cx="1003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HGP行書体"/>
              </a:rPr>
              <a:t>小児科分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461960" y="135000"/>
            <a:ext cx="137160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現状把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12120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問題点の抽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140440" y="135000"/>
            <a:ext cx="18050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目指す都市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3276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今後の方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281772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5400000">
            <a:off x="483696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5400000">
            <a:off x="692928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2340000" y="606600"/>
            <a:ext cx="5005440" cy="6062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2556000" y="1125360"/>
            <a:ext cx="1800000" cy="1943280"/>
          </a:xfrm>
          <a:prstGeom prst="ellipse">
            <a:avLst/>
          </a:prstGeom>
          <a:solidFill>
            <a:srgbClr val="0000ff">
              <a:alpha val="15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364000" y="2708280"/>
            <a:ext cx="1800360" cy="1942920"/>
          </a:xfrm>
          <a:prstGeom prst="ellipse">
            <a:avLst/>
          </a:prstGeom>
          <a:solidFill>
            <a:srgbClr val="0000ff">
              <a:alpha val="15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276720" y="3284640"/>
            <a:ext cx="934920" cy="1224000"/>
          </a:xfrm>
          <a:prstGeom prst="ellipse">
            <a:avLst/>
          </a:prstGeom>
          <a:solidFill>
            <a:srgbClr val="0000ff">
              <a:alpha val="15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3"/>
          <a:stretch/>
        </p:blipFill>
        <p:spPr>
          <a:xfrm>
            <a:off x="7164360" y="5157720"/>
            <a:ext cx="16286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465280" y="520560"/>
            <a:ext cx="5024520" cy="61866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2484360" y="549360"/>
            <a:ext cx="4932360" cy="60894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263520" y="0"/>
            <a:ext cx="1003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HGP行書体"/>
              </a:rPr>
              <a:t>内科分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56000" y="936720"/>
            <a:ext cx="1800000" cy="1942920"/>
          </a:xfrm>
          <a:prstGeom prst="ellipse">
            <a:avLst/>
          </a:prstGeom>
          <a:solidFill>
            <a:srgbClr val="ff0000">
              <a:alpha val="15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24360" y="2879640"/>
            <a:ext cx="1511640" cy="1656000"/>
          </a:xfrm>
          <a:prstGeom prst="ellipse">
            <a:avLst/>
          </a:prstGeom>
          <a:solidFill>
            <a:srgbClr val="ff0000">
              <a:alpha val="15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5867280" y="4968720"/>
            <a:ext cx="172404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819720" y="907920"/>
            <a:ext cx="18262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現状の問題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21211" t="8953" r="9598" b="4935"/>
          <a:stretch/>
        </p:blipFill>
        <p:spPr>
          <a:xfrm>
            <a:off x="2627280" y="907920"/>
            <a:ext cx="4788000" cy="5950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35280" y="4076640"/>
            <a:ext cx="1727280" cy="503280"/>
          </a:xfrm>
          <a:prstGeom prst="ellipse">
            <a:avLst/>
          </a:prstGeom>
          <a:solidFill>
            <a:srgbClr val="ff5050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地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00720" y="3068640"/>
            <a:ext cx="1081080" cy="934920"/>
          </a:xfrm>
          <a:prstGeom prst="ellipse">
            <a:avLst/>
          </a:prstGeom>
          <a:solidFill>
            <a:srgbClr val="ffff99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地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4653000"/>
            <a:ext cx="1152720" cy="720720"/>
          </a:xfrm>
          <a:prstGeom prst="ellipse">
            <a:avLst/>
          </a:prstGeom>
          <a:solidFill>
            <a:srgbClr val="ffff99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四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地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24360" y="3213000"/>
            <a:ext cx="1152720" cy="1224000"/>
          </a:xfrm>
          <a:prstGeom prst="ellipse">
            <a:avLst/>
          </a:prstGeom>
          <a:solidFill>
            <a:srgbClr val="ff5050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五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地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649116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まちづくりアンケートの結果より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3640" y="1484280"/>
            <a:ext cx="1512720" cy="1944720"/>
          </a:xfrm>
          <a:prstGeom prst="ellipse">
            <a:avLst/>
          </a:prstGeom>
          <a:solidFill>
            <a:srgbClr val="b0ee00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都和・新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地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5516640"/>
            <a:ext cx="647640" cy="1079280"/>
          </a:xfrm>
          <a:prstGeom prst="ellipse">
            <a:avLst/>
          </a:prstGeom>
          <a:solidFill>
            <a:srgbClr val="ff5050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地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400000">
            <a:off x="4642920" y="4941360"/>
            <a:ext cx="648000" cy="1224000"/>
          </a:xfrm>
          <a:prstGeom prst="ellipse">
            <a:avLst/>
          </a:prstGeom>
          <a:solidFill>
            <a:srgbClr val="cc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5229360"/>
            <a:ext cx="12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六中</a:t>
            </a:r>
            <a:br>
              <a:rPr sz="24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地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981000"/>
            <a:ext cx="3168720" cy="101592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医療が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自然環境の保全問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80000" y="5157720"/>
            <a:ext cx="3456000" cy="1015920"/>
          </a:xfrm>
          <a:prstGeom prst="rect">
            <a:avLst/>
          </a:prstGeom>
          <a:noFill/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駅前の求心力の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駅周辺の整備が不十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429000"/>
            <a:ext cx="1873440" cy="459720"/>
          </a:xfrm>
          <a:prstGeom prst="rect">
            <a:avLst/>
          </a:pr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園の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5229360"/>
            <a:ext cx="2879640" cy="45972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地区内交通の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716360" y="148392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987640" y="3573000"/>
            <a:ext cx="151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87640" y="3716280"/>
            <a:ext cx="72072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5445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4365720"/>
            <a:ext cx="792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2360" y="44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1197000"/>
            <a:ext cx="151164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区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701640" y="1403280"/>
          <a:ext cx="8215200" cy="396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1403280"/>
                    <a:ext cx="8215200" cy="39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"/>
          <p:cNvSpPr/>
          <p:nvPr/>
        </p:nvSpPr>
        <p:spPr>
          <a:xfrm>
            <a:off x="3240" y="836640"/>
            <a:ext cx="10033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行書体"/>
              </a:rPr>
              <a:t>交通量調査〔朝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376280" y="5724360"/>
            <a:ext cx="7380360" cy="944640"/>
          </a:xfrm>
          <a:prstGeom prst="wedgeRectCallout">
            <a:avLst>
              <a:gd name="adj1" fmla="val -14680"/>
              <a:gd name="adj2" fmla="val -38402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ピーク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時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通勤ラッシュの時間帯のた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滞在数は少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76640" y="10429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滞在台数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:5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6920" y="1197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台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03280" y="1916280"/>
            <a:ext cx="7201080" cy="1465200"/>
          </a:xfrm>
          <a:custGeom>
            <a:avLst/>
            <a:gdLst/>
            <a:ahLst/>
            <a:rect l="l" t="t" r="r" b="b"/>
            <a:pathLst>
              <a:path w="4536" h="923">
                <a:moveTo>
                  <a:pt x="0" y="0"/>
                </a:moveTo>
                <a:cubicBezTo>
                  <a:pt x="332" y="287"/>
                  <a:pt x="665" y="575"/>
                  <a:pt x="907" y="726"/>
                </a:cubicBezTo>
                <a:cubicBezTo>
                  <a:pt x="1149" y="877"/>
                  <a:pt x="1286" y="923"/>
                  <a:pt x="1452" y="908"/>
                </a:cubicBezTo>
                <a:cubicBezTo>
                  <a:pt x="1618" y="893"/>
                  <a:pt x="1671" y="665"/>
                  <a:pt x="1905" y="635"/>
                </a:cubicBezTo>
                <a:cubicBezTo>
                  <a:pt x="2139" y="605"/>
                  <a:pt x="2420" y="696"/>
                  <a:pt x="2858" y="726"/>
                </a:cubicBezTo>
                <a:cubicBezTo>
                  <a:pt x="3296" y="756"/>
                  <a:pt x="3916" y="786"/>
                  <a:pt x="4536" y="817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116000" y="1989000"/>
            <a:ext cx="503280" cy="50328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637000" y="1673280"/>
            <a:ext cx="2565360" cy="865080"/>
          </a:xfrm>
          <a:prstGeom prst="wedgeRectCallout">
            <a:avLst>
              <a:gd name="adj1" fmla="val -87995"/>
              <a:gd name="adj2" fmla="val 21009"/>
            </a:avLst>
          </a:prstGeom>
          <a:solidFill>
            <a:srgbClr val="33cccc">
              <a:alpha val="30000"/>
            </a:srgbClr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6:55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7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８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616280" y="41436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滞在台数の定義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062000" y="4915080"/>
            <a:ext cx="7839000" cy="830880"/>
            <a:chOff x="1062000" y="4915080"/>
            <a:chExt cx="7839000" cy="830880"/>
          </a:xfrm>
        </p:grpSpPr>
        <p:sp>
          <p:nvSpPr>
            <p:cNvPr id="623" name=""/>
            <p:cNvSpPr/>
            <p:nvPr/>
          </p:nvSpPr>
          <p:spPr>
            <a:xfrm>
              <a:off x="7858080" y="5408640"/>
              <a:ext cx="104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時刻（分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062000" y="5138640"/>
              <a:ext cx="58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662360" y="513864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241280" y="4915080"/>
              <a:ext cx="3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51280" y="4915080"/>
              <a:ext cx="31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263080" y="4915080"/>
              <a:ext cx="31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097000" y="4915080"/>
              <a:ext cx="4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06640" y="4915080"/>
              <a:ext cx="4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07000" y="491508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16640" y="4915080"/>
              <a:ext cx="4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62720" y="4915080"/>
              <a:ext cx="4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62720" y="4915080"/>
              <a:ext cx="4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128080" y="5184720"/>
              <a:ext cx="58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6" name=""/>
          <p:cNvGraphicFramePr/>
          <p:nvPr/>
        </p:nvGraphicFramePr>
        <p:xfrm>
          <a:off x="890640" y="1494000"/>
          <a:ext cx="8253360" cy="378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1494000"/>
                    <a:ext cx="825336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"/>
          <p:cNvSpPr/>
          <p:nvPr/>
        </p:nvSpPr>
        <p:spPr>
          <a:xfrm>
            <a:off x="2268360" y="620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滞在台数の推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: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: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26920" y="13161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台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877080" y="1773360"/>
            <a:ext cx="647640" cy="64764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692360" y="1857240"/>
            <a:ext cx="7020000" cy="1176480"/>
          </a:xfrm>
          <a:custGeom>
            <a:avLst/>
            <a:gdLst/>
            <a:ahLst/>
            <a:rect l="l" t="t" r="r" b="b"/>
            <a:pathLst>
              <a:path w="4422" h="741">
                <a:moveTo>
                  <a:pt x="0" y="673"/>
                </a:moveTo>
                <a:cubicBezTo>
                  <a:pt x="45" y="672"/>
                  <a:pt x="91" y="672"/>
                  <a:pt x="136" y="627"/>
                </a:cubicBezTo>
                <a:cubicBezTo>
                  <a:pt x="181" y="582"/>
                  <a:pt x="227" y="445"/>
                  <a:pt x="272" y="400"/>
                </a:cubicBezTo>
                <a:cubicBezTo>
                  <a:pt x="317" y="355"/>
                  <a:pt x="363" y="310"/>
                  <a:pt x="408" y="355"/>
                </a:cubicBezTo>
                <a:cubicBezTo>
                  <a:pt x="453" y="400"/>
                  <a:pt x="461" y="635"/>
                  <a:pt x="544" y="673"/>
                </a:cubicBezTo>
                <a:cubicBezTo>
                  <a:pt x="627" y="711"/>
                  <a:pt x="794" y="575"/>
                  <a:pt x="907" y="582"/>
                </a:cubicBezTo>
                <a:cubicBezTo>
                  <a:pt x="1020" y="589"/>
                  <a:pt x="1141" y="741"/>
                  <a:pt x="1224" y="718"/>
                </a:cubicBezTo>
                <a:cubicBezTo>
                  <a:pt x="1307" y="695"/>
                  <a:pt x="1330" y="476"/>
                  <a:pt x="1406" y="446"/>
                </a:cubicBezTo>
                <a:cubicBezTo>
                  <a:pt x="1482" y="416"/>
                  <a:pt x="1580" y="551"/>
                  <a:pt x="1678" y="536"/>
                </a:cubicBezTo>
                <a:cubicBezTo>
                  <a:pt x="1776" y="521"/>
                  <a:pt x="1889" y="340"/>
                  <a:pt x="1995" y="355"/>
                </a:cubicBezTo>
                <a:cubicBezTo>
                  <a:pt x="2101" y="370"/>
                  <a:pt x="2237" y="612"/>
                  <a:pt x="2313" y="627"/>
                </a:cubicBezTo>
                <a:cubicBezTo>
                  <a:pt x="2389" y="642"/>
                  <a:pt x="2381" y="438"/>
                  <a:pt x="2449" y="446"/>
                </a:cubicBezTo>
                <a:cubicBezTo>
                  <a:pt x="2517" y="454"/>
                  <a:pt x="2653" y="681"/>
                  <a:pt x="2721" y="673"/>
                </a:cubicBezTo>
                <a:cubicBezTo>
                  <a:pt x="2789" y="665"/>
                  <a:pt x="2766" y="423"/>
                  <a:pt x="2857" y="400"/>
                </a:cubicBezTo>
                <a:cubicBezTo>
                  <a:pt x="2948" y="377"/>
                  <a:pt x="3175" y="589"/>
                  <a:pt x="3266" y="536"/>
                </a:cubicBezTo>
                <a:cubicBezTo>
                  <a:pt x="3357" y="483"/>
                  <a:pt x="3357" y="158"/>
                  <a:pt x="3402" y="83"/>
                </a:cubicBezTo>
                <a:cubicBezTo>
                  <a:pt x="3447" y="8"/>
                  <a:pt x="3485" y="0"/>
                  <a:pt x="3538" y="83"/>
                </a:cubicBezTo>
                <a:cubicBezTo>
                  <a:pt x="3591" y="166"/>
                  <a:pt x="3591" y="522"/>
                  <a:pt x="3719" y="582"/>
                </a:cubicBezTo>
                <a:cubicBezTo>
                  <a:pt x="3847" y="642"/>
                  <a:pt x="4196" y="469"/>
                  <a:pt x="4309" y="446"/>
                </a:cubicBezTo>
                <a:cubicBezTo>
                  <a:pt x="4422" y="423"/>
                  <a:pt x="4410" y="434"/>
                  <a:pt x="4399" y="446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40" y="836640"/>
            <a:ext cx="10033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行書体"/>
              </a:rPr>
              <a:t>交通量調査〔夜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601640" y="5769000"/>
            <a:ext cx="6750360" cy="863640"/>
          </a:xfrm>
          <a:prstGeom prst="wedgeRectCallout">
            <a:avLst>
              <a:gd name="adj1" fmla="val -12041"/>
              <a:gd name="adj2" fmla="val -32171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電車の到着に合わせて台数が変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1062000" y="4824360"/>
            <a:ext cx="7839000" cy="921600"/>
            <a:chOff x="1062000" y="4824360"/>
            <a:chExt cx="7839000" cy="921600"/>
          </a:xfrm>
        </p:grpSpPr>
        <p:sp>
          <p:nvSpPr>
            <p:cNvPr id="645" name=""/>
            <p:cNvSpPr/>
            <p:nvPr/>
          </p:nvSpPr>
          <p:spPr>
            <a:xfrm>
              <a:off x="7858080" y="5408640"/>
              <a:ext cx="104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時刻（分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62000" y="51386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22360" y="5184720"/>
              <a:ext cx="67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85920" y="4824360"/>
              <a:ext cx="4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57720" y="4824360"/>
              <a:ext cx="40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858080" y="4869000"/>
              <a:ext cx="4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46280" y="4824360"/>
              <a:ext cx="4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02000" y="4824360"/>
              <a:ext cx="4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02000" y="4824360"/>
              <a:ext cx="4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958080" y="4869000"/>
              <a:ext cx="4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02360" y="4869000"/>
              <a:ext cx="4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02360" y="4869000"/>
              <a:ext cx="4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58080" y="5184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211640" y="4076640"/>
            <a:ext cx="1295280" cy="1368360"/>
          </a:xfrm>
          <a:prstGeom prst="downArrow">
            <a:avLst>
              <a:gd name="adj1" fmla="val 50000"/>
              <a:gd name="adj2" fmla="val 264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32000" y="5661000"/>
            <a:ext cx="6985080" cy="936720"/>
            <a:chOff x="1332000" y="5661000"/>
            <a:chExt cx="6985080" cy="936720"/>
          </a:xfrm>
        </p:grpSpPr>
        <p:sp>
          <p:nvSpPr>
            <p:cNvPr id="111" name=""/>
            <p:cNvSpPr/>
            <p:nvPr/>
          </p:nvSpPr>
          <p:spPr>
            <a:xfrm>
              <a:off x="1332000" y="5661000"/>
              <a:ext cx="6985080" cy="936720"/>
            </a:xfrm>
            <a:prstGeom prst="ellipse">
              <a:avLst/>
            </a:prstGeom>
            <a:solidFill>
              <a:srgbClr val="ffcc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63640" y="5805360"/>
              <a:ext cx="61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住民が満足できる土浦市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932360" y="2933640"/>
            <a:ext cx="3240000" cy="82548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医療の不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憩い空間の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2924280"/>
            <a:ext cx="3276720" cy="82548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駅前の求心力の低下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共交通の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819720" y="907920"/>
            <a:ext cx="18262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現状の問題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81280" y="1854360"/>
            <a:ext cx="2746440" cy="946080"/>
          </a:xfrm>
          <a:prstGeom prst="roundRect">
            <a:avLst>
              <a:gd name="adj" fmla="val 16667"/>
            </a:avLst>
          </a:prstGeom>
          <a:solidFill>
            <a:srgbClr val="d9ecff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土浦市全体の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57720" y="1854360"/>
            <a:ext cx="2746440" cy="946080"/>
          </a:xfrm>
          <a:prstGeom prst="roundRect">
            <a:avLst>
              <a:gd name="adj" fmla="val 16667"/>
            </a:avLst>
          </a:prstGeom>
          <a:solidFill>
            <a:srgbClr val="ffd5ea">
              <a:alpha val="70000"/>
            </a:srgbClr>
          </a:solidFill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区ごとの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92360" y="2349360"/>
            <a:ext cx="57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HGP行書体"/>
              </a:rPr>
              <a:t>目指す都市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050920" y="5156280"/>
            <a:ext cx="0" cy="7207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0000" y="3776760"/>
            <a:ext cx="1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819720" y="907920"/>
            <a:ext cx="1826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目指す都市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1052640"/>
            <a:ext cx="7272360" cy="792000"/>
          </a:xfrm>
          <a:prstGeom prst="ellipse">
            <a:avLst/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身近なエリアで快適な生活をおくれるま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916280"/>
            <a:ext cx="576360" cy="57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2708280"/>
            <a:ext cx="900000" cy="2430360"/>
          </a:xfrm>
          <a:custGeom>
            <a:avLst/>
            <a:gdLst>
              <a:gd name="textAreaLeft" fmla="*/ 360 w 900000"/>
              <a:gd name="textAreaRight" fmla="*/ 899640 w 900000"/>
              <a:gd name="textAreaTop" fmla="*/ 360 h 2430360"/>
              <a:gd name="textAreaBottom" fmla="*/ 2430000 h 2430360"/>
            </a:gdLst>
            <a:ahLst/>
            <a:rect l="textAreaLeft" t="textAreaTop" r="textAreaRight" b="textAreaBottom"/>
            <a:pathLst>
              <a:path w="21600" h="58314">
                <a:moveTo>
                  <a:pt x="38" y="0"/>
                </a:moveTo>
                <a:arcTo wR="38" hR="38" stAng="16200000" swAng="-5400000"/>
                <a:lnTo>
                  <a:pt x="0" y="58276"/>
                </a:lnTo>
                <a:arcTo wR="38" hR="38" stAng="10800000" swAng="-5400000"/>
                <a:lnTo>
                  <a:pt x="21562" y="58314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7000" bIns="2700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居住環境の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2708280"/>
            <a:ext cx="900360" cy="2430360"/>
          </a:xfrm>
          <a:custGeom>
            <a:avLst/>
            <a:gdLst>
              <a:gd name="textAreaLeft" fmla="*/ 360 w 900360"/>
              <a:gd name="textAreaRight" fmla="*/ 900000 w 900360"/>
              <a:gd name="textAreaTop" fmla="*/ 360 h 2430360"/>
              <a:gd name="textAreaBottom" fmla="*/ 2430000 h 2430360"/>
            </a:gdLst>
            <a:ahLst/>
            <a:rect l="textAreaLeft" t="textAreaTop" r="textAreaRight" b="textAreaBottom"/>
            <a:pathLst>
              <a:path w="21600" h="58291">
                <a:moveTo>
                  <a:pt x="38" y="0"/>
                </a:moveTo>
                <a:arcTo wR="38" hR="38" stAng="16200000" swAng="-5400000"/>
                <a:lnTo>
                  <a:pt x="0" y="58253"/>
                </a:lnTo>
                <a:arcTo wR="38" hR="38" stAng="10800000" swAng="-5400000"/>
                <a:lnTo>
                  <a:pt x="21562" y="58291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99ccff">
              <a:alpha val="7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7000" bIns="2700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歩行者中心の交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6000" y="2708280"/>
            <a:ext cx="900000" cy="2430360"/>
          </a:xfrm>
          <a:custGeom>
            <a:avLst/>
            <a:gdLst>
              <a:gd name="textAreaLeft" fmla="*/ 360 w 900000"/>
              <a:gd name="textAreaRight" fmla="*/ 899640 w 900000"/>
              <a:gd name="textAreaTop" fmla="*/ 360 h 2430360"/>
              <a:gd name="textAreaBottom" fmla="*/ 2430000 h 2430360"/>
            </a:gdLst>
            <a:ahLst/>
            <a:rect l="textAreaLeft" t="textAreaTop" r="textAreaRight" b="textAreaBottom"/>
            <a:pathLst>
              <a:path w="21600" h="58314">
                <a:moveTo>
                  <a:pt x="38" y="0"/>
                </a:moveTo>
                <a:arcTo wR="38" hR="38" stAng="16200000" swAng="-5400000"/>
                <a:lnTo>
                  <a:pt x="0" y="58276"/>
                </a:lnTo>
                <a:arcTo wR="38" hR="38" stAng="10800000" swAng="-5400000"/>
                <a:lnTo>
                  <a:pt x="21562" y="58314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dfff85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7000" bIns="2700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住民同士の交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2708280"/>
            <a:ext cx="900360" cy="2430360"/>
          </a:xfrm>
          <a:custGeom>
            <a:avLst/>
            <a:gdLst>
              <a:gd name="textAreaLeft" fmla="*/ 360 w 900360"/>
              <a:gd name="textAreaRight" fmla="*/ 900000 w 900360"/>
              <a:gd name="textAreaTop" fmla="*/ 360 h 2430360"/>
              <a:gd name="textAreaBottom" fmla="*/ 2430000 h 2430360"/>
            </a:gdLst>
            <a:ahLst/>
            <a:rect l="textAreaLeft" t="textAreaTop" r="textAreaRight" b="textAreaBottom"/>
            <a:pathLst>
              <a:path w="21600" h="58291">
                <a:moveTo>
                  <a:pt x="38" y="0"/>
                </a:moveTo>
                <a:arcTo wR="38" hR="38" stAng="16200000" swAng="-5400000"/>
                <a:lnTo>
                  <a:pt x="0" y="58253"/>
                </a:lnTo>
                <a:arcTo wR="38" hR="38" stAng="10800000" swAng="-5400000"/>
                <a:lnTo>
                  <a:pt x="21562" y="58291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ff5050">
              <a:alpha val="4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7000" bIns="27000" anchor="ctr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駅前の活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563920"/>
            <a:ext cx="748836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5877000"/>
            <a:ext cx="1727280" cy="825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常生活の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問題を解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5877000"/>
            <a:ext cx="1726920" cy="825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心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5877000"/>
            <a:ext cx="1727280" cy="825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共交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充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04000" y="5877000"/>
            <a:ext cx="1727280" cy="825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流場所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24360" y="5156280"/>
            <a:ext cx="0" cy="7207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5156280"/>
            <a:ext cx="0" cy="7207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67640" y="5156280"/>
            <a:ext cx="0" cy="7207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5229360"/>
            <a:ext cx="7164360" cy="576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既存のストックを活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115920"/>
            <a:ext cx="1728720" cy="398880"/>
          </a:xfrm>
          <a:prstGeom prst="rect">
            <a:avLst/>
          </a:prstGeom>
          <a:solidFill>
            <a:srgbClr val="ffff99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指す都市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115920"/>
            <a:ext cx="1728720" cy="39888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Arial"/>
              </a:rPr>
              <a:t>実現への施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59280" y="115920"/>
            <a:ext cx="1728720" cy="39888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Arial"/>
              </a:rPr>
              <a:t>今後の方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015280" y="22464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391280" y="22464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-819720" y="836640"/>
            <a:ext cx="1826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HGP行書体"/>
              </a:rPr>
              <a:t>土地利用構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1211" t="8953" r="9598" b="4935"/>
          <a:stretch/>
        </p:blipFill>
        <p:spPr>
          <a:xfrm>
            <a:off x="2627280" y="693720"/>
            <a:ext cx="4788000" cy="5950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770200" y="836640"/>
            <a:ext cx="2376360" cy="1655640"/>
          </a:xfrm>
          <a:prstGeom prst="ellipse">
            <a:avLst/>
          </a:prstGeom>
          <a:solidFill>
            <a:srgbClr val="99cc00">
              <a:alpha val="3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83280" y="3070080"/>
            <a:ext cx="1297080" cy="1582920"/>
          </a:xfrm>
          <a:prstGeom prst="ellipse">
            <a:avLst/>
          </a:prstGeom>
          <a:solidFill>
            <a:srgbClr val="99cc00">
              <a:alpha val="4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6200" y="4653000"/>
            <a:ext cx="2592360" cy="1942920"/>
          </a:xfrm>
          <a:prstGeom prst="ellipse">
            <a:avLst/>
          </a:prstGeom>
          <a:solidFill>
            <a:srgbClr val="ffff99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565360"/>
            <a:ext cx="1942920" cy="1297080"/>
          </a:xfrm>
          <a:prstGeom prst="ellipse">
            <a:avLst/>
          </a:prstGeom>
          <a:solidFill>
            <a:srgbClr val="ffff99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54560" y="3933720"/>
            <a:ext cx="1152360" cy="505080"/>
          </a:xfrm>
          <a:prstGeom prst="ellipse">
            <a:avLst/>
          </a:prstGeom>
          <a:solidFill>
            <a:srgbClr val="ff5050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720000">
            <a:off x="3351240" y="4408200"/>
            <a:ext cx="2376360" cy="217440"/>
          </a:xfrm>
          <a:prstGeom prst="ellipse">
            <a:avLst/>
          </a:prstGeom>
          <a:solidFill>
            <a:srgbClr val="ccffff">
              <a:alpha val="8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5300640"/>
            <a:ext cx="2232000" cy="82548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桜川を活かし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親水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5300640"/>
            <a:ext cx="1944720" cy="825480"/>
          </a:xfrm>
          <a:prstGeom prst="rect">
            <a:avLst/>
          </a:pr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快適な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住環境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692280"/>
            <a:ext cx="2881080" cy="82548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筑波山を活かし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然保全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3068640"/>
            <a:ext cx="2160720" cy="825480"/>
          </a:xfrm>
          <a:prstGeom prst="rect">
            <a:avLst/>
          </a:prstGeom>
          <a:noFill/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活気あふれる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市街地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804000" y="270828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84360" y="1052640"/>
            <a:ext cx="1368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8000" y="3500280"/>
            <a:ext cx="129528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556000" y="436536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3357720"/>
            <a:ext cx="158292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788000" y="5589720"/>
            <a:ext cx="158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64000" y="5516640"/>
            <a:ext cx="792000" cy="576360"/>
          </a:xfrm>
          <a:prstGeom prst="ellipse">
            <a:avLst/>
          </a:prstGeom>
          <a:solidFill>
            <a:srgbClr val="ff5050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2708280"/>
            <a:ext cx="792360" cy="576360"/>
          </a:xfrm>
          <a:prstGeom prst="ellipse">
            <a:avLst/>
          </a:prstGeom>
          <a:solidFill>
            <a:srgbClr val="ff5050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74560" y="2349360"/>
            <a:ext cx="3527640" cy="4321080"/>
            <a:chOff x="3274560" y="2349360"/>
            <a:chExt cx="3527640" cy="4321080"/>
          </a:xfrm>
        </p:grpSpPr>
        <p:sp>
          <p:nvSpPr>
            <p:cNvPr id="163" name=""/>
            <p:cNvSpPr/>
            <p:nvPr/>
          </p:nvSpPr>
          <p:spPr>
            <a:xfrm flipH="1">
              <a:off x="3274560" y="2349360"/>
              <a:ext cx="3527640" cy="432108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280000">
              <a:off x="3922560" y="5589360"/>
              <a:ext cx="14436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280000">
              <a:off x="6227280" y="2780640"/>
              <a:ext cx="14472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280000">
              <a:off x="5146200" y="4077720"/>
              <a:ext cx="14472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516720" y="1844640"/>
            <a:ext cx="25225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ハス田を活かし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然共生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115920"/>
            <a:ext cx="1728720" cy="398880"/>
          </a:xfrm>
          <a:prstGeom prst="rect">
            <a:avLst/>
          </a:prstGeom>
          <a:solidFill>
            <a:srgbClr val="ffff99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指す都市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115920"/>
            <a:ext cx="1728720" cy="39888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Arial"/>
              </a:rPr>
              <a:t>実現への施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115920"/>
            <a:ext cx="1728720" cy="398880"/>
          </a:xfrm>
          <a:prstGeom prst="rect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Arial"/>
              </a:rPr>
              <a:t>今後の方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2015280" y="22464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4391280" y="22464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3:26:42Z</dcterms:created>
  <dc:creator>社会工学類</dc:creator>
  <dc:description/>
  <dc:language>en-US</dc:language>
  <cp:lastModifiedBy>社会工学類</cp:lastModifiedBy>
  <dcterms:modified xsi:type="dcterms:W3CDTF">2010-03-01T08:33:44Z</dcterms:modified>
  <cp:revision>48</cp:revision>
  <dc:subject/>
  <dc:title>スライド 1</dc:title>
</cp:coreProperties>
</file>