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png" ContentType="image/png"/>
  <Override PartName="/ppt/media/image6.wmf" ContentType="image/x-wmf"/>
  <Override PartName="/ppt/media/image9.jpeg" ContentType="image/jpeg"/>
  <Override PartName="/ppt/media/image17.jpeg" ContentType="image/jpeg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188-193C-4091-9F45-40A8FDBC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C7B-9955-477F-AD00-F7CEB31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814-5872-4C50-994F-70C460A4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1F7-DE7E-4887-8C64-29893009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2CC-A3BC-40F3-B8F4-B62C029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5E9-73CF-4072-BA8E-8607E74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C58-7272-4A03-865B-E000F4B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C17-F8F4-49AA-B6B6-1038D07D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B16-B0D1-4811-8E69-45252B3B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A98-1DE4-4C9D-B7EA-529F807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9BF-226C-484E-B545-D18B766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EF2-5558-4BB9-BF1F-5E15712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4C3-DDCD-49C6-A604-D7D5DF74B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ity.tsuchiura.lg.jp/" TargetMode="External"/><Relationship Id="rId2" Type="http://schemas.openxmlformats.org/officeDocument/2006/relationships/hyperlink" Target="http://www.city.tsuchiura.lg.jp/" TargetMode="External"/><Relationship Id="rId3" Type="http://schemas.openxmlformats.org/officeDocument/2006/relationships/hyperlink" Target="http://www.city.tsuchiura.lg.jp/" TargetMode="External"/><Relationship Id="rId4" Type="http://schemas.openxmlformats.org/officeDocument/2006/relationships/hyperlink" Target="http://www.city.tsuchiura.lg.jp/index.php?code=1328" TargetMode="External"/><Relationship Id="rId5" Type="http://schemas.openxmlformats.org/officeDocument/2006/relationships/hyperlink" Target="http://www.pref.ibaraki.jp/tokei/" TargetMode="External"/><Relationship Id="rId6" Type="http://schemas.openxmlformats.org/officeDocument/2006/relationships/hyperlink" Target="http://www.sozai.rdy.jp/shirokuro/index.htm" TargetMode="External"/><Relationship Id="rId7" Type="http://schemas.openxmlformats.org/officeDocument/2006/relationships/hyperlink" Target="http://www.sozai.rdy.jp/shirokuro/index.ht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300" spc="-1" strike="noStrike">
                <a:solidFill>
                  <a:srgbClr val="000000"/>
                </a:solidFill>
                <a:latin typeface="Arial"/>
                <a:ea typeface="HGP行書体"/>
              </a:rPr>
              <a:t>灯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HGP行書体"/>
              </a:rPr>
              <a:t>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68560" y="260280"/>
            <a:ext cx="2412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都市計画マスタープラン策定実習　１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■班員）工藤はるな　瀬田麗子　飯田マ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　東川聡志　横手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 ■導人） 今井唯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436572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HGP行書体"/>
              </a:rPr>
              <a:t>ー八つの明かりでまちづくり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54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行書体"/>
              </a:rPr>
              <a:t>ともし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1093680" y="0"/>
            <a:ext cx="23749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住環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186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3" name=""/>
          <p:cNvGraphicFramePr/>
          <p:nvPr/>
        </p:nvGraphicFramePr>
        <p:xfrm>
          <a:off x="1619280" y="2708280"/>
          <a:ext cx="659772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08280"/>
                    <a:ext cx="659772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195640" y="981000"/>
            <a:ext cx="1511280" cy="71928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24360" y="1052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市民の憩いの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2349360"/>
            <a:ext cx="403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人あたりの公園の面積（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3933720"/>
            <a:ext cx="1295640" cy="2781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419640" y="4437000"/>
            <a:ext cx="5111640" cy="2016000"/>
            <a:chOff x="3419640" y="4437000"/>
            <a:chExt cx="5111640" cy="2016000"/>
          </a:xfrm>
        </p:grpSpPr>
        <p:sp>
          <p:nvSpPr>
            <p:cNvPr id="200" name=""/>
            <p:cNvSpPr/>
            <p:nvPr/>
          </p:nvSpPr>
          <p:spPr>
            <a:xfrm>
              <a:off x="3419640" y="4437000"/>
              <a:ext cx="5111640" cy="2016000"/>
            </a:xfrm>
            <a:custGeom>
              <a:avLst/>
              <a:gdLst>
                <a:gd name="textAreaLeft" fmla="*/ 1166760 w 5111640"/>
                <a:gd name="textAreaRight" fmla="*/ 3944880 w 5111640"/>
                <a:gd name="textAreaTop" fmla="*/ 460080 h 2016000"/>
                <a:gd name="textAreaBottom" fmla="*/ 155592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5640" y="4939920"/>
              <a:ext cx="468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市民の交流の場、安らぎの場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不足しているので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1093680" y="0"/>
            <a:ext cx="23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観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204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rcRect l="18369" t="268" r="0" b="0"/>
          <a:stretch/>
        </p:blipFill>
        <p:spPr>
          <a:xfrm>
            <a:off x="3635280" y="549360"/>
            <a:ext cx="2398680" cy="292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651640" y="2421000"/>
            <a:ext cx="1439640" cy="45972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霞ヶ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2205000"/>
            <a:ext cx="1439640" cy="459720"/>
          </a:xfrm>
          <a:prstGeom prst="rect">
            <a:avLst/>
          </a:prstGeom>
          <a:solidFill>
            <a:srgbClr val="993300">
              <a:alpha val="3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亀城公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907920"/>
            <a:ext cx="1440000" cy="45972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町の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356000" y="119700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5640" y="2276640"/>
            <a:ext cx="576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003640" y="234900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58920" y="2711520"/>
          <a:ext cx="6912000" cy="414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711520"/>
                    <a:ext cx="6912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635280" y="2565360"/>
            <a:ext cx="3167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別観光客入込数（万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3429000"/>
            <a:ext cx="1511280" cy="459720"/>
          </a:xfrm>
          <a:prstGeom prst="rect">
            <a:avLst/>
          </a:prstGeom>
          <a:solidFill>
            <a:srgbClr val="ff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火大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35280" y="364500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3860640"/>
            <a:ext cx="2160360" cy="459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キララまつ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429264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4724280"/>
            <a:ext cx="1727280" cy="459720"/>
          </a:xfrm>
          <a:prstGeom prst="rect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さくらまつ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6920" y="522936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500280"/>
            <a:ext cx="6624720" cy="2592720"/>
          </a:xfrm>
          <a:custGeom>
            <a:avLst/>
            <a:gdLst>
              <a:gd name="textAreaLeft" fmla="*/ 1512360 w 6624720"/>
              <a:gd name="textAreaRight" fmla="*/ 5112360 w 6624720"/>
              <a:gd name="textAreaTop" fmla="*/ 591840 h 2592720"/>
              <a:gd name="textAreaBottom" fmla="*/ 20008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4221000"/>
            <a:ext cx="439236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ベント以外での集客力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あまり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00000" y="249228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HGP行書体"/>
              </a:rPr>
              <a:t>問題点の抽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0920" y="1628640"/>
            <a:ext cx="865440" cy="459720"/>
          </a:xfrm>
          <a:prstGeom prst="rect">
            <a:avLst/>
          </a:prstGeom>
          <a:solidFill>
            <a:srgbClr val="008000">
              <a:alpha val="2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1628640"/>
            <a:ext cx="511164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人口の減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2421000"/>
            <a:ext cx="865440" cy="45972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商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2421000"/>
            <a:ext cx="5111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、荒川沖駅前の求心力の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3213000"/>
            <a:ext cx="865440" cy="459720"/>
          </a:xfrm>
          <a:prstGeom prst="rect">
            <a:avLst/>
          </a:prstGeom>
          <a:solidFill>
            <a:srgbClr val="808080">
              <a:alpha val="2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3213000"/>
            <a:ext cx="511164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渋滞の発生、市内の循環交通が弱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7640" y="4005360"/>
            <a:ext cx="51116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のためのスペース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4005360"/>
            <a:ext cx="865440" cy="459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4797360"/>
            <a:ext cx="865440" cy="45972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医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4797360"/>
            <a:ext cx="51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医療施設の分布に偏り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5518080"/>
            <a:ext cx="865440" cy="45972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87640" y="5518080"/>
            <a:ext cx="51116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ベント以外での集客力が弱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1108080" y="0"/>
            <a:ext cx="23749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現状の問題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244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42920" y="5373720"/>
            <a:ext cx="748980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1108080" y="0"/>
            <a:ext cx="23749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問題解決方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1916280"/>
            <a:ext cx="647640" cy="865080"/>
          </a:xfrm>
          <a:prstGeom prst="downArrow">
            <a:avLst>
              <a:gd name="adj1" fmla="val 50000"/>
              <a:gd name="adj2" fmla="val 333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2781360"/>
            <a:ext cx="64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市民満足と生活の質の向上のために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市民目線でのより細かな問題点の発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不可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32000" y="69840"/>
            <a:ext cx="7487640" cy="398880"/>
            <a:chOff x="1332000" y="69840"/>
            <a:chExt cx="7487640" cy="398880"/>
          </a:xfrm>
        </p:grpSpPr>
        <p:sp>
          <p:nvSpPr>
            <p:cNvPr id="256" name=""/>
            <p:cNvSpPr/>
            <p:nvPr/>
          </p:nvSpPr>
          <p:spPr>
            <a:xfrm>
              <a:off x="1332000" y="69840"/>
              <a:ext cx="136800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7280" y="6984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3640" y="69840"/>
              <a:ext cx="17996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1280" y="69840"/>
              <a:ext cx="17283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2698560" y="216000"/>
              <a:ext cx="288720" cy="1425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4714560" y="216000"/>
              <a:ext cx="288720" cy="1425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6802200" y="216000"/>
              <a:ext cx="288720" cy="1425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00360" y="1052640"/>
            <a:ext cx="4103640" cy="520560"/>
          </a:xfrm>
          <a:prstGeom prst="rect">
            <a:avLst/>
          </a:prstGeom>
          <a:solidFill>
            <a:srgbClr val="99ccff">
              <a:alpha val="30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全体のマクロな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4724280"/>
            <a:ext cx="3744720" cy="52056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域ごとのミクロな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3280" y="422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4221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5445000"/>
            <a:ext cx="56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市全体をいくつかの地区に分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問題点を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1116000" y="1125360"/>
            <a:ext cx="4392360" cy="5067360"/>
            <a:chOff x="1116000" y="1125360"/>
            <a:chExt cx="4392360" cy="506736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260360" y="1125360"/>
              <a:ext cx="408600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476360" y="3573360"/>
              <a:ext cx="1439640" cy="503280"/>
            </a:xfrm>
            <a:prstGeom prst="ellipse">
              <a:avLst/>
            </a:prstGeom>
            <a:solidFill>
              <a:srgbClr val="ffff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16000" y="1701720"/>
              <a:ext cx="1655640" cy="503280"/>
            </a:xfrm>
            <a:prstGeom prst="ellipse">
              <a:avLst/>
            </a:prstGeom>
            <a:solidFill>
              <a:srgbClr val="bbe0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新治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68360" y="2565360"/>
              <a:ext cx="1584360" cy="503280"/>
            </a:xfrm>
            <a:prstGeom prst="ellipse">
              <a:avLst/>
            </a:prstGeom>
            <a:solidFill>
              <a:srgbClr val="ccff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都和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8720" y="4726080"/>
              <a:ext cx="1440000" cy="503280"/>
            </a:xfrm>
            <a:prstGeom prst="ellipse">
              <a:avLst/>
            </a:prstGeom>
            <a:solidFill>
              <a:srgbClr val="ffcc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六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8720" y="3213000"/>
              <a:ext cx="1439640" cy="503280"/>
            </a:xfrm>
            <a:prstGeom prst="ellipse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五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8000" y="4149720"/>
              <a:ext cx="1440000" cy="503280"/>
            </a:xfrm>
            <a:prstGeom prst="ellipse">
              <a:avLst/>
            </a:prstGeom>
            <a:solidFill>
              <a:srgbClr val="0000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四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60360" y="5230800"/>
              <a:ext cx="1439640" cy="503280"/>
            </a:xfrm>
            <a:prstGeom prst="ellipse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三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8720" y="3286080"/>
              <a:ext cx="1440000" cy="503280"/>
            </a:xfrm>
            <a:prstGeom prst="ellipse">
              <a:avLst/>
            </a:prstGeom>
            <a:solidFill>
              <a:srgbClr val="99cc00">
                <a:alpha val="70000"/>
              </a:srgbClr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二中地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11880" y="0"/>
            <a:ext cx="8975880" cy="5733720"/>
            <a:chOff x="-11880" y="0"/>
            <a:chExt cx="8975880" cy="5733720"/>
          </a:xfrm>
        </p:grpSpPr>
        <p:sp>
          <p:nvSpPr>
            <p:cNvPr id="279" name=""/>
            <p:cNvSpPr/>
            <p:nvPr/>
          </p:nvSpPr>
          <p:spPr>
            <a:xfrm>
              <a:off x="-11880" y="0"/>
              <a:ext cx="1277640" cy="57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地区区分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461600" y="135720"/>
              <a:ext cx="7502400" cy="423360"/>
              <a:chOff x="1461600" y="135720"/>
              <a:chExt cx="7502400" cy="423360"/>
            </a:xfrm>
          </p:grpSpPr>
          <p:sp>
            <p:nvSpPr>
              <p:cNvPr id="281" name=""/>
              <p:cNvSpPr/>
              <p:nvPr/>
            </p:nvSpPr>
            <p:spPr>
              <a:xfrm>
                <a:off x="1461600" y="135720"/>
                <a:ext cx="137088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現状把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20120" y="135720"/>
                <a:ext cx="173232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問題点の抽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40440" y="135720"/>
                <a:ext cx="180324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目指す都市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32040" y="135720"/>
                <a:ext cx="173196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今後の方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400000">
                <a:off x="280620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48261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5400000">
                <a:off x="69177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4608360" y="4149720"/>
            <a:ext cx="4535640" cy="9471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は地域のコミュニティの重要な拠点であ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184464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既存の中学校区による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区分け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6443280" y="3068280"/>
            <a:ext cx="647640" cy="865080"/>
          </a:xfrm>
          <a:prstGeom prst="downArrow">
            <a:avLst>
              <a:gd name="adj1" fmla="val 50000"/>
              <a:gd name="adj2" fmla="val 333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5661000"/>
            <a:ext cx="5112000" cy="1008000"/>
          </a:xfrm>
          <a:prstGeom prst="wedgeRoundRectCallout">
            <a:avLst>
              <a:gd name="adj1" fmla="val 5685"/>
              <a:gd name="adj2" fmla="val -100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まちづくりアンケートと現地見学よ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民目線での問題点を抽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18369" t="268" r="0" b="0"/>
          <a:stretch/>
        </p:blipFill>
        <p:spPr>
          <a:xfrm>
            <a:off x="1116000" y="3933720"/>
            <a:ext cx="2398680" cy="2924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-11880" y="0"/>
            <a:ext cx="8975880" cy="5733720"/>
            <a:chOff x="-11880" y="0"/>
            <a:chExt cx="8975880" cy="5733720"/>
          </a:xfrm>
        </p:grpSpPr>
        <p:sp>
          <p:nvSpPr>
            <p:cNvPr id="294" name=""/>
            <p:cNvSpPr/>
            <p:nvPr/>
          </p:nvSpPr>
          <p:spPr>
            <a:xfrm>
              <a:off x="-11880" y="0"/>
              <a:ext cx="1277640" cy="57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一中地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461600" y="135720"/>
              <a:ext cx="7502400" cy="423360"/>
              <a:chOff x="1461600" y="135720"/>
              <a:chExt cx="7502400" cy="423360"/>
            </a:xfrm>
          </p:grpSpPr>
          <p:sp>
            <p:nvSpPr>
              <p:cNvPr id="296" name=""/>
              <p:cNvSpPr/>
              <p:nvPr/>
            </p:nvSpPr>
            <p:spPr>
              <a:xfrm>
                <a:off x="1461600" y="135720"/>
                <a:ext cx="137088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現状把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20120" y="135720"/>
                <a:ext cx="173232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問題点の抽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40440" y="135720"/>
                <a:ext cx="180324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目指す都市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32040" y="135720"/>
                <a:ext cx="173196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今後の方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400000">
                <a:off x="280620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400000">
                <a:off x="48261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400000">
                <a:off x="69177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1403280" y="2565360"/>
            <a:ext cx="107964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6000" y="2565360"/>
            <a:ext cx="6119640" cy="1789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駅：バスターミナルの機能性が低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辺の景観が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辺の商店街がさび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駅からモール５０５へのアクセスが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981000"/>
            <a:ext cx="107964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56000" y="981000"/>
            <a:ext cx="612144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市の中心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霞ヶ浦や亀城公園、まちかど蔵などの歴史的資源あ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5516640"/>
            <a:ext cx="1116360" cy="360360"/>
          </a:xfrm>
          <a:prstGeom prst="ellipse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20371" t="7634" r="8534" b="3951"/>
          <a:stretch/>
        </p:blipFill>
        <p:spPr>
          <a:xfrm>
            <a:off x="7054920" y="692280"/>
            <a:ext cx="2089080" cy="2592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-10800" y="0"/>
            <a:ext cx="127764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二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461960" y="135000"/>
            <a:ext cx="7502400" cy="425160"/>
            <a:chOff x="1461960" y="135000"/>
            <a:chExt cx="7502400" cy="425160"/>
          </a:xfrm>
        </p:grpSpPr>
        <p:sp>
          <p:nvSpPr>
            <p:cNvPr id="312" name=""/>
            <p:cNvSpPr/>
            <p:nvPr/>
          </p:nvSpPr>
          <p:spPr>
            <a:xfrm>
              <a:off x="1461960" y="135000"/>
              <a:ext cx="13708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0480" y="135000"/>
              <a:ext cx="17323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40800" y="135000"/>
              <a:ext cx="18032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24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80584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48258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69174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58920" y="2565360"/>
            <a:ext cx="107964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11280" y="2565360"/>
            <a:ext cx="324036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園の数が少ない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836640"/>
            <a:ext cx="107964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836640"/>
            <a:ext cx="460872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中心市街地の北部に立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低地部：住宅系市街地 ー歴史的街並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台地部：文教地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69080" y="2995560"/>
            <a:ext cx="23749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三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4365720"/>
            <a:ext cx="107928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4365720"/>
            <a:ext cx="539928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市の南部に立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荒川沖駅、常磐道桜土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の便がよ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筑波研究学園に隣接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5877000"/>
            <a:ext cx="107928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5877000"/>
            <a:ext cx="583416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荒川沖駅前の求心力の衰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共施設が不足している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1773360"/>
            <a:ext cx="1079640" cy="358560"/>
          </a:xfrm>
          <a:prstGeom prst="ellipse">
            <a:avLst/>
          </a:prstGeom>
          <a:solidFill>
            <a:srgbClr val="99cc00">
              <a:alpha val="7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080" y="2852640"/>
            <a:ext cx="1079640" cy="360360"/>
          </a:xfrm>
          <a:prstGeom prst="ellips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20371" t="7634" r="8534" b="3951"/>
          <a:stretch/>
        </p:blipFill>
        <p:spPr>
          <a:xfrm>
            <a:off x="7054920" y="692280"/>
            <a:ext cx="2089080" cy="2592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-10800" y="0"/>
            <a:ext cx="127764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四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61960" y="135000"/>
            <a:ext cx="7502400" cy="425160"/>
            <a:chOff x="1461960" y="135000"/>
            <a:chExt cx="7502400" cy="425160"/>
          </a:xfrm>
        </p:grpSpPr>
        <p:sp>
          <p:nvSpPr>
            <p:cNvPr id="333" name=""/>
            <p:cNvSpPr/>
            <p:nvPr/>
          </p:nvSpPr>
          <p:spPr>
            <a:xfrm>
              <a:off x="1461960" y="135000"/>
              <a:ext cx="13708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20480" y="135000"/>
              <a:ext cx="17323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40800" y="135000"/>
              <a:ext cx="18032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324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280584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8258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69174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258920" y="836640"/>
            <a:ext cx="107964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836640"/>
            <a:ext cx="439272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中心市街地の南部に立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番人口、世帯数の多い地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市役所や病院などの公共機関が集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2565360"/>
            <a:ext cx="1079640" cy="3682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11280" y="2565360"/>
            <a:ext cx="417672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こどもが遊べる公園の数が少ない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69080" y="2995560"/>
            <a:ext cx="23749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五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59640" y="4076640"/>
            <a:ext cx="107928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64000" y="4076640"/>
            <a:ext cx="302580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番広域な地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神立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工業団地、レンコン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9640" y="5516640"/>
            <a:ext cx="107928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6360" y="5516640"/>
            <a:ext cx="511164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神立駅周辺の道路、歩道の整備状況が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神立駅周辺の景観が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まちづくりアンケート、見学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28000" y="1773360"/>
            <a:ext cx="1008000" cy="287280"/>
          </a:xfrm>
          <a:prstGeom prst="ellipse">
            <a:avLst/>
          </a:prstGeom>
          <a:solidFill>
            <a:srgbClr val="ff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64360" y="2421000"/>
            <a:ext cx="936720" cy="287280"/>
          </a:xfrm>
          <a:prstGeom prst="ellipse">
            <a:avLst/>
          </a:prstGeom>
          <a:solidFill>
            <a:srgbClr val="0000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20371" t="7634" r="8534" b="3951"/>
          <a:stretch/>
        </p:blipFill>
        <p:spPr>
          <a:xfrm>
            <a:off x="6804000" y="476280"/>
            <a:ext cx="2089080" cy="2592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-10800" y="0"/>
            <a:ext cx="127764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六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61960" y="135000"/>
            <a:ext cx="7502400" cy="425160"/>
            <a:chOff x="1461960" y="135000"/>
            <a:chExt cx="7502400" cy="425160"/>
          </a:xfrm>
        </p:grpSpPr>
        <p:sp>
          <p:nvSpPr>
            <p:cNvPr id="354" name=""/>
            <p:cNvSpPr/>
            <p:nvPr/>
          </p:nvSpPr>
          <p:spPr>
            <a:xfrm>
              <a:off x="1461960" y="135000"/>
              <a:ext cx="13708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0480" y="135000"/>
              <a:ext cx="17323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40800" y="135000"/>
              <a:ext cx="18032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24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80584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8258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69174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258920" y="836640"/>
            <a:ext cx="107964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1280" y="836640"/>
            <a:ext cx="4248360" cy="1789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霞ヶ浦総合公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台地部：住宅地開発が進んで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荒川沖木田余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地区へのアクセスがよ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2781360"/>
            <a:ext cx="107964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2781360"/>
            <a:ext cx="367200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地区内の循環交通が不十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16720" y="4076640"/>
            <a:ext cx="107964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4076640"/>
            <a:ext cx="5113080" cy="1789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樹林地：アリストロメリアの栽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常磐道土浦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国道６号、１２５号バイパ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の便がよ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住宅地が形成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16720" y="6021360"/>
            <a:ext cx="107964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3640" y="5994360"/>
            <a:ext cx="324000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医療施設が不足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69080" y="1773360"/>
            <a:ext cx="23749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都和中地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1197000"/>
            <a:ext cx="1044720" cy="360360"/>
          </a:xfrm>
          <a:prstGeom prst="ellipse">
            <a:avLst/>
          </a:prstGeom>
          <a:solidFill>
            <a:srgbClr val="cc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和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20000" y="2349360"/>
            <a:ext cx="1008000" cy="360360"/>
          </a:xfrm>
          <a:prstGeom prst="ellipse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6" dur="indefinite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093680" y="0"/>
            <a:ext cx="2374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発表の流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205000"/>
            <a:ext cx="2808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問題点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50080"/>
            <a:ext cx="2808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後の方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076640"/>
            <a:ext cx="2808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指す都市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04640"/>
            <a:ext cx="2808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現状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26828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5013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06864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1109160" y="0"/>
            <a:ext cx="10073160" cy="5733720"/>
            <a:chOff x="-1109160" y="0"/>
            <a:chExt cx="10073160" cy="5733720"/>
          </a:xfrm>
        </p:grpSpPr>
        <p:sp>
          <p:nvSpPr>
            <p:cNvPr id="373" name=""/>
            <p:cNvSpPr/>
            <p:nvPr/>
          </p:nvSpPr>
          <p:spPr>
            <a:xfrm>
              <a:off x="-1109160" y="0"/>
              <a:ext cx="2374920" cy="57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新治中地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461600" y="135720"/>
              <a:ext cx="7502400" cy="423360"/>
              <a:chOff x="1461600" y="135720"/>
              <a:chExt cx="7502400" cy="423360"/>
            </a:xfrm>
          </p:grpSpPr>
          <p:sp>
            <p:nvSpPr>
              <p:cNvPr id="375" name=""/>
              <p:cNvSpPr/>
              <p:nvPr/>
            </p:nvSpPr>
            <p:spPr>
              <a:xfrm>
                <a:off x="1461600" y="135720"/>
                <a:ext cx="137088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現状把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20120" y="135720"/>
                <a:ext cx="173232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問題点の抽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40440" y="135720"/>
                <a:ext cx="180324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目指す都市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32040" y="135720"/>
                <a:ext cx="173196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今後の方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400000">
                <a:off x="280620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400000">
                <a:off x="48261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400000">
                <a:off x="6917760" y="318600"/>
                <a:ext cx="33804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1332000" y="1125360"/>
            <a:ext cx="1079280" cy="3988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84360" y="1125360"/>
            <a:ext cx="6335640" cy="1326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低地部、筑波山麓の台地、山間部からなる広大な地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水田や畑地が広がる→自然豊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小町の里や朝日峠展望公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2708280"/>
            <a:ext cx="1079280" cy="398880"/>
          </a:xfrm>
          <a:prstGeom prst="rect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84360" y="2708280"/>
            <a:ext cx="540072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医療施設が不十分（まちづくり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筑波山麓の森林管理が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質に影響を及ぼ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20371" t="7634" r="8534" b="3951"/>
          <a:stretch/>
        </p:blipFill>
        <p:spPr>
          <a:xfrm>
            <a:off x="1187280" y="4265640"/>
            <a:ext cx="2089440" cy="25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916360" y="4724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新治の高齢化を表すグラ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508640"/>
            <a:ext cx="1006560" cy="358560"/>
          </a:xfrm>
          <a:prstGeom prst="ellipse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治中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1108080" y="0"/>
            <a:ext cx="23749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地区別主対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461960" y="135000"/>
            <a:ext cx="7502400" cy="425160"/>
            <a:chOff x="1461960" y="135000"/>
            <a:chExt cx="7502400" cy="425160"/>
          </a:xfrm>
        </p:grpSpPr>
        <p:sp>
          <p:nvSpPr>
            <p:cNvPr id="391" name=""/>
            <p:cNvSpPr/>
            <p:nvPr/>
          </p:nvSpPr>
          <p:spPr>
            <a:xfrm>
              <a:off x="1461960" y="135000"/>
              <a:ext cx="13708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20480" y="135000"/>
              <a:ext cx="173232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40800" y="135000"/>
              <a:ext cx="18032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324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280584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5400000">
              <a:off x="48258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6917400" y="31896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4321080" cy="5045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rot="16881600">
            <a:off x="2701080" y="1745280"/>
            <a:ext cx="652320" cy="65412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125600">
            <a:off x="2693520" y="3061800"/>
            <a:ext cx="587520" cy="5889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84360" y="4567320"/>
            <a:ext cx="587520" cy="5889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55960" y="2538360"/>
            <a:ext cx="587520" cy="59076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38480" y="3454560"/>
            <a:ext cx="587160" cy="59040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881600">
            <a:off x="4067280" y="2340720"/>
            <a:ext cx="654120" cy="65412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881600">
            <a:off x="2629440" y="4174200"/>
            <a:ext cx="652320" cy="65376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18200" y="3454560"/>
            <a:ext cx="504720" cy="502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18200" y="4175280"/>
            <a:ext cx="504720" cy="502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18200" y="4896000"/>
            <a:ext cx="504720" cy="50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18200" y="5541840"/>
            <a:ext cx="504720" cy="5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18200" y="6191280"/>
            <a:ext cx="504720" cy="503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の中心性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4149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らぎ空間の創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域医療充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554184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前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96000" y="6165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域交通システムの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00000" y="249228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HGP行書体"/>
              </a:rPr>
              <a:t>目指す都市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258920" y="981000"/>
          <a:ext cx="680724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81000"/>
                    <a:ext cx="68072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"/>
          <p:cNvGrpSpPr/>
          <p:nvPr/>
        </p:nvGrpSpPr>
        <p:grpSpPr>
          <a:xfrm>
            <a:off x="-1108080" y="0"/>
            <a:ext cx="10072800" cy="5734080"/>
            <a:chOff x="-1108080" y="0"/>
            <a:chExt cx="10072800" cy="5734080"/>
          </a:xfrm>
        </p:grpSpPr>
        <p:sp>
          <p:nvSpPr>
            <p:cNvPr id="420" name=""/>
            <p:cNvSpPr/>
            <p:nvPr/>
          </p:nvSpPr>
          <p:spPr>
            <a:xfrm>
              <a:off x="-1108080" y="0"/>
              <a:ext cx="2374920" cy="57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人口フレーム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61960" y="135000"/>
              <a:ext cx="13716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212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40440" y="135000"/>
              <a:ext cx="18050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3276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281772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483696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692928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71640" y="5157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口の減少＆世帯数の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35640" y="1844640"/>
            <a:ext cx="2881440" cy="576360"/>
          </a:xfrm>
          <a:prstGeom prst="wedgeRoundRectCallout">
            <a:avLst>
              <a:gd name="adj1" fmla="val -106694"/>
              <a:gd name="adj2" fmla="val 62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を維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92720" y="3573360"/>
            <a:ext cx="302436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極端な流出を防止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88000" y="263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616572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単身・核家族の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1262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千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464000" y="562572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411280" y="3068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指す都市像＝住民を大切にするま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755640" y="4365720"/>
            <a:ext cx="8209080" cy="1630440"/>
            <a:chOff x="755640" y="4365720"/>
            <a:chExt cx="8209080" cy="1630440"/>
          </a:xfrm>
        </p:grpSpPr>
        <p:sp>
          <p:nvSpPr>
            <p:cNvPr id="437" name=""/>
            <p:cNvSpPr/>
            <p:nvPr/>
          </p:nvSpPr>
          <p:spPr>
            <a:xfrm>
              <a:off x="792360" y="4365720"/>
              <a:ext cx="79912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土浦市民の心に温かな明かり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「</a:t>
              </a:r>
              <a:r>
                <a:rPr b="0" lang="zh-CN" sz="4000" spc="-1" strike="noStrike">
                  <a:solidFill>
                    <a:srgbClr val="ff9933"/>
                  </a:solidFill>
                  <a:latin typeface="Arial"/>
                  <a:ea typeface="HGP行書体"/>
                </a:rPr>
                <a:t>灯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」を燈そ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640" y="4365720"/>
              <a:ext cx="8209080" cy="1512720"/>
            </a:xfrm>
            <a:prstGeom prst="ellipse">
              <a:avLst/>
            </a:prstGeom>
            <a:solidFill>
              <a:srgbClr val="ffcc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979640" y="-892080"/>
            <a:ext cx="3887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火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00" y="0"/>
            <a:ext cx="1277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「灯」と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87640" y="-963720"/>
            <a:ext cx="4751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灯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27640" y="-963720"/>
            <a:ext cx="3887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  <a:ea typeface="HGP行書体"/>
              </a:rPr>
              <a:t>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32000" y="4221000"/>
            <a:ext cx="4103640" cy="581400"/>
          </a:xfrm>
          <a:prstGeom prst="rect">
            <a:avLst/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コミュニティーに火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4221000"/>
            <a:ext cx="863640" cy="58140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00000" y="5445000"/>
            <a:ext cx="8244000" cy="1197000"/>
            <a:chOff x="900000" y="5445000"/>
            <a:chExt cx="8244000" cy="1197000"/>
          </a:xfrm>
        </p:grpSpPr>
        <p:sp>
          <p:nvSpPr>
            <p:cNvPr id="446" name=""/>
            <p:cNvSpPr/>
            <p:nvPr/>
          </p:nvSpPr>
          <p:spPr>
            <a:xfrm>
              <a:off x="900000" y="5445000"/>
              <a:ext cx="8244000" cy="1197000"/>
            </a:xfrm>
            <a:prstGeom prst="ellipse">
              <a:avLst/>
            </a:prstGeom>
            <a:solidFill>
              <a:srgbClr val="ffff99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5516640"/>
              <a:ext cx="716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町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それぞれに合ったコミュニティによって土浦を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活性化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させよ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4 0.18899 E">
                                      <p:cBhvr>
                                        <p:cTn id="22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3419E-006 L 0.07101 0.19523 E">
                                      <p:cBhvr>
                                        <p:cTn id="223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rcRect l="20371" t="7634" r="8534" b="3951"/>
          <a:stretch/>
        </p:blipFill>
        <p:spPr>
          <a:xfrm>
            <a:off x="2484360" y="549360"/>
            <a:ext cx="5083200" cy="6308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-1093680" y="0"/>
            <a:ext cx="23749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コミュニティ形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3789360"/>
            <a:ext cx="2303640" cy="934920"/>
          </a:xfrm>
          <a:prstGeom prst="ellipse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1989000"/>
            <a:ext cx="2303640" cy="93528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和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4869000"/>
            <a:ext cx="2303640" cy="934920"/>
          </a:xfrm>
          <a:prstGeom prst="ellipse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3213000"/>
            <a:ext cx="2303640" cy="935280"/>
          </a:xfrm>
          <a:prstGeom prst="ellipse">
            <a:avLst/>
          </a:prstGeom>
          <a:solidFill>
            <a:srgbClr val="ff99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4365720"/>
            <a:ext cx="2303280" cy="934920"/>
          </a:xfrm>
          <a:prstGeom prst="ellipse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6000" y="5661000"/>
            <a:ext cx="2303280" cy="934920"/>
          </a:xfrm>
          <a:prstGeom prst="ellipse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2852640"/>
            <a:ext cx="2303280" cy="935280"/>
          </a:xfrm>
          <a:prstGeom prst="ellipse">
            <a:avLst/>
          </a:pr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87640" y="907920"/>
            <a:ext cx="2303640" cy="935280"/>
          </a:xfrm>
          <a:prstGeom prst="ellipse">
            <a:avLst/>
          </a:prstGeom>
          <a:solidFill>
            <a:srgbClr val="00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治中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170028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区別問題点をふまえ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それぞれの地区に合ったコミュニティ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27640" y="3141720"/>
            <a:ext cx="1079280" cy="1224000"/>
          </a:xfrm>
          <a:prstGeom prst="downArrow">
            <a:avLst>
              <a:gd name="adj1" fmla="val 50000"/>
              <a:gd name="adj2" fmla="val 2835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979640" y="4437000"/>
            <a:ext cx="5977080" cy="1368000"/>
            <a:chOff x="1979640" y="4437000"/>
            <a:chExt cx="5977080" cy="1368000"/>
          </a:xfrm>
        </p:grpSpPr>
        <p:sp>
          <p:nvSpPr>
            <p:cNvPr id="468" name=""/>
            <p:cNvSpPr/>
            <p:nvPr/>
          </p:nvSpPr>
          <p:spPr>
            <a:xfrm>
              <a:off x="2411280" y="4508280"/>
              <a:ext cx="5256360" cy="12967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79640" y="4437000"/>
              <a:ext cx="5977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コミュニティ同士をつない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地区交流を生み出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1093680" y="0"/>
            <a:ext cx="23749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コミュニティー目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58920" y="981000"/>
            <a:ext cx="2374920" cy="520560"/>
          </a:xfrm>
          <a:prstGeom prst="rect">
            <a:avLst/>
          </a:prstGeom>
          <a:solidFill>
            <a:srgbClr val="ffcc00">
              <a:alpha val="2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色を備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0" y="4005360"/>
            <a:ext cx="4537080" cy="520560"/>
          </a:xfrm>
          <a:prstGeom prst="rect">
            <a:avLst/>
          </a:prstGeom>
          <a:solidFill>
            <a:srgbClr val="ffcc00">
              <a:alpha val="2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間の交流を生み出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1628640"/>
            <a:ext cx="7308720" cy="18003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人的な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－コミュニティの中心となる年代層を把握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物的な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ー既存ストックの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92360" y="4653000"/>
            <a:ext cx="7272360" cy="18003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核家族の子育て支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高齢者の支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若者のコミュニケーション不足の解消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・・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-109368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実現への施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19280" y="1197000"/>
            <a:ext cx="2232000" cy="520560"/>
          </a:xfrm>
          <a:prstGeom prst="rect">
            <a:avLst/>
          </a:prstGeom>
          <a:solidFill>
            <a:srgbClr val="ffcc00">
              <a:alpha val="2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拠点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47640" y="4869000"/>
            <a:ext cx="3529080" cy="520560"/>
          </a:xfrm>
          <a:prstGeom prst="rect">
            <a:avLst/>
          </a:prstGeom>
          <a:solidFill>
            <a:srgbClr val="ffcc00">
              <a:alpha val="2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域内の回遊性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4360" y="5516640"/>
            <a:ext cx="5832720" cy="1169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地域施設へのアクセス強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交通弱者中心の道路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84360" y="1844640"/>
            <a:ext cx="5832720" cy="30978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小中学校におけ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住民のためのスペ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モール５０５の改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屋台による気軽な近所付き合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・・・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-741960" y="0"/>
            <a:ext cx="2008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拠点の創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P行書体"/>
              </a:rPr>
              <a:t>～例①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84720" y="4005360"/>
            <a:ext cx="647640" cy="865080"/>
          </a:xfrm>
          <a:prstGeom prst="downArrow">
            <a:avLst>
              <a:gd name="adj1" fmla="val 50000"/>
              <a:gd name="adj2" fmla="val 333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26920" y="4941720"/>
            <a:ext cx="7777440" cy="1584360"/>
            <a:chOff x="826920" y="4941720"/>
            <a:chExt cx="7777440" cy="1584360"/>
          </a:xfrm>
        </p:grpSpPr>
        <p:sp>
          <p:nvSpPr>
            <p:cNvPr id="504" name=""/>
            <p:cNvSpPr/>
            <p:nvPr/>
          </p:nvSpPr>
          <p:spPr>
            <a:xfrm>
              <a:off x="826920" y="4941720"/>
              <a:ext cx="7777440" cy="1584360"/>
            </a:xfrm>
            <a:prstGeom prst="ellipse">
              <a:avLst/>
            </a:prstGeom>
            <a:solidFill>
              <a:srgbClr val="ffff9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76360" y="508464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既存ストックを有効活用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地域住民にコミュニティスペースを還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124000" y="1052640"/>
            <a:ext cx="1943280" cy="581400"/>
          </a:xfrm>
          <a:prstGeom prst="rect">
            <a:avLst/>
          </a:prstGeom>
          <a:solidFill>
            <a:srgbClr val="99ccff">
              <a:alpha val="30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中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11640" y="105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1052640"/>
            <a:ext cx="3240000" cy="5814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世代交流の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349360"/>
            <a:ext cx="7634160" cy="1513080"/>
          </a:xfrm>
          <a:prstGeom prst="wedgeRoundRectCallout">
            <a:avLst>
              <a:gd name="adj1" fmla="val -26421"/>
              <a:gd name="adj2" fmla="val -9050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すでにコミュニティ活動の拠点となっ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少子化にともない空き教室の出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平成２５～２７年にかけて改修を迎える校舎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2492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HGP行書体"/>
              </a:rPr>
              <a:t>現状把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-681120" y="0"/>
            <a:ext cx="1947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拠点の創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行書体"/>
              </a:rPr>
              <a:t>～例②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87280" y="3860640"/>
            <a:ext cx="7416720" cy="647640"/>
            <a:chOff x="1187280" y="3860640"/>
            <a:chExt cx="7416720" cy="647640"/>
          </a:xfrm>
        </p:grpSpPr>
        <p:sp>
          <p:nvSpPr>
            <p:cNvPr id="519" name=""/>
            <p:cNvSpPr/>
            <p:nvPr/>
          </p:nvSpPr>
          <p:spPr>
            <a:xfrm>
              <a:off x="1187280" y="3860640"/>
              <a:ext cx="7416720" cy="64764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31640" y="3860640"/>
              <a:ext cx="712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を呼び込みモール５０５を活性化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643280" y="3068640"/>
            <a:ext cx="471600" cy="719280"/>
          </a:xfrm>
          <a:prstGeom prst="downArrow">
            <a:avLst>
              <a:gd name="adj1" fmla="val 50000"/>
              <a:gd name="adj2" fmla="val 3813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95640" y="1052640"/>
            <a:ext cx="2232000" cy="581400"/>
          </a:xfrm>
          <a:prstGeom prst="rect">
            <a:avLst/>
          </a:prstGeom>
          <a:solidFill>
            <a:srgbClr val="ff99cc">
              <a:alpha val="2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モール５０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00720" y="105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64000" y="1052640"/>
            <a:ext cx="2880000" cy="581400"/>
          </a:xfrm>
          <a:prstGeom prst="rect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のたまり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47640" y="2060640"/>
            <a:ext cx="5183280" cy="934920"/>
          </a:xfrm>
          <a:prstGeom prst="wedgeRoundRectCallout">
            <a:avLst>
              <a:gd name="adj1" fmla="val -13675"/>
              <a:gd name="adj2" fmla="val -91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学生が集まる土浦駅周辺に隣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衰退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332000" y="2033640"/>
            <a:ext cx="7272360" cy="4797360"/>
            <a:chOff x="1332000" y="2033640"/>
            <a:chExt cx="7272360" cy="4797360"/>
          </a:xfrm>
        </p:grpSpPr>
        <p:pic>
          <p:nvPicPr>
            <p:cNvPr id="527" name="" descr=""/>
            <p:cNvPicPr/>
            <p:nvPr/>
          </p:nvPicPr>
          <p:blipFill>
            <a:blip r:embed="rId1"/>
            <a:stretch/>
          </p:blipFill>
          <p:spPr>
            <a:xfrm>
              <a:off x="1332000" y="3662280"/>
              <a:ext cx="3168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635280" y="2033640"/>
              <a:ext cx="4969080" cy="2087640"/>
            </a:xfrm>
            <a:prstGeom prst="wedgeEllipseCallout">
              <a:avLst>
                <a:gd name="adj1" fmla="val -44824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自習したいけ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のどかわいたなー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195640" y="2349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男くんと浦子ちゃんの例を見てみると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258920" y="2060640"/>
            <a:ext cx="7345440" cy="4797360"/>
            <a:chOff x="1258920" y="2060640"/>
            <a:chExt cx="7345440" cy="479736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1258920" y="3689280"/>
              <a:ext cx="3168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3635280" y="2060640"/>
              <a:ext cx="4969080" cy="2087640"/>
            </a:xfrm>
            <a:prstGeom prst="wedgeEllipseCallout">
              <a:avLst>
                <a:gd name="adj1" fmla="val -43324"/>
                <a:gd name="adj2" fmla="val 675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そうだ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モール５０５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「参考書喫茶」に行こ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340000" y="1989000"/>
            <a:ext cx="6443640" cy="4869000"/>
            <a:chOff x="2340000" y="1989000"/>
            <a:chExt cx="6443640" cy="4869000"/>
          </a:xfrm>
        </p:grpSpPr>
        <p:pic>
          <p:nvPicPr>
            <p:cNvPr id="534" name="" descr=""/>
            <p:cNvPicPr/>
            <p:nvPr/>
          </p:nvPicPr>
          <p:blipFill>
            <a:blip r:embed="rId3"/>
            <a:stretch/>
          </p:blipFill>
          <p:spPr>
            <a:xfrm>
              <a:off x="5651640" y="3726000"/>
              <a:ext cx="313200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340000" y="1989000"/>
              <a:ext cx="4464000" cy="2017800"/>
            </a:xfrm>
            <a:prstGeom prst="wedgeEllipseCallout">
              <a:avLst>
                <a:gd name="adj1" fmla="val 40967"/>
                <a:gd name="adj2" fmla="val 69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まだ塾の時間まで時間あるけ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おなかすいたなー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547640" y="1989000"/>
            <a:ext cx="7164720" cy="4869000"/>
            <a:chOff x="1547640" y="1989000"/>
            <a:chExt cx="7164720" cy="4869000"/>
          </a:xfrm>
        </p:grpSpPr>
        <p:pic>
          <p:nvPicPr>
            <p:cNvPr id="537" name="" descr=""/>
            <p:cNvPicPr/>
            <p:nvPr/>
          </p:nvPicPr>
          <p:blipFill>
            <a:blip r:embed="rId4"/>
            <a:stretch/>
          </p:blipFill>
          <p:spPr>
            <a:xfrm>
              <a:off x="5580000" y="3726000"/>
              <a:ext cx="313236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1547640" y="1989000"/>
              <a:ext cx="5688360" cy="2087640"/>
            </a:xfrm>
            <a:prstGeom prst="wedgeEllipseCallout">
              <a:avLst>
                <a:gd name="adj1" fmla="val 34037"/>
                <a:gd name="adj2" fmla="val 60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そうだ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モール５０５の「ごはんですよ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でご飯を食べよ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79280" y="4365720"/>
            <a:ext cx="7201080" cy="2500920"/>
            <a:chOff x="179280" y="4365720"/>
            <a:chExt cx="7201080" cy="2500920"/>
          </a:xfrm>
        </p:grpSpPr>
        <p:sp>
          <p:nvSpPr>
            <p:cNvPr id="540" name=""/>
            <p:cNvSpPr/>
            <p:nvPr/>
          </p:nvSpPr>
          <p:spPr>
            <a:xfrm>
              <a:off x="179280" y="5683320"/>
              <a:ext cx="7201080" cy="11412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5280" y="4365720"/>
              <a:ext cx="48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学生のための施設を整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82920" y="4941720"/>
              <a:ext cx="576360" cy="720720"/>
            </a:xfrm>
            <a:prstGeom prst="downArrow">
              <a:avLst>
                <a:gd name="adj1" fmla="val 50000"/>
                <a:gd name="adj2" fmla="val 3126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4920" y="5697360"/>
              <a:ext cx="5905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・学生による新たなコミュニティの形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・モール５０５の活性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403280" y="5734080"/>
            <a:ext cx="7129440" cy="934920"/>
          </a:xfrm>
          <a:prstGeom prst="ellipse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0000" y="4149720"/>
            <a:ext cx="7956720" cy="1079640"/>
          </a:xfrm>
          <a:custGeom>
            <a:avLst/>
            <a:gdLst>
              <a:gd name="textAreaLeft" fmla="*/ 1989000 w 7956720"/>
              <a:gd name="textAreaRight" fmla="*/ 5967720 w 7956720"/>
              <a:gd name="textAreaTop" fmla="*/ 0 h 1079640"/>
              <a:gd name="textAreaBottom" fmla="*/ 945000 h 1079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1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-681120" y="0"/>
            <a:ext cx="1947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拠点の創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行書体"/>
              </a:rPr>
              <a:t>～例②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79640" y="836640"/>
            <a:ext cx="5761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か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いまの汚いモール５０５に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を集める魅力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2781360"/>
            <a:ext cx="863640" cy="1008000"/>
          </a:xfrm>
          <a:prstGeom prst="downArrow">
            <a:avLst>
              <a:gd name="adj1" fmla="val 50000"/>
              <a:gd name="adj2" fmla="val 291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68360" y="422100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モール５０５をラッピ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79640" y="59500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ない費用でスタイリッシュな建物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66720" y="0"/>
            <a:ext cx="1947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拠点の創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行書体"/>
              </a:rPr>
              <a:t>～例③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61960" y="135000"/>
            <a:ext cx="137160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2120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問題点の抽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40440" y="135000"/>
            <a:ext cx="18050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目指す都市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32760" y="135000"/>
            <a:ext cx="1731960" cy="3988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正楷書体-PRO"/>
              </a:rPr>
              <a:t>今後の方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281772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83696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6929280" y="287280"/>
            <a:ext cx="339480" cy="142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08000" y="1197000"/>
            <a:ext cx="2305080" cy="581400"/>
          </a:xfrm>
          <a:prstGeom prst="rect">
            <a:avLst/>
          </a:prstGeom>
          <a:solidFill>
            <a:srgbClr val="ff9900">
              <a:alpha val="2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荒川沖駅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92720" y="1197000"/>
            <a:ext cx="280836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灯ストリ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56000" y="1197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2349360"/>
            <a:ext cx="5327640" cy="1224000"/>
          </a:xfrm>
          <a:prstGeom prst="wedgeRoundRectCallout">
            <a:avLst>
              <a:gd name="adj1" fmla="val -18087"/>
              <a:gd name="adj2" fmla="val -902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会社帰りのサラリーマンが多い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が衰退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通りの幅員が広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386064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58920" y="4653000"/>
            <a:ext cx="6985080" cy="1584360"/>
            <a:chOff x="1258920" y="4653000"/>
            <a:chExt cx="6985080" cy="1584360"/>
          </a:xfrm>
        </p:grpSpPr>
        <p:sp>
          <p:nvSpPr>
            <p:cNvPr id="572" name=""/>
            <p:cNvSpPr/>
            <p:nvPr/>
          </p:nvSpPr>
          <p:spPr>
            <a:xfrm>
              <a:off x="1258920" y="4653000"/>
              <a:ext cx="6985080" cy="1584360"/>
            </a:xfrm>
            <a:prstGeom prst="ellipse">
              <a:avLst/>
            </a:prstGeom>
            <a:solidFill>
              <a:srgbClr val="ffff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0920" y="4724280"/>
              <a:ext cx="5364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屋台でお父さん同士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新たなコミュニティを形成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8403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11280" y="249228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HGP行書体"/>
              </a:rPr>
              <a:t>今後の調査方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-1108080" y="0"/>
            <a:ext cx="10072800" cy="5734080"/>
            <a:chOff x="-1108080" y="0"/>
            <a:chExt cx="10072800" cy="5734080"/>
          </a:xfrm>
        </p:grpSpPr>
        <p:sp>
          <p:nvSpPr>
            <p:cNvPr id="577" name=""/>
            <p:cNvSpPr/>
            <p:nvPr/>
          </p:nvSpPr>
          <p:spPr>
            <a:xfrm>
              <a:off x="-1108080" y="0"/>
              <a:ext cx="2374920" cy="57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今後の方針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1960" y="135000"/>
              <a:ext cx="13716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1200" y="135000"/>
              <a:ext cx="173196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40440" y="135000"/>
              <a:ext cx="180504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32760" y="135000"/>
              <a:ext cx="17319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5400000">
              <a:off x="281772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5400000">
              <a:off x="483696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5400000">
              <a:off x="6929280" y="287280"/>
              <a:ext cx="33948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987640" y="1916280"/>
            <a:ext cx="5977080" cy="1015920"/>
          </a:xfrm>
          <a:prstGeom prst="rect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地区のコミュニティコンセプトを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ー住民の感覚・思いを重視しなが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87640" y="4941720"/>
            <a:ext cx="597708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住民の意識と実際のギャップ検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87640" y="3645000"/>
            <a:ext cx="5977080" cy="4597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地区の小中学校の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03280" y="1916280"/>
            <a:ext cx="1511280" cy="1015920"/>
          </a:xfrm>
          <a:prstGeom prst="rect">
            <a:avLst/>
          </a:prstGeom>
          <a:solidFill>
            <a:srgbClr val="ff99cc">
              <a:alpha val="2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セプ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03280" y="3645000"/>
            <a:ext cx="1513080" cy="459720"/>
          </a:xfrm>
          <a:prstGeom prst="rect">
            <a:avLst/>
          </a:prstGeom>
          <a:solidFill>
            <a:srgbClr val="99cc00">
              <a:alpha val="20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地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03280" y="4941720"/>
            <a:ext cx="1511280" cy="459720"/>
          </a:xfrm>
          <a:prstGeom prst="rect">
            <a:avLst/>
          </a:prstGeom>
          <a:solidFill>
            <a:srgbClr val="99ccff">
              <a:alpha val="20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識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-10800" y="0"/>
            <a:ext cx="127764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参考文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03280" y="1413000"/>
            <a:ext cx="7344000" cy="41173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第７次土浦市総合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まちづくりアンケート　平成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土浦市　市政概要　平成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年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土浦市公式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ty.tsuchiura.lg.jp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統計つちう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city.tsuchiura.lg.jp/index.php?code=1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統計いばら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pref.ibaraki.jp/toke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白黒イラスト素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sozai.rdy.jp/shirokuro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093680" y="0"/>
            <a:ext cx="23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人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56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9280" y="961920"/>
            <a:ext cx="6638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6040" y="419040"/>
            <a:ext cx="6451920" cy="6438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093680" y="0"/>
            <a:ext cx="23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産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67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851280" y="3206880"/>
            <a:ext cx="1655640" cy="1368360"/>
          </a:xfrm>
          <a:prstGeom prst="ellipse">
            <a:avLst/>
          </a:prstGeom>
          <a:solidFill>
            <a:srgbClr val="ff99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心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商業地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2343240"/>
            <a:ext cx="1655640" cy="1368360"/>
          </a:xfrm>
          <a:prstGeom prst="ellipse">
            <a:avLst/>
          </a:prstGeom>
          <a:solidFill>
            <a:srgbClr val="cc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神立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工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農業地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1982880"/>
            <a:ext cx="1655640" cy="1368360"/>
          </a:xfrm>
          <a:prstGeom prst="ellipse">
            <a:avLst/>
          </a:prstGeom>
          <a:solidFill>
            <a:srgbClr val="cc99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和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工業地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901800"/>
            <a:ext cx="1655640" cy="1368360"/>
          </a:xfrm>
          <a:prstGeom prst="ellipse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治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農業地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4791240"/>
            <a:ext cx="1655640" cy="1368360"/>
          </a:xfrm>
          <a:prstGeom prst="ellipse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荒川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商業地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907920"/>
            <a:ext cx="309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神立工業地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レンコン畑が広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720" y="4508640"/>
            <a:ext cx="363528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土浦駅周辺に商業施設が立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駅前の求心力の低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9" idx="2"/>
            <a:endCxn id="75" idx="7"/>
          </p:cNvCxnSpPr>
          <p:nvPr/>
        </p:nvCxnSpPr>
        <p:spPr>
          <a:xfrm flipH="1">
            <a:off x="6921000" y="1771200"/>
            <a:ext cx="496080" cy="77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80" idx="1"/>
            <a:endCxn id="74" idx="5"/>
          </p:cNvCxnSpPr>
          <p:nvPr/>
        </p:nvCxnSpPr>
        <p:spPr>
          <a:xfrm flipH="1" flipV="1">
            <a:off x="5263560" y="4374720"/>
            <a:ext cx="1371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4932360" y="5877000"/>
            <a:ext cx="3960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荒川沖駅周辺に商業施設が立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駅前の求心力の低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1"/>
            <a:endCxn id="78" idx="4"/>
          </p:cNvCxnSpPr>
          <p:nvPr/>
        </p:nvCxnSpPr>
        <p:spPr>
          <a:xfrm flipH="1" flipV="1">
            <a:off x="4032000" y="6159240"/>
            <a:ext cx="90072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258920" y="3710160"/>
            <a:ext cx="2233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クノパーク土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5" idx="0"/>
            <a:endCxn id="76" idx="3"/>
          </p:cNvCxnSpPr>
          <p:nvPr/>
        </p:nvCxnSpPr>
        <p:spPr>
          <a:xfrm flipV="1">
            <a:off x="2376000" y="3150360"/>
            <a:ext cx="423000" cy="55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1116000" y="11970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117440"/>
            <a:ext cx="1871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田畑が広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3"/>
            <a:endCxn id="77" idx="2"/>
          </p:cNvCxnSpPr>
          <p:nvPr/>
        </p:nvCxnSpPr>
        <p:spPr>
          <a:xfrm>
            <a:off x="3348000" y="1320840"/>
            <a:ext cx="5040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093680" y="0"/>
            <a:ext cx="23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農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92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763640" y="90792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レンコン、花きの栽培がさか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農業人口の減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544500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03280" y="2421000"/>
            <a:ext cx="6837480" cy="4172040"/>
            <a:chOff x="1403280" y="2421000"/>
            <a:chExt cx="6837480" cy="4172040"/>
          </a:xfrm>
        </p:grpSpPr>
        <p:graphicFrame>
          <p:nvGraphicFramePr>
            <p:cNvPr id="102" name=""/>
            <p:cNvGraphicFramePr/>
            <p:nvPr/>
          </p:nvGraphicFramePr>
          <p:xfrm>
            <a:off x="1403280" y="2494080"/>
            <a:ext cx="6837480" cy="4098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2494080"/>
                      <a:ext cx="6837480" cy="40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2627280" y="3429000"/>
              <a:ext cx="4969080" cy="1368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40360" y="2421000"/>
              <a:ext cx="1800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農家数（戸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971640" y="2205000"/>
            <a:ext cx="7057800" cy="4653000"/>
            <a:chOff x="971640" y="2205000"/>
            <a:chExt cx="7057800" cy="4653000"/>
          </a:xfrm>
        </p:grpSpPr>
        <p:graphicFrame>
          <p:nvGraphicFramePr>
            <p:cNvPr id="107" name=""/>
            <p:cNvGraphicFramePr/>
            <p:nvPr/>
          </p:nvGraphicFramePr>
          <p:xfrm>
            <a:off x="971640" y="2593800"/>
            <a:ext cx="7057800" cy="42642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2593800"/>
                      <a:ext cx="7057800" cy="426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3419640" y="2205000"/>
              <a:ext cx="3168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農業産出額（千万円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3357720"/>
            <a:ext cx="3311640" cy="93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4076640"/>
            <a:ext cx="4464000" cy="1368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維持し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19280" y="5950080"/>
            <a:ext cx="6769080" cy="790560"/>
            <a:chOff x="1619280" y="5950080"/>
            <a:chExt cx="6769080" cy="790560"/>
          </a:xfrm>
        </p:grpSpPr>
        <p:sp>
          <p:nvSpPr>
            <p:cNvPr id="113" name=""/>
            <p:cNvSpPr/>
            <p:nvPr/>
          </p:nvSpPr>
          <p:spPr>
            <a:xfrm>
              <a:off x="1619280" y="5950080"/>
              <a:ext cx="6769080" cy="790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00" y="6094800"/>
              <a:ext cx="64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このままでは減少してしまう可能性が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572000" y="5445000"/>
            <a:ext cx="647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093680" y="0"/>
            <a:ext cx="23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交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118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rcRect l="21911" t="8573" r="9538" b="4987"/>
          <a:stretch/>
        </p:blipFill>
        <p:spPr>
          <a:xfrm>
            <a:off x="1547640" y="1125360"/>
            <a:ext cx="417672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3640" y="2317680"/>
            <a:ext cx="3019320" cy="4280040"/>
          </a:xfrm>
          <a:custGeom>
            <a:avLst/>
            <a:gdLst/>
            <a:ahLst/>
            <a:rect l="l" t="t" r="r" b="b"/>
            <a:pathLst>
              <a:path w="1902" h="2696">
                <a:moveTo>
                  <a:pt x="1902" y="0"/>
                </a:moveTo>
                <a:lnTo>
                  <a:pt x="1645" y="380"/>
                </a:lnTo>
                <a:lnTo>
                  <a:pt x="1332" y="738"/>
                </a:lnTo>
                <a:lnTo>
                  <a:pt x="1097" y="928"/>
                </a:lnTo>
                <a:lnTo>
                  <a:pt x="901" y="1353"/>
                </a:lnTo>
                <a:lnTo>
                  <a:pt x="705" y="1526"/>
                </a:lnTo>
                <a:lnTo>
                  <a:pt x="616" y="1683"/>
                </a:lnTo>
                <a:lnTo>
                  <a:pt x="174" y="2315"/>
                </a:lnTo>
                <a:lnTo>
                  <a:pt x="118" y="2533"/>
                </a:lnTo>
                <a:lnTo>
                  <a:pt x="0" y="2696"/>
                </a:lnTo>
              </a:path>
            </a:pathLst>
          </a:custGeom>
          <a:noFill/>
          <a:ln w="57240">
            <a:solidFill>
              <a:srgbClr val="008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70080" y="2130480"/>
            <a:ext cx="2414520" cy="4368600"/>
          </a:xfrm>
          <a:custGeom>
            <a:avLst/>
            <a:gdLst/>
            <a:ahLst/>
            <a:rect l="l" t="t" r="r" b="b"/>
            <a:pathLst>
              <a:path w="1521" h="2752">
                <a:moveTo>
                  <a:pt x="1521" y="0"/>
                </a:moveTo>
                <a:cubicBezTo>
                  <a:pt x="1507" y="29"/>
                  <a:pt x="1509" y="98"/>
                  <a:pt x="1437" y="173"/>
                </a:cubicBezTo>
                <a:cubicBezTo>
                  <a:pt x="1365" y="248"/>
                  <a:pt x="1225" y="331"/>
                  <a:pt x="1091" y="453"/>
                </a:cubicBezTo>
                <a:cubicBezTo>
                  <a:pt x="957" y="575"/>
                  <a:pt x="722" y="741"/>
                  <a:pt x="632" y="906"/>
                </a:cubicBezTo>
                <a:cubicBezTo>
                  <a:pt x="542" y="1071"/>
                  <a:pt x="584" y="1314"/>
                  <a:pt x="554" y="1443"/>
                </a:cubicBezTo>
                <a:cubicBezTo>
                  <a:pt x="524" y="1572"/>
                  <a:pt x="509" y="1574"/>
                  <a:pt x="453" y="1683"/>
                </a:cubicBezTo>
                <a:cubicBezTo>
                  <a:pt x="397" y="1792"/>
                  <a:pt x="294" y="1919"/>
                  <a:pt x="218" y="2097"/>
                </a:cubicBezTo>
                <a:cubicBezTo>
                  <a:pt x="142" y="2275"/>
                  <a:pt x="45" y="2616"/>
                  <a:pt x="0" y="2752"/>
                </a:cubicBezTo>
              </a:path>
            </a:pathLst>
          </a:custGeom>
          <a:noFill/>
          <a:ln w="4428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650960"/>
            <a:ext cx="2217600" cy="4010040"/>
          </a:xfrm>
          <a:custGeom>
            <a:avLst/>
            <a:gdLst/>
            <a:ahLst/>
            <a:rect l="l" t="t" r="r" b="b"/>
            <a:pathLst>
              <a:path w="1397" h="2526">
                <a:moveTo>
                  <a:pt x="1397" y="0"/>
                </a:moveTo>
                <a:cubicBezTo>
                  <a:pt x="1370" y="49"/>
                  <a:pt x="1342" y="145"/>
                  <a:pt x="1235" y="297"/>
                </a:cubicBezTo>
                <a:cubicBezTo>
                  <a:pt x="1128" y="449"/>
                  <a:pt x="898" y="744"/>
                  <a:pt x="754" y="912"/>
                </a:cubicBezTo>
                <a:cubicBezTo>
                  <a:pt x="610" y="1080"/>
                  <a:pt x="420" y="1128"/>
                  <a:pt x="368" y="1303"/>
                </a:cubicBezTo>
                <a:cubicBezTo>
                  <a:pt x="316" y="1478"/>
                  <a:pt x="502" y="1759"/>
                  <a:pt x="441" y="1963"/>
                </a:cubicBezTo>
                <a:cubicBezTo>
                  <a:pt x="380" y="2167"/>
                  <a:pt x="92" y="2409"/>
                  <a:pt x="0" y="2526"/>
                </a:cubicBezTo>
              </a:path>
            </a:pathLst>
          </a:custGeom>
          <a:noFill/>
          <a:ln w="73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1989000"/>
            <a:ext cx="1368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磐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156360" y="227664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1413000"/>
            <a:ext cx="1368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道６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500360" y="1844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1197000"/>
            <a:ext cx="136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磐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162864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005360"/>
            <a:ext cx="3241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外への移動に便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慢性的な渋滞の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5229360"/>
            <a:ext cx="3240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路線バスの衰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内の移動が不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765000"/>
            <a:ext cx="6121440" cy="223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321300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909720"/>
            <a:ext cx="4464000" cy="568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-1093680" y="0"/>
            <a:ext cx="10058400" cy="4896000"/>
            <a:chOff x="-1093680" y="0"/>
            <a:chExt cx="10058400" cy="4896000"/>
          </a:xfrm>
        </p:grpSpPr>
        <p:sp>
          <p:nvSpPr>
            <p:cNvPr id="141" name=""/>
            <p:cNvSpPr/>
            <p:nvPr/>
          </p:nvSpPr>
          <p:spPr>
            <a:xfrm>
              <a:off x="-1093680" y="0"/>
              <a:ext cx="237492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HGP行書体"/>
                </a:rPr>
                <a:t>土浦の教育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476360" y="115920"/>
              <a:ext cx="7488360" cy="398880"/>
              <a:chOff x="1476360" y="115920"/>
              <a:chExt cx="7488360" cy="398880"/>
            </a:xfrm>
          </p:grpSpPr>
          <p:sp>
            <p:nvSpPr>
              <p:cNvPr id="143" name=""/>
              <p:cNvSpPr/>
              <p:nvPr/>
            </p:nvSpPr>
            <p:spPr>
              <a:xfrm>
                <a:off x="1476360" y="115920"/>
                <a:ext cx="1368360" cy="398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現状把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32000" y="115920"/>
                <a:ext cx="172908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問題点の抽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48360" y="115920"/>
                <a:ext cx="180000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目指す都市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36000" y="115920"/>
                <a:ext cx="1728720" cy="398880"/>
              </a:xfrm>
              <a:prstGeom prst="rect">
                <a:avLst/>
              </a:prstGeom>
              <a:solidFill>
                <a:srgbClr val="ffff99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正楷書体-PRO"/>
                  </a:rPr>
                  <a:t>今後の方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400000">
                <a:off x="2842920" y="261720"/>
                <a:ext cx="28872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400000">
                <a:off x="4858920" y="261720"/>
                <a:ext cx="28872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400000">
                <a:off x="6946560" y="261720"/>
                <a:ext cx="288720" cy="1429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 flipH="1">
            <a:off x="1547280" y="2421000"/>
            <a:ext cx="3240360" cy="443700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997360"/>
            <a:ext cx="431640" cy="360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4294080"/>
            <a:ext cx="432000" cy="360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734080"/>
            <a:ext cx="432000" cy="360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1800" y="530208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荒川沖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206064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神立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522936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土浦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5" idx="2"/>
            <a:endCxn id="151" idx="0"/>
          </p:cNvCxnSpPr>
          <p:nvPr/>
        </p:nvCxnSpPr>
        <p:spPr>
          <a:xfrm>
            <a:off x="3925800" y="2457360"/>
            <a:ext cx="21528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4" idx="2"/>
            <a:endCxn id="153" idx="0"/>
          </p:cNvCxnSpPr>
          <p:nvPr/>
        </p:nvCxnSpPr>
        <p:spPr>
          <a:xfrm>
            <a:off x="1550880" y="5698800"/>
            <a:ext cx="35784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6" idx="1"/>
            <a:endCxn id="152" idx="0"/>
          </p:cNvCxnSpPr>
          <p:nvPr/>
        </p:nvCxnSpPr>
        <p:spPr>
          <a:xfrm flipH="1" flipV="1">
            <a:off x="3479400" y="4654080"/>
            <a:ext cx="30240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1547640" y="141300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土浦市内の高等学校の分布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4005360"/>
            <a:ext cx="71928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4724280"/>
            <a:ext cx="33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周辺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学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需要が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1413000"/>
            <a:ext cx="2449440" cy="1008000"/>
          </a:xfrm>
          <a:prstGeom prst="roundRect">
            <a:avLst>
              <a:gd name="adj" fmla="val 16667"/>
            </a:avLst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1413000"/>
            <a:ext cx="27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周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くの高校が立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2924280"/>
            <a:ext cx="4032360" cy="934920"/>
          </a:xfrm>
          <a:prstGeom prst="roundRect">
            <a:avLst>
              <a:gd name="adj" fmla="val 16667"/>
            </a:avLst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2924280"/>
            <a:ext cx="42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周辺（１ｋｍ範囲内）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１件の学習塾・予備校が立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4653000"/>
            <a:ext cx="4716360" cy="2205000"/>
          </a:xfrm>
          <a:custGeom>
            <a:avLst/>
            <a:gdLst>
              <a:gd name="textAreaLeft" fmla="*/ 1076760 w 4716360"/>
              <a:gd name="textAreaRight" fmla="*/ 3639600 w 471636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の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ミュニティスペース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のではない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413400" y="5373720"/>
            <a:ext cx="2664000" cy="1341360"/>
          </a:xfrm>
          <a:custGeom>
            <a:avLst/>
            <a:gdLst>
              <a:gd name="textAreaLeft" fmla="*/ 608040 w 2664000"/>
              <a:gd name="textAreaRight" fmla="*/ 2055960 w 2664000"/>
              <a:gd name="textAreaTop" fmla="*/ 306000 h 1341360"/>
              <a:gd name="textAreaBottom" fmla="*/ 103536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09368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P行書体"/>
              </a:rPr>
              <a:t>土浦の医療・福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76360" y="115920"/>
            <a:ext cx="7488360" cy="398880"/>
            <a:chOff x="1476360" y="115920"/>
            <a:chExt cx="7488360" cy="398880"/>
          </a:xfrm>
        </p:grpSpPr>
        <p:sp>
          <p:nvSpPr>
            <p:cNvPr id="172" name=""/>
            <p:cNvSpPr/>
            <p:nvPr/>
          </p:nvSpPr>
          <p:spPr>
            <a:xfrm>
              <a:off x="1476360" y="115920"/>
              <a:ext cx="136836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現状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2000" y="115920"/>
              <a:ext cx="172908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問題点の抽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8360" y="115920"/>
              <a:ext cx="180000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目指す都市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6000" y="115920"/>
              <a:ext cx="1728720" cy="398880"/>
            </a:xfrm>
            <a:prstGeom prst="rect">
              <a:avLst/>
            </a:prstGeom>
            <a:solidFill>
              <a:srgbClr val="ff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正楷書体-PRO"/>
                </a:rPr>
                <a:t>今後の方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2842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485892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6946560" y="261720"/>
              <a:ext cx="288720" cy="142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403280" y="692280"/>
          <a:ext cx="695340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92280"/>
                    <a:ext cx="695340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042920" y="55166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医療は充実している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病床数は総合病院が大半を占め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5805360"/>
            <a:ext cx="504720" cy="432000"/>
          </a:xfrm>
          <a:prstGeom prst="rightArrow">
            <a:avLst>
              <a:gd name="adj1" fmla="val 50000"/>
              <a:gd name="adj2" fmla="val 292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551664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域によ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偏りがあるので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12:19Z</dcterms:created>
  <dc:creator>社会工学類</dc:creator>
  <dc:description/>
  <dc:language>en-US</dc:language>
  <cp:lastModifiedBy>社会工学類</cp:lastModifiedBy>
  <dcterms:modified xsi:type="dcterms:W3CDTF">2010-03-01T08:34:14Z</dcterms:modified>
  <cp:revision>57</cp:revision>
  <dc:subject/>
  <dc:title>灯　</dc:title>
</cp:coreProperties>
</file>