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3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3.jpeg" ContentType="image/jpeg"/>
  <Override PartName="/ppt/media/image5.wmf" ContentType="image/x-wmf"/>
  <Override PartName="/ppt/media/image37.wmf" ContentType="image/x-wmf"/>
  <Override PartName="/ppt/media/image30.jpeg" ContentType="image/jpeg"/>
  <Override PartName="/ppt/media/image36.wmf" ContentType="image/x-wmf"/>
  <Override PartName="/ppt/media/image47.jpeg" ContentType="image/jpeg"/>
  <Override PartName="/ppt/media/image12.wmf" ContentType="image/x-wmf"/>
  <Override PartName="/ppt/media/image38.jpeg" ContentType="image/jpeg"/>
  <Override PartName="/ppt/media/image31.wmf" ContentType="image/x-wmf"/>
  <Override PartName="/ppt/media/image40.jpeg" ContentType="image/jpeg"/>
  <Override PartName="/ppt/media/image44.png" ContentType="image/png"/>
  <Override PartName="/ppt/media/image42.jpeg" ContentType="image/jpeg"/>
  <Override PartName="/ppt/media/image43.jpeg" ContentType="image/jpeg"/>
  <Override PartName="/ppt/media/image45.wmf" ContentType="image/x-wmf"/>
  <Override PartName="/ppt/media/image46.wmf" ContentType="image/x-wmf"/>
  <Override PartName="/ppt/media/image39.jpeg" ContentType="image/jpeg"/>
  <Override PartName="/ppt/media/image8.png" ContentType="image/png"/>
  <Override PartName="/ppt/media/image16.wmf" ContentType="image/x-wmf"/>
  <Override PartName="/ppt/media/image34.jpeg" ContentType="image/jpeg"/>
  <Override PartName="/ppt/media/image7.png" ContentType="image/png"/>
  <Override PartName="/ppt/media/image41.jpeg" ContentType="image/jpeg"/>
  <Override PartName="/ppt/media/image15.wmf" ContentType="image/x-wmf"/>
  <Override PartName="/ppt/media/image11.png" ContentType="image/png"/>
  <Override PartName="/ppt/media/image4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5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5B1-7C5F-46FA-B4B3-34EA617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28A-8345-4F8F-A8E6-61A7F8AB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543-DB4F-48BB-9EEB-F5EF564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E70-D2E0-4503-B7E0-E9932883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05A-124C-4901-96CD-4E9C2737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BC8-5F85-4BE9-B48D-7F42104F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7A8-0AA6-4CE3-AAA1-55445A8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8F0-9A33-49F2-833B-1FDEE6E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752-F81A-4FAD-A405-4B3F6EB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783-188F-4485-8346-33A069D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FE8-67D6-4657-8548-F73C41E4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7F1-BA66-476E-B184-D1FF6D7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F8A6-BD1E-4A25-8A4C-0062B3EE14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4.dion.ne.jp/~light/LOVELOG_IMG/tulip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ef.ibaraki.jp/indus/miryoku/m_img/mzu_01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31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072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3502"/>
                </a:solidFill>
                <a:latin typeface="Arial"/>
              </a:rPr>
              <a:t>都市計画マスタープラン策定実習</a:t>
            </a:r>
            <a:br>
              <a:rPr sz="3600"/>
            </a:br>
            <a:r>
              <a:rPr b="0" lang="zh-CN" sz="3600" spc="-1" strike="noStrike">
                <a:solidFill>
                  <a:srgbClr val="ee3502"/>
                </a:solidFill>
                <a:latin typeface="Arial"/>
              </a:rPr>
              <a:t>第１回中間発表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4941360"/>
            <a:ext cx="611964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班長　　　 　矢内　 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副班長　　　小林史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班員</a:t>
            </a: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　　今村昌幸　　　中村浩介　　　 海老島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TA</a:t>
            </a:r>
            <a:r>
              <a:rPr b="1" lang="zh-CN" sz="2000" spc="-1" strike="noStrike">
                <a:solidFill>
                  <a:srgbClr val="f0e500"/>
                </a:solidFill>
                <a:latin typeface="Arial"/>
              </a:rPr>
              <a:t>　　　　　 小野田竜巳</a:t>
            </a: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0e5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69B-EF00-472F-82C5-790806C53A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tuli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765000"/>
            <a:ext cx="2448000" cy="1837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花き"/>
          <p:cNvPicPr/>
          <p:nvPr/>
        </p:nvPicPr>
        <p:blipFill>
          <a:blip r:embed="rId3"/>
          <a:stretch/>
        </p:blipFill>
        <p:spPr>
          <a:xfrm>
            <a:off x="4343400" y="3429000"/>
            <a:ext cx="4476600" cy="153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35980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花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510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チューリ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720" y="5157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グラジオラス：県銘柄産地指定（平成２年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アルストロメリア：県銘柄推進産地指定（平成３年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51160" y="2427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露地栽培：グラジオラス・菊・ヤナギなど中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施設栽培：アルストロメリア・バ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3659040"/>
          <a:ext cx="3457440" cy="200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3659040"/>
                    <a:ext cx="345744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農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FFE-A566-4093-BCF5-48010FCDC4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76200" y="957240"/>
            <a:ext cx="30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茨城県は県外企業の工場立地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１００２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537240" y="981000"/>
            <a:ext cx="1366560" cy="433440"/>
            <a:chOff x="6537240" y="981000"/>
            <a:chExt cx="1366560" cy="433440"/>
          </a:xfrm>
        </p:grpSpPr>
        <p:sp>
          <p:nvSpPr>
            <p:cNvPr id="176" name=""/>
            <p:cNvSpPr/>
            <p:nvPr/>
          </p:nvSpPr>
          <p:spPr>
            <a:xfrm>
              <a:off x="6537240" y="981000"/>
              <a:ext cx="1366560" cy="433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00">
                    <a:alpha val="6313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7720" y="997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全国１位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0880" y="112536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f0e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1520" y="1531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外資系企業の工場立地が４３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37240" y="1557360"/>
            <a:ext cx="1366560" cy="433440"/>
            <a:chOff x="6537240" y="1557360"/>
            <a:chExt cx="1366560" cy="433440"/>
          </a:xfrm>
        </p:grpSpPr>
        <p:sp>
          <p:nvSpPr>
            <p:cNvPr id="181" name=""/>
            <p:cNvSpPr/>
            <p:nvPr/>
          </p:nvSpPr>
          <p:spPr>
            <a:xfrm>
              <a:off x="6537240" y="1557360"/>
              <a:ext cx="1366560" cy="433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00">
                    <a:alpha val="6313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67720" y="1573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全国１位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345280" y="170028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f0e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924280"/>
            <a:ext cx="254628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4000" y="2205000"/>
            <a:ext cx="635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この数字は、コストパフォーマンスや交通アクセス、物流、研究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援、関連企業の立地など、さまざまなアドバンテージとバランス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良さが認められたた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68360" y="3645000"/>
            <a:ext cx="5040000" cy="2160000"/>
            <a:chOff x="468360" y="3645000"/>
            <a:chExt cx="5040000" cy="2160000"/>
          </a:xfrm>
        </p:grpSpPr>
        <p:sp>
          <p:nvSpPr>
            <p:cNvPr id="187" name=""/>
            <p:cNvSpPr/>
            <p:nvPr/>
          </p:nvSpPr>
          <p:spPr>
            <a:xfrm>
              <a:off x="468360" y="4005000"/>
              <a:ext cx="5040000" cy="1800000"/>
            </a:xfrm>
            <a:prstGeom prst="flowChartAlternateProcess">
              <a:avLst/>
            </a:prstGeom>
            <a:solidFill>
              <a:srgbClr val="ff00ff">
                <a:alpha val="4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3280" y="4005000"/>
              <a:ext cx="149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４本の高速道路：常磐、北関東、東関東、圏央道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４つの港湾：日立、常陸那珂、大洗、鹿島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つくばエクスプレ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常磐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百里空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成田へも近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36450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交通アクセス・物流の優位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工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54F-E9C0-4E24-91C3-5D253C48FA10}" type="slidenum">
              <a:t>11</a:t>
            </a:fld>
          </a:p>
        </p:txBody>
      </p:sp>
    </p:spTree>
  </p:cSld>
  <p:transition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23840" y="5138640"/>
            <a:ext cx="149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食料品製造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非鉄金属製造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般機械器具製造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電気機械器具製造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精密機械器具製造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9280" y="1085760"/>
            <a:ext cx="8569440" cy="2046240"/>
            <a:chOff x="179280" y="1085760"/>
            <a:chExt cx="8569440" cy="204624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79280" y="1106640"/>
              <a:ext cx="280836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203640" y="1106640"/>
              <a:ext cx="302400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64240" y="27637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東筑波新治工業団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6240" y="27637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テクノパーク土浦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473880" y="1085760"/>
              <a:ext cx="2274840" cy="16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896520" y="27637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土浦おおつのヒル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492360" y="564372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0e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77120" y="55656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この５項目で製品出荷額が増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58880" y="3338640"/>
            <a:ext cx="7483320" cy="1604880"/>
            <a:chOff x="758880" y="3338640"/>
            <a:chExt cx="7483320" cy="1604880"/>
          </a:xfrm>
        </p:grpSpPr>
        <p:grpSp>
          <p:nvGrpSpPr>
            <p:cNvPr id="202" name=""/>
            <p:cNvGrpSpPr/>
            <p:nvPr/>
          </p:nvGrpSpPr>
          <p:grpSpPr>
            <a:xfrm>
              <a:off x="758880" y="3338640"/>
              <a:ext cx="3381480" cy="1604880"/>
              <a:chOff x="758880" y="3338640"/>
              <a:chExt cx="3381480" cy="1604880"/>
            </a:xfrm>
          </p:grpSpPr>
          <p:graphicFrame>
            <p:nvGraphicFramePr>
              <p:cNvPr id="203" name=""/>
              <p:cNvGraphicFramePr/>
              <p:nvPr/>
            </p:nvGraphicFramePr>
            <p:xfrm>
              <a:off x="758880" y="3338640"/>
              <a:ext cx="3379680" cy="1604880"/>
            </p:xfrm>
            <a:graphic>
              <a:graphicData uri="http://schemas.openxmlformats.org/presentationml/2006/ole">
                <p:oleObj progId="Excel.Sheet.12" r:id="rId4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58880" y="3338640"/>
                        <a:ext cx="3379680" cy="16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"/>
              <p:cNvSpPr/>
              <p:nvPr/>
            </p:nvSpPr>
            <p:spPr>
              <a:xfrm>
                <a:off x="3419640" y="3843360"/>
                <a:ext cx="720720" cy="4316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788000" y="3338640"/>
              <a:ext cx="3454200" cy="1604880"/>
              <a:chOff x="4788000" y="3338640"/>
              <a:chExt cx="3454200" cy="1604880"/>
            </a:xfrm>
          </p:grpSpPr>
          <p:graphicFrame>
            <p:nvGraphicFramePr>
              <p:cNvPr id="207" name=""/>
              <p:cNvGraphicFramePr/>
              <p:nvPr/>
            </p:nvGraphicFramePr>
            <p:xfrm>
              <a:off x="4788000" y="3338640"/>
              <a:ext cx="3454200" cy="1604880"/>
            </p:xfrm>
            <a:graphic>
              <a:graphicData uri="http://schemas.openxmlformats.org/presentationml/2006/ole">
                <p:oleObj progId="Excel.Sheet.12" r:id="rId6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788000" y="3338640"/>
                        <a:ext cx="3454200" cy="16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9" name=""/>
              <p:cNvSpPr/>
              <p:nvPr/>
            </p:nvSpPr>
            <p:spPr>
              <a:xfrm>
                <a:off x="7404120" y="3795840"/>
                <a:ext cx="720720" cy="4316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工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9F1-FBA7-466F-86FF-3966A7405A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土浦市の観光資源は豊富にあ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4653000"/>
            <a:ext cx="309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土浦市花火大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に代表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様々な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イベン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448000" cy="1851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64000" y="4149720"/>
            <a:ext cx="2305080" cy="1541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300720" y="2457360"/>
            <a:ext cx="2201760" cy="165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12000" y="4365720"/>
            <a:ext cx="2952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亀城公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のような土浦城址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歴史的町並みなど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Arial"/>
              </a:rPr>
              <a:t>歴史的遺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2421000"/>
            <a:ext cx="273672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本第２の湖沼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霞ヶ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関東の名産、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筑波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に代表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cc33"/>
                </a:solidFill>
                <a:latin typeface="Arial"/>
              </a:rPr>
              <a:t>自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3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観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457-CE2D-4B9C-A07D-3FBB6C0A7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その中でも</a:t>
            </a:r>
            <a:r>
              <a:rPr b="0" lang="zh-CN" sz="2000" spc="-1" strike="noStrike">
                <a:solidFill>
                  <a:srgbClr val="33cc33"/>
                </a:solidFill>
                <a:latin typeface="Arial"/>
              </a:rPr>
              <a:t>自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が観光産業を支えている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　→茨城県内でも霞ヶ浦周辺の観　　　光客数が</a:t>
            </a: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第１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　→筑波山周辺は</a:t>
            </a: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第４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土浦市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万人集客してい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　→</a:t>
            </a: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土浦全国花火大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の影響と考えられ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４月には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桜の花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８月は</a:t>
            </a:r>
            <a:r>
              <a:rPr b="0" lang="zh-CN" sz="2000" spc="-1" strike="noStrike">
                <a:solidFill>
                  <a:srgbClr val="ff3399"/>
                </a:solidFill>
                <a:latin typeface="Arial"/>
              </a:rPr>
              <a:t>霞ヶ浦のマリンスポーツ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があるため、観光客数が１０万人を超えている。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月以外の観光客数がつくばに比べると非常に少な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新治村の観光は盛んではな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716360" y="2205000"/>
          <a:ext cx="3702240" cy="30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205000"/>
                    <a:ext cx="370224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788000" y="3573360"/>
            <a:ext cx="1079280" cy="1297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2637000"/>
            <a:ext cx="64764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3280" y="2276640"/>
          <a:ext cx="3888000" cy="290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76640"/>
                    <a:ext cx="3888000" cy="29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516720" y="2924280"/>
            <a:ext cx="287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356000" y="3284640"/>
            <a:ext cx="2160720" cy="64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4149720"/>
            <a:ext cx="21600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35640" y="4076640"/>
            <a:ext cx="21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427640" y="4365720"/>
            <a:ext cx="1008000" cy="21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427640" y="4508640"/>
            <a:ext cx="1800000" cy="7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284720" y="4581360"/>
            <a:ext cx="2016000" cy="10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3880" y="3168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3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観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5B4-FFDF-47DF-9541-EF273711F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少子高齢化、団塊の世代の退職にともなう観光客層の変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高齢者をターゲットとするべ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つくばエクスプレス開通にともなうつくば市への観光客増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土浦市への観光客増加へ導けないだろう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観光地の更なる魅力アップ！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→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霞ヶ浦～歴史的町並み～筑波山の一体的活用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49360" y="62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e3502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3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観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418-78C4-4E08-B054-BDF4556755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3160" y="96048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桜の名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桜川沿いの桜並木、新川・亀城公園・乙戸沼公園・真鍋小学校など他多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39960" y="1689120"/>
            <a:ext cx="2336760" cy="1523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051440" y="1700280"/>
            <a:ext cx="1041120" cy="1538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785240" y="327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桜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4480" y="3244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新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21640" y="324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真鍋小の天然記念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84800" y="3521160"/>
            <a:ext cx="63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霞ヶ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日本二番目の大きさを誇る湖で、ヨットハーバーや土浦港プロムナードを設け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霞ヶ浦自体には、年間１５０種の野鳥が訪れ、野鳥の宝庫として知られてい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また、ウォータースポーツのメッカにもなっている。ウィンドサーフィンやヨット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はじめ、モーターボートやジェットスキー な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1360" y="51577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朝日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スカイスポーツのメッカ。パラグライダーで週末にはあふれ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08960" y="5985000"/>
            <a:ext cx="33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フルーツライ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県道１９９号小野土浦線、石岡市の大型農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E9F-E781-4B4E-94F0-30B39C27E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37280" y="1052640"/>
            <a:ext cx="41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亀城公園・・・土浦市の歴史のシンボル、かつての土浦城の本丸と二の丸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　　　　　　　一部を整備した公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2720" y="2039760"/>
            <a:ext cx="69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霞ヶ浦総合公園・・・多くの施設を持つスポーツレクリエーション公園。公園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　　　　　　　　　　　には公園のシンボルでもある風車がそびえ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8200" y="3014640"/>
            <a:ext cx="32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乙戸沼公園・・・沼の周りに桜が植えられており、春には多くの花見客で賑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　　　　　　　　また、この沼では渡り鳥も見ることができ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2519640" cy="1969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54320" y="630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亀城公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372360" y="4292640"/>
            <a:ext cx="2447640" cy="2346120"/>
            <a:chOff x="6372360" y="4292640"/>
            <a:chExt cx="2447640" cy="234612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6372360" y="4292640"/>
              <a:ext cx="2447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219440" y="6270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乙戸沼公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35280" y="4292640"/>
            <a:ext cx="2305080" cy="2346120"/>
            <a:chOff x="3635280" y="4292640"/>
            <a:chExt cx="2305080" cy="2346120"/>
          </a:xfrm>
        </p:grpSpPr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3635280" y="4292640"/>
              <a:ext cx="230508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295160" y="62704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霞ヶ浦総合公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2000" y="104760"/>
            <a:ext cx="19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4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E54-CEAE-4018-8C13-849F86B58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66800" y="2097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4000" y="10540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桜の名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市の花が桜になっているように、市内には桜の名所が数多く存在す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また、天然記念物になっている桜の木もある。（西の吉野、東の桜川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572000" y="2060640"/>
            <a:ext cx="1439640" cy="520560"/>
            <a:chOff x="4572000" y="2060640"/>
            <a:chExt cx="1439640" cy="520560"/>
          </a:xfrm>
        </p:grpSpPr>
        <p:sp>
          <p:nvSpPr>
            <p:cNvPr id="263" name=""/>
            <p:cNvSpPr/>
            <p:nvPr/>
          </p:nvSpPr>
          <p:spPr>
            <a:xfrm>
              <a:off x="4572000" y="2257560"/>
              <a:ext cx="158760" cy="144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09520" y="2060640"/>
              <a:ext cx="13021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竜ヶ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51280" y="4133880"/>
            <a:ext cx="1368000" cy="520560"/>
            <a:chOff x="3851280" y="4133880"/>
            <a:chExt cx="1368000" cy="520560"/>
          </a:xfrm>
        </p:grpSpPr>
        <p:sp>
          <p:nvSpPr>
            <p:cNvPr id="266" name=""/>
            <p:cNvSpPr/>
            <p:nvPr/>
          </p:nvSpPr>
          <p:spPr>
            <a:xfrm>
              <a:off x="5073840" y="4435560"/>
              <a:ext cx="145440" cy="144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1280" y="4133880"/>
              <a:ext cx="1272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真鍋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859280" y="4653000"/>
            <a:ext cx="1441080" cy="520560"/>
            <a:chOff x="4859280" y="4653000"/>
            <a:chExt cx="1441080" cy="520560"/>
          </a:xfrm>
        </p:grpSpPr>
        <p:sp>
          <p:nvSpPr>
            <p:cNvPr id="269" name=""/>
            <p:cNvSpPr/>
            <p:nvPr/>
          </p:nvSpPr>
          <p:spPr>
            <a:xfrm>
              <a:off x="4859280" y="4941720"/>
              <a:ext cx="147600" cy="14472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08320" y="4653000"/>
              <a:ext cx="1292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新川堤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4727520"/>
            <a:ext cx="1512360" cy="592200"/>
            <a:chOff x="3059280" y="4727520"/>
            <a:chExt cx="1512360" cy="592200"/>
          </a:xfrm>
        </p:grpSpPr>
        <p:sp>
          <p:nvSpPr>
            <p:cNvPr id="272" name=""/>
            <p:cNvSpPr/>
            <p:nvPr/>
          </p:nvSpPr>
          <p:spPr>
            <a:xfrm>
              <a:off x="4413960" y="5175000"/>
              <a:ext cx="157680" cy="14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00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727520"/>
              <a:ext cx="13842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桜川堤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572000" y="5229360"/>
            <a:ext cx="1655280" cy="539640"/>
            <a:chOff x="4572000" y="5229360"/>
            <a:chExt cx="1655280" cy="539640"/>
          </a:xfrm>
        </p:grpSpPr>
        <p:sp>
          <p:nvSpPr>
            <p:cNvPr id="275" name=""/>
            <p:cNvSpPr/>
            <p:nvPr/>
          </p:nvSpPr>
          <p:spPr>
            <a:xfrm>
              <a:off x="4572000" y="5229360"/>
              <a:ext cx="144000" cy="144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1880" y="5248440"/>
              <a:ext cx="16254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亀城公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413160" y="6078600"/>
            <a:ext cx="2166480" cy="581040"/>
            <a:chOff x="3413160" y="6078600"/>
            <a:chExt cx="2166480" cy="581040"/>
          </a:xfrm>
        </p:grpSpPr>
        <p:sp>
          <p:nvSpPr>
            <p:cNvPr id="278" name=""/>
            <p:cNvSpPr/>
            <p:nvPr/>
          </p:nvSpPr>
          <p:spPr>
            <a:xfrm>
              <a:off x="3413160" y="6515280"/>
              <a:ext cx="143280" cy="144360"/>
            </a:xfrm>
            <a:prstGeom prst="ellipse">
              <a:avLst/>
            </a:prstGeom>
            <a:solidFill>
              <a:srgbClr val="ffffff">
                <a:alpha val="5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10800" y="6078600"/>
              <a:ext cx="19688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ff"/>
                  </a:solidFill>
                  <a:latin typeface="Arial"/>
                </a:rPr>
                <a:t>乙戸沼公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2000" y="104760"/>
            <a:ext cx="19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4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B3-B2B2-4348-AD1D-B15B2BCF9C47}" type="slidenum">
              <a:t>18</a:t>
            </a:fld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240" y="2286000"/>
            <a:ext cx="4130640" cy="41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4267080" y="1371600"/>
          <a:ext cx="4448160" cy="2948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371600"/>
                    <a:ext cx="444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804960" y="1143000"/>
            <a:ext cx="277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相次ぐ、中心市街地の大型店舗の撤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土浦市内商業事業所数も減少傾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シャッター通り化するアーケード商店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増加する空き店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94720" y="4419720"/>
            <a:ext cx="2222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上高津地区へのイオン建設計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郊外型大型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　　新治ショッピングセンター「さん・あぴお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　　「ジョイフル本田荒川沖店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　　「ドン・キホーテパウつちうらきた店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ロードサイドショ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59680" y="655308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（土浦駅前北地区市街地意開発事業－まちづくり調査推進計画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209680" y="3352680"/>
            <a:ext cx="914400" cy="990720"/>
          </a:xfrm>
          <a:prstGeom prst="line">
            <a:avLst/>
          </a:prstGeom>
          <a:ln w="69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333440" y="2793960"/>
            <a:ext cx="1955880" cy="2696040"/>
            <a:chOff x="1333440" y="2793960"/>
            <a:chExt cx="1955880" cy="2696040"/>
          </a:xfrm>
        </p:grpSpPr>
        <p:sp>
          <p:nvSpPr>
            <p:cNvPr id="289" name=""/>
            <p:cNvSpPr/>
            <p:nvPr/>
          </p:nvSpPr>
          <p:spPr>
            <a:xfrm rot="1326600">
              <a:off x="1579320" y="4356000"/>
              <a:ext cx="930240" cy="685800"/>
            </a:xfrm>
            <a:prstGeom prst="rect">
              <a:avLst/>
            </a:prstGeom>
            <a:solidFill>
              <a:srgbClr val="3366ff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33440" y="2793960"/>
              <a:ext cx="1955880" cy="660600"/>
            </a:xfrm>
            <a:custGeom>
              <a:avLst/>
              <a:gdLst/>
              <a:ahLst/>
              <a:rect l="l" t="t" r="r" b="b"/>
              <a:pathLst>
                <a:path w="1232" h="416">
                  <a:moveTo>
                    <a:pt x="24" y="256"/>
                  </a:moveTo>
                  <a:cubicBezTo>
                    <a:pt x="48" y="280"/>
                    <a:pt x="176" y="328"/>
                    <a:pt x="264" y="352"/>
                  </a:cubicBezTo>
                  <a:cubicBezTo>
                    <a:pt x="352" y="376"/>
                    <a:pt x="480" y="392"/>
                    <a:pt x="552" y="400"/>
                  </a:cubicBezTo>
                  <a:cubicBezTo>
                    <a:pt x="624" y="408"/>
                    <a:pt x="632" y="416"/>
                    <a:pt x="696" y="400"/>
                  </a:cubicBezTo>
                  <a:cubicBezTo>
                    <a:pt x="760" y="384"/>
                    <a:pt x="872" y="336"/>
                    <a:pt x="936" y="304"/>
                  </a:cubicBezTo>
                  <a:cubicBezTo>
                    <a:pt x="1000" y="272"/>
                    <a:pt x="1040" y="232"/>
                    <a:pt x="1080" y="208"/>
                  </a:cubicBezTo>
                  <a:cubicBezTo>
                    <a:pt x="1120" y="184"/>
                    <a:pt x="1152" y="176"/>
                    <a:pt x="1176" y="160"/>
                  </a:cubicBezTo>
                  <a:cubicBezTo>
                    <a:pt x="1200" y="144"/>
                    <a:pt x="1216" y="128"/>
                    <a:pt x="1224" y="112"/>
                  </a:cubicBezTo>
                  <a:cubicBezTo>
                    <a:pt x="1232" y="96"/>
                    <a:pt x="1232" y="80"/>
                    <a:pt x="1224" y="64"/>
                  </a:cubicBezTo>
                  <a:cubicBezTo>
                    <a:pt x="1216" y="48"/>
                    <a:pt x="1216" y="0"/>
                    <a:pt x="1176" y="16"/>
                  </a:cubicBezTo>
                  <a:cubicBezTo>
                    <a:pt x="1136" y="32"/>
                    <a:pt x="1040" y="120"/>
                    <a:pt x="984" y="160"/>
                  </a:cubicBezTo>
                  <a:cubicBezTo>
                    <a:pt x="928" y="200"/>
                    <a:pt x="880" y="232"/>
                    <a:pt x="840" y="256"/>
                  </a:cubicBezTo>
                  <a:cubicBezTo>
                    <a:pt x="800" y="280"/>
                    <a:pt x="808" y="296"/>
                    <a:pt x="744" y="304"/>
                  </a:cubicBezTo>
                  <a:cubicBezTo>
                    <a:pt x="680" y="312"/>
                    <a:pt x="560" y="320"/>
                    <a:pt x="456" y="304"/>
                  </a:cubicBezTo>
                  <a:cubicBezTo>
                    <a:pt x="352" y="288"/>
                    <a:pt x="192" y="216"/>
                    <a:pt x="120" y="208"/>
                  </a:cubicBezTo>
                  <a:cubicBezTo>
                    <a:pt x="48" y="200"/>
                    <a:pt x="0" y="232"/>
                    <a:pt x="24" y="256"/>
                  </a:cubicBezTo>
                  <a:close/>
                </a:path>
              </a:pathLst>
            </a:custGeom>
            <a:solidFill>
              <a:srgbClr val="3366ff">
                <a:alpha val="4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290600">
              <a:off x="2796840" y="4591080"/>
              <a:ext cx="231840" cy="887400"/>
            </a:xfrm>
            <a:prstGeom prst="rect">
              <a:avLst/>
            </a:prstGeom>
            <a:solidFill>
              <a:srgbClr val="3366ff">
                <a:alpha val="4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3880" y="3069720"/>
            <a:ext cx="2644560" cy="1415160"/>
            <a:chOff x="713880" y="3069720"/>
            <a:chExt cx="2644560" cy="1415160"/>
          </a:xfrm>
        </p:grpSpPr>
        <p:grpSp>
          <p:nvGrpSpPr>
            <p:cNvPr id="293" name=""/>
            <p:cNvGrpSpPr/>
            <p:nvPr/>
          </p:nvGrpSpPr>
          <p:grpSpPr>
            <a:xfrm>
              <a:off x="2517120" y="4155480"/>
              <a:ext cx="330120" cy="329400"/>
              <a:chOff x="2517120" y="4155480"/>
              <a:chExt cx="330120" cy="329400"/>
            </a:xfrm>
          </p:grpSpPr>
          <p:sp>
            <p:nvSpPr>
              <p:cNvPr id="294" name=""/>
              <p:cNvSpPr/>
              <p:nvPr/>
            </p:nvSpPr>
            <p:spPr>
              <a:xfrm rot="2716800">
                <a:off x="2640960" y="4133160"/>
                <a:ext cx="7560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8116800">
                <a:off x="2648160" y="4127040"/>
                <a:ext cx="7596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13880" y="3069720"/>
              <a:ext cx="330120" cy="329400"/>
              <a:chOff x="713880" y="3069720"/>
              <a:chExt cx="330120" cy="329400"/>
            </a:xfrm>
          </p:grpSpPr>
          <p:sp>
            <p:nvSpPr>
              <p:cNvPr id="297" name=""/>
              <p:cNvSpPr/>
              <p:nvPr/>
            </p:nvSpPr>
            <p:spPr>
              <a:xfrm rot="2716800">
                <a:off x="837720" y="3047400"/>
                <a:ext cx="7560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8116800">
                <a:off x="844920" y="3041280"/>
                <a:ext cx="7596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323360" y="3298320"/>
              <a:ext cx="330120" cy="329400"/>
              <a:chOff x="1323360" y="3298320"/>
              <a:chExt cx="330120" cy="329400"/>
            </a:xfrm>
          </p:grpSpPr>
          <p:sp>
            <p:nvSpPr>
              <p:cNvPr id="300" name=""/>
              <p:cNvSpPr/>
              <p:nvPr/>
            </p:nvSpPr>
            <p:spPr>
              <a:xfrm rot="2716800">
                <a:off x="1447200" y="3276000"/>
                <a:ext cx="7560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116800">
                <a:off x="1454400" y="3269880"/>
                <a:ext cx="7596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466720" y="3374280"/>
              <a:ext cx="329760" cy="329760"/>
              <a:chOff x="2466720" y="3374280"/>
              <a:chExt cx="329760" cy="329760"/>
            </a:xfrm>
          </p:grpSpPr>
          <p:sp>
            <p:nvSpPr>
              <p:cNvPr id="303" name=""/>
              <p:cNvSpPr/>
              <p:nvPr/>
            </p:nvSpPr>
            <p:spPr>
              <a:xfrm rot="2716800">
                <a:off x="2590560" y="3352680"/>
                <a:ext cx="7596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8116800">
                <a:off x="2597040" y="3345480"/>
                <a:ext cx="75960" cy="381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028320" y="3069720"/>
              <a:ext cx="330120" cy="329400"/>
              <a:chOff x="3028320" y="3069720"/>
              <a:chExt cx="330120" cy="329400"/>
            </a:xfrm>
          </p:grpSpPr>
          <p:sp>
            <p:nvSpPr>
              <p:cNvPr id="306" name=""/>
              <p:cNvSpPr/>
              <p:nvPr/>
            </p:nvSpPr>
            <p:spPr>
              <a:xfrm rot="2716800">
                <a:off x="3152160" y="3047400"/>
                <a:ext cx="7560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8116800">
                <a:off x="3159360" y="3041280"/>
                <a:ext cx="7596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2392200" y="-287280"/>
            <a:ext cx="282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00360" y="3492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商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E2A-18AA-4EFB-BD02-70C29596A7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１３４９９７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平成２７年をピークに減少傾向にあ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１世帯あたりの平均人員は減少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→</a:t>
            </a: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核家族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少人口が減少し老年人口が増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→</a:t>
            </a: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少子高齢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昼間人口が夜間人口を上回っ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32320" y="1623960"/>
          <a:ext cx="423216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2320" y="1623960"/>
                    <a:ext cx="4232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432320" y="1698480"/>
          <a:ext cx="416412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2320" y="1698480"/>
                    <a:ext cx="41641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91184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00720" y="1773360"/>
          <a:ext cx="4279680" cy="287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773360"/>
                    <a:ext cx="42796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427640" y="1724040"/>
          <a:ext cx="4394160" cy="3000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1724040"/>
                    <a:ext cx="43941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CC1-8DD2-447B-93E6-A893C4E60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2-5</a:t>
            </a: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社会福祉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ad639"/>
                </a:solidFill>
                <a:latin typeface="Arial"/>
              </a:rPr>
              <a:t>児童福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浦市子育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支援総合計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浦市母子保健計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つちうら新こどもプラ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ad639"/>
                </a:solidFill>
                <a:latin typeface="Arial"/>
              </a:rPr>
              <a:t>高齢者福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浦市老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保健福祉計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浦市ふれあ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ネットワークプラ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1557360"/>
            <a:ext cx="4032360" cy="46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43280" y="1552680"/>
            <a:ext cx="4032360" cy="46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404-30C1-4E33-9B36-D04DA9A231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第６次土浦市総合計画　概要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１、心豊かな市民生活の創出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２、うるおいとやすらぎのある環境の創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３、活力あふれる「まち」の実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339966"/>
                </a:solidFill>
                <a:latin typeface="Arial"/>
              </a:rPr>
              <a:t>生き生きと輝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339966"/>
                </a:solidFill>
                <a:latin typeface="Arial"/>
              </a:rPr>
              <a:t>　人と環境にやさしいまち　土浦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　　　　　　　　　　　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716280"/>
            <a:ext cx="100800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927-1E0A-40BA-BEE2-F62079937C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第６次土浦市総合計画</a:t>
            </a:r>
            <a:br>
              <a:rPr sz="5400"/>
            </a:b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　　　　　問題点の抽出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１、少子高齢化と人口問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２、中心市街地の衰退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３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周辺都市との連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72E-1F33-49AF-A89A-2DBDE927A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１、少子高齢化と人口問題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388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の人口フレーム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万人、将来展望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万人に設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過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間の人口増加率は小さい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現在、土浦市においても少子高齢化問題が進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平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を境に、流入人口は減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03280" y="182736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年間で人口約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万人の増加を見込むが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　見直しが必要なのでは・・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28464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F4B-E82B-4F9F-B950-CD194D021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、中心市街地の衰退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388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総合計画では中心地、すなわち駅周辺の開発を第一に目指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土浦は車社会化しており、駅前でなくロードサイドの大型店利用者が増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X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完成に伴い、常磐線の利用者の減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03280" y="182736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　　駅前にこだわらず、郊外の商業地・商店街の活性化も視野に入れるべきでは・・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328464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E21-28E7-49A8-A92E-26B6DB9CA7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３、周辺都市との連携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887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つくば市・牛久市と共に広域連携拠点に指定されている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周辺都市との連携強化への具体的手法の欠如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03280" y="164304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　現状ではまだ周辺主要都市との連携は不十分であり、新たな取り組みが必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3373560"/>
            <a:ext cx="79200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5AB-9FB6-40B8-9D02-A4483405FF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今後の展望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9109080" cy="6832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492360" y="2349360"/>
            <a:ext cx="53276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やすいぞ土浦！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76720" y="1052640"/>
            <a:ext cx="5543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ＭＳ Ｐゴシック"/>
              </a:rPr>
              <a:t>安い・易い・康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D08-801D-43FD-A885-B99849D0F8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822920" y="2565360"/>
            <a:ext cx="4321080" cy="316872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56360" y="3213000"/>
            <a:ext cx="2158920" cy="215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ＭＳ Ｐゴシック"/>
              </a:rPr>
              <a:t>康</a:t>
            </a:r>
            <a:endParaRPr b="0" lang="en-US" sz="18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38" name=""/>
          <p:cNvSpPr/>
          <p:nvPr/>
        </p:nvSpPr>
        <p:spPr>
          <a:xfrm>
            <a:off x="108000" y="3429000"/>
            <a:ext cx="4321080" cy="316872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03280" y="4076640"/>
            <a:ext cx="2158920" cy="215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ＭＳ Ｐゴシック"/>
              </a:rPr>
              <a:t>易</a:t>
            </a:r>
            <a:endParaRPr b="0" lang="en-US" sz="18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436572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・住みやすいと感じるま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・自動車も歩行者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動きやすいま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0"/>
            <a:ext cx="4321080" cy="316872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987640" y="647640"/>
            <a:ext cx="2158920" cy="215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ＭＳ Ｐゴシック"/>
              </a:rPr>
              <a:t>安</a:t>
            </a:r>
            <a:endParaRPr b="0" lang="en-US" sz="1800" spc="1" strike="noStrike">
              <a:ln w="0">
                <a:noFill/>
              </a:ln>
              <a:solidFill>
                <a:srgbClr val="ffffff">
                  <a:alpha val="80000"/>
                </a:srgbClr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43" name=""/>
          <p:cNvSpPr/>
          <p:nvPr/>
        </p:nvSpPr>
        <p:spPr>
          <a:xfrm>
            <a:off x="1763640" y="90792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・安心して暮らせ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　防犯・防災性の高いま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・気安く来られ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観光・商業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364500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・高齢者も健康的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　　　　　　　過ごせるま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9A7-51D8-4BE3-9003-018F9B94B8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今後の展望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交通：より効果的な交通体系を整備し、また安全性にも配慮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農業：新治地区を中心とした農業の促進を図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工業：更なる物流の増加を図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観光：高齢者をターゲットに更なる観光客増加を図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商業：中心地・郊外大型店舗の均衡ある発展を図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1880" y="178272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地区ごとに重点的な方針・政策を定め、地区同士の連携・協力を促進す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00720" y="3141720"/>
            <a:ext cx="9349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D62-3712-4C89-AEBA-18A218DDAE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4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56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現況道路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72404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南北方向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常磐自動車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国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819520"/>
            <a:ext cx="201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東西方向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国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国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11480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土浦笠間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土浦竜ヶ崎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土浦稲敷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土浦境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土浦つくば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つくば千代田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38560" y="2239920"/>
            <a:ext cx="5905440" cy="461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38560" y="2239920"/>
            <a:ext cx="5905440" cy="461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41800" y="2241720"/>
            <a:ext cx="5902200" cy="461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38560" y="2239920"/>
            <a:ext cx="5905440" cy="461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21320" y="1371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85ee"/>
                </a:solidFill>
                <a:latin typeface="Arial"/>
              </a:rPr>
              <a:t>広域骨格道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0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85ee"/>
                </a:solidFill>
                <a:latin typeface="Arial"/>
              </a:rPr>
              <a:t>主要地方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交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7EC-AFB7-4E86-8499-125044D55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643280" y="333360"/>
            <a:ext cx="4364280" cy="6172200"/>
            <a:chOff x="4643280" y="333360"/>
            <a:chExt cx="4364280" cy="6172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4643280" y="333360"/>
              <a:ext cx="4364280" cy="6172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716360" y="2781360"/>
              <a:ext cx="3672000" cy="3024000"/>
              <a:chOff x="4716360" y="2781360"/>
              <a:chExt cx="3672000" cy="30240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716360" y="2781360"/>
                <a:ext cx="3672000" cy="3024000"/>
                <a:chOff x="4716360" y="2781360"/>
                <a:chExt cx="3672000" cy="3024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380360" y="3860640"/>
                  <a:ext cx="1008000" cy="289080"/>
                </a:xfrm>
                <a:prstGeom prst="wedgeRoundRectCallout">
                  <a:avLst>
                    <a:gd name="adj1" fmla="val -85592"/>
                    <a:gd name="adj2" fmla="val -165935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354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716360" y="5516640"/>
                  <a:ext cx="865440" cy="288720"/>
                </a:xfrm>
                <a:prstGeom prst="wedgeRoundRectCallout">
                  <a:avLst>
                    <a:gd name="adj1" fmla="val 81745"/>
                    <a:gd name="adj2" fmla="val -192856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6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9640" y="3573360"/>
                  <a:ext cx="1008000" cy="289080"/>
                </a:xfrm>
                <a:prstGeom prst="wedgeRoundRectCallout">
                  <a:avLst>
                    <a:gd name="adj1" fmla="val 95356"/>
                    <a:gd name="adj2" fmla="val -54393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125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020000" y="2781360"/>
                  <a:ext cx="865080" cy="288720"/>
                </a:xfrm>
                <a:prstGeom prst="wedgeRoundRectCallout">
                  <a:avLst>
                    <a:gd name="adj1" fmla="val -113120"/>
                    <a:gd name="adj2" fmla="val 169782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6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5219640" y="2781360"/>
                <a:ext cx="2665440" cy="1081080"/>
                <a:chOff x="5219640" y="2781360"/>
                <a:chExt cx="2665440" cy="1081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020000" y="2781360"/>
                  <a:ext cx="865080" cy="288720"/>
                </a:xfrm>
                <a:prstGeom prst="wedgeRoundRectCallout">
                  <a:avLst>
                    <a:gd name="adj1" fmla="val -83944"/>
                    <a:gd name="adj2" fmla="val 26375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6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19640" y="3573360"/>
                  <a:ext cx="1008000" cy="289080"/>
                </a:xfrm>
                <a:prstGeom prst="wedgeRoundRectCallout">
                  <a:avLst>
                    <a:gd name="adj1" fmla="val 96930"/>
                    <a:gd name="adj2" fmla="val 135712"/>
                    <a:gd name="adj3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国道</a:t>
                  </a:r>
                  <a:r>
                    <a:rPr b="1" lang="en-US" sz="1200" spc="-1" strike="noStrike">
                      <a:solidFill>
                        <a:srgbClr val="003399"/>
                      </a:solidFill>
                      <a:latin typeface="Arial"/>
                    </a:rPr>
                    <a:t>125 </a:t>
                  </a:r>
                  <a:r>
                    <a:rPr b="1" lang="zh-CN" sz="1200" spc="-1" strike="noStrike">
                      <a:solidFill>
                        <a:srgbClr val="003399"/>
                      </a:solidFill>
                      <a:latin typeface="Arial"/>
                    </a:rPr>
                    <a:t>号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" name=""/>
          <p:cNvGrpSpPr/>
          <p:nvPr/>
        </p:nvGrpSpPr>
        <p:grpSpPr>
          <a:xfrm>
            <a:off x="4643280" y="333360"/>
            <a:ext cx="4362480" cy="6172200"/>
            <a:chOff x="4643280" y="333360"/>
            <a:chExt cx="4362480" cy="61722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4643280" y="333360"/>
              <a:ext cx="4362480" cy="6172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4691160" y="1998720"/>
              <a:ext cx="3355920" cy="4178160"/>
              <a:chOff x="4691160" y="1998720"/>
              <a:chExt cx="3355920" cy="4178160"/>
            </a:xfrm>
          </p:grpSpPr>
          <p:sp>
            <p:nvSpPr>
              <p:cNvPr id="80" name=""/>
              <p:cNvSpPr/>
              <p:nvPr/>
            </p:nvSpPr>
            <p:spPr>
              <a:xfrm>
                <a:off x="7039080" y="4519440"/>
                <a:ext cx="1008000" cy="289080"/>
              </a:xfrm>
              <a:prstGeom prst="wedgeRoundRectCallout">
                <a:avLst>
                  <a:gd name="adj1" fmla="val -128111"/>
                  <a:gd name="adj2" fmla="val -20879"/>
                  <a:gd name="adj3" fmla="val 1666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国道</a:t>
                </a:r>
                <a:r>
                  <a:rPr b="1" lang="en-US" sz="1200" spc="-1" strike="noStrike">
                    <a:solidFill>
                      <a:srgbClr val="f0e500"/>
                    </a:solidFill>
                    <a:latin typeface="Arial"/>
                  </a:rPr>
                  <a:t>354 </a:t>
                </a: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91160" y="5887800"/>
                <a:ext cx="865440" cy="289080"/>
              </a:xfrm>
              <a:prstGeom prst="wedgeRoundRectCallout">
                <a:avLst>
                  <a:gd name="adj1" fmla="val 76606"/>
                  <a:gd name="adj2" fmla="val -211537"/>
                  <a:gd name="adj3" fmla="val 1666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国道</a:t>
                </a:r>
                <a:r>
                  <a:rPr b="1" lang="en-US" sz="1200" spc="-1" strike="noStrike">
                    <a:solidFill>
                      <a:srgbClr val="f0e500"/>
                    </a:solidFill>
                    <a:latin typeface="Arial"/>
                  </a:rPr>
                  <a:t>6 </a:t>
                </a: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83520" y="4016160"/>
                <a:ext cx="1008000" cy="289080"/>
              </a:xfrm>
              <a:prstGeom prst="wedgeRoundRectCallout">
                <a:avLst>
                  <a:gd name="adj1" fmla="val 72675"/>
                  <a:gd name="adj2" fmla="val -208240"/>
                  <a:gd name="adj3" fmla="val 1666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3399"/>
                    </a:solidFill>
                    <a:latin typeface="Arial"/>
                  </a:rPr>
                  <a:t>国道</a:t>
                </a:r>
                <a:r>
                  <a:rPr b="1" lang="en-US" sz="1200" spc="-1" strike="noStrike">
                    <a:solidFill>
                      <a:srgbClr val="003399"/>
                    </a:solidFill>
                    <a:latin typeface="Arial"/>
                  </a:rPr>
                  <a:t>125 </a:t>
                </a:r>
                <a:r>
                  <a:rPr b="1" lang="zh-CN" sz="1200" spc="-1" strike="noStrike">
                    <a:solidFill>
                      <a:srgbClr val="003399"/>
                    </a:solidFill>
                    <a:latin typeface="Arial"/>
                  </a:rPr>
                  <a:t>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4800" y="1998720"/>
                <a:ext cx="1225440" cy="288720"/>
              </a:xfrm>
              <a:prstGeom prst="wedgeRoundRectCallout">
                <a:avLst>
                  <a:gd name="adj1" fmla="val 28884"/>
                  <a:gd name="adj2" fmla="val 169782"/>
                  <a:gd name="adj3" fmla="val 1666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常磐自動車道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83520" y="4016160"/>
                <a:ext cx="1008000" cy="289080"/>
              </a:xfrm>
              <a:prstGeom prst="wedgeRoundRectCallout">
                <a:avLst>
                  <a:gd name="adj1" fmla="val 67638"/>
                  <a:gd name="adj2" fmla="val 24175"/>
                  <a:gd name="adj3" fmla="val 1666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国道</a:t>
                </a:r>
                <a:r>
                  <a:rPr b="1" lang="en-US" sz="1200" spc="-1" strike="noStrike">
                    <a:solidFill>
                      <a:srgbClr val="f0e500"/>
                    </a:solidFill>
                    <a:latin typeface="Arial"/>
                  </a:rPr>
                  <a:t>125 </a:t>
                </a:r>
                <a:r>
                  <a:rPr b="1" lang="zh-CN" sz="1200" spc="-1" strike="noStrike">
                    <a:solidFill>
                      <a:srgbClr val="f0e500"/>
                    </a:solidFill>
                    <a:latin typeface="Arial"/>
                  </a:rPr>
                  <a:t>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870120" y="955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自動車交通の実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560" y="183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混雑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8440" y="2286000"/>
            <a:ext cx="2731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土浦駅周辺で混雑度が高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県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号で混雑が目立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国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号では混雑度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超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える箇所が部分的に見られ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南北方向の混雑が激し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⇒通過交通が多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40800" y="4869000"/>
            <a:ext cx="2477160" cy="1803960"/>
            <a:chOff x="640800" y="4869000"/>
            <a:chExt cx="2477160" cy="1803960"/>
          </a:xfrm>
        </p:grpSpPr>
        <p:sp>
          <p:nvSpPr>
            <p:cNvPr id="89" name=""/>
            <p:cNvSpPr/>
            <p:nvPr/>
          </p:nvSpPr>
          <p:spPr>
            <a:xfrm>
              <a:off x="640800" y="4869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平均速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39520" y="5359320"/>
              <a:ext cx="1378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常磐自動車道以外では、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平均速度が低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交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7A2-4C9A-4530-AE52-3328C23563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0120" y="982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交通事故発生状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363680"/>
            <a:ext cx="6095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近年再び増加傾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歳：幹線道路以外で事故多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歳以上：事故発生が各市街地に集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市民の声：生活道路への不満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　　　　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都市計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よ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952880" y="457200"/>
          <a:ext cx="4191120" cy="27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57200"/>
                    <a:ext cx="419112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7200" y="32767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県内でも交通事故死傷者率が上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685e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3886200"/>
            <a:ext cx="4191120" cy="2778120"/>
            <a:chOff x="380880" y="3886200"/>
            <a:chExt cx="4191120" cy="2778120"/>
          </a:xfrm>
        </p:grpSpPr>
        <p:graphicFrame>
          <p:nvGraphicFramePr>
            <p:cNvPr id="98" name=""/>
            <p:cNvGraphicFramePr/>
            <p:nvPr/>
          </p:nvGraphicFramePr>
          <p:xfrm>
            <a:off x="380880" y="3886200"/>
            <a:ext cx="4191120" cy="27781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886200"/>
                      <a:ext cx="4191120" cy="27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2755800" y="4430880"/>
              <a:ext cx="76320" cy="13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952880" y="3886200"/>
            <a:ext cx="4191120" cy="2779560"/>
            <a:chOff x="4952880" y="3886200"/>
            <a:chExt cx="4191120" cy="2779560"/>
          </a:xfrm>
        </p:grpSpPr>
        <p:graphicFrame>
          <p:nvGraphicFramePr>
            <p:cNvPr id="102" name=""/>
            <p:cNvGraphicFramePr/>
            <p:nvPr/>
          </p:nvGraphicFramePr>
          <p:xfrm>
            <a:off x="4952880" y="3886200"/>
            <a:ext cx="4191120" cy="2779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3886200"/>
                      <a:ext cx="419112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6835680" y="4483080"/>
              <a:ext cx="228600" cy="1558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交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841-0460-462B-933E-033DA60237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562720" y="2286000"/>
          <a:ext cx="350496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3504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408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公共交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1316160"/>
            <a:ext cx="6096240" cy="2608920"/>
            <a:chOff x="838080" y="1316160"/>
            <a:chExt cx="6096240" cy="2608920"/>
          </a:xfrm>
        </p:grpSpPr>
        <p:sp>
          <p:nvSpPr>
            <p:cNvPr id="110" name=""/>
            <p:cNvSpPr/>
            <p:nvPr/>
          </p:nvSpPr>
          <p:spPr>
            <a:xfrm>
              <a:off x="853560" y="1316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鉄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1696680"/>
              <a:ext cx="60962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市内鉄道駅利用者数は減少傾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要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：中心市街地衰退の影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要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開業による影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要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：モータリゼーションの影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92000" y="3130560"/>
            <a:ext cx="6095880" cy="2609280"/>
            <a:chOff x="792000" y="3130560"/>
            <a:chExt cx="6095880" cy="2609280"/>
          </a:xfrm>
        </p:grpSpPr>
        <p:sp>
          <p:nvSpPr>
            <p:cNvPr id="113" name=""/>
            <p:cNvSpPr/>
            <p:nvPr/>
          </p:nvSpPr>
          <p:spPr>
            <a:xfrm>
              <a:off x="792720" y="3130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バ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000" y="3511440"/>
              <a:ext cx="60958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JR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バス、関東鉄道バスともに減少傾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要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：不十分な便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要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：モータリゼーションの影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一方、「キララちゃん」乗客数は増加傾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2000" y="4838760"/>
            <a:ext cx="6095880" cy="2914200"/>
            <a:chOff x="792000" y="4838760"/>
            <a:chExt cx="6095880" cy="2914200"/>
          </a:xfrm>
        </p:grpSpPr>
        <p:sp>
          <p:nvSpPr>
            <p:cNvPr id="116" name=""/>
            <p:cNvSpPr/>
            <p:nvPr/>
          </p:nvSpPr>
          <p:spPr>
            <a:xfrm>
              <a:off x="929880" y="4838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水上交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2000" y="5219640"/>
              <a:ext cx="60958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遊覧船のみの水上交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季節定期航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利用率は十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にとどまり資源を</a:t>
              </a:r>
              <a:br>
                <a:rPr sz="2000"/>
              </a:b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　活用できていない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夏に需要が集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5562720" y="0"/>
          <a:ext cx="3504960" cy="2322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0"/>
                    <a:ext cx="3504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562720" y="2286000"/>
          <a:ext cx="3504960" cy="23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286000"/>
                    <a:ext cx="3504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4572000"/>
          <a:ext cx="3504960" cy="2324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572000"/>
                    <a:ext cx="3504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交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440-2208-47C0-997D-722CCF5F1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37280" y="1352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交通のまと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09280" y="1809720"/>
            <a:ext cx="6731280" cy="1526040"/>
            <a:chOff x="809280" y="1809720"/>
            <a:chExt cx="6731280" cy="1526040"/>
          </a:xfrm>
        </p:grpSpPr>
        <p:sp>
          <p:nvSpPr>
            <p:cNvPr id="127" name=""/>
            <p:cNvSpPr/>
            <p:nvPr/>
          </p:nvSpPr>
          <p:spPr>
            <a:xfrm>
              <a:off x="809280" y="1809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道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840" y="2327040"/>
              <a:ext cx="670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要幹線道路の多く、中心市街地で道路混雑が激し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南北方向の幹線道路で混雑度が高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38080" y="3257640"/>
            <a:ext cx="6705720" cy="1465920"/>
            <a:chOff x="838080" y="3257640"/>
            <a:chExt cx="6705720" cy="1465920"/>
          </a:xfrm>
        </p:grpSpPr>
        <p:sp>
          <p:nvSpPr>
            <p:cNvPr id="130" name=""/>
            <p:cNvSpPr/>
            <p:nvPr/>
          </p:nvSpPr>
          <p:spPr>
            <a:xfrm>
              <a:off x="931320" y="3257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公共交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3714840"/>
              <a:ext cx="670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常磐線、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JR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バス、関東鉄道バスの利用者減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街づくりバス「キララちゃん」の利用者増加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水上交通の低利用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38080" y="4933800"/>
            <a:ext cx="6705720" cy="1161000"/>
            <a:chOff x="838080" y="4933800"/>
            <a:chExt cx="6705720" cy="1161000"/>
          </a:xfrm>
        </p:grpSpPr>
        <p:sp>
          <p:nvSpPr>
            <p:cNvPr id="133" name=""/>
            <p:cNvSpPr/>
            <p:nvPr/>
          </p:nvSpPr>
          <p:spPr>
            <a:xfrm>
              <a:off x="870480" y="4933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安全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5391000"/>
              <a:ext cx="670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市街地等での歩行環境の安全性欠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2685ee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交通事故死傷者率が高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2000" y="104760"/>
            <a:ext cx="17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交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306-3B09-478A-8618-52160FBAD5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農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40360" y="3789360"/>
          <a:ext cx="4608360" cy="24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789360"/>
                    <a:ext cx="460836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64000" y="189000"/>
          <a:ext cx="2737080" cy="168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89000"/>
                    <a:ext cx="27370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364000" y="1990800"/>
          <a:ext cx="2811600" cy="1590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1990800"/>
                    <a:ext cx="281160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95280" y="3789360"/>
          <a:ext cx="3456000" cy="242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3789360"/>
                    <a:ext cx="3456000" cy="24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154240" y="1222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農家数、農業人口、経営耕地面積ともに減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2014560"/>
            <a:ext cx="285840" cy="576360"/>
          </a:xfrm>
          <a:prstGeom prst="downArrow">
            <a:avLst>
              <a:gd name="adj1" fmla="val 50000"/>
              <a:gd name="adj2" fmla="val 50409"/>
            </a:avLst>
          </a:prstGeom>
          <a:solidFill>
            <a:srgbClr val="f0e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200" y="26622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小規模農家は撤退、大規模農家だけ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経営を存続していると考えら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25480"/>
            <a:ext cx="792000" cy="216000"/>
          </a:xfrm>
          <a:prstGeom prst="leftRightArrow">
            <a:avLst>
              <a:gd name="adj1" fmla="val 50000"/>
              <a:gd name="adj2" fmla="val 72994"/>
            </a:avLst>
          </a:prstGeom>
          <a:solidFill>
            <a:srgbClr val="f0e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29800" y="1654200"/>
            <a:ext cx="19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３０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以上の農家は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39E-36BE-4DFA-9F8C-42AEC677E75B}" type="slidenum">
              <a:t>8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写真"/>
          <p:cNvPicPr/>
          <p:nvPr/>
        </p:nvPicPr>
        <p:blipFill>
          <a:blip r:embed="rId1"/>
          <a:stretch/>
        </p:blipFill>
        <p:spPr>
          <a:xfrm>
            <a:off x="4572000" y="692280"/>
            <a:ext cx="4248000" cy="26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6840" y="105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土浦の特産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71640" y="1596960"/>
            <a:ext cx="3024000" cy="1236600"/>
            <a:chOff x="971640" y="1596960"/>
            <a:chExt cx="3024000" cy="1236600"/>
          </a:xfrm>
        </p:grpSpPr>
        <p:sp>
          <p:nvSpPr>
            <p:cNvPr id="153" name=""/>
            <p:cNvSpPr/>
            <p:nvPr/>
          </p:nvSpPr>
          <p:spPr>
            <a:xfrm>
              <a:off x="971640" y="1596960"/>
              <a:ext cx="3024000" cy="12366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6235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6760" y="18126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レンコ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8360" y="4005360"/>
            <a:ext cx="4103640" cy="1655640"/>
            <a:chOff x="468360" y="4005360"/>
            <a:chExt cx="4103640" cy="1655640"/>
          </a:xfrm>
        </p:grpSpPr>
        <p:sp>
          <p:nvSpPr>
            <p:cNvPr id="156" name=""/>
            <p:cNvSpPr/>
            <p:nvPr/>
          </p:nvSpPr>
          <p:spPr>
            <a:xfrm>
              <a:off x="468360" y="4005360"/>
              <a:ext cx="4103640" cy="1655640"/>
            </a:xfrm>
            <a:prstGeom prst="flowChartAlternateProcess">
              <a:avLst/>
            </a:prstGeom>
            <a:solidFill>
              <a:srgbClr val="ffcc00">
                <a:alpha val="47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5520" y="4221000"/>
              <a:ext cx="274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全国１位の生産量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全国で３割、東京市場では９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のシェアを誇る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516720" y="357336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48360" y="4365720"/>
            <a:ext cx="3240000" cy="1295280"/>
            <a:chOff x="5148360" y="4365720"/>
            <a:chExt cx="3240000" cy="1295280"/>
          </a:xfrm>
        </p:grpSpPr>
        <p:sp>
          <p:nvSpPr>
            <p:cNvPr id="160" name=""/>
            <p:cNvSpPr/>
            <p:nvPr/>
          </p:nvSpPr>
          <p:spPr>
            <a:xfrm>
              <a:off x="5148360" y="4365720"/>
              <a:ext cx="3240000" cy="1295280"/>
            </a:xfrm>
            <a:prstGeom prst="flowChartAlternateProcess">
              <a:avLst/>
            </a:prstGeom>
            <a:solidFill>
              <a:srgbClr val="ff9900">
                <a:alpha val="5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7080" y="4365720"/>
              <a:ext cx="24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レンコン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レンコンパウダ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レンコンサブ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77512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加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9320" y="29941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作付面積４９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生産量８４３０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7480" y="104760"/>
            <a:ext cx="32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-3-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産業：農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F4D-FC1C-489D-B7B5-EA120FD7F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6:43:04Z</dcterms:created>
  <dc:creator>社会工学類</dc:creator>
  <dc:description/>
  <dc:language>en-US</dc:language>
  <cp:lastModifiedBy>社会工学類</cp:lastModifiedBy>
  <dcterms:modified xsi:type="dcterms:W3CDTF">2006-12-21T19:42:55Z</dcterms:modified>
  <cp:revision>23</cp:revision>
  <dc:subject/>
  <dc:title>Theme</dc:title>
</cp:coreProperties>
</file>