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3.png" ContentType="image/png"/>
  <Override PartName="/ppt/media/image24.wmf" ContentType="image/x-wmf"/>
  <Override PartName="/ppt/media/image2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4.wmf" ContentType="image/x-wmf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8.wmf" ContentType="image/x-wmf"/>
  <Override PartName="/ppt/media/image37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arrow.wav" ContentType="audio/x-wav"/>
  <Override PartName="/ppt/media/image1.wmf" ContentType="image/x-wmf"/>
  <Override PartName="/ppt/media/image38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1DD-A5AD-4A6D-898A-6A5AC03A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702-D9EC-4677-A6D0-FEEC670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F34-143E-484A-AF36-C89AC36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FF7-68B0-457C-B3E0-0EA54717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117-C1B9-4EB6-A9DA-E32D534C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44D-C823-408D-9E10-199BCD5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88F-4AF5-46FC-9555-182B291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904-2CD8-4DA2-A8C9-4097D4FA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CE2-89FB-4612-8B3F-16A187E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186-0019-4975-8EB0-56A5DDDB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63F-826E-43FE-B57C-C0ACEE59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B7E-5C61-4BDF-99F1-ED2E1249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A99A-21C3-4EDC-8C76-AE6C00415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hotos.yahoo.co.jp/ph/toshimasu_7/vwp?.dir=/75c6&amp;.dnm=d06c.jpg&amp;.src=ph&amp;.view=t&amp;.hires=t" TargetMode="External"/><Relationship Id="rId2" Type="http://schemas.openxmlformats.org/officeDocument/2006/relationships/image" Target="../media/image26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HG正楷書体-PRO"/>
              </a:rPr>
              <a:t>心都土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HG正楷書体-PRO"/>
              </a:rPr>
              <a:t>～ココロはずむ未来へ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3166920"/>
            <a:ext cx="619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班：林友美　大見一裕　安英伸　鈴木雄一朗　弓削宏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ＴＡ：松本立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781360"/>
            <a:ext cx="7993080" cy="71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6137280" y="1863720"/>
            <a:ext cx="3276720" cy="6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549360"/>
            <a:ext cx="741672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－１　中心市街地活性化計画　駅前ショッピングモール化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580000" y="2708280"/>
            <a:ext cx="1657440" cy="720720"/>
            <a:chOff x="5580000" y="2708280"/>
            <a:chExt cx="1657440" cy="720720"/>
          </a:xfrm>
        </p:grpSpPr>
        <p:sp>
          <p:nvSpPr>
            <p:cNvPr id="337" name=""/>
            <p:cNvSpPr/>
            <p:nvPr/>
          </p:nvSpPr>
          <p:spPr>
            <a:xfrm>
              <a:off x="5580000" y="2708280"/>
              <a:ext cx="1657440" cy="720720"/>
            </a:xfrm>
            <a:prstGeom prst="ellipse">
              <a:avLst/>
            </a:prstGeom>
            <a:solidFill>
              <a:srgbClr val="ff6600">
                <a:alpha val="4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0320" y="2851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ウラ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300720" y="3357720"/>
            <a:ext cx="1657080" cy="720720"/>
            <a:chOff x="6300720" y="3357720"/>
            <a:chExt cx="1657080" cy="720720"/>
          </a:xfrm>
        </p:grpSpPr>
        <p:sp>
          <p:nvSpPr>
            <p:cNvPr id="340" name=""/>
            <p:cNvSpPr/>
            <p:nvPr/>
          </p:nvSpPr>
          <p:spPr>
            <a:xfrm>
              <a:off x="6300720" y="3357720"/>
              <a:ext cx="1657080" cy="720720"/>
            </a:xfrm>
            <a:prstGeom prst="ellipse">
              <a:avLst/>
            </a:prstGeom>
            <a:solidFill>
              <a:srgbClr val="ccffcc">
                <a:alpha val="9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90600" y="3502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ウイン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116000" y="2852640"/>
            <a:ext cx="2087640" cy="720720"/>
            <a:chOff x="1116000" y="2852640"/>
            <a:chExt cx="2087640" cy="720720"/>
          </a:xfrm>
        </p:grpSpPr>
        <p:sp>
          <p:nvSpPr>
            <p:cNvPr id="343" name=""/>
            <p:cNvSpPr/>
            <p:nvPr/>
          </p:nvSpPr>
          <p:spPr>
            <a:xfrm>
              <a:off x="1116000" y="2852640"/>
              <a:ext cx="2087640" cy="720720"/>
            </a:xfrm>
            <a:prstGeom prst="ellipse">
              <a:avLst/>
            </a:prstGeom>
            <a:solidFill>
              <a:srgbClr val="ffccff">
                <a:alpha val="9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83560" y="2995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モール５０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484360" y="3716280"/>
            <a:ext cx="1512720" cy="647640"/>
            <a:chOff x="2484360" y="3716280"/>
            <a:chExt cx="1512720" cy="647640"/>
          </a:xfrm>
        </p:grpSpPr>
        <p:sp>
          <p:nvSpPr>
            <p:cNvPr id="346" name=""/>
            <p:cNvSpPr/>
            <p:nvPr/>
          </p:nvSpPr>
          <p:spPr>
            <a:xfrm>
              <a:off x="2484360" y="3716280"/>
              <a:ext cx="1512720" cy="647640"/>
            </a:xfrm>
            <a:prstGeom prst="ellipse">
              <a:avLst/>
            </a:prstGeom>
            <a:solidFill>
              <a:srgbClr val="0000ff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84680" y="3789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図書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276720" y="4581360"/>
            <a:ext cx="1657080" cy="720720"/>
            <a:chOff x="3276720" y="4581360"/>
            <a:chExt cx="1657080" cy="720720"/>
          </a:xfrm>
        </p:grpSpPr>
        <p:sp>
          <p:nvSpPr>
            <p:cNvPr id="349" name=""/>
            <p:cNvSpPr/>
            <p:nvPr/>
          </p:nvSpPr>
          <p:spPr>
            <a:xfrm>
              <a:off x="3276720" y="4581360"/>
              <a:ext cx="1657080" cy="720720"/>
            </a:xfrm>
            <a:prstGeom prst="ellipse">
              <a:avLst/>
            </a:prstGeom>
            <a:solidFill>
              <a:srgbClr val="c0c0c0">
                <a:alpha val="7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47960" y="4654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駐車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788000" y="3357720"/>
            <a:ext cx="1657080" cy="720720"/>
            <a:chOff x="4788000" y="3357720"/>
            <a:chExt cx="1657080" cy="720720"/>
          </a:xfrm>
        </p:grpSpPr>
        <p:sp>
          <p:nvSpPr>
            <p:cNvPr id="352" name=""/>
            <p:cNvSpPr/>
            <p:nvPr/>
          </p:nvSpPr>
          <p:spPr>
            <a:xfrm>
              <a:off x="4788000" y="3357720"/>
              <a:ext cx="1657080" cy="720720"/>
            </a:xfrm>
            <a:prstGeom prst="ellipse">
              <a:avLst/>
            </a:prstGeom>
            <a:solidFill>
              <a:srgbClr val="bbe0e3">
                <a:alpha val="9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9240" y="350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土浦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55640" y="1700280"/>
            <a:ext cx="7416720" cy="4680000"/>
          </a:xfrm>
          <a:prstGeom prst="ellipse">
            <a:avLst/>
          </a:prstGeom>
          <a:solidFill>
            <a:srgbClr val="ff00ff">
              <a:alpha val="2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826920" y="2060640"/>
            <a:ext cx="3386160" cy="520560"/>
            <a:chOff x="826920" y="2060640"/>
            <a:chExt cx="3386160" cy="520560"/>
          </a:xfrm>
        </p:grpSpPr>
        <p:sp>
          <p:nvSpPr>
            <p:cNvPr id="378" name=""/>
            <p:cNvSpPr/>
            <p:nvPr/>
          </p:nvSpPr>
          <p:spPr>
            <a:xfrm>
              <a:off x="826920" y="2060640"/>
              <a:ext cx="3386160" cy="5047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68800" y="206064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トランジットモー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716360" y="2046240"/>
            <a:ext cx="3311640" cy="520560"/>
            <a:chOff x="4716360" y="2046240"/>
            <a:chExt cx="3311640" cy="520560"/>
          </a:xfrm>
        </p:grpSpPr>
        <p:sp>
          <p:nvSpPr>
            <p:cNvPr id="381" name=""/>
            <p:cNvSpPr/>
            <p:nvPr/>
          </p:nvSpPr>
          <p:spPr>
            <a:xfrm>
              <a:off x="4716360" y="2060640"/>
              <a:ext cx="3311640" cy="5047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26640" y="204624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商店の店舗の調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76360" y="5661000"/>
            <a:ext cx="604836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巨大なショッピングモー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419640" y="2708280"/>
            <a:ext cx="1150920" cy="574560"/>
            <a:chOff x="3419640" y="2708280"/>
            <a:chExt cx="1150920" cy="574560"/>
          </a:xfrm>
        </p:grpSpPr>
        <p:sp>
          <p:nvSpPr>
            <p:cNvPr id="385" name=""/>
            <p:cNvSpPr/>
            <p:nvPr/>
          </p:nvSpPr>
          <p:spPr>
            <a:xfrm>
              <a:off x="3419640" y="2708280"/>
              <a:ext cx="1150920" cy="574560"/>
            </a:xfrm>
            <a:prstGeom prst="ellipse">
              <a:avLst/>
            </a:prstGeom>
            <a:solidFill>
              <a:srgbClr val="ffff99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08360" y="2773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商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580000" y="4508640"/>
            <a:ext cx="1150920" cy="574560"/>
            <a:chOff x="5580000" y="4508640"/>
            <a:chExt cx="1150920" cy="574560"/>
          </a:xfrm>
        </p:grpSpPr>
        <p:sp>
          <p:nvSpPr>
            <p:cNvPr id="388" name=""/>
            <p:cNvSpPr/>
            <p:nvPr/>
          </p:nvSpPr>
          <p:spPr>
            <a:xfrm>
              <a:off x="5580000" y="4508640"/>
              <a:ext cx="1150920" cy="574560"/>
            </a:xfrm>
            <a:prstGeom prst="ellipse">
              <a:avLst/>
            </a:prstGeom>
            <a:solidFill>
              <a:srgbClr val="ffff99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8720" y="4573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商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476360" y="4581360"/>
            <a:ext cx="1150920" cy="574920"/>
            <a:chOff x="1476360" y="4581360"/>
            <a:chExt cx="1150920" cy="574920"/>
          </a:xfrm>
        </p:grpSpPr>
        <p:sp>
          <p:nvSpPr>
            <p:cNvPr id="391" name=""/>
            <p:cNvSpPr/>
            <p:nvPr/>
          </p:nvSpPr>
          <p:spPr>
            <a:xfrm>
              <a:off x="1476360" y="4581360"/>
              <a:ext cx="1150920" cy="574920"/>
            </a:xfrm>
            <a:prstGeom prst="ellipse">
              <a:avLst/>
            </a:prstGeom>
            <a:solidFill>
              <a:srgbClr val="ffff99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65080" y="4646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商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  <p:sndAc>
      <p:stSnd>
        <p:snd r:embed="rId1" name="arrow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387760" cy="40464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148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トランジットモ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83400" y="2708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危険な自動車交通の排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95640" y="414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安全な歩行空間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50920" y="3284640"/>
            <a:ext cx="341280" cy="687240"/>
          </a:xfrm>
          <a:prstGeom prst="downArrow">
            <a:avLst>
              <a:gd name="adj1" fmla="val 50000"/>
              <a:gd name="adj2" fmla="val 503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49360"/>
            <a:ext cx="741672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－１　中心市街地活性化計画　駅前ショッピングモール化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4600" y="148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トランジットモ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0920" y="2349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循環バス『ミニキララ』の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商店と駅、駐車場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距離を縮め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71640" y="3213000"/>
            <a:ext cx="393840" cy="792360"/>
          </a:xfrm>
          <a:prstGeom prst="downArrow">
            <a:avLst>
              <a:gd name="adj1" fmla="val 50000"/>
              <a:gd name="adj2" fmla="val 502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3911760" cy="2934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549360"/>
            <a:ext cx="741672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－１　中心市街地活性化計画　駅前ショッピングモール化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18360" y="314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メージ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47480" y="6021360"/>
            <a:ext cx="1552320" cy="368280"/>
          </a:xfrm>
          <a:prstGeom prst="rect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横に動くエレベー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148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トランジットモ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610400" cy="5715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549360"/>
            <a:ext cx="741672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－１　中心市街地活性化計画　駅前ショッピングモール化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9548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85880" y="148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Arial"/>
                <a:ea typeface="HG丸ｺﾞｼｯｸM-PRO"/>
              </a:rPr>
              <a:t>・トランジットモ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82840" y="220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商店の店舗の調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39640" y="2730600"/>
            <a:ext cx="4319640" cy="371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2128680" cy="17067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250920" y="2540160"/>
            <a:ext cx="4825800" cy="4560840"/>
          </a:xfrm>
          <a:prstGeom prst="ellipse">
            <a:avLst/>
          </a:prstGeom>
          <a:solidFill>
            <a:srgbClr val="ff99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549360"/>
            <a:ext cx="7416720" cy="503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－１　中心市街地活性化計画　駅前ショッピングモール化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16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6920" y="1557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〇　『キララ』の運営システム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227640" y="2131920"/>
            <a:ext cx="2229120" cy="22291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796000" y="4941720"/>
            <a:ext cx="2519280" cy="1151280"/>
          </a:xfrm>
          <a:prstGeom prst="wedgeEllipseCallout">
            <a:avLst>
              <a:gd name="adj1" fmla="val 10050"/>
              <a:gd name="adj2" fmla="val -9427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ある機能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強化して生まれ変わ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1729080" cy="1038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900000" y="2276640"/>
            <a:ext cx="360072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『キララ』の管理はＴＭＯ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000" y="4292640"/>
            <a:ext cx="51120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キララ　⇒　現金　の交換は基本的にでき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141720"/>
            <a:ext cx="489744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キララバスの運営はＮＰＯ法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まちづくり活性化バス土浦が引き続き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4211640" y="5373720"/>
            <a:ext cx="925560" cy="9302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3132000" y="5450040"/>
            <a:ext cx="792360" cy="720720"/>
            <a:chOff x="3132000" y="5450040"/>
            <a:chExt cx="792360" cy="720720"/>
          </a:xfrm>
        </p:grpSpPr>
        <p:sp>
          <p:nvSpPr>
            <p:cNvPr id="550" name=""/>
            <p:cNvSpPr/>
            <p:nvPr/>
          </p:nvSpPr>
          <p:spPr>
            <a:xfrm>
              <a:off x="3132000" y="5661000"/>
              <a:ext cx="792360" cy="287280"/>
            </a:xfrm>
            <a:prstGeom prst="rightArrow">
              <a:avLst>
                <a:gd name="adj1" fmla="val 50000"/>
                <a:gd name="adj2" fmla="val 689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3169800" y="5450040"/>
              <a:ext cx="648000" cy="720720"/>
              <a:chOff x="3169800" y="5450040"/>
              <a:chExt cx="648000" cy="720720"/>
            </a:xfrm>
          </p:grpSpPr>
          <p:sp>
            <p:nvSpPr>
              <p:cNvPr id="552" name=""/>
              <p:cNvSpPr/>
              <p:nvPr/>
            </p:nvSpPr>
            <p:spPr>
              <a:xfrm>
                <a:off x="3170160" y="5450040"/>
                <a:ext cx="647640" cy="647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169800" y="5450040"/>
                <a:ext cx="647640" cy="720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ー２　キララ利用促進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4" name="arrow.wav"/>
      </p:stSnd>
    </p:sndAc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411280" y="2494080"/>
            <a:ext cx="6058080" cy="39844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539640" y="1628640"/>
            <a:ext cx="5400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〇　『キララ』の実際の流れ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現在利用法がバスに限ら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キララを財やサービス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交換可能に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協賛店、キララバス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指定駐車場など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使用可能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 rot="19075800">
            <a:off x="7093080" y="4292280"/>
            <a:ext cx="244440" cy="431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 rot="2259600">
            <a:off x="3779640" y="4005000"/>
            <a:ext cx="236520" cy="4172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5651640" y="6381720"/>
            <a:ext cx="431640" cy="2444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ー２　キララ利用促進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1131840" cy="15094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6659640" y="5084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7236000" y="3141720"/>
            <a:ext cx="1265040" cy="16873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533680" y="138744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〇　『キララ』によって生じるつながり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2238480" y="2257560"/>
            <a:ext cx="4468680" cy="4019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062240" y="2440080"/>
            <a:ext cx="858960" cy="644400"/>
          </a:xfrm>
          <a:prstGeom prst="ellipse">
            <a:avLst/>
          </a:prstGeom>
          <a:solidFill>
            <a:srgbClr val="ffffff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駅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集合商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41920" y="3646440"/>
            <a:ext cx="860400" cy="642960"/>
          </a:xfrm>
          <a:prstGeom prst="ellipse">
            <a:avLst/>
          </a:prstGeom>
          <a:solidFill>
            <a:srgbClr val="ffffff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ＮＰ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まちづくり活性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ス土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49440" y="3641760"/>
            <a:ext cx="858960" cy="644400"/>
          </a:xfrm>
          <a:prstGeom prst="ellipse">
            <a:avLst/>
          </a:prstGeom>
          <a:solidFill>
            <a:srgbClr val="ffffff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89160" y="5603760"/>
            <a:ext cx="858960" cy="644760"/>
          </a:xfrm>
          <a:prstGeom prst="ellipse">
            <a:avLst/>
          </a:prstGeom>
          <a:solidFill>
            <a:srgbClr val="ffffff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来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5440" y="5600880"/>
            <a:ext cx="858960" cy="644400"/>
          </a:xfrm>
          <a:prstGeom prst="ellipse">
            <a:avLst/>
          </a:prstGeom>
          <a:solidFill>
            <a:srgbClr val="ffffff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492000" y="3933720"/>
            <a:ext cx="2095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41600" y="368316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スの利用促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75200" y="4322880"/>
            <a:ext cx="790560" cy="4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土浦ＴＭ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地域通貨キララ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管理団体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68680" y="3186000"/>
            <a:ext cx="0" cy="1074960"/>
          </a:xfrm>
          <a:prstGeom prst="line">
            <a:avLst/>
          </a:prstGeom>
          <a:ln w="12600">
            <a:solidFill>
              <a:srgbClr val="ff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40080" y="4100400"/>
            <a:ext cx="642960" cy="322200"/>
          </a:xfrm>
          <a:prstGeom prst="line">
            <a:avLst/>
          </a:prstGeom>
          <a:ln w="12600">
            <a:solidFill>
              <a:srgbClr val="ff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877920" y="4260960"/>
            <a:ext cx="1825560" cy="139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9320000">
            <a:off x="3850200" y="509400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スの利用促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286080" y="3025800"/>
            <a:ext cx="752400" cy="644400"/>
          </a:xfrm>
          <a:prstGeom prst="line">
            <a:avLst/>
          </a:prstGeom>
          <a:ln w="12600">
            <a:solidFill>
              <a:srgbClr val="ff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9200000">
            <a:off x="3183480" y="30049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買い物等に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キララの利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17960" y="2962440"/>
            <a:ext cx="804960" cy="698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8720000">
            <a:off x="5222880" y="2315160"/>
            <a:ext cx="423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バスとキララ利用によ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運営の相互支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78400" y="2867040"/>
            <a:ext cx="42372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キララ利用促進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相互支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80000">
            <a:off x="3143520" y="42670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キララ利用促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相互支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184920" y="4320720"/>
            <a:ext cx="1241280" cy="1651320"/>
            <a:chOff x="3184920" y="4320720"/>
            <a:chExt cx="1241280" cy="1651320"/>
          </a:xfrm>
        </p:grpSpPr>
        <p:sp>
          <p:nvSpPr>
            <p:cNvPr id="644" name=""/>
            <p:cNvSpPr/>
            <p:nvPr/>
          </p:nvSpPr>
          <p:spPr>
            <a:xfrm flipH="1">
              <a:off x="3768840" y="4905720"/>
              <a:ext cx="429480" cy="698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860000">
              <a:off x="3578040" y="4319640"/>
              <a:ext cx="454680" cy="16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キララの利用によ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リピーターの確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 flipH="1" flipV="1">
            <a:off x="4682880" y="4852800"/>
            <a:ext cx="515880" cy="734760"/>
          </a:xfrm>
          <a:prstGeom prst="line">
            <a:avLst/>
          </a:prstGeom>
          <a:ln w="12600">
            <a:solidFill>
              <a:srgbClr val="ff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19620000">
            <a:off x="4874760" y="4665240"/>
            <a:ext cx="317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制度の支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951440" y="4137120"/>
            <a:ext cx="644400" cy="322200"/>
          </a:xfrm>
          <a:prstGeom prst="line">
            <a:avLst/>
          </a:prstGeom>
          <a:ln w="12600">
            <a:solidFill>
              <a:srgbClr val="ff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20100000">
            <a:off x="4933440" y="397152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運営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相互支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649840" y="4422240"/>
            <a:ext cx="322200" cy="11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900000">
            <a:off x="5748480" y="4567320"/>
            <a:ext cx="317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運営の補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19800" y="4067280"/>
            <a:ext cx="482760" cy="4842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バス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運行状況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よくなっ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78040" y="5524560"/>
            <a:ext cx="484200" cy="4842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また買い物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来たいな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183360" y="3282840"/>
            <a:ext cx="48240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みんな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キララを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使って欲しいな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86080" y="6195960"/>
            <a:ext cx="48276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土浦っ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特徴的な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まちだ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11840" y="5603760"/>
            <a:ext cx="482760" cy="4842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まち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活気付く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いい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19640" y="6195960"/>
            <a:ext cx="48420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みんなで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まちを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よくしていこ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92360" y="3195720"/>
            <a:ext cx="482760" cy="4824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買い物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便利になっ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0920" y="3538440"/>
            <a:ext cx="482760" cy="4842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バスに気軽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乗れるよう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なっ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03640" y="4154400"/>
            <a:ext cx="48240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キララって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とってもお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9160" y="2257560"/>
            <a:ext cx="482400" cy="48420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バス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乗ってく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お客さん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多いな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32160" y="1989000"/>
            <a:ext cx="48420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お客さん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増えたな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92520" y="2274840"/>
            <a:ext cx="482760" cy="482760"/>
          </a:xfrm>
          <a:prstGeom prst="ellipse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商店街同士の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つながり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</a:rPr>
              <a:t>強くなっ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7"/>
          <a:stretch/>
        </p:blipFill>
        <p:spPr>
          <a:xfrm>
            <a:off x="6372360" y="1341360"/>
            <a:ext cx="1751040" cy="1319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ー２　キララ利用促進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ー２　キララ利用促進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1131840" cy="150948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6659640" y="5084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4"/>
          <a:stretch/>
        </p:blipFill>
        <p:spPr>
          <a:xfrm>
            <a:off x="7236000" y="3141720"/>
            <a:ext cx="1265040" cy="16873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533680" y="138744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〇　『キララ』によって生じるつながり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050920" y="1989000"/>
            <a:ext cx="4751640" cy="4689720"/>
            <a:chOff x="2050920" y="1989000"/>
            <a:chExt cx="4751640" cy="4689720"/>
          </a:xfrm>
        </p:grpSpPr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2238480" y="2257560"/>
              <a:ext cx="44686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62240" y="2440080"/>
              <a:ext cx="858960" cy="644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駅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集合商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41920" y="3646440"/>
              <a:ext cx="860400" cy="6429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ＮＰ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まちづくり活性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バス土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9440" y="3641760"/>
              <a:ext cx="858960" cy="644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市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89160" y="5603760"/>
              <a:ext cx="858960" cy="6447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外来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5440" y="5600880"/>
              <a:ext cx="858960" cy="644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492000" y="3933720"/>
              <a:ext cx="209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41600" y="3683160"/>
              <a:ext cx="85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バスの利用促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5200" y="4322880"/>
              <a:ext cx="790560" cy="43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土浦ＴＭ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（地域通貨キララの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管理団体）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68680" y="3186000"/>
              <a:ext cx="0" cy="10749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0080" y="4100400"/>
              <a:ext cx="642960" cy="3222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77920" y="4260960"/>
              <a:ext cx="182556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9320000">
              <a:off x="3850200" y="5094000"/>
              <a:ext cx="85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バスの利用促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286080" y="3025800"/>
              <a:ext cx="75240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9200000">
              <a:off x="3183480" y="30049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買い物等によ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キララの利用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17960" y="2962440"/>
              <a:ext cx="80496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720000">
              <a:off x="5222880" y="2315160"/>
              <a:ext cx="423720" cy="17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バスとキララ利用によ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運営の相互支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78400" y="2867040"/>
              <a:ext cx="423720" cy="13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キララ利用促進の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相互支援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680000">
              <a:off x="3143520" y="4267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キララ利用促進の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相互支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3184920" y="4320720"/>
              <a:ext cx="1241280" cy="1651320"/>
              <a:chOff x="3184920" y="4320720"/>
              <a:chExt cx="1241280" cy="165132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3768840" y="4905720"/>
                <a:ext cx="429480" cy="698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860000">
                <a:off x="3578040" y="4319640"/>
                <a:ext cx="454680" cy="165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☆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キララの利用によ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リピーターの確保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H="1" flipV="1">
              <a:off x="4682880" y="4852800"/>
              <a:ext cx="515880" cy="73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9620000">
              <a:off x="4874760" y="4665240"/>
              <a:ext cx="31752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制度の支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951440" y="4137120"/>
              <a:ext cx="644400" cy="3222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100000">
              <a:off x="4933440" y="3971520"/>
              <a:ext cx="5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運営の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相互支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5649840" y="4422240"/>
              <a:ext cx="32220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900000">
              <a:off x="5748480" y="4567320"/>
              <a:ext cx="31752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900" spc="-1" strike="noStrike">
                  <a:solidFill>
                    <a:srgbClr val="000000"/>
                  </a:solidFill>
                  <a:latin typeface="Arial"/>
                </a:rPr>
                <a:t>運営の補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9800" y="4067280"/>
              <a:ext cx="482760" cy="4842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バスの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運行状況が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よくなった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8040" y="5524560"/>
              <a:ext cx="484200" cy="4842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また買い物に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来たいな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83360" y="3282840"/>
              <a:ext cx="48240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みんなに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キララを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使って欲しいな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6080" y="6195960"/>
              <a:ext cx="48276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土浦っ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特徴的な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まちだ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11840" y="5603760"/>
              <a:ext cx="482760" cy="4842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まち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活気付くと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いい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19640" y="6195960"/>
              <a:ext cx="48420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みんなで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まちを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よくしていこう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92360" y="3195720"/>
              <a:ext cx="482760" cy="4824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買い物が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便利になった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0920" y="3538440"/>
              <a:ext cx="482760" cy="4842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バスに気軽に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乗れるように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なった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03640" y="4154400"/>
              <a:ext cx="48240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キララっ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とってもお得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99160" y="2257560"/>
              <a:ext cx="482400" cy="48420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バスに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乗ってく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お客さんが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多いな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32160" y="1989000"/>
              <a:ext cx="48420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お客さんが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Arial"/>
                </a:rPr>
                <a:t>増えたな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92520" y="2274840"/>
              <a:ext cx="482760" cy="48276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商店街同士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つながりが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Arial"/>
                </a:rPr>
                <a:t>強くなった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6372360" y="1341360"/>
            <a:ext cx="1751040" cy="13194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5508720" y="3429000"/>
            <a:ext cx="647640" cy="792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53440" y="833400"/>
            <a:ext cx="1277640" cy="63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つながりを持たせることによ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乗効果を生み出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心市街地に賑わいが復活す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-0.21233 -4.44444E-006 E">
                                      <p:cBhvr>
                                        <p:cTn id="632" dur="1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6380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6840" y="1600200"/>
            <a:ext cx="5699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〇中心市街地活性化計画の効果の検証、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848360" cy="1027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771640" y="2095560"/>
            <a:ext cx="1871640" cy="432720"/>
            <a:chOff x="2771640" y="2095560"/>
            <a:chExt cx="1871640" cy="432720"/>
          </a:xfrm>
        </p:grpSpPr>
        <p:sp>
          <p:nvSpPr>
            <p:cNvPr id="779" name=""/>
            <p:cNvSpPr/>
            <p:nvPr/>
          </p:nvSpPr>
          <p:spPr>
            <a:xfrm flipV="1" rot="5400000">
              <a:off x="3617640" y="1502280"/>
              <a:ext cx="179640" cy="1871640"/>
            </a:xfrm>
            <a:custGeom>
              <a:avLst/>
              <a:gdLst>
                <a:gd name="textAreaLeft" fmla="*/ 23760 w 179640"/>
                <a:gd name="textAreaRight" fmla="*/ 155880 w 179640"/>
                <a:gd name="textAreaTop" fmla="*/ 327240 h 1871640"/>
                <a:gd name="textAreaBottom" fmla="*/ 13568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99520" y="2095560"/>
              <a:ext cx="12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客単価（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円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4788000" y="1989000"/>
            <a:ext cx="1584360" cy="503280"/>
          </a:xfrm>
          <a:prstGeom prst="wedgeRoundRectCallout">
            <a:avLst>
              <a:gd name="adj1" fmla="val -17236"/>
              <a:gd name="adj2" fmla="val 768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発効枚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1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円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店舗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43640" y="2060640"/>
            <a:ext cx="1584360" cy="358560"/>
          </a:xfrm>
          <a:prstGeom prst="wedgeRoundRectCallout">
            <a:avLst>
              <a:gd name="adj1" fmla="val -38675"/>
              <a:gd name="adj2" fmla="val 121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経済効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店舗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580000" y="3068640"/>
            <a:ext cx="2879640" cy="21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96360" y="3068640"/>
            <a:ext cx="863280" cy="52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11680" y="3789360"/>
            <a:ext cx="34268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より経済効果を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・現状において収益額が負担額を上回っ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ス利用者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、使用枚数比率が２倍になったと仮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・一店舗あたりの経済効果が向上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・この計画は、協賛店において有益であるといえ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2681280" y="4051080"/>
            <a:ext cx="252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2681280" y="5148000"/>
            <a:ext cx="252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2691720" y="5680080"/>
            <a:ext cx="252720" cy="502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３－２ー２　キララ利用促進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  <p:sndAc>
      <p:stSnd>
        <p:snd r:embed="rId2" name="arrow.wav"/>
      </p:stSnd>
    </p:sndAc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204156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4643280" y="2276640"/>
            <a:ext cx="3600720" cy="1441440"/>
          </a:xfrm>
          <a:prstGeom prst="rect">
            <a:avLst/>
          </a:prstGeom>
          <a:solidFill>
            <a:srgbClr val="89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43280" y="4437000"/>
            <a:ext cx="3600720" cy="1368360"/>
          </a:xfrm>
          <a:prstGeom prst="rect">
            <a:avLst/>
          </a:prstGeom>
          <a:solidFill>
            <a:srgbClr val="ede3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00000" y="162864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背景・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35280" y="27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fefe"/>
                </a:solidFill>
                <a:latin typeface="Arial"/>
              </a:rPr>
              <a:t>霞ヶ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32360" y="314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貴重な水資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041600" y="3141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絶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1359: オリジナルサイズで見るにはここをクリッ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60036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1196640" y="285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fefe"/>
                </a:solidFill>
                <a:latin typeface="Arial"/>
              </a:rPr>
              <a:t>霞ヶ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59280" y="242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まちのシンボ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88000" y="45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市民の心のシンボ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48360" y="49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愛着心・郷土心の育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084720" y="407664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arrow.wav"/>
      </p:stSnd>
    </p:sndAc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-541440" y="314172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31608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-10296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-34308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-9972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-541440" y="458136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-541440" y="170028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-541440" y="33336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476360" y="2276640"/>
          <a:ext cx="6372360" cy="38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76640"/>
                    <a:ext cx="63723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5753160" y="609300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照：『まちづくりアンケート調査』平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435640" y="2133720"/>
            <a:ext cx="2592360" cy="1224000"/>
          </a:xfrm>
          <a:prstGeom prst="rect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318360" y="1557360"/>
            <a:ext cx="790200" cy="3988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質浄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619280" y="1916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霞ヶ浦の周辺整備での優先施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"/>
          <p:cNvGraphicFramePr/>
          <p:nvPr/>
        </p:nvGraphicFramePr>
        <p:xfrm>
          <a:off x="1332000" y="2133720"/>
          <a:ext cx="669600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133720"/>
                    <a:ext cx="669600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-541440" y="314172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-31608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-10296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-34308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-9972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-541440" y="458136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-541440" y="170028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541440" y="333360"/>
            <a:ext cx="79236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753160" y="609300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照：『まちづくりアンケート調査』平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508720" y="3213000"/>
            <a:ext cx="2590560" cy="1079640"/>
          </a:xfrm>
          <a:prstGeom prst="rect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99080" y="1628640"/>
            <a:ext cx="435240" cy="3988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観光的な利活用・公園整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619280" y="1844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霞ヶ浦の周辺整備での優先施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9640" y="1484280"/>
            <a:ext cx="3816360" cy="649440"/>
          </a:xfrm>
          <a:prstGeom prst="roundRect">
            <a:avLst>
              <a:gd name="adj" fmla="val 16667"/>
            </a:avLst>
          </a:prstGeom>
          <a:solidFill>
            <a:srgbClr val="99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26920" y="1557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『湖の駅』親水空間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4895640" cy="338004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6516720" y="5589720"/>
            <a:ext cx="1152360" cy="459720"/>
          </a:xfrm>
          <a:prstGeom prst="rect">
            <a:avLst/>
          </a:prstGeom>
          <a:solidFill>
            <a:srgbClr val="ede3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候補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564000" y="3314880"/>
            <a:ext cx="15843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2546"/>
              <a:gd name="adj5" fmla="val 121634"/>
              <a:gd name="adj6" fmla="val -40879"/>
            </a:avLst>
          </a:prstGeom>
          <a:solidFill>
            <a:srgbClr val="fcfef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cc0000"/>
                </a:solidFill>
                <a:latin typeface="Arial"/>
              </a:rPr>
              <a:t>蓮田スポ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627280" y="5084640"/>
            <a:ext cx="16527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04611"/>
              <a:gd name="adj5" fmla="val -119824"/>
              <a:gd name="adj6" fmla="val 10461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cc0000"/>
                </a:solidFill>
                <a:latin typeface="Arial"/>
              </a:rPr>
              <a:t>夕日鑑賞スポ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0960" y="5734080"/>
            <a:ext cx="129204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08231"/>
              <a:gd name="adj5" fmla="val -224671"/>
              <a:gd name="adj6" fmla="val 11400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cc0000"/>
                </a:solidFill>
                <a:latin typeface="Arial"/>
              </a:rPr>
              <a:t>朝日スポ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27640" y="1413000"/>
            <a:ext cx="395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休憩スペー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絶景スポット：土地の特性を生か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96000" y="2563920"/>
            <a:ext cx="1297080" cy="12967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環境セン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164360" y="2563920"/>
            <a:ext cx="1297080" cy="12967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れんこん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164360" y="3932280"/>
            <a:ext cx="1297080" cy="1297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浦駅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6000" y="3933720"/>
            <a:ext cx="1297080" cy="1297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総合公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826920" y="155736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26920" y="1628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候補地　れんこん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4720" y="362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26920" y="155736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826920" y="1628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候補地　れんこん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72160" y="2349360"/>
            <a:ext cx="2568960" cy="398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島用水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と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霞ヶ浦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結節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487520" y="486900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水路の中を手漕ボートが行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蓮田を感じる！ふれあ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74720" y="362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332000" y="278136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2354400" cy="210204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35560" cy="227340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6227640" y="1773360"/>
            <a:ext cx="649440" cy="60948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169360" y="2924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3300"/>
                </a:solidFill>
                <a:latin typeface="Arial"/>
              </a:rPr>
              <a:t>蓮田のスポ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11280" y="3429000"/>
            <a:ext cx="46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用水路の拡幅整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特産物れんこん商品販売店の設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031480" y="580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主さんも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3348000" y="3068640"/>
            <a:ext cx="5192640" cy="333684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39640" y="1484280"/>
            <a:ext cx="5327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2692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『水上タクシー』水上ネットワーク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405440" y="2997360"/>
            <a:ext cx="118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１周：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ｋ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定員：８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６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間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11400" y="2421000"/>
            <a:ext cx="10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上タクシ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8132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３　霞ヶ浦水環境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5392800" cy="346896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539640" y="1484280"/>
            <a:ext cx="5327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2692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『自転車ロード』陸上ネットワーク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51040" y="3573360"/>
            <a:ext cx="1867680" cy="22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のりのり自転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湖の駅で乗り降り自由　無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水際歩道空間の整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道案内・サインの提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周辺市町村と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03280" y="2349360"/>
            <a:ext cx="417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浦潮来自転車道整備（県事業）に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92360" y="355680"/>
            <a:ext cx="5689440" cy="8545320"/>
            <a:chOff x="1692360" y="355680"/>
            <a:chExt cx="5689440" cy="8545320"/>
          </a:xfrm>
        </p:grpSpPr>
        <p:sp>
          <p:nvSpPr>
            <p:cNvPr id="97" name=""/>
            <p:cNvSpPr/>
            <p:nvPr/>
          </p:nvSpPr>
          <p:spPr>
            <a:xfrm>
              <a:off x="4285080" y="35568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現状把握・課題の抽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692280"/>
              <a:ext cx="4032360" cy="1224000"/>
            </a:xfrm>
            <a:prstGeom prst="rect">
              <a:avLst/>
            </a:prstGeom>
            <a:noFill/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豊富な自然や歴史資源などのポテンシャルが多く存在す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情報発信の不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世代間を越えた交流の場が少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施設、観光スポットの点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都市と農村、歴史と日常の共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・中心市街地の衰退による賑わいの喪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25520" y="24922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将来像の策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13400" y="48927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基本構想に盛り込む指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84360" y="2852640"/>
              <a:ext cx="4032360" cy="43200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「心都土浦　～ココロはずむ未来へ～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5197320"/>
              <a:ext cx="2665440" cy="8636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〇みんなでつくるま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⇒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誰もが参加しやすく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活動しやすいまちを創造す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16360" y="4005360"/>
              <a:ext cx="2665440" cy="8650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〇賑わいのあるま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⇒ 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人々が歩き、集い、活気にあふれ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賑わいのある中心市街地を創造す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2360" y="5229360"/>
              <a:ext cx="2592360" cy="8636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〇味わいのあるま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⇒ 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土浦特有の歴史と文化、自然環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の保全と活用を目指したまちを創造し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土浦の良さを伝え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4005360"/>
              <a:ext cx="2592360" cy="8650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〇心地よく暮らせるま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⇒ 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子供から高齢者、障害者など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全ての市民が安心して暮らすこと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できる人にやさしいまちを創造す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38560" y="2017800"/>
              <a:ext cx="720720" cy="474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2960" y="6858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具体的対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124000" y="6885000"/>
              <a:ext cx="4751640" cy="2016000"/>
              <a:chOff x="2124000" y="6885000"/>
              <a:chExt cx="4751640" cy="2016000"/>
            </a:xfrm>
          </p:grpSpPr>
          <p:sp>
            <p:nvSpPr>
              <p:cNvPr id="109" name=""/>
              <p:cNvSpPr/>
              <p:nvPr/>
            </p:nvSpPr>
            <p:spPr>
              <a:xfrm>
                <a:off x="2124000" y="6885000"/>
                <a:ext cx="4751640" cy="20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360" y="7316640"/>
                <a:ext cx="1656000" cy="50292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☆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中心市街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活性化計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00720" y="7316640"/>
                <a:ext cx="1728720" cy="50292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☆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情報ネットワーク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計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00720" y="7964280"/>
                <a:ext cx="1727280" cy="50436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☆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世代間・地域間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交流計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98920" y="7965720"/>
                <a:ext cx="1657440" cy="502920"/>
              </a:xfrm>
              <a:prstGeom prst="roundRect">
                <a:avLst>
                  <a:gd name="adj" fmla="val 16667"/>
                </a:avLst>
              </a:prstGeom>
              <a:noFill/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☆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霞ヶ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水環境計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068720" y="6093000"/>
              <a:ext cx="865080" cy="64908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67280" y="3357720"/>
              <a:ext cx="865080" cy="57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14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900000" y="4005360"/>
            <a:ext cx="3384720" cy="136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政と住民による組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スポーツと芸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9640" y="1413000"/>
            <a:ext cx="151128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民祭の開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84360" y="234792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現在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に地区ごとに体育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スポーツ少年団による大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197080" y="328464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044720" y="3716280"/>
            <a:ext cx="302580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民全員が楽しめる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635200" cy="48956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-9972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arrow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33520" y="1413000"/>
            <a:ext cx="193824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民祭の組織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2760" y="1197000"/>
            <a:ext cx="804384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494080" y="6453360"/>
            <a:ext cx="603252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68360" y="1197000"/>
            <a:ext cx="603252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041560" y="4724280"/>
            <a:ext cx="1941480" cy="152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当日の運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清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041560" y="1463760"/>
            <a:ext cx="1941480" cy="152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企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運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統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031760" y="3500280"/>
            <a:ext cx="789120" cy="648000"/>
          </a:xfrm>
          <a:prstGeom prst="flowChartAlternateProcess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254320" y="2708280"/>
            <a:ext cx="1581120" cy="649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全地区市民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実行委員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255760" y="4292640"/>
            <a:ext cx="150660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日運営委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ボランティ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414680" y="2133720"/>
            <a:ext cx="862200" cy="5032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414680" y="3789360"/>
            <a:ext cx="862200" cy="5047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市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146640" y="1628640"/>
            <a:ext cx="2298960" cy="5050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涯学習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637000"/>
            <a:ext cx="2297160" cy="5029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スポーツ振興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40480" y="3429000"/>
            <a:ext cx="1868400" cy="4334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好会の代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40480" y="4221000"/>
            <a:ext cx="1868400" cy="43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志ボランティ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494320" y="1628640"/>
            <a:ext cx="503280" cy="15130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45" idx="3"/>
            <a:endCxn id="1151" idx="1"/>
          </p:cNvCxnSpPr>
          <p:nvPr/>
        </p:nvCxnSpPr>
        <p:spPr>
          <a:xfrm>
            <a:off x="5276880" y="2385720"/>
            <a:ext cx="2181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43" idx="3"/>
            <a:endCxn id="1146" idx="1"/>
          </p:cNvCxnSpPr>
          <p:nvPr/>
        </p:nvCxnSpPr>
        <p:spPr>
          <a:xfrm>
            <a:off x="3835080" y="3033720"/>
            <a:ext cx="579960" cy="100872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2" idx="3"/>
            <a:endCxn id="1143" idx="1"/>
          </p:cNvCxnSpPr>
          <p:nvPr/>
        </p:nvCxnSpPr>
        <p:spPr>
          <a:xfrm flipV="1">
            <a:off x="1839600" y="3033360"/>
            <a:ext cx="415080" cy="791280"/>
          </a:xfrm>
          <a:prstGeom prst="bentConnector3">
            <a:avLst>
              <a:gd name="adj1" fmla="val 474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2" idx="3"/>
            <a:endCxn id="1144" idx="1"/>
          </p:cNvCxnSpPr>
          <p:nvPr/>
        </p:nvCxnSpPr>
        <p:spPr>
          <a:xfrm>
            <a:off x="1839600" y="3824280"/>
            <a:ext cx="416520" cy="792720"/>
          </a:xfrm>
          <a:prstGeom prst="bentConnector3">
            <a:avLst>
              <a:gd name="adj1" fmla="val 476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46" idx="3"/>
            <a:endCxn id="1149" idx="1"/>
          </p:cNvCxnSpPr>
          <p:nvPr/>
        </p:nvCxnSpPr>
        <p:spPr>
          <a:xfrm flipV="1">
            <a:off x="5276880" y="3646080"/>
            <a:ext cx="364320" cy="3960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6" idx="3"/>
            <a:endCxn id="1150" idx="1"/>
          </p:cNvCxnSpPr>
          <p:nvPr/>
        </p:nvCxnSpPr>
        <p:spPr>
          <a:xfrm>
            <a:off x="5276880" y="4041720"/>
            <a:ext cx="364320" cy="3960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 flipH="1">
            <a:off x="5999040" y="184464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999040" y="292572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270040" y="1771560"/>
            <a:ext cx="729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育委員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499000" y="5661000"/>
            <a:ext cx="2154240" cy="720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キララの授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1" idx="0"/>
            <a:endCxn id="1150" idx="2"/>
          </p:cNvCxnSpPr>
          <p:nvPr/>
        </p:nvCxnSpPr>
        <p:spPr>
          <a:xfrm flipH="1" flipV="1">
            <a:off x="6575040" y="4652640"/>
            <a:ext cx="2160" cy="1008720"/>
          </a:xfrm>
          <a:prstGeom prst="straightConnector1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1163" name=""/>
          <p:cNvCxnSpPr>
            <a:stCxn id="1161" idx="1"/>
            <a:endCxn id="1144" idx="3"/>
          </p:cNvCxnSpPr>
          <p:nvPr/>
        </p:nvCxnSpPr>
        <p:spPr>
          <a:xfrm rot="10800000">
            <a:off x="3761640" y="4615560"/>
            <a:ext cx="1737360" cy="1405440"/>
          </a:xfrm>
          <a:prstGeom prst="bentConnector3">
            <a:avLst>
              <a:gd name="adj1" fmla="val 49989"/>
            </a:avLst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1164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8" name=""/>
          <p:cNvCxnSpPr>
            <a:stCxn id="1143" idx="3"/>
            <a:endCxn id="1145" idx="1"/>
          </p:cNvCxnSpPr>
          <p:nvPr/>
        </p:nvCxnSpPr>
        <p:spPr>
          <a:xfrm flipV="1">
            <a:off x="3835080" y="2385360"/>
            <a:ext cx="579960" cy="64836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9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187280" y="2781360"/>
            <a:ext cx="2808360" cy="352908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529080"/>
              <a:gd name="textAreaBottom" fmla="*/ 3392280 h 3529080"/>
            </a:gdLst>
            <a:ahLst/>
            <a:rect l="textAreaLeft" t="textAreaTop" r="textAreaRight" b="textAreaBottom"/>
            <a:pathLst>
              <a:path w="21600" h="27143">
                <a:moveTo>
                  <a:pt x="3600" y="0"/>
                </a:moveTo>
                <a:arcTo wR="3600" hR="3600" stAng="16200000" swAng="-5400000"/>
                <a:lnTo>
                  <a:pt x="0" y="23543"/>
                </a:lnTo>
                <a:arcTo wR="3600" hR="3600" stAng="10800000" swAng="-5400000"/>
                <a:lnTo>
                  <a:pt x="18000" y="27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932360" y="2781360"/>
            <a:ext cx="2808360" cy="352908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3529080"/>
              <a:gd name="textAreaBottom" fmla="*/ 3392280 h 3529080"/>
            </a:gdLst>
            <a:ahLst/>
            <a:rect l="textAreaLeft" t="textAreaTop" r="textAreaRight" b="textAreaBottom"/>
            <a:pathLst>
              <a:path w="21600" h="27143">
                <a:moveTo>
                  <a:pt x="3600" y="0"/>
                </a:moveTo>
                <a:arcTo wR="3600" hR="3600" stAng="16200000" swAng="-5400000"/>
                <a:lnTo>
                  <a:pt x="0" y="23543"/>
                </a:lnTo>
                <a:arcTo wR="3600" hR="3600" stAng="10800000" swAng="-5400000"/>
                <a:lnTo>
                  <a:pt x="18000" y="27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348000" y="1486080"/>
            <a:ext cx="2158920" cy="576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地区市民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36720" y="2494080"/>
            <a:ext cx="1440000" cy="647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育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スポー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580000" y="2494080"/>
            <a:ext cx="1440000" cy="647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化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芸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2" name=""/>
          <p:cNvCxnSpPr>
            <a:stCxn id="1199" idx="2"/>
            <a:endCxn id="1200" idx="0"/>
          </p:cNvCxnSpPr>
          <p:nvPr/>
        </p:nvCxnSpPr>
        <p:spPr>
          <a:xfrm rot="5400000">
            <a:off x="3275640" y="1342800"/>
            <a:ext cx="432720" cy="187092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2"/>
            <a:endCxn id="1201" idx="0"/>
          </p:cNvCxnSpPr>
          <p:nvPr/>
        </p:nvCxnSpPr>
        <p:spPr>
          <a:xfrm flipH="1" rot="16200000">
            <a:off x="5147280" y="1341360"/>
            <a:ext cx="432720" cy="187380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04" name=""/>
          <p:cNvSpPr/>
          <p:nvPr/>
        </p:nvSpPr>
        <p:spPr>
          <a:xfrm>
            <a:off x="1692360" y="3213000"/>
            <a:ext cx="172728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４月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金～日の３日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437080" y="3213000"/>
            <a:ext cx="172872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１０月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土日の２日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92360" y="3933720"/>
            <a:ext cx="1728720" cy="43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常名運動公園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437080" y="3933720"/>
            <a:ext cx="1728720" cy="43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亀城プラザ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187280" y="4437000"/>
            <a:ext cx="2808360" cy="15843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１日目：運動会　（リレーな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２日目：スポーツ大会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　　　　（ドッジボールな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３日目：駅伝大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かすみがうらマラソンと連携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08720" y="4437000"/>
            <a:ext cx="1582560" cy="85896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社交ダン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合唱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39640" y="1413000"/>
            <a:ext cx="194328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民祭の仕組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539640" y="1413000"/>
            <a:ext cx="151128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上屋の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419640" y="1700280"/>
            <a:ext cx="2017440" cy="50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代間交流の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835280" y="2781360"/>
            <a:ext cx="244764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域交流の拠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716360" y="2781360"/>
            <a:ext cx="244800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報発信の拠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rot="5400000">
            <a:off x="4320000" y="2311920"/>
            <a:ext cx="358920" cy="433440"/>
          </a:xfrm>
          <a:prstGeom prst="rightArrow">
            <a:avLst>
              <a:gd name="adj1" fmla="val 50185"/>
              <a:gd name="adj2" fmla="val 40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835280" y="3718080"/>
            <a:ext cx="540072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266920" y="393372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談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掲示板設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789440" y="393372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報発信と案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キララの引き換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2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539640" y="1413000"/>
            <a:ext cx="280836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ミュニティーセンターの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690560" y="3860640"/>
            <a:ext cx="5761080" cy="172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627280" y="2565360"/>
            <a:ext cx="3816360" cy="86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講座　　　　同好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059280" y="220500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区コミュニティーセン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068720" y="3500280"/>
            <a:ext cx="863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557440" y="4221000"/>
            <a:ext cx="100800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講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781440" y="4149720"/>
            <a:ext cx="2735280" cy="647640"/>
          </a:xfrm>
          <a:prstGeom prst="leftArrowCallout">
            <a:avLst>
              <a:gd name="adj1" fmla="val 16177"/>
              <a:gd name="adj2" fmla="val 23528"/>
              <a:gd name="adj3" fmla="val 57114"/>
              <a:gd name="adj4" fmla="val 8154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好会の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203640" y="5373720"/>
            <a:ext cx="2881080" cy="504720"/>
          </a:xfrm>
          <a:prstGeom prst="roundRect">
            <a:avLst>
              <a:gd name="adj" fmla="val 16667"/>
            </a:avLst>
          </a:prstGeom>
          <a:solidFill>
            <a:srgbClr val="fea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域活動に参加しやすく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4932360" y="2133720"/>
            <a:ext cx="647640" cy="36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547640" y="2133720"/>
            <a:ext cx="1943280" cy="36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期待される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84360" y="1700280"/>
            <a:ext cx="194292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効果・評価の検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66560" y="620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４　地域間・世代間交流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932360" y="25779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件費　約一千万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施設費　公共施設を用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564000" y="3571920"/>
            <a:ext cx="1368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547640" y="256536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域活動団体の増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流促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546200" y="38671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流がうまれることで楽しさだけでなく、安全・安心なまちとなることを考えると、実現する利点があると言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289400" y="436572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619280" y="4983120"/>
            <a:ext cx="6337440" cy="677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「心都土浦　～ココロはずむ未来へ～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792680" y="2705040"/>
            <a:ext cx="2587680" cy="6526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賑わいのあるま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560680" y="290520"/>
            <a:ext cx="4176720" cy="1770120"/>
            <a:chOff x="2560680" y="290520"/>
            <a:chExt cx="4176720" cy="1770120"/>
          </a:xfrm>
        </p:grpSpPr>
        <p:sp>
          <p:nvSpPr>
            <p:cNvPr id="1355" name=""/>
            <p:cNvSpPr/>
            <p:nvPr/>
          </p:nvSpPr>
          <p:spPr>
            <a:xfrm>
              <a:off x="2560680" y="290520"/>
              <a:ext cx="4176720" cy="177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67200" y="669600"/>
              <a:ext cx="1455480" cy="441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中心市街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活性化計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649760" y="669600"/>
              <a:ext cx="1519560" cy="441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情報ネットワー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計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49760" y="1238040"/>
              <a:ext cx="1518120" cy="44280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世代間・地域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交流計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65760" y="1239480"/>
              <a:ext cx="1456560" cy="441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☆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霞ヶ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水環境計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4216320" y="2133720"/>
            <a:ext cx="865440" cy="504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979640" y="3568680"/>
            <a:ext cx="2521080" cy="652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味わいのあるま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79640" y="2700360"/>
            <a:ext cx="2525760" cy="652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心地よく暮らせるま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792680" y="3568680"/>
            <a:ext cx="2587680" cy="652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みんなでつくるま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2627280" y="436572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5508720" y="4797360"/>
            <a:ext cx="2162160" cy="150516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3"/>
          <a:stretch/>
        </p:blipFill>
        <p:spPr>
          <a:xfrm>
            <a:off x="7093080" y="5227560"/>
            <a:ext cx="2274840" cy="163044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4"/>
          <a:stretch/>
        </p:blipFill>
        <p:spPr>
          <a:xfrm>
            <a:off x="6877080" y="342900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/>
          <p:cNvPicPr/>
          <p:nvPr/>
        </p:nvPicPr>
        <p:blipFill>
          <a:blip r:embed="rId5"/>
          <a:stretch/>
        </p:blipFill>
        <p:spPr>
          <a:xfrm>
            <a:off x="0" y="5157720"/>
            <a:ext cx="2505240" cy="189540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6"/>
          <a:stretch/>
        </p:blipFill>
        <p:spPr>
          <a:xfrm>
            <a:off x="611280" y="3645000"/>
            <a:ext cx="258120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7" name="arrow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26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28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30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32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34" dur="2000" fill="hold"/>
                                        <p:tgtEl>
                                          <p:spTgt spid="1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36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38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64 E">
                                      <p:cBhvr>
                                        <p:cTn id="740" dur="2000" fill="hold"/>
                                        <p:tgtEl>
                                          <p:spTgt spid="1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135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9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9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8" name=""/>
          <p:cNvGrpSpPr/>
          <p:nvPr/>
        </p:nvGrpSpPr>
        <p:grpSpPr>
          <a:xfrm>
            <a:off x="324000" y="260280"/>
            <a:ext cx="8640720" cy="6408720"/>
            <a:chOff x="324000" y="260280"/>
            <a:chExt cx="8640720" cy="6408720"/>
          </a:xfrm>
        </p:grpSpPr>
        <p:sp>
          <p:nvSpPr>
            <p:cNvPr id="1379" name=""/>
            <p:cNvSpPr/>
            <p:nvPr/>
          </p:nvSpPr>
          <p:spPr>
            <a:xfrm>
              <a:off x="8964720" y="260280"/>
              <a:ext cx="0" cy="64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24000" y="666900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24000" y="260280"/>
              <a:ext cx="0" cy="64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24000" y="26028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参考文献・サイ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4360" y="1557360"/>
            <a:ext cx="7200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文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土浦市『第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土浦市総合計画』平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土浦市『土浦市都市計画マスタープラン』平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土浦市『土浦市市政マップ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国土交通省『平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事業計画　常総国道パンフレット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長祥隆『トランジットモールの計画』技報堂出版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イ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土浦市公式ホームページ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閲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city.tsuchiura.ibaraki.jp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鳥取県松江市～宍道湖夕日スポット整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閲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matsukoku-mlit.go.jp/sinjik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いばらき・インフォナビ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閲覧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infonavi.co.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霞ヶ浦水質浄化プロジェク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200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i-step.org/kasumi/data/1/1_4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2257560" y="274680"/>
            <a:ext cx="4484520" cy="6583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44760" y="274680"/>
            <a:ext cx="395928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932360" y="1484280"/>
            <a:ext cx="1871640" cy="3600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576360"/>
            <a:ext cx="1297080" cy="765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630440"/>
            <a:ext cx="1297080" cy="718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集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モー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2492280"/>
            <a:ext cx="1295640" cy="720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集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キラ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3357720"/>
            <a:ext cx="1297080" cy="7189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観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1440" y="4221000"/>
            <a:ext cx="1295280" cy="720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5229360"/>
            <a:ext cx="1297080" cy="720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裏表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1628640"/>
            <a:ext cx="1656000" cy="720720"/>
          </a:xfrm>
          <a:prstGeom prst="flowChartPunchedCar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トランジットモ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492280"/>
            <a:ext cx="1654200" cy="719280"/>
          </a:xfrm>
          <a:prstGeom prst="flowChartPunchedCar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キララ利用促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763560"/>
            <a:ext cx="1656000" cy="720720"/>
          </a:xfrm>
          <a:prstGeom prst="flowChartPunchedCar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情報ネットワー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357720"/>
            <a:ext cx="1656000" cy="718920"/>
          </a:xfrm>
          <a:prstGeom prst="flowChartPunchedCar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霞ヶ浦水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4221000"/>
            <a:ext cx="1656000" cy="720720"/>
          </a:xfrm>
          <a:prstGeom prst="flowChartPunchedCar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地域間・世代間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468360" y="1700280"/>
            <a:ext cx="2335320" cy="1224000"/>
          </a:xfrm>
          <a:prstGeom prst="octagon">
            <a:avLst>
              <a:gd name="adj" fmla="val 29287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184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496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86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196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68360" y="3141720"/>
            <a:ext cx="233532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68360" y="4581360"/>
            <a:ext cx="233532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468360" y="260280"/>
            <a:ext cx="2335320" cy="1224000"/>
          </a:xfrm>
          <a:prstGeom prst="octagon">
            <a:avLst>
              <a:gd name="adj" fmla="val 292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2" idx="3"/>
            <a:endCxn id="127" idx="1"/>
          </p:cNvCxnSpPr>
          <p:nvPr/>
        </p:nvCxnSpPr>
        <p:spPr>
          <a:xfrm>
            <a:off x="3779640" y="1988640"/>
            <a:ext cx="1440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4716360" y="404640"/>
            <a:ext cx="2303640" cy="5761080"/>
          </a:xfrm>
          <a:prstGeom prst="wedgeRectCallout">
            <a:avLst>
              <a:gd name="adj1" fmla="val -91004"/>
              <a:gd name="adj2" fmla="val -3823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36" idx="3"/>
            <a:endCxn id="130" idx="1"/>
          </p:cNvCxnSpPr>
          <p:nvPr/>
        </p:nvCxnSpPr>
        <p:spPr>
          <a:xfrm>
            <a:off x="3780000" y="4581000"/>
            <a:ext cx="1442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48" name=""/>
          <p:cNvCxnSpPr>
            <a:stCxn id="135" idx="3"/>
            <a:endCxn id="129" idx="1"/>
          </p:cNvCxnSpPr>
          <p:nvPr/>
        </p:nvCxnSpPr>
        <p:spPr>
          <a:xfrm>
            <a:off x="3779640" y="3717720"/>
            <a:ext cx="1440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49" name=""/>
          <p:cNvCxnSpPr>
            <a:stCxn id="133" idx="3"/>
            <a:endCxn id="128" idx="1"/>
          </p:cNvCxnSpPr>
          <p:nvPr/>
        </p:nvCxnSpPr>
        <p:spPr>
          <a:xfrm>
            <a:off x="3778200" y="2852280"/>
            <a:ext cx="1442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１　情報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557360"/>
            <a:ext cx="8650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現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700280"/>
            <a:ext cx="1440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2205000"/>
            <a:ext cx="1297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1989000"/>
            <a:ext cx="1008000" cy="93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284640"/>
            <a:ext cx="1368360" cy="11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4724280"/>
            <a:ext cx="194472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157720"/>
            <a:ext cx="100800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3789360"/>
            <a:ext cx="136836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4437000"/>
            <a:ext cx="158436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5440" y="537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検索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浦市Ｈ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5080" y="4149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観光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1440" y="24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観光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198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域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3429000"/>
            <a:ext cx="9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13372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229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共施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645000"/>
            <a:ext cx="1297080" cy="368280"/>
          </a:xfrm>
          <a:prstGeom prst="rect">
            <a:avLst/>
          </a:prstGeom>
          <a:solidFill>
            <a:srgbClr val="d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805360"/>
            <a:ext cx="143964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ベント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508720" y="3357720"/>
            <a:ext cx="57600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56000" y="4437000"/>
            <a:ext cx="115272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84720" y="3213000"/>
            <a:ext cx="1151280" cy="1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36000" y="2276280"/>
            <a:ext cx="360360" cy="93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36000" y="260280"/>
            <a:ext cx="1008000" cy="1584360"/>
            <a:chOff x="7236000" y="260280"/>
            <a:chExt cx="1008000" cy="1584360"/>
          </a:xfrm>
        </p:grpSpPr>
        <p:sp>
          <p:nvSpPr>
            <p:cNvPr id="183" name=""/>
            <p:cNvSpPr/>
            <p:nvPr/>
          </p:nvSpPr>
          <p:spPr>
            <a:xfrm>
              <a:off x="7524720" y="260280"/>
              <a:ext cx="503280" cy="50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40720" y="765000"/>
              <a:ext cx="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308720" y="692280"/>
              <a:ext cx="43200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740720" y="692280"/>
              <a:ext cx="50328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6000" y="1557360"/>
              <a:ext cx="50472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720" y="1557360"/>
              <a:ext cx="50328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00720" y="1413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HGS創英角ﾎﾟｯﾌﾟ体"/>
              </a:rPr>
              <a:t>効率良く手に入れた～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48720" y="17715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  <p:sndAc>
      <p:stSnd>
        <p:snd r:embed="rId1" name="arrow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2416320" y="1333080"/>
            <a:ext cx="4311360" cy="3734280"/>
            <a:chOff x="2416320" y="1333080"/>
            <a:chExt cx="4311360" cy="3734280"/>
          </a:xfrm>
        </p:grpSpPr>
        <p:sp>
          <p:nvSpPr>
            <p:cNvPr id="213" name="_s113668"/>
            <p:cNvSpPr/>
            <p:nvPr/>
          </p:nvSpPr>
          <p:spPr>
            <a:xfrm flipV="1">
              <a:off x="3852720" y="1332360"/>
              <a:ext cx="1438560" cy="1244520"/>
            </a:xfrm>
            <a:custGeom>
              <a:avLst/>
              <a:gdLst>
                <a:gd name="textAreaLeft" fmla="*/ 516240 w 1438560"/>
                <a:gd name="textAreaRight" fmla="*/ 922320 w 1438560"/>
                <a:gd name="textAreaTop" fmla="*/ 446400 h 1244520"/>
                <a:gd name="textAreaBottom" fmla="*/ 7981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13669"/>
            <p:cNvSpPr/>
            <p:nvPr/>
          </p:nvSpPr>
          <p:spPr>
            <a:xfrm flipV="1">
              <a:off x="3135240" y="2576880"/>
              <a:ext cx="2873520" cy="1244520"/>
            </a:xfrm>
            <a:custGeom>
              <a:avLst/>
              <a:gdLst>
                <a:gd name="textAreaLeft" fmla="*/ 631800 w 2873520"/>
                <a:gd name="textAreaRight" fmla="*/ 2241720 w 2873520"/>
                <a:gd name="textAreaTop" fmla="*/ 273600 h 1244520"/>
                <a:gd name="textAreaBottom" fmla="*/ 9709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Arial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13670"/>
            <p:cNvSpPr/>
            <p:nvPr/>
          </p:nvSpPr>
          <p:spPr>
            <a:xfrm flipV="1">
              <a:off x="2416320" y="3822480"/>
              <a:ext cx="4311360" cy="1244880"/>
            </a:xfrm>
            <a:custGeom>
              <a:avLst/>
              <a:gdLst>
                <a:gd name="textAreaLeft" fmla="*/ 748440 w 4311360"/>
                <a:gd name="textAreaRight" fmla="*/ 3562920 w 4311360"/>
                <a:gd name="textAreaTop" fmla="*/ 216000 h 1244880"/>
                <a:gd name="textAreaBottom" fmla="*/ 1028880 h 124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364000" y="4005360"/>
            <a:ext cx="30243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その他のペー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005360"/>
            <a:ext cx="259236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行政のペー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１　情報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1197000"/>
            <a:ext cx="8064360" cy="5400720"/>
          </a:xfrm>
          <a:prstGeom prst="rect">
            <a:avLst/>
          </a:prstGeom>
          <a:noFill/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19700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6360" y="1773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手に入れたい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3933720"/>
            <a:ext cx="15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統 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299736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270828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情報の統合化に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検索しやすい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0" y="3357720"/>
            <a:ext cx="0" cy="963360"/>
          </a:xfrm>
          <a:prstGeom prst="line">
            <a:avLst/>
          </a:prstGeom>
          <a:ln w="190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133720"/>
            <a:ext cx="0" cy="963360"/>
          </a:xfrm>
          <a:prstGeom prst="line">
            <a:avLst/>
          </a:prstGeom>
          <a:ln w="190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236000" y="260280"/>
            <a:ext cx="1008000" cy="1584360"/>
            <a:chOff x="7236000" y="260280"/>
            <a:chExt cx="1008000" cy="1584360"/>
          </a:xfrm>
        </p:grpSpPr>
        <p:sp>
          <p:nvSpPr>
            <p:cNvPr id="234" name=""/>
            <p:cNvSpPr/>
            <p:nvPr/>
          </p:nvSpPr>
          <p:spPr>
            <a:xfrm>
              <a:off x="7524720" y="260280"/>
              <a:ext cx="503280" cy="50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40720" y="765000"/>
              <a:ext cx="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308720" y="692280"/>
              <a:ext cx="43200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740720" y="692280"/>
              <a:ext cx="50328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236000" y="1557360"/>
              <a:ext cx="50472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40720" y="1557360"/>
              <a:ext cx="50328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020000" y="4724280"/>
            <a:ext cx="1008000" cy="1584360"/>
            <a:chOff x="7020000" y="4724280"/>
            <a:chExt cx="1008000" cy="1584360"/>
          </a:xfrm>
        </p:grpSpPr>
        <p:sp>
          <p:nvSpPr>
            <p:cNvPr id="241" name=""/>
            <p:cNvSpPr/>
            <p:nvPr/>
          </p:nvSpPr>
          <p:spPr>
            <a:xfrm>
              <a:off x="7308720" y="4724280"/>
              <a:ext cx="503280" cy="50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4720" y="5229000"/>
              <a:ext cx="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092720" y="5156280"/>
              <a:ext cx="43200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524720" y="5156280"/>
              <a:ext cx="50328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020000" y="6021360"/>
              <a:ext cx="50472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4720" y="6021360"/>
              <a:ext cx="50328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0000" y="5445000"/>
            <a:ext cx="6121440" cy="720720"/>
            <a:chOff x="900000" y="5445000"/>
            <a:chExt cx="6121440" cy="720720"/>
          </a:xfrm>
        </p:grpSpPr>
        <p:sp>
          <p:nvSpPr>
            <p:cNvPr id="248" name=""/>
            <p:cNvSpPr/>
            <p:nvPr/>
          </p:nvSpPr>
          <p:spPr>
            <a:xfrm>
              <a:off x="973080" y="5445000"/>
              <a:ext cx="5904000" cy="720720"/>
            </a:xfrm>
            <a:prstGeom prst="wedgeRoundRectCallout">
              <a:avLst>
                <a:gd name="adj1" fmla="val 56481"/>
                <a:gd name="adj2" fmla="val -50000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0000" y="5516640"/>
              <a:ext cx="61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Arial"/>
                </a:rPr>
                <a:t>玄関口が一つだと分か　りやす～い</a:t>
              </a:r>
              <a:r>
                <a:rPr b="0" lang="ja-JP" sz="2800" spc="-1" strike="noStrike">
                  <a:solidFill>
                    <a:srgbClr val="ffffff"/>
                  </a:solidFill>
                  <a:latin typeface="Arial"/>
                </a:rPr>
                <a:t>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4572000" y="5084640"/>
            <a:ext cx="0" cy="1152720"/>
          </a:xfrm>
          <a:prstGeom prst="line">
            <a:avLst/>
          </a:prstGeom>
          <a:ln w="127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48720" y="17715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1125360"/>
            <a:ext cx="6048360" cy="14292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160640" y="174600"/>
            <a:ext cx="7746480" cy="6536880"/>
            <a:chOff x="1160640" y="174600"/>
            <a:chExt cx="7746480" cy="6536880"/>
          </a:xfrm>
        </p:grpSpPr>
        <p:grpSp>
          <p:nvGrpSpPr>
            <p:cNvPr id="275" name=""/>
            <p:cNvGrpSpPr/>
            <p:nvPr/>
          </p:nvGrpSpPr>
          <p:grpSpPr>
            <a:xfrm>
              <a:off x="1160640" y="174600"/>
              <a:ext cx="7746480" cy="6536880"/>
              <a:chOff x="1160640" y="174600"/>
              <a:chExt cx="7746480" cy="6536880"/>
            </a:xfrm>
          </p:grpSpPr>
          <p:sp>
            <p:nvSpPr>
              <p:cNvPr id="276" name=""/>
              <p:cNvSpPr/>
              <p:nvPr/>
            </p:nvSpPr>
            <p:spPr>
              <a:xfrm rot="2851800">
                <a:off x="2191320" y="1056240"/>
                <a:ext cx="4492440" cy="47736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851800">
                <a:off x="5204160" y="1804320"/>
                <a:ext cx="2959200" cy="331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367600" y="1869480"/>
                <a:ext cx="86580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662280" y="1224000"/>
              <a:ext cx="1727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14040" bIns="14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情報  提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93760" y="1054800"/>
            <a:ext cx="7498800" cy="6319800"/>
            <a:chOff x="293760" y="1054800"/>
            <a:chExt cx="7498800" cy="6319800"/>
          </a:xfrm>
        </p:grpSpPr>
        <p:sp>
          <p:nvSpPr>
            <p:cNvPr id="281" name=""/>
            <p:cNvSpPr/>
            <p:nvPr/>
          </p:nvSpPr>
          <p:spPr>
            <a:xfrm rot="13644000">
              <a:off x="2468160" y="1888920"/>
              <a:ext cx="4308480" cy="4651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3644000">
              <a:off x="1026000" y="2568960"/>
              <a:ext cx="2836800" cy="32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874240" y="4943160"/>
              <a:ext cx="83484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4000" y="5935680"/>
              <a:ext cx="18302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14040" bIns="14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利用・参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484360" y="6453360"/>
            <a:ext cx="6048360" cy="144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84720" y="3500280"/>
            <a:ext cx="1584360" cy="865440"/>
          </a:xfrm>
          <a:prstGeom prst="ellipse">
            <a:avLst/>
          </a:prstGeom>
          <a:solidFill>
            <a:srgbClr val="de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受信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3500280"/>
            <a:ext cx="1584360" cy="865440"/>
          </a:xfrm>
          <a:prstGeom prst="ellipse">
            <a:avLst/>
          </a:prstGeom>
          <a:solidFill>
            <a:srgbClr val="def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発信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549360"/>
            <a:ext cx="5472000" cy="50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6560" y="620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－１　情報ネットワーク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6472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2400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2602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24000" y="2276280"/>
            <a:ext cx="480960" cy="10810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72360" y="2276640"/>
            <a:ext cx="576000" cy="10810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372360" y="4437000"/>
            <a:ext cx="576000" cy="10796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0920" y="4508640"/>
            <a:ext cx="649440" cy="100800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341360"/>
            <a:ext cx="30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情報統合ネットワーク イメージ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24360" y="1773360"/>
            <a:ext cx="115236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編  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  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500720" y="1557000"/>
            <a:ext cx="0" cy="1366920"/>
          </a:xfrm>
          <a:prstGeom prst="line">
            <a:avLst/>
          </a:prstGeom>
          <a:ln w="889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4508640"/>
            <a:ext cx="1152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　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87640" y="2924280"/>
            <a:ext cx="3024360" cy="1944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統合組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</a:rPr>
              <a:t>最上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誌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運営と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4869000"/>
            <a:ext cx="0" cy="115236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1125360"/>
            <a:ext cx="8064360" cy="5472360"/>
          </a:xfrm>
          <a:prstGeom prst="rect">
            <a:avLst/>
          </a:prstGeom>
          <a:noFill/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496800" y="314172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271800" y="404640"/>
            <a:ext cx="6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さら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58680" y="2058840"/>
            <a:ext cx="423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流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298800" y="3282840"/>
            <a:ext cx="667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55440" y="4795920"/>
            <a:ext cx="423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496800" y="458136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496800" y="170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496800" y="260280"/>
            <a:ext cx="792000" cy="1224000"/>
          </a:xfrm>
          <a:prstGeom prst="octagon">
            <a:avLst>
              <a:gd name="adj" fmla="val 29287"/>
            </a:avLst>
          </a:prstGeom>
          <a:solidFill>
            <a:srgbClr val="eaeae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48720" y="177336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48720" y="692280"/>
            <a:ext cx="395280" cy="93636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360"/>
              <a:gd name="textAreaBottom" fmla="*/ 917280 h 936360"/>
            </a:gdLst>
            <a:ahLst/>
            <a:rect l="textAreaLeft" t="textAreaTop" r="textAreaRight" b="textAreaBottom"/>
            <a:pathLst>
              <a:path w="21600" h="51140">
                <a:moveTo>
                  <a:pt x="3600" y="0"/>
                </a:moveTo>
                <a:arcTo wR="3600" hR="3600" stAng="16200000" swAng="-5400000"/>
                <a:lnTo>
                  <a:pt x="0" y="47540"/>
                </a:lnTo>
                <a:arcTo wR="3600" hR="3600" stAng="10800000" swAng="-5400000"/>
                <a:lnTo>
                  <a:pt x="18000" y="5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725680" y="1844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モ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51360" y="292572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キ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725680" y="83664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1360" y="4005360"/>
            <a:ext cx="729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霞ヶ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1360" y="5157720"/>
            <a:ext cx="72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48720" y="393372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48720" y="50133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48720" y="285264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48720" y="1771560"/>
            <a:ext cx="395280" cy="936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936720"/>
              <a:gd name="textAreaBottom" fmla="*/ 917640 h 936720"/>
            </a:gdLst>
            <a:ahLst/>
            <a:rect l="textAreaLeft" t="textAreaTop" r="textAreaRight" b="textAreaBottom"/>
            <a:pathLst>
              <a:path w="21600" h="51160">
                <a:moveTo>
                  <a:pt x="3600" y="0"/>
                </a:moveTo>
                <a:arcTo wR="3600" hR="3600" stAng="16200000" swAng="-5400000"/>
                <a:lnTo>
                  <a:pt x="0" y="47560"/>
                </a:lnTo>
                <a:arcTo wR="3600" hR="3600" stAng="10800000" swAng="-5400000"/>
                <a:lnTo>
                  <a:pt x="18000" y="5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03364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26:18Z</dcterms:created>
  <dc:creator>yuge30</dc:creator>
  <dc:description/>
  <dc:language>en-US</dc:language>
  <cp:lastModifiedBy>yuge30</cp:lastModifiedBy>
  <dcterms:modified xsi:type="dcterms:W3CDTF">2006-02-23T03:08:51Z</dcterms:modified>
  <cp:revision>98</cp:revision>
  <dc:subject/>
  <dc:title>スライド 1</dc:title>
</cp:coreProperties>
</file>