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33.jpeg" ContentType="image/jpeg"/>
  <Override PartName="/ppt/media/image27.jpeg" ContentType="image/jpeg"/>
  <Override PartName="/ppt/media/image36.png" ContentType="image/png"/>
  <Override PartName="/ppt/media/image13.png" ContentType="image/png"/>
  <Override PartName="/ppt/media/image50.png" ContentType="image/png"/>
  <Override PartName="/ppt/media/image45.png" ContentType="image/png"/>
  <Override PartName="/ppt/media/image44.jpeg" ContentType="image/jpeg"/>
  <Override PartName="/ppt/media/image34.png" ContentType="image/png"/>
  <Override PartName="/ppt/media/image40.jpeg" ContentType="image/jpeg"/>
  <Override PartName="/ppt/media/image46.png" ContentType="image/png"/>
  <Override PartName="/ppt/media/image9.jpeg" ContentType="image/jpeg"/>
  <Override PartName="/ppt/media/image48.png" ContentType="image/png"/>
  <Override PartName="/ppt/media/image11.png" ContentType="image/png"/>
  <Override PartName="/ppt/media/image10.jpeg" ContentType="image/jpeg"/>
  <Override PartName="/ppt/media/image35.png" ContentType="image/png"/>
  <Override PartName="/ppt/media/image43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41.jpeg" ContentType="image/jpeg"/>
  <Override PartName="/ppt/media/image7.png" ContentType="image/png"/>
  <Override PartName="/ppt/media/image22.jpeg" ContentType="image/jpeg"/>
  <Override PartName="/ppt/media/image39.png" ContentType="image/png"/>
  <Override PartName="/ppt/media/image6.wmf" ContentType="image/x-wmf"/>
  <Override PartName="/ppt/media/image47.jpeg" ContentType="image/jpeg"/>
  <Override PartName="/ppt/media/image4.jpeg" ContentType="image/jpeg"/>
  <Override PartName="/ppt/media/image25.png" ContentType="image/png"/>
  <Override PartName="/ppt/media/image42.jpeg" ContentType="image/jpeg"/>
  <Override PartName="/ppt/media/image23.jpeg" ContentType="image/jpeg"/>
  <Override PartName="/ppt/media/image12.png" ContentType="image/png"/>
  <Override PartName="/ppt/media/image4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4B1-BF18-49ED-B883-5960A561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2FA-865F-4DEF-9E0F-71A4DCFC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7E0-19CC-4131-BD50-4DC26C98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A9F-6686-441C-B403-D55C6BE8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791-AA6F-4EE2-A10E-85DF9D1F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7917-37AE-41CB-8778-DA6DF64C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815-44FA-44BF-8B81-82828C65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481-8C77-46E3-8B51-736978C6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528E-7E9B-4FC3-ACB1-9A394C63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CB7-DE4D-4571-9B03-E8C4E44F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3E8-A382-4196-A9F1-D269DF18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D42-4306-4CDF-824C-255AA706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88E0-007A-4DCB-A878-9A4E35B8F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7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4.jpeg"/><Relationship Id="rId3" Type="http://schemas.openxmlformats.org/officeDocument/2006/relationships/image" Target="../media/image15.jpeg"/><Relationship Id="rId4" Type="http://schemas.openxmlformats.org/officeDocument/2006/relationships/image" Target="../media/image37.jpe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7.jpeg"/><Relationship Id="rId3" Type="http://schemas.openxmlformats.org/officeDocument/2006/relationships/image" Target="../media/image47.jpeg"/><Relationship Id="rId4" Type="http://schemas.openxmlformats.org/officeDocument/2006/relationships/image" Target="../media/image47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31.png"/><Relationship Id="rId5" Type="http://schemas.openxmlformats.org/officeDocument/2006/relationships/image" Target="../media/image5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56000"/>
          </a:blip>
          <a:stretch/>
        </p:blipFill>
        <p:spPr>
          <a:xfrm>
            <a:off x="4897440" y="1989000"/>
            <a:ext cx="4246560" cy="486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319120"/>
            <a:ext cx="74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Arial"/>
                <a:ea typeface="HG正楷書体-PRO"/>
              </a:rPr>
              <a:t>わっしょい土浦</a:t>
            </a:r>
            <a:br>
              <a:rPr sz="60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HG正楷書体-PRO"/>
              </a:rPr>
              <a:t>　　　　～だてにまたせたわけじゃねぇ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429264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２班　　班長　　　：浅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36880" y="471312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班員　　　：新井　樺嶋　田中　古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6040" y="51451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ＴＡ　　　：神田　伸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8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都市計画マスタープラン策定実習　第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回中間発表　　　　　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06/1/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1004760" cy="1152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19280" y="620640"/>
            <a:ext cx="1004760" cy="115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987640" y="620640"/>
            <a:ext cx="100476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836640"/>
            <a:ext cx="6769080" cy="5832360"/>
          </a:xfrm>
          <a:prstGeom prst="rect">
            <a:avLst/>
          </a:prstGeom>
          <a:solidFill>
            <a:srgbClr val="c0c0c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重点整備計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781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プロジェク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128412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アイランド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207648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駅西口わっしょ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14360" y="2940120"/>
            <a:ext cx="525636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旧水戸街道わっしょ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380520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桜川“よいまち”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459756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周辺道路改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78120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関連する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つの整備プログラ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4720" y="1141560"/>
            <a:ext cx="5759280" cy="41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85080" y="1557360"/>
            <a:ext cx="576360" cy="4680000"/>
          </a:xfrm>
          <a:prstGeom prst="wedgeRectCallout">
            <a:avLst>
              <a:gd name="adj1" fmla="val -251930"/>
              <a:gd name="adj2" fmla="val 3290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全てわっしょいトレイルで繋が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530064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住民参加に関連するソフトプログラ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42920" y="5734080"/>
            <a:ext cx="5761080" cy="79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5877000"/>
            <a:ext cx="5256000" cy="520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わっしょいトレイル会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836640"/>
            <a:ext cx="6769080" cy="5832360"/>
          </a:xfrm>
          <a:prstGeom prst="rect">
            <a:avLst/>
          </a:prstGeom>
          <a:solidFill>
            <a:srgbClr val="c0c0c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重点整備計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781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プロジェク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1284120"/>
            <a:ext cx="5256000" cy="52056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アイランド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207648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土浦駅西口わっしょ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14360" y="2940120"/>
            <a:ext cx="525636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旧水戸街道わっしょ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380520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桜川“よいまち”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32000" y="459756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周辺道路改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78120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関連する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つの整備プログラ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44720" y="1141560"/>
            <a:ext cx="5759280" cy="41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530064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住民参加に関連するソフトプログラ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5734080"/>
            <a:ext cx="5761080" cy="79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5877000"/>
            <a:ext cx="5256000" cy="520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わっしょいトレイル会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700360" y="736560"/>
            <a:ext cx="64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～そこにあるのは島ではなく繋がりだった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1052640"/>
            <a:ext cx="25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背景・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8120" y="2374920"/>
            <a:ext cx="4259520" cy="947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・親水･住居ゾーン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・マンション建設計画が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3645000"/>
            <a:ext cx="792360" cy="647640"/>
          </a:xfrm>
          <a:prstGeom prst="downArrow">
            <a:avLst>
              <a:gd name="adj1" fmla="val 52704"/>
              <a:gd name="adj2" fmla="val 42403"/>
            </a:avLst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7320" y="4653000"/>
            <a:ext cx="4270320" cy="9471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・霞ヶ浦湖畔を生か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・人口増加にあわせた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4826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プロジェクト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89000"/>
            <a:ext cx="622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土浦アイランドプログラ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44276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-55440" y="4428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土浦アイランドプログラム</a:t>
            </a:r>
            <a:br>
              <a:rPr sz="4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～そこにあるのは島ではなく繋がりだった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1341360"/>
            <a:ext cx="158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具体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8000" y="2421000"/>
            <a:ext cx="8856720" cy="3140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「土浦アイランド」と呼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沿岸をわっしょいトレイルとして整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ビオパークをはじめとする緑地の整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人口増加にあわせた公共、商業施設の誘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北部の川口運動公園を緑地豊かな公園に整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3059280" cy="3441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080160" y="762120"/>
            <a:ext cx="438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今日はお姉ちゃんのデートの尾行だよ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場所は彼氏の芳賀さんが住んでる土浦アイランド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カップルだらけで嫉妬しちゃ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きれいな桜もお姉ちゃんの前ではかすんじゃう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お姉ちゃん大好き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659640" y="4508640"/>
            <a:ext cx="2690640" cy="2690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4211640" y="2708280"/>
            <a:ext cx="1828800" cy="18064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300720" y="3357720"/>
            <a:ext cx="2683080" cy="1239840"/>
          </a:xfrm>
          <a:prstGeom prst="wedgeRoundRectCallout">
            <a:avLst>
              <a:gd name="adj1" fmla="val -4615"/>
              <a:gd name="adj2" fmla="val 90847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芳賀さんは高齢者に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住みやすいまちだっ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喜んでるわ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1219320" y="3124080"/>
            <a:ext cx="4330440" cy="4330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225760" y="4346640"/>
            <a:ext cx="103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芳賀さん　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65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Arial"/>
                <a:ea typeface="HGP創英角ｺﾞｼｯｸUB"/>
              </a:rPr>
              <a:t>土浦アイランドプログラムが実現し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24922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圭くん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43280" y="638172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おねえちゃん　？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5" dur="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6" dur="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9280" y="836640"/>
            <a:ext cx="6769080" cy="5832360"/>
          </a:xfrm>
          <a:prstGeom prst="rect">
            <a:avLst/>
          </a:prstGeom>
          <a:solidFill>
            <a:srgbClr val="c0c0c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重点整備計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781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プロジェク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32000" y="128412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土浦アイランド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0" y="2076480"/>
            <a:ext cx="5256000" cy="52056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駅西口わっしょ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14360" y="2940120"/>
            <a:ext cx="525636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旧水戸街道わっしょ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380520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桜川“よいまち”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59756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周辺道路改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78120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関連する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つの整備プログラ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44720" y="1141560"/>
            <a:ext cx="5759280" cy="41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530064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住民参加に関連するソフトプログラ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42920" y="5734080"/>
            <a:ext cx="5761080" cy="79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5877000"/>
            <a:ext cx="5256000" cy="520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わっしょいトレイル会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4436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土浦駅西口わっしょいプログラ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907920"/>
            <a:ext cx="25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背景・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9280" y="2492280"/>
            <a:ext cx="4824360" cy="11912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ペデストリアンの上の歩行者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　周辺に流れてい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空きビル・古い民家が密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50920" y="3933720"/>
            <a:ext cx="792360" cy="647640"/>
          </a:xfrm>
          <a:prstGeom prst="downArrow">
            <a:avLst>
              <a:gd name="adj1" fmla="val 49898"/>
              <a:gd name="adj2" fmla="val 43870"/>
            </a:avLst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9280" y="4873680"/>
            <a:ext cx="4824360" cy="11448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歩行者を商店街、モール５０５に誘導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快適な住居空間の提供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土浦のシンボルの創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076720" y="2060640"/>
            <a:ext cx="3888000" cy="3887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0"/>
            <a:ext cx="4826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プロジェクト２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433760" cy="4441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土浦駅西口わっしょいプログラ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765000"/>
            <a:ext cx="158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具体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1844640"/>
            <a:ext cx="41050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「わっしょい広場」の建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2565360"/>
            <a:ext cx="410508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モール５０５から東口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わっしょいトレイル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3716280"/>
            <a:ext cx="411624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わっしょい広場周辺の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-609480" y="4572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193840" y="63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67400" y="76212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週末は土浦駅の西口によく行く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大きい公園があって子供も喜ぶし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お店が増えて買い物にも便利なの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8000" y="2781360"/>
            <a:ext cx="2067120" cy="479520"/>
          </a:xfrm>
          <a:prstGeom prst="wedgeRoundRectCallout">
            <a:avLst>
              <a:gd name="adj1" fmla="val -46467"/>
              <a:gd name="adj2" fmla="val 72518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超楽しんだけど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5386320" y="3645000"/>
            <a:ext cx="3757680" cy="37576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257800" y="3429000"/>
            <a:ext cx="2819520" cy="914400"/>
          </a:xfrm>
          <a:prstGeom prst="wedgeRoundRectCallout">
            <a:avLst>
              <a:gd name="adj1" fmla="val 13458"/>
              <a:gd name="adj2" fmla="val 77430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お祭りのメイン会場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なっているの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6019920" y="762120"/>
            <a:ext cx="3124080" cy="2342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533520" y="4095720"/>
            <a:ext cx="4267080" cy="27622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Arial"/>
                <a:ea typeface="HGP創英角ｺﾞｼｯｸUB"/>
              </a:rPr>
              <a:t>土浦駅西口わっしょいプログラムが実現し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78136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圭くんのママ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</a:t>
            </a: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1240" y="36608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圭くんの妹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8" dur="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9" dur="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9280" y="836640"/>
            <a:ext cx="6769080" cy="5832360"/>
          </a:xfrm>
          <a:prstGeom prst="rect">
            <a:avLst/>
          </a:prstGeom>
          <a:solidFill>
            <a:srgbClr val="c0c0c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重点整備計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781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プロジェク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32000" y="128412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土浦アイランド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32000" y="207648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土浦駅西口わっしょ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14360" y="2940120"/>
            <a:ext cx="5256360" cy="52056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旧水戸街道わっしょ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32000" y="380520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桜川“よいまち”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32000" y="459756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周辺道路改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78120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関連する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つの整備プログラ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44720" y="1141560"/>
            <a:ext cx="5759280" cy="41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530064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住民参加に関連するソフトプログラ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42920" y="5734080"/>
            <a:ext cx="5761080" cy="79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32000" y="5877000"/>
            <a:ext cx="5256000" cy="520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わっしょいトレイル会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050920" cy="205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771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685600">
            <a:off x="1187280" y="1268280"/>
            <a:ext cx="151308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少子高齢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438000">
            <a:off x="250560" y="1773360"/>
            <a:ext cx="2808360" cy="398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モータリゼーション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1125360"/>
            <a:ext cx="1513080" cy="136872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342000 h 1368720"/>
              <a:gd name="textAreaBottom" fmla="*/ 1026720 h 136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620640"/>
            <a:ext cx="4032360" cy="2952720"/>
          </a:xfrm>
          <a:custGeom>
            <a:avLst/>
            <a:gdLst>
              <a:gd name="textAreaLeft" fmla="*/ 806400 w 4032360"/>
              <a:gd name="textAreaRight" fmla="*/ 4839120 w 4032360"/>
              <a:gd name="textAreaTop" fmla="*/ 382680 h 2952720"/>
              <a:gd name="textAreaBottom" fmla="*/ 2570040 h 2952720"/>
            </a:gdLst>
            <a:ahLst/>
            <a:rect l="textAreaLeft" t="textAreaTop" r="textAreaRight" b="textAreaBottom"/>
            <a:pathLst>
              <a:path w="21600" h="21600">
                <a:moveTo>
                  <a:pt x="4320" y="1400"/>
                </a:moveTo>
                <a:cubicBezTo>
                  <a:pt x="5760" y="-3560"/>
                  <a:pt x="11520" y="6360"/>
                  <a:pt x="12960" y="1400"/>
                </a:cubicBezTo>
                <a:cubicBezTo>
                  <a:pt x="14400" y="-3560"/>
                  <a:pt x="20160" y="6360"/>
                  <a:pt x="21600" y="1400"/>
                </a:cubicBezTo>
                <a:lnTo>
                  <a:pt x="17280" y="20200"/>
                </a:lnTo>
                <a:cubicBezTo>
                  <a:pt x="15840" y="25160"/>
                  <a:pt x="10080" y="15240"/>
                  <a:pt x="8640" y="20200"/>
                </a:cubicBezTo>
                <a:cubicBezTo>
                  <a:pt x="7200" y="25160"/>
                  <a:pt x="144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45080" y="119700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G正楷書体-PRO"/>
              </a:rPr>
              <a:t>公共交通利用者の減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45080" y="19162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G正楷書体-PRO"/>
              </a:rPr>
              <a:t>中心市街地の衰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2637000"/>
            <a:ext cx="35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G正楷書体-PRO"/>
              </a:rPr>
              <a:t>都市の郊外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4365720"/>
            <a:ext cx="7201080" cy="720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土浦の良い部分＝潜在能力をもっと活か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2997360"/>
            <a:ext cx="2664000" cy="144144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しか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5516640"/>
            <a:ext cx="7201080" cy="72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土浦を活気のあるまちに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5013360"/>
            <a:ext cx="1297080" cy="647640"/>
          </a:xfrm>
          <a:prstGeom prst="downArrow">
            <a:avLst>
              <a:gd name="adj1" fmla="val 48352"/>
              <a:gd name="adj2" fmla="val 4975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6093000"/>
            <a:ext cx="2303640" cy="649080"/>
          </a:xfrm>
          <a:prstGeom prst="wedgeEllipseCallout">
            <a:avLst>
              <a:gd name="adj1" fmla="val 67782"/>
              <a:gd name="adj2" fmla="val -15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そこで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932360" y="2133720"/>
            <a:ext cx="4211640" cy="3159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17784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旧水戸街道わっしょいプログラ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1041480"/>
            <a:ext cx="25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背景・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5000" y="2276640"/>
            <a:ext cx="458136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旧水戸街道の歴史ある町並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歴史の小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2920" y="4149720"/>
            <a:ext cx="4608360" cy="794520"/>
          </a:xfrm>
          <a:prstGeom prst="rect">
            <a:avLst/>
          </a:prstGeom>
          <a:solidFill>
            <a:srgbClr val="99cc00">
              <a:alpha val="62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・歴史とふれあう空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・日常生活の場として安全・安心な空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4826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プロジェクト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8000" y="3284640"/>
            <a:ext cx="792360" cy="647640"/>
          </a:xfrm>
          <a:prstGeom prst="downArrow">
            <a:avLst>
              <a:gd name="adj1" fmla="val 49898"/>
              <a:gd name="adj2" fmla="val 43870"/>
            </a:avLst>
          </a:prstGeom>
          <a:solidFill>
            <a:srgbClr val="8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旧水戸街道わっしょいプログラ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0920" y="981000"/>
            <a:ext cx="158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具体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1916280"/>
            <a:ext cx="417672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歩行者空間の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4222800" cy="4248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95280" y="2565360"/>
            <a:ext cx="41767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街道をアピー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3213000"/>
            <a:ext cx="41767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町屋建築を保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3860640"/>
            <a:ext cx="4176720" cy="947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子供の溜まり場をつく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寺子屋、駄菓子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4941720"/>
            <a:ext cx="4176720" cy="947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大人の溜まり場をつく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ベンチ、ポケットパー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4495680" cy="30416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364000" y="3068640"/>
            <a:ext cx="4591080" cy="45910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0" y="6922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476360" y="692280"/>
            <a:ext cx="741672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僕たちはいつも旧水戸街道の寺子屋で遊ぶんだ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まるで水戸黄門の世界だ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ネバネバするのがサイコーだね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それは水戸納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3640" y="2349360"/>
            <a:ext cx="2592720" cy="1333800"/>
          </a:xfrm>
          <a:prstGeom prst="wedgeRoundRectCallout">
            <a:avLst>
              <a:gd name="adj1" fmla="val 25810"/>
              <a:gd name="adj2" fmla="val 77620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大人が面倒を見てくれているし、ここなら子供だけで遊ばせても安全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51280" y="5661000"/>
            <a:ext cx="2557440" cy="838080"/>
          </a:xfrm>
          <a:prstGeom prst="wedgeRoundRectCallout">
            <a:avLst>
              <a:gd name="adj1" fmla="val 47703"/>
              <a:gd name="adj2" fmla="val -101703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歴史を感じる生活っ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とっても素敵や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Arial"/>
                <a:ea typeface="HGP創英角ｺﾞｼｯｸUB"/>
              </a:rPr>
              <a:t>旧水戸街道わっしょいプログラムが実現し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87640" y="2421000"/>
            <a:ext cx="1655640" cy="503280"/>
          </a:xfrm>
          <a:prstGeom prst="wedgeRoundRectCallout">
            <a:avLst>
              <a:gd name="adj1" fmla="val -70037"/>
              <a:gd name="adj2" fmla="val -20032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みのもんた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それは司会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704000" y="400536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行書体"/>
                <a:ea typeface="HGP行書体"/>
              </a:rPr>
              <a:t>ひかえおろー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1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1" dur="1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2" dur="1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79280" y="836640"/>
            <a:ext cx="6769080" cy="5832360"/>
          </a:xfrm>
          <a:prstGeom prst="rect">
            <a:avLst/>
          </a:prstGeom>
          <a:solidFill>
            <a:srgbClr val="c0c0c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重点整備計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781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プロジェク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32000" y="128412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土浦アイランド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32000" y="207648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土浦駅西口わっしょ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14360" y="2940120"/>
            <a:ext cx="525636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旧水戸街道わっしょ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32000" y="3805200"/>
            <a:ext cx="5256000" cy="52056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桜川“よいまち”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32000" y="459756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周辺道路改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0920" y="78120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関連する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つの整備プログラ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44720" y="1141560"/>
            <a:ext cx="5759280" cy="41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530064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住民参加に関連するソフトプログラ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42920" y="5734080"/>
            <a:ext cx="5761080" cy="79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32000" y="5877000"/>
            <a:ext cx="5256000" cy="520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わっしょいトレイル会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908000" y="47628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eaeaea"/>
                </a:solidFill>
                <a:latin typeface="HG正楷書体-PRO"/>
                <a:ea typeface="HG正楷書体-PRO"/>
              </a:rPr>
              <a:t>宵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18900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桜川“よいまち”プログラ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1197000"/>
            <a:ext cx="25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背景・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9280" y="2421000"/>
            <a:ext cx="482436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土浦駅を利用する通勤者が多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関東有数の歓楽街である桜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桜川沿いの美しい景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9280" y="4873680"/>
            <a:ext cx="4897440" cy="11912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夜も安全なま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快適に「おつかれさま」がいえる空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桜川沿いの景観を生かす親水空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5141880" y="2581200"/>
            <a:ext cx="3894120" cy="29354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0" y="0"/>
            <a:ext cx="4826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プロジェクト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124000" y="3933720"/>
            <a:ext cx="792360" cy="647640"/>
          </a:xfrm>
          <a:prstGeom prst="downArrow">
            <a:avLst>
              <a:gd name="adj1" fmla="val 49898"/>
              <a:gd name="adj2" fmla="val 43870"/>
            </a:avLst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桜川“よいまち”プログラ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0920" y="981000"/>
            <a:ext cx="158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具体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4000" y="1989000"/>
            <a:ext cx="40320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HGP創英角ｺﾞｼｯｸUB"/>
              </a:rPr>
              <a:t>桜川沿いの歩道の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4211640" cy="4122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24000" y="2781360"/>
            <a:ext cx="40320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桜がよく見えるように景観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4000" y="3933720"/>
            <a:ext cx="40320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屋台船の利用などの親水空間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08000" y="405756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6443640" y="3933720"/>
            <a:ext cx="3362400" cy="33624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-684360" y="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692360" y="620640"/>
            <a:ext cx="720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ふう、今日も疲れたなあ。昔は家に帰ると子どもたちが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パパお帰りー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」って抱きついてきたのに、今はだれも出迎えてくれや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サクラマチだけだよ、やさしくしてくれるのは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ちょっとだけ、いつもの店に寄っていこうか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レン子さん、素敵なんだよね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80000" y="4221000"/>
            <a:ext cx="3313080" cy="1295640"/>
          </a:xfrm>
          <a:prstGeom prst="wedgeRoundRectCallout">
            <a:avLst>
              <a:gd name="adj1" fmla="val 53115"/>
              <a:gd name="adj2" fmla="val 66546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行書体"/>
              </a:rPr>
              <a:t>お疲れさま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行書体"/>
              </a:rPr>
              <a:t>川を眺めて、桜をみて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行書体"/>
              </a:rPr>
              <a:t>花火をみて、私をみて･･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Arial"/>
                <a:ea typeface="HGP創英角ｺﾞｼｯｸUB"/>
              </a:rPr>
              <a:t>桜川“よいまち”プログラムが実現し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35280" y="321300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秋の花火大会では会社が屋形船を予約するって言ってた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楽しみだな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2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4" dur="2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5" dur="2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79280" y="836640"/>
            <a:ext cx="6769080" cy="5832360"/>
          </a:xfrm>
          <a:prstGeom prst="rect">
            <a:avLst/>
          </a:prstGeom>
          <a:solidFill>
            <a:srgbClr val="c0c0c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重点整備計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781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プロジェク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32000" y="128412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土浦アイランド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32000" y="207648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土浦駅西口わっしょ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14360" y="2940120"/>
            <a:ext cx="525636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旧水戸街道わっしょ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32000" y="380520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桜川“よいまち”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332000" y="4597560"/>
            <a:ext cx="5256000" cy="52056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周辺道路改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78120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関連する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つの整備プログラ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44720" y="1141560"/>
            <a:ext cx="5759280" cy="41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0920" y="530064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住民参加に関連するソフトプログラ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5734080"/>
            <a:ext cx="5761080" cy="79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332000" y="5877000"/>
            <a:ext cx="5256000" cy="520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わっしょいトレイル会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13824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周辺道路改善プログラ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907920"/>
            <a:ext cx="25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背景・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9280" y="2421000"/>
            <a:ext cx="4824360" cy="82548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土浦市内の通過交通が多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周辺の渋滞が多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9280" y="4581360"/>
            <a:ext cx="4824360" cy="7038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通過交通を幹線道路に振り分け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安全な歩行者空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4826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プロジェクト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95640" y="3573360"/>
            <a:ext cx="792000" cy="647640"/>
          </a:xfrm>
          <a:prstGeom prst="downArrow">
            <a:avLst>
              <a:gd name="adj1" fmla="val 49898"/>
              <a:gd name="adj2" fmla="val 43870"/>
            </a:avLst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741480" cy="47386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932360" y="616572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25</a:t>
            </a: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道路未整備の土浦の混雑状況予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周辺道路改善プログラ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0920" y="981000"/>
            <a:ext cx="158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具体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9280" y="2205000"/>
            <a:ext cx="4680000" cy="15570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圏央道の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国道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号牛久土浦バイパスの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中貫交差点からの土浦バイパ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車線化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7320" y="4869000"/>
            <a:ext cx="5040000" cy="8254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土浦中心部の通過交通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中心部の人口７％増　就業者４％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24000" y="4076640"/>
            <a:ext cx="792360" cy="647640"/>
          </a:xfrm>
          <a:prstGeom prst="downArrow">
            <a:avLst>
              <a:gd name="adj1" fmla="val 49898"/>
              <a:gd name="adj2" fmla="val 43870"/>
            </a:avLst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679920" cy="4608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5075280" y="616572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25</a:t>
            </a: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道路整備済の土浦の混雑状況予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907920"/>
            <a:ext cx="8064360" cy="5329440"/>
          </a:xfrm>
          <a:prstGeom prst="roundRect">
            <a:avLst>
              <a:gd name="adj" fmla="val 884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3132000" y="1267560"/>
            <a:ext cx="4896000" cy="360360"/>
          </a:xfrm>
          <a:custGeom>
            <a:avLst/>
            <a:gdLst>
              <a:gd name="textAreaLeft" fmla="*/ 0 w 4896000"/>
              <a:gd name="textAreaRight" fmla="*/ 4896360 w 489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8" y="0"/>
                </a:lnTo>
                <a:lnTo>
                  <a:pt x="21600" y="10800"/>
                </a:lnTo>
                <a:lnTo>
                  <a:pt x="179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人がたくさん行き来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3132000" y="1772640"/>
            <a:ext cx="4896000" cy="345960"/>
          </a:xfrm>
          <a:custGeom>
            <a:avLst/>
            <a:gdLst>
              <a:gd name="textAreaLeft" fmla="*/ 0 w 4896000"/>
              <a:gd name="textAreaRight" fmla="*/ 4896360 w 48960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8" y="0"/>
                </a:lnTo>
                <a:lnTo>
                  <a:pt x="21600" y="10800"/>
                </a:lnTo>
                <a:lnTo>
                  <a:pt x="179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人がまちの中にずっと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3132000" y="2287080"/>
            <a:ext cx="4896000" cy="339840"/>
          </a:xfrm>
          <a:custGeom>
            <a:avLst/>
            <a:gdLst>
              <a:gd name="textAreaLeft" fmla="*/ 0 w 4896000"/>
              <a:gd name="textAreaRight" fmla="*/ 4896360 w 489600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8" y="0"/>
                </a:lnTo>
                <a:lnTo>
                  <a:pt x="21600" y="10800"/>
                </a:lnTo>
                <a:lnTo>
                  <a:pt x="179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住民が土浦の魅力に気付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800000">
            <a:off x="3132000" y="2780640"/>
            <a:ext cx="4896000" cy="360360"/>
          </a:xfrm>
          <a:custGeom>
            <a:avLst/>
            <a:gdLst>
              <a:gd name="textAreaLeft" fmla="*/ 0 w 4896000"/>
              <a:gd name="textAreaRight" fmla="*/ 4896360 w 489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8" y="0"/>
                </a:lnTo>
                <a:lnTo>
                  <a:pt x="21600" y="10800"/>
                </a:lnTo>
                <a:lnTo>
                  <a:pt x="179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外から来た人が土浦の魅力に気付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3132000" y="3295440"/>
            <a:ext cx="4896000" cy="360360"/>
          </a:xfrm>
          <a:custGeom>
            <a:avLst/>
            <a:gdLst>
              <a:gd name="textAreaLeft" fmla="*/ 0 w 4896000"/>
              <a:gd name="textAreaRight" fmla="*/ 4896360 w 489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8" y="0"/>
                </a:lnTo>
                <a:lnTo>
                  <a:pt x="21600" y="10800"/>
                </a:lnTo>
                <a:lnTo>
                  <a:pt x="179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人の交流がさか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419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将来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58920" y="1268280"/>
            <a:ext cx="1801800" cy="4535640"/>
          </a:xfrm>
          <a:prstGeom prst="verticalScroll">
            <a:avLst>
              <a:gd name="adj" fmla="val 7930"/>
            </a:avLst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46680" y="1628640"/>
            <a:ext cx="7902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33"/>
                </a:solidFill>
                <a:latin typeface="Arial"/>
                <a:ea typeface="HG正楷書体-PRO"/>
              </a:rPr>
              <a:t>～だてに待たせたわけじゃねぇ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81520" y="1341360"/>
            <a:ext cx="16426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Arial"/>
                <a:ea typeface="HG正楷書体-PRO"/>
              </a:rPr>
              <a:t>わっしょい土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3059280" y="3811320"/>
            <a:ext cx="4968720" cy="384120"/>
          </a:xfrm>
          <a:custGeom>
            <a:avLst/>
            <a:gdLst>
              <a:gd name="textAreaLeft" fmla="*/ 0 w 4968720"/>
              <a:gd name="textAreaRight" fmla="*/ 4969080 w 496872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8" y="0"/>
                </a:lnTo>
                <a:lnTo>
                  <a:pt x="21600" y="10800"/>
                </a:lnTo>
                <a:lnTo>
                  <a:pt x="179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住民の憩いの空間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3059280" y="4341600"/>
            <a:ext cx="4968720" cy="384120"/>
          </a:xfrm>
          <a:custGeom>
            <a:avLst/>
            <a:gdLst>
              <a:gd name="textAreaLeft" fmla="*/ 0 w 4968720"/>
              <a:gd name="textAreaRight" fmla="*/ 4969080 w 496872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8" y="0"/>
                </a:lnTo>
                <a:lnTo>
                  <a:pt x="21600" y="10800"/>
                </a:lnTo>
                <a:lnTo>
                  <a:pt x="179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安心･安全を感じ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3059280" y="4863960"/>
            <a:ext cx="4968720" cy="384480"/>
          </a:xfrm>
          <a:custGeom>
            <a:avLst/>
            <a:gdLst>
              <a:gd name="textAreaLeft" fmla="*/ 0 w 4968720"/>
              <a:gd name="textAreaRight" fmla="*/ 4969080 w 4968720"/>
              <a:gd name="textAreaTop" fmla="*/ 0 h 384480"/>
              <a:gd name="textAreaBottom" fmla="*/ 384840 h 38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8" y="0"/>
                </a:lnTo>
                <a:lnTo>
                  <a:pt x="21600" y="10800"/>
                </a:lnTo>
                <a:lnTo>
                  <a:pt x="179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住民参加に活気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0800000">
            <a:off x="3069720" y="5393880"/>
            <a:ext cx="4969080" cy="384120"/>
          </a:xfrm>
          <a:custGeom>
            <a:avLst/>
            <a:gdLst>
              <a:gd name="textAreaLeft" fmla="*/ 0 w 4969080"/>
              <a:gd name="textAreaRight" fmla="*/ 4969440 w 496908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8" y="0"/>
                </a:lnTo>
                <a:lnTo>
                  <a:pt x="21600" y="10800"/>
                </a:lnTo>
                <a:lnTo>
                  <a:pt x="179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住民も観光客もみんなが元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9280" y="836640"/>
            <a:ext cx="6769080" cy="5832360"/>
          </a:xfrm>
          <a:prstGeom prst="rect">
            <a:avLst/>
          </a:prstGeom>
          <a:solidFill>
            <a:srgbClr val="c0c0c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重点整備計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781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プロジェク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32000" y="128412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土浦アイランド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332000" y="207648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土浦駅西口わっしょ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14360" y="2940120"/>
            <a:ext cx="525636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旧水戸街道わっしょ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32000" y="380520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桜川“よいまち”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32000" y="4597560"/>
            <a:ext cx="52560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HGP創英角ｺﾞｼｯｸUB"/>
                <a:ea typeface="HGP創英角ｺﾞｼｯｸUB"/>
              </a:rPr>
              <a:t>周辺道路改善プログラ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0920" y="78120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関連する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つの整備プログラ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44720" y="1141560"/>
            <a:ext cx="5759280" cy="410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530064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住民参加に関連するソフトプログラ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42920" y="5734080"/>
            <a:ext cx="5761080" cy="79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32000" y="5877000"/>
            <a:ext cx="5256000" cy="520560"/>
          </a:xfrm>
          <a:prstGeom prst="rect">
            <a:avLst/>
          </a:prstGeom>
          <a:gradFill rotWithShape="0">
            <a:gsLst>
              <a:gs pos="0">
                <a:srgbClr val="f8b049"/>
              </a:gs>
              <a:gs pos="50000">
                <a:srgbClr val="fc9fcb"/>
              </a:gs>
              <a:gs pos="100000">
                <a:srgbClr val="f8b04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わっしょいトレイル会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4826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ソフト面での活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16668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会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981000"/>
            <a:ext cx="133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重点整備計画：わっしょいプロジェク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4000" y="1773360"/>
            <a:ext cx="648000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今までの住民参加：行政側の働きかけに住民が応じる形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27280" y="2637000"/>
            <a:ext cx="5975280" cy="398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住民のまちに対する愛着が生まれにくくはない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4000" y="2421000"/>
            <a:ext cx="2160360" cy="7920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かしそれでは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16000" y="4005360"/>
            <a:ext cx="6840720" cy="8636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住民が自発的に働きだす仕組みをつくることが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67280" y="3146400"/>
            <a:ext cx="1368360" cy="79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こ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1280" y="5805360"/>
            <a:ext cx="799308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中心的存在となるわっしょいトレイルを媒体に住民参加を促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067280" y="4935600"/>
            <a:ext cx="136836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こ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4859280" y="43657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7020000" y="3789360"/>
            <a:ext cx="2124000" cy="2124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2195640" y="565200"/>
            <a:ext cx="4681440" cy="647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会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6280" y="2936880"/>
            <a:ext cx="3529080" cy="11350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運営会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トレイルで活動する市民により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全体活動計画を作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46640" y="2865600"/>
            <a:ext cx="3529080" cy="1206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行政会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地域の公的機関の連携組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運営会議を支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77920" y="4721400"/>
            <a:ext cx="1368360" cy="880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活動団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（運営主体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33560" y="4721400"/>
            <a:ext cx="1370160" cy="880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活動団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（運営主体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4721400"/>
            <a:ext cx="1584360" cy="88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一般市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（飛び入り参加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40000" y="5734080"/>
            <a:ext cx="4608360" cy="9367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地域住民を主体とした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行政は主体ではなく支援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853920" y="4073400"/>
            <a:ext cx="360360" cy="6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2222640" y="4073400"/>
            <a:ext cx="288720" cy="6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3303360" y="4073400"/>
            <a:ext cx="934920" cy="6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51280" y="3009960"/>
            <a:ext cx="1297080" cy="919080"/>
          </a:xfrm>
          <a:prstGeom prst="leftRightArrow">
            <a:avLst>
              <a:gd name="adj1" fmla="val 60352"/>
              <a:gd name="adj2" fmla="val 26827"/>
            </a:avLst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連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536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会議のしくみ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59280" y="1384200"/>
            <a:ext cx="3671640" cy="129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美しい景観づく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活力ある地域づく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魅力ある歩行者空間づく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9564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目標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547640" y="692280"/>
            <a:ext cx="5975640" cy="936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476360" y="2779560"/>
            <a:ext cx="1800360" cy="1297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祭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花火大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564000" y="2779560"/>
            <a:ext cx="1800000" cy="129708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サイクリングツア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651640" y="2779560"/>
            <a:ext cx="1800000" cy="129708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グリーンツーリズ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76360" y="5229360"/>
            <a:ext cx="1800360" cy="115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「住民の」祭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として定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564000" y="5229360"/>
            <a:ext cx="1728720" cy="115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周辺部に足を向けてもらうきっかけ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51640" y="5229360"/>
            <a:ext cx="1800000" cy="115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農村部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アピ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924360" y="1699920"/>
            <a:ext cx="1081080" cy="934920"/>
            <a:chOff x="3924360" y="1699920"/>
            <a:chExt cx="1081080" cy="934920"/>
          </a:xfrm>
        </p:grpSpPr>
        <p:sp>
          <p:nvSpPr>
            <p:cNvPr id="405" name=""/>
            <p:cNvSpPr/>
            <p:nvPr/>
          </p:nvSpPr>
          <p:spPr>
            <a:xfrm>
              <a:off x="3924360" y="2063520"/>
              <a:ext cx="108108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6200000">
              <a:off x="4003200" y="2040840"/>
              <a:ext cx="934920" cy="25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 rot="16200000">
            <a:off x="4302000" y="4519440"/>
            <a:ext cx="1081080" cy="25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3510000" y="4519440"/>
            <a:ext cx="1081080" cy="25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680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会議とイベントの連携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8360" y="2637000"/>
            <a:ext cx="647640" cy="1584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1584000"/>
              <a:gd name="textAreaBottom" fmla="*/ 1552680 h 1584000"/>
            </a:gdLst>
            <a:ahLst/>
            <a:rect l="textAreaLeft" t="textAreaTop" r="textAreaRight" b="textAreaBottom"/>
            <a:pathLst>
              <a:path w="21600" h="52812">
                <a:moveTo>
                  <a:pt x="3600" y="0"/>
                </a:moveTo>
                <a:arcTo wR="3600" hR="3600" stAng="16200000" swAng="-5400000"/>
                <a:lnTo>
                  <a:pt x="0" y="49212"/>
                </a:lnTo>
                <a:arcTo wR="3600" hR="3600" stAng="10800000" swAng="-5400000"/>
                <a:lnTo>
                  <a:pt x="18000" y="52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イベント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443640" y="4076640"/>
            <a:ext cx="3362400" cy="33624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-612720" y="4626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-468360" y="141300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6948360" y="549360"/>
            <a:ext cx="2819520" cy="28191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3780000" y="4076640"/>
            <a:ext cx="3306600" cy="24894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6"/>
          <a:stretch/>
        </p:blipFill>
        <p:spPr>
          <a:xfrm>
            <a:off x="2627280" y="1773360"/>
            <a:ext cx="2298600" cy="288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003640" y="692280"/>
            <a:ext cx="2527560" cy="1511280"/>
          </a:xfrm>
          <a:prstGeom prst="wedgeRoundRectCallout">
            <a:avLst>
              <a:gd name="adj1" fmla="val 67587"/>
              <a:gd name="adj2" fmla="val -25208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この度わっトレ会議の理事になりました。まちづくりは僕たちに任せて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64360" y="3933720"/>
            <a:ext cx="1774800" cy="453960"/>
          </a:xfrm>
          <a:prstGeom prst="wedgeRoundRectCallout">
            <a:avLst>
              <a:gd name="adj1" fmla="val 1879"/>
              <a:gd name="adj2" fmla="val 174824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行書体"/>
              </a:rPr>
              <a:t>お父さん、素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Arial"/>
                <a:ea typeface="HGP創英角ｺﾞｼｯｸUB"/>
              </a:rPr>
              <a:t>わっしょいトレイル会議が実現し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47628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わっしょいトレイル会議</a:t>
            </a: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略してわっトレ</a:t>
            </a:r>
            <a:r>
              <a:rPr b="0" lang="en-US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にはぼくたち子どもだって参加できるんだ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昨日は自転車でゴミひろい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00000" y="4653000"/>
            <a:ext cx="280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ワシはばあさんと自慢の花壇を毎日世話しとる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場所はわっしょい公園のなあ・・・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中略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・・で植えてる花はなあ・・・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以下略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7" dur="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8" dur="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0"/>
            <a:ext cx="341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基本構想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325520" y="260280"/>
            <a:ext cx="6357960" cy="6413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 rot="1153800">
            <a:off x="3657600" y="2796840"/>
            <a:ext cx="1295280" cy="196848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4754880" y="1639080"/>
            <a:ext cx="744480" cy="1631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2916000" y="4797360"/>
            <a:ext cx="93528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320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今後の展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042920" y="1700280"/>
            <a:ext cx="590544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プロジェクトの評価方法の検討と評価の実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042920" y="3500280"/>
            <a:ext cx="590544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神立・荒川沖におけるプロジェクト内容の更なる検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042920" y="4471920"/>
            <a:ext cx="590544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新治でのわっしょいプロジェクトの検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42920" y="2600280"/>
            <a:ext cx="59054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わっしょいトレイル会議詳細の検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042920" y="5337000"/>
            <a:ext cx="590544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その他不足している分野の整備の検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0" y="2752560"/>
          <a:ext cx="410544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52560"/>
                    <a:ext cx="41054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5867280" y="1628640"/>
            <a:ext cx="5715000" cy="5715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468360" y="-1035000"/>
            <a:ext cx="4876920" cy="48769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5"/>
          <a:stretch/>
        </p:blipFill>
        <p:spPr>
          <a:xfrm>
            <a:off x="6300720" y="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059280" y="2708280"/>
            <a:ext cx="29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おわ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12000" y="5084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最終発表へ続く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6"/>
          <a:stretch/>
        </p:blipFill>
        <p:spPr>
          <a:xfrm>
            <a:off x="8002440" y="5589720"/>
            <a:ext cx="943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1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0" dur="1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1" dur="1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1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50" dur="1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1" dur="1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1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0" dur="1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1" dur="1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0" dur="5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1" dur="5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122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基本構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13200" y="1630440"/>
            <a:ext cx="1225440" cy="122544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住民参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6360" y="1627200"/>
            <a:ext cx="1225800" cy="122544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産業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も元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48320" y="1630440"/>
            <a:ext cx="1225800" cy="122544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資源活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71440" y="231840"/>
            <a:ext cx="649440" cy="122400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40699">
                <a:moveTo>
                  <a:pt x="3600" y="0"/>
                </a:moveTo>
                <a:arcTo wR="3600" hR="3600" stAng="16200000" swAng="-5400000"/>
                <a:lnTo>
                  <a:pt x="0" y="37099"/>
                </a:lnTo>
                <a:arcTo wR="3600" hR="3600" stAng="10800000" swAng="-5400000"/>
                <a:lnTo>
                  <a:pt x="18000" y="40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将来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560" y="1195560"/>
            <a:ext cx="0" cy="431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752640" y="1170000"/>
            <a:ext cx="155412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07120" y="1170000"/>
            <a:ext cx="175716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54320" y="258840"/>
            <a:ext cx="4392720" cy="936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HG正楷書体-PRO"/>
              </a:rPr>
              <a:t>わっしょい土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～だてにまたせたわけじゃねぇ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66760" y="1560600"/>
            <a:ext cx="649440" cy="144144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1441440"/>
              <a:gd name="textAreaBottom" fmla="*/ 1409760 h 1441440"/>
            </a:gdLst>
            <a:ahLst/>
            <a:rect l="textAreaLeft" t="textAreaTop" r="textAreaRight" b="textAreaBottom"/>
            <a:pathLst>
              <a:path w="21600" h="47927">
                <a:moveTo>
                  <a:pt x="3600" y="0"/>
                </a:moveTo>
                <a:arcTo wR="3600" hR="3600" stAng="16200000" swAng="-5400000"/>
                <a:lnTo>
                  <a:pt x="0" y="44327"/>
                </a:lnTo>
                <a:arcTo wR="3600" hR="3600" stAng="10800000" swAng="-5400000"/>
                <a:lnTo>
                  <a:pt x="18000" y="479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方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71440" y="3139920"/>
            <a:ext cx="649440" cy="357372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3573720"/>
              <a:gd name="textAreaBottom" fmla="*/ 3542040 h 3573720"/>
            </a:gdLst>
            <a:ahLst/>
            <a:rect l="textAreaLeft" t="textAreaTop" r="textAreaRight" b="textAreaBottom"/>
            <a:pathLst>
              <a:path w="21600" h="118806">
                <a:moveTo>
                  <a:pt x="3600" y="0"/>
                </a:moveTo>
                <a:arcTo wR="3600" hR="3600" stAng="16200000" swAng="-5400000"/>
                <a:lnTo>
                  <a:pt x="0" y="115206"/>
                </a:lnTo>
                <a:arcTo wR="3600" hR="3600" stAng="10800000" swAng="-5400000"/>
                <a:lnTo>
                  <a:pt x="18000" y="11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重点整備計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3211560"/>
            <a:ext cx="51116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わっしょいプロジェク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1280" y="2851200"/>
            <a:ext cx="0" cy="433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64000" y="2851200"/>
            <a:ext cx="0" cy="433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91280" y="2851200"/>
            <a:ext cx="0" cy="433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重点整備計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92280"/>
            <a:ext cx="133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00720" y="1341360"/>
          <a:ext cx="4330440" cy="35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341360"/>
                    <a:ext cx="433044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3535560" cy="3162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08000" y="1557360"/>
            <a:ext cx="93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現在の問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65280" y="1557360"/>
            <a:ext cx="266400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齢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69960" y="2000160"/>
            <a:ext cx="266400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中心市街地の衰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6840" y="2976480"/>
            <a:ext cx="137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考慮すべき可能性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52680" y="3003480"/>
            <a:ext cx="28908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中心部にマンション建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71840" y="3408480"/>
            <a:ext cx="792000" cy="358560"/>
          </a:xfrm>
          <a:prstGeom prst="downArrow">
            <a:avLst>
              <a:gd name="adj1" fmla="val 61120"/>
              <a:gd name="adj2" fmla="val 52653"/>
            </a:avLst>
          </a:prstGeom>
          <a:solidFill>
            <a:srgbClr val="33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63840" y="3768840"/>
            <a:ext cx="28908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中心部の人口が増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69960" y="2436840"/>
            <a:ext cx="266400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緑地･公園が少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54120" y="4275000"/>
            <a:ext cx="289080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まちづくりに参加意欲のある住民たちの存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69960" y="5095800"/>
            <a:ext cx="28908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歴史的建造物の存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69960" y="5580000"/>
            <a:ext cx="28908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工業集積地区・物流拠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6165720"/>
            <a:ext cx="680400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れらの有効活用　＝　土浦を元気にする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2924280"/>
            <a:ext cx="4464000" cy="3097080"/>
          </a:xfrm>
          <a:prstGeom prst="wedgeRectCallout">
            <a:avLst>
              <a:gd name="adj1" fmla="val -3023"/>
              <a:gd name="adj2" fmla="val 62046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4724280"/>
            <a:ext cx="36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05</a:t>
            </a: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25</a:t>
            </a: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の土浦市年代別人口の推移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25</a:t>
            </a: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は推定値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単位：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4797360"/>
            <a:ext cx="3745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市と周辺市町村の一人当たり後援面積の比較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H17</a:t>
            </a: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(</a:t>
            </a: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単位：㎡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人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341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基本構想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25520" y="260280"/>
            <a:ext cx="6357960" cy="6413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1153800">
            <a:off x="3657600" y="2796840"/>
            <a:ext cx="1295280" cy="196848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4754880" y="1639080"/>
            <a:ext cx="744480" cy="1631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2916000" y="4797360"/>
            <a:ext cx="93528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22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基本構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13200" y="1630440"/>
            <a:ext cx="1225440" cy="122544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住民参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1627200"/>
            <a:ext cx="1225800" cy="122544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産業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も元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8320" y="1630440"/>
            <a:ext cx="1225800" cy="122544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資源活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99280" y="5300640"/>
            <a:ext cx="2089080" cy="13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神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神立工業わっしょ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5300640"/>
            <a:ext cx="1800360" cy="13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中心市街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5300640"/>
            <a:ext cx="2160720" cy="13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荒川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荒川沖流通わっしょ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71440" y="231840"/>
            <a:ext cx="649440" cy="122400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40699">
                <a:moveTo>
                  <a:pt x="3600" y="0"/>
                </a:moveTo>
                <a:arcTo wR="3600" hR="3600" stAng="16200000" swAng="-5400000"/>
                <a:lnTo>
                  <a:pt x="0" y="37099"/>
                </a:lnTo>
                <a:arcTo wR="3600" hR="3600" stAng="10800000" swAng="-5400000"/>
                <a:lnTo>
                  <a:pt x="18000" y="40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将来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560" y="1195560"/>
            <a:ext cx="0" cy="431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752640" y="1170000"/>
            <a:ext cx="155412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07120" y="1170000"/>
            <a:ext cx="175716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89480" y="3932280"/>
            <a:ext cx="0" cy="1368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89480" y="3932280"/>
            <a:ext cx="1800000" cy="1368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89480" y="3932280"/>
            <a:ext cx="1656000" cy="1368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348000" y="4292640"/>
            <a:ext cx="3979800" cy="771480"/>
            <a:chOff x="3348000" y="4292640"/>
            <a:chExt cx="3979800" cy="77148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3348000" y="4292640"/>
              <a:ext cx="397980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284720" y="43657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HGP創英角ｺﾞｼｯｸUB"/>
                </a:rPr>
                <a:t>地域特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154320" y="258840"/>
            <a:ext cx="4392720" cy="936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HG正楷書体-PRO"/>
              </a:rPr>
              <a:t>わっしょい土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～だてにまたせたわけじゃねぇ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66760" y="1560600"/>
            <a:ext cx="649440" cy="144144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1441440"/>
              <a:gd name="textAreaBottom" fmla="*/ 1409760 h 1441440"/>
            </a:gdLst>
            <a:ahLst/>
            <a:rect l="textAreaLeft" t="textAreaTop" r="textAreaRight" b="textAreaBottom"/>
            <a:pathLst>
              <a:path w="21600" h="47927">
                <a:moveTo>
                  <a:pt x="3600" y="0"/>
                </a:moveTo>
                <a:arcTo wR="3600" hR="3600" stAng="16200000" swAng="-5400000"/>
                <a:lnTo>
                  <a:pt x="0" y="44327"/>
                </a:lnTo>
                <a:arcTo wR="3600" hR="3600" stAng="10800000" swAng="-5400000"/>
                <a:lnTo>
                  <a:pt x="18000" y="479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方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71440" y="3139920"/>
            <a:ext cx="649440" cy="357372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3573720"/>
              <a:gd name="textAreaBottom" fmla="*/ 3542040 h 3573720"/>
            </a:gdLst>
            <a:ahLst/>
            <a:rect l="textAreaLeft" t="textAreaTop" r="textAreaRight" b="textAreaBottom"/>
            <a:pathLst>
              <a:path w="21600" h="118806">
                <a:moveTo>
                  <a:pt x="3600" y="0"/>
                </a:moveTo>
                <a:arcTo wR="3600" hR="3600" stAng="16200000" swAng="-5400000"/>
                <a:lnTo>
                  <a:pt x="0" y="115206"/>
                </a:lnTo>
                <a:arcTo wR="3600" hR="3600" stAng="10800000" swAng="-5400000"/>
                <a:lnTo>
                  <a:pt x="18000" y="11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重点整備計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0360" y="3211560"/>
            <a:ext cx="51116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わっしょいプロジェク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1280" y="2851200"/>
            <a:ext cx="0" cy="433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2851200"/>
            <a:ext cx="0" cy="433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91280" y="2851200"/>
            <a:ext cx="0" cy="433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プロジェク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981000"/>
            <a:ext cx="51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「わっしょいトレイル」と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484280"/>
            <a:ext cx="7993080" cy="86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土浦の自然と歴史と文化をつなぐ歩行者の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242100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プロジェクトの方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96920" y="2857680"/>
            <a:ext cx="3403800" cy="30502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歩道の拡幅・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景観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ルート沿いの緑地公園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中心市街地の通過交通を減ら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道をきっかけに住民がまちづくりに参加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3280" y="4076640"/>
            <a:ext cx="64800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51480" y="2986200"/>
            <a:ext cx="25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64000" y="2852640"/>
            <a:ext cx="3564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中心市街地の資源を結び、人の動線を形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0" y="3860640"/>
            <a:ext cx="35640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資源同士の相乗効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4508640"/>
            <a:ext cx="356400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トレイル周辺にゆとりある都市空間を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重点整備計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4000" y="5516640"/>
            <a:ext cx="356400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住民主体のまちづく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c0c0"/>
                </a:solidFill>
                <a:latin typeface="Arial"/>
                <a:ea typeface="HGP創英角ｺﾞｼｯｸUB"/>
              </a:rPr>
              <a:t>重点整備計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4859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わっしょいトレイ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92280"/>
            <a:ext cx="51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計画路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771640" y="765000"/>
            <a:ext cx="5607360" cy="5616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323200" y="4352760"/>
            <a:ext cx="558720" cy="1079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08000" y="1773360"/>
            <a:ext cx="251928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中心部を重点的に囲み、さらに郊外部へ延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3068640"/>
            <a:ext cx="2376360" cy="1008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郊外部のわっしょいトレイルはりんりんロードや霞ヶ浦サイクリングロードも活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5373720"/>
            <a:ext cx="1650960" cy="690480"/>
          </a:xfrm>
          <a:prstGeom prst="borderCallout1">
            <a:avLst>
              <a:gd name="adj1" fmla="val 18750"/>
              <a:gd name="adj2" fmla="val -8333"/>
              <a:gd name="adj3" fmla="val -272643"/>
              <a:gd name="adj4" fmla="val 106828"/>
            </a:avLst>
          </a:prstGeom>
          <a:blipFill rotWithShape="0">
            <a:blip r:embed="rId3">
              <a:alphaModFix amt="48000"/>
            </a:blip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アイランド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32720" y="692280"/>
            <a:ext cx="2160360" cy="690480"/>
          </a:xfrm>
          <a:prstGeom prst="borderCallout1">
            <a:avLst>
              <a:gd name="adj1" fmla="val 18750"/>
              <a:gd name="adj2" fmla="val -8333"/>
              <a:gd name="adj3" fmla="val 318620"/>
              <a:gd name="adj4" fmla="val -18296"/>
            </a:avLst>
          </a:prstGeom>
          <a:blipFill rotWithShape="0">
            <a:blip r:embed="rId4">
              <a:alphaModFix amt="48000"/>
            </a:blip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土浦駅西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わっしょいプログラ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907920"/>
            <a:ext cx="2158920" cy="690840"/>
          </a:xfrm>
          <a:prstGeom prst="borderCallout1">
            <a:avLst>
              <a:gd name="adj1" fmla="val 18750"/>
              <a:gd name="adj2" fmla="val -8333"/>
              <a:gd name="adj3" fmla="val 203449"/>
              <a:gd name="adj4" fmla="val 138162"/>
            </a:avLst>
          </a:prstGeom>
          <a:blipFill rotWithShape="0">
            <a:blip r:embed="rId5">
              <a:alphaModFix amt="48000"/>
            </a:blip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旧水戸街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わっしょいプログラ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32360" y="1989000"/>
            <a:ext cx="1008000" cy="792360"/>
          </a:xfrm>
          <a:prstGeom prst="ellipse">
            <a:avLst/>
          </a:prstGeom>
          <a:noFill/>
          <a:ln w="763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0360" y="2565360"/>
            <a:ext cx="647640" cy="576360"/>
          </a:xfrm>
          <a:prstGeom prst="ellipse">
            <a:avLst/>
          </a:prstGeom>
          <a:noFill/>
          <a:ln w="763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32720" y="2852640"/>
            <a:ext cx="1224000" cy="1008000"/>
          </a:xfrm>
          <a:prstGeom prst="ellipse">
            <a:avLst/>
          </a:prstGeom>
          <a:noFill/>
          <a:ln w="763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690600">
            <a:off x="5001840" y="3247920"/>
            <a:ext cx="1197000" cy="439920"/>
          </a:xfrm>
          <a:prstGeom prst="ellipse">
            <a:avLst/>
          </a:prstGeom>
          <a:noFill/>
          <a:ln w="763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59280" y="4076640"/>
            <a:ext cx="1800000" cy="690480"/>
          </a:xfrm>
          <a:prstGeom prst="borderCallout1">
            <a:avLst>
              <a:gd name="adj1" fmla="val 18750"/>
              <a:gd name="adj2" fmla="val -8333"/>
              <a:gd name="adj3" fmla="val -85287"/>
              <a:gd name="adj4" fmla="val 138361"/>
            </a:avLst>
          </a:prstGeom>
          <a:blipFill rotWithShape="0">
            <a:blip r:embed="rId6">
              <a:alphaModFix amt="48000"/>
            </a:blip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桜川“よいまち”プログラ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95 0.13542 C -0.06077 0.12778 -0.05816 0.1213 -0.05695 0.11273 C -0.05729 0.10671 -0.05747 0.1007 -0.05816 0.09468 C -0.05834 0.09306 -0.05938 0.0912 -0.05938 0.08982 C -0.05938 0.08333 -0.05625 0.07894 -0.05452 0.07361 C -0.05104 0.0632 -0.04844 0.05394 -0.04219 0.04607 C -0.04132 0.04259 -0.04063 0.03958 -0.03976 0.03634 C -0.03941 0.03472 -0.03854 0.03148 -0.03854 0.03148 C -0.03889 0.02431 -0.03889 0.0169 -0.03976 0.01019 C -0.04115 -0.00139 -0.04879 -0.00972 -0.05452 -0.01736 C -0.05677 -0.02037 -0.05938 -0.02315 -0.06181 -0.02546 C -0.06407 -0.02778 -0.0691 -0.03194 -0.0691 -0.03194 C -0.07188 -0.04375 -0.06719 -0.05393 -0.06424 -0.06458 C -0.06372 -0.06667 -0.06354 -0.06898 -0.06302 -0.07106 C -0.06233 -0.0743 -0.06059 -0.08079 -0.06059 -0.08079 C -0.06129 -0.10347 -0.06198 -0.1213 -0.06424 -0.14259 C -0.06493 -0.14954 -0.06563 -0.15625 -0.07032 -0.16042 C -0.07882 -0.16805 -0.08976 -0.16898 -0.09966 -0.17037 C -0.13663 -0.16967 -0.17361 -0.16944 -0.21059 -0.16852 C -0.22674 -0.16805 -0.24219 -0.1625 -0.25816 -0.16042 C -0.26875 -0.1618 -0.27917 -0.16319 -0.28854 -0.17037 C -0.30018 -0.17893 -0.30955 -0.19236 -0.32153 -0.19954 C -0.3382 -0.20949 -0.35295 -0.20532 -0.37275 -0.20602 C -0.37934 -0.20741 -0.38577 -0.21111 -0.39219 -0.2125 C -0.40799 -0.21597 -0.42396 -0.22014 -0.43733 -0.23194 C -0.44132 -0.24051 -0.44323 -0.24375 -0.43611 -0.25 C -0.42743 -0.26713 -0.41111 -0.27708 -0.39844 -0.28889 C -0.39219 -0.29467 -0.38611 -0.30208 -0.37882 -0.30532 C -0.36719 -0.32083 -0.38212 -0.30231 -0.37153 -0.3118 C -0.37014 -0.31296 -0.36927 -0.31551 -0.36788 -0.31667 C -0.36684 -0.31759 -0.36528 -0.31736 -0.36424 -0.31829 C -0.36163 -0.32014 -0.35955 -0.32292 -0.35695 -0.32477 C -0.35538 -0.32592 -0.35365 -0.32685 -0.35209 -0.32801 C -0.35122 -0.32963 -0.35087 -0.33194 -0.34966 -0.33287 C -0.3474 -0.33472 -0.34219 -0.33611 -0.34219 -0.33611 C -0.33455 -0.34282 -0.32657 -0.34722 -0.3191 -0.35393 C -0.31632 -0.35648 -0.31181 -0.36366 -0.31181 -0.36366 C -0.30851 -0.37708 -0.3132 -0.36065 -0.30816 -0.37199 C -0.30486 -0.37963 -0.30261 -0.38842 -0.29966 -0.3963 C -0.29757 -0.40185 -0.29601 -0.41412 -0.29601 -0.41412 C -0.29688 -0.41574 -0.29722 -0.41782 -0.29844 -0.41898 C -0.29948 -0.42014 -0.30122 -0.41944 -0.30209 -0.4206 C -0.30295 -0.42176 -0.30243 -0.42407 -0.3033 -0.42546 C -0.30729 -0.43241 -0.31424 -0.4419 -0.3191 -0.44838 C -0.32327 -0.46528 -0.32413 -0.47824 -0.32032 -0.49861 C -0.31962 -0.50255 -0.31302 -0.50532 -0.31302 -0.50532 C -0.31198 -0.50509 -0.30243 -0.50463 -0.29966 -0.50185 C -0.29254 -0.49467 -0.28629 -0.48588 -0.27882 -0.47917 C -0.27448 -0.4706 -0.27743 -0.47569 -0.2691 -0.46458 C -0.26702 -0.4618 -0.2658 -0.4581 -0.26424 -0.45486 C -0.26094 -0.44815 -0.25764 -0.44583 -0.2533 -0.4419 C -0.25018 -0.43565 -0.2467 -0.43009 -0.24341 -0.42384 C -0.24167 -0.42037 -0.23802 -0.41898 -0.23611 -0.41574 C -0.23038 -0.40579 -0.22813 -0.39491 -0.22518 -0.38333 C -0.22657 -0.35208 -0.22413 -0.36435 -0.22882 -0.34583 C -0.23282 -0.33009 -0.22639 -0.3544 -0.23247 -0.33449 C -0.23334 -0.33125 -0.2349 -0.32477 -0.2349 -0.32477 C -0.23403 -0.31505 -0.23577 -0.31204 -0.23004 -0.30694 C -0.22691 -0.30417 -0.22153 -0.30347 -0.21788 -0.30185 C -0.21545 -0.30069 -0.21059 -0.29861 -0.21059 -0.29861 C -0.20504 -0.2875 -0.2066 -0.29259 -0.20452 -0.28403 C -0.20295 -0.26551 -0.20643 -0.27222 -0.19601 -0.26296 C -0.19462 -0.26157 -0.19271 -0.26204 -0.19097 -0.26134 C -0.18854 -0.26042 -0.18368 -0.2581 -0.18368 -0.2581 C -0.17639 -0.25856 -0.1691 -0.2588 -0.16181 -0.25972 C -0.15677 -0.26042 -0.15886 -0.2625 -0.15452 -0.2662 C -0.14705 -0.27292 -0.13768 -0.27685 -0.12882 -0.27917 C -0.1217 -0.2787 -0.10695 -0.27986 -0.09844 -0.2743 C -0.09445 -0.27176 -0.09288 -0.26805 -0.08854 -0.2662 C -0.08507 -0.26157 -0.08229 -0.25625 -0.07882 -0.25162 C -0.07795 -0.24838 -0.07726 -0.24514 -0.07639 -0.2419 C -0.07084 -0.21944 -0.09497 -0.21273 -0.10573 -0.21088 C -0.10938 -0.21018 -0.11302 -0.20995 -0.11667 -0.20926 C -0.11875 -0.2088 -0.12066 -0.2081 -0.12275 -0.20764 C -0.15 -0.2088 -0.15521 -0.21088 -0.17761 -0.20764 C -0.18941 -0.20602 -0.20122 -0.20185 -0.21302 -0.19954 C -0.21858 -0.19699 -0.22431 -0.1956 -0.23004 -0.19305 C -0.2316 -0.19236 -0.23334 -0.19213 -0.2349 -0.19143 C -0.23733 -0.19051 -0.24219 -0.18819 -0.24219 -0.18819 C -0.24705 -0.18217 -0.24827 -0.17662 -0.24097 -0.17361 C -0.23438 -0.16782 -0.23368 -0.16852 -0.22518 -0.17037 C -0.2092 -0.17755 -0.22535 -0.17569 -0.19219 -0.17361 C -0.1592 -0.16921 -0.13195 -0.16944 -0.09601 -0.16852 C -0.08907 -0.16805 -0.08212 -0.16805 -0.07518 -0.1669 C -0.07257 -0.16643 -0.06788 -0.16366 -0.06788 -0.16366 C -0.0665 -0.15833 -0.06181 -0.14907 -0.06181 -0.14907 C -0.05799 -0.1287 -0.0599 -0.11018 -0.06059 -0.08889 C -0.06025 -0.07268 -0.06007 -0.05648 -0.05938 -0.04028 C -0.05903 -0.03148 -0.05452 -0.02268 -0.0533 -0.01412 C -0.05157 -0.00255 -0.05243 -0.0088 -0.05087 0.00533 C -0.05226 0.02245 -0.05313 0.04259 -0.06059 0.05741 C -0.06181 0.06389 -0.0632 0.07014 -0.06424 0.07685 C -0.06389 0.09306 -0.06372 0.10949 -0.06302 0.1257 C -0.06285 0.13056 -0.06059 0.13542 -0.05695 0.13542 Z">
                                      <p:cBhvr>
                                        <p:cTn id="222" dur="5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95 0.13542 C -0.05643 0.11875 -0.05678 0.10208 -0.05539 0.08542 C -0.05521 0.08287 -0.05226 0.08171 -0.05226 0.07917 C -0.05157 0.05532 -0.04844 0.02801 -0.06164 0.01042 C -0.06355 0.000229999999999999 -0.06858 -0.00671 -0.07101 -0.01667 C -0.06962 -0.05579 -0.06737 -0.09398 -0.07101 -0.13333 C -0.07223 -0.14653 -0.08872 -0.15394 -0.09601 -0.15833 C -0.09896 -0.16019 -0.10226 -0.16111 -0.10539 -0.1625 C -0.10695 -0.16319 -0.11007 -0.16458 -0.11007 -0.16458 C -0.12518 -0.16389 -0.14028 -0.16366 -0.15539 -0.1625 C -0.17257 -0.16134 -0.18889 -0.15139 -0.20539 -0.14583 C -0.21285 -0.13912 -0.20712 -0.14329 -0.21632 -0.13958 C -0.21945 -0.13843 -0.2257 -0.13542 -0.2257 -0.13542 C -0.25938 -0.1375 -0.26198 -0.13588 -0.28664 -0.15417 C -0.29567 -0.16088 -0.30608 -0.16944 -0.31476 -0.17708 C -0.31771 -0.17963 -0.32587 -0.18727 -0.32882 -0.1875 C -0.35539 -0.18935 -0.38195 -0.18889 -0.40851 -0.18958 C -0.41164 -0.19097 -0.41563 -0.19074 -0.41789 -0.19375 C -0.42257 -0.2 -0.42414 -0.20556 -0.43039 -0.20833 C -0.43143 -0.21042 -0.43212 -0.21273 -0.43351 -0.21458 C -0.4349 -0.21644 -0.43698 -0.2169 -0.4382 -0.21875 C -0.43942 -0.2206 -0.44376 -0.23449 -0.44445 -0.2375 C -0.44376 -0.24514 -0.44497 -0.2544 -0.44132 -0.26042 C -0.42813 -0.28287 -0.40903 -0.28935 -0.38976 -0.29792 C -0.38803 -0.29861 -0.38681 -0.30116 -0.38507 -0.30208 C -0.38212 -0.30394 -0.37882 -0.30486 -0.3757 -0.30625 C -0.37205 -0.30787 -0.36997 -0.31296 -0.36632 -0.31458 C -0.35817 -0.31829 -0.35001 -0.3206 -0.34289 -0.32708 C -0.34185 -0.32917 -0.33976 -0.33079 -0.33976 -0.33333 C -0.33976 -0.33657 -0.34671 -0.34421 -0.34757 -0.34583 C -0.35452 -0.35787 -0.35869 -0.37106 -0.36476 -0.38333 C -0.36216 -0.40764 -0.36042 -0.40023 -0.33976 -0.39792 C -0.32639 -0.3919 -0.34653 -0.40278 -0.33195 -0.38333 C -0.32101 -0.36875 -0.32344 -0.35856 -0.31789 -0.34375 C -0.31615 -0.33935 -0.31372 -0.33542 -0.31164 -0.33125 C -0.30764 -0.32315 -0.30938 -0.32106 -0.30226 -0.31458 C -0.29688 -0.30394 -0.29132 -0.29375 -0.28195 -0.28958 C -0.25591 -0.29213 -0.25278 -0.29352 -0.22414 -0.29167 C -0.21285 -0.26921 -0.21876 -0.25162 -0.22101 -0.21875 C -0.22136 -0.21412 -0.22466 -0.21065 -0.2257 -0.20625 C -0.22483 -0.19792 -0.22605 -0.18819 -0.22257 -0.18125 C -0.22153 -0.17894 -0.21528 -0.175 -0.2132 -0.175 C -0.18299 -0.17361 -0.15278 -0.17361 -0.12257 -0.17292 C -0.11442 -0.16921 -0.10573 -0.17037 -0.09757 -0.16667 C -0.08803 -0.14745 -0.08473 -0.12477 -0.08195 -0.10208 C -0.08143 -0.07708 -0.08178 -0.05208 -0.08039 -0.02708 C -0.08021 -0.02269 -0.0783 -0.01875 -0.07726 -0.01458 C -0.07518 -0.00648 -0.07379 0.00278 -0.07101 0.01042 C -0.06685 0.02153 -0.06146 0.03194 -0.05851 0.04375 C -0.05712 0.06481 -0.05365 0.08194 -0.0507 0.10208 C -0.05244 0.13056 -0.04844 0.12037 -0.05695 0.13542 Z">
                                      <p:cBhvr>
                                        <p:cTn id="257" dur="5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3:19:05Z</dcterms:created>
  <dc:creator>arai40</dc:creator>
  <dc:description/>
  <dc:language>en-US</dc:language>
  <cp:lastModifiedBy> azami</cp:lastModifiedBy>
  <dcterms:modified xsi:type="dcterms:W3CDTF">2006-01-27T01:38:22Z</dcterms:modified>
  <cp:revision>107</cp:revision>
  <dc:subject/>
  <dc:title>わっしょい土浦</dc:title>
</cp:coreProperties>
</file>