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31.png" ContentType="image/png"/>
  <Override PartName="/ppt/media/image27.wmf" ContentType="image/x-wmf"/>
  <Override PartName="/ppt/media/image26.wmf" ContentType="image/x-wmf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18.jpeg" ContentType="image/jpeg"/>
  <Override PartName="/ppt/media/image15.png" ContentType="image/png"/>
  <Override PartName="/ppt/media/image17.wmf" ContentType="image/x-wmf"/>
  <Override PartName="/ppt/media/image6.jpeg" ContentType="image/jpeg"/>
  <Override PartName="/ppt/media/image10.png" ContentType="image/png"/>
  <Override PartName="/ppt/media/image30.wmf" ContentType="image/x-wmf"/>
  <Override PartName="/ppt/media/image12.png" ContentType="image/png"/>
  <Override PartName="/ppt/media/image34.jpeg" ContentType="image/jpeg"/>
  <Override PartName="/ppt/media/image36.png" ContentType="image/png"/>
  <Override PartName="/ppt/media/image37.wmf" ContentType="image/x-wmf"/>
  <Override PartName="/ppt/media/image33.wmf" ContentType="image/x-wmf"/>
  <Override PartName="/ppt/media/image13.png" ContentType="image/png"/>
  <Override PartName="/ppt/media/image40.jpeg" ContentType="image/jpeg"/>
  <Override PartName="/ppt/media/image7.jpeg" ContentType="image/jpeg"/>
  <Override PartName="/ppt/media/image38.jpeg" ContentType="image/jpeg"/>
  <Override PartName="/ppt/media/image41.jpeg" ContentType="image/jpeg"/>
  <Override PartName="/ppt/media/image42.png" ContentType="image/png"/>
  <Override PartName="/ppt/media/image20.png" ContentType="image/png"/>
  <Override PartName="/ppt/media/image2.jpeg" ContentType="image/jpeg"/>
  <Override PartName="/ppt/media/image9.jpeg" ContentType="image/jpeg"/>
  <Override PartName="/ppt/media/image23.wmf" ContentType="image/x-wmf"/>
  <Override PartName="/ppt/media/image43.png" ContentType="image/png"/>
  <Override PartName="/ppt/media/image39.jpeg" ContentType="image/jpeg"/>
  <Override PartName="/ppt/media/image8.jpeg" ContentType="image/jpeg"/>
  <Override PartName="/ppt/media/image11.wmf" ContentType="image/x-wmf"/>
  <Override PartName="/ppt/media/image5.jpeg" ContentType="image/jpeg"/>
  <Override PartName="/ppt/media/image4.jpeg" ContentType="image/jpeg"/>
  <Override PartName="/ppt/media/image25.jpeg" ContentType="image/jpeg"/>
  <Override PartName="/ppt/media/image28.wmf" ContentType="image/x-wmf"/>
  <Override PartName="/ppt/media/image3.jpeg" ContentType="image/jpeg"/>
  <Override PartName="/ppt/media/image16.jpeg" ContentType="image/jpeg"/>
  <Override PartName="/ppt/media/image35.wmf" ContentType="image/x-wmf"/>
  <Override PartName="/ppt/media/image14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0F48-19A9-4C98-89CB-13C1D1FA1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CA68-DAE2-47AE-9523-1566AF80F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2E75-B97E-49EA-A398-073F9457D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DADF-A974-48F6-853B-A73196390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D606-EC06-4CE1-8003-47B3E5099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786B-07D2-47C4-A41E-817327450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4F6F-6DDC-402C-B943-B607FBBA2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59DA-78F5-4BC7-8622-A378C3FD5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8AD1-1AD8-492A-882F-5A8960EFC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C567-CA71-461F-9BE0-334828FC3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7023-59C5-4CF7-BB28-6C828367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547B-474F-4C9B-ABCC-15B76692C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5A1E7-60DE-40ED-A589-A65E33D990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image" Target="../media/image23.wmf"/><Relationship Id="rId4" Type="http://schemas.openxmlformats.org/officeDocument/2006/relationships/package" Target="../embeddings/oleObject1.xlsx"/><Relationship Id="rId5" Type="http://schemas.openxmlformats.org/officeDocument/2006/relationships/image" Target="../media/image24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jpeg"/><Relationship Id="rId3" Type="http://schemas.openxmlformats.org/officeDocument/2006/relationships/image" Target="../media/image4.jpeg"/><Relationship Id="rId4" Type="http://schemas.openxmlformats.org/officeDocument/2006/relationships/image" Target="../media/image7.jpeg"/><Relationship Id="rId5" Type="http://schemas.openxmlformats.org/officeDocument/2006/relationships/image" Target="../media/image25.jpeg"/><Relationship Id="rId6" Type="http://schemas.openxmlformats.org/officeDocument/2006/relationships/image" Target="../media/image26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jpeg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4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.jpeg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8.jpeg"/><Relationship Id="rId5" Type="http://schemas.openxmlformats.org/officeDocument/2006/relationships/image" Target="../media/image33.wm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pn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jpeg"/><Relationship Id="rId3" Type="http://schemas.openxmlformats.org/officeDocument/2006/relationships/package" Target="../embeddings/oleObject1.xls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image" Target="../media/image14.wmf"/><Relationship Id="rId4" Type="http://schemas.openxmlformats.org/officeDocument/2006/relationships/image" Target="../media/image4.jpe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jpeg"/><Relationship Id="rId3" Type="http://schemas.openxmlformats.org/officeDocument/2006/relationships/image" Target="../media/image13.png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.jpeg"/><Relationship Id="rId3" Type="http://schemas.openxmlformats.org/officeDocument/2006/relationships/image" Target="../media/image18.jpeg"/><Relationship Id="rId4" Type="http://schemas.openxmlformats.org/officeDocument/2006/relationships/image" Target="../media/image19.wmf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1.jpeg"/><Relationship Id="rId3" Type="http://schemas.openxmlformats.org/officeDocument/2006/relationships/image" Target="../media/image4.jpeg"/><Relationship Id="rId4" Type="http://schemas.openxmlformats.org/officeDocument/2006/relationships/image" Target="../media/image9.jpeg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55640" y="1916280"/>
            <a:ext cx="795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6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わっしょい土浦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8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都市計画マスタープラン策定実習　第</a:t>
            </a:r>
            <a:r>
              <a:rPr b="0" lang="en-US" sz="18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回中間発表　　　　　</a:t>
            </a:r>
            <a:r>
              <a:rPr b="0" lang="en-US" sz="18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2005/12/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2000" y="4292640"/>
            <a:ext cx="47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２班　　班長　　　：浅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36880" y="4713120"/>
            <a:ext cx="47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班員　　　：新井　樺嶋　田中　古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6040" y="514512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ＴＡ　　　：神田　伸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268360" y="2060640"/>
            <a:ext cx="2087640" cy="1368360"/>
          </a:xfrm>
          <a:prstGeom prst="irregularSeal1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740720" y="5022720"/>
            <a:ext cx="1834920" cy="18352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-541440" y="-100080"/>
            <a:ext cx="1979640" cy="19796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403280" y="0"/>
            <a:ext cx="4321080" cy="1152360"/>
          </a:xfrm>
          <a:prstGeom prst="cloudCallout">
            <a:avLst>
              <a:gd name="adj1" fmla="val -64291"/>
              <a:gd name="adj2" fmla="val -64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やっぱりつまんない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もっと遊べる公園とか、欲しいなあ･･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580000" y="508464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創英角ﾎﾟｯﾌﾟ体"/>
                <a:ea typeface="HGP創英角ｺﾞｼｯｸUB"/>
              </a:rPr>
              <a:t>お店は確かに少ないわよね。寂しい感じがするわ。まあウララにあるからいいんだけど･･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796000" y="0"/>
            <a:ext cx="334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c0c0"/>
                </a:solidFill>
                <a:latin typeface="Arial"/>
                <a:ea typeface="HGP創英角ｺﾞｼｯｸUB"/>
              </a:rPr>
              <a:t>駅前の商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87280" y="3284640"/>
            <a:ext cx="24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創英角ﾎﾟｯﾌﾟ体"/>
                <a:ea typeface="HGP創英角ｺﾞｼｯｸUB"/>
              </a:rPr>
              <a:t>売り上げ高の推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042920" y="1413000"/>
            <a:ext cx="6408720" cy="171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7" name=""/>
          <p:cNvGraphicFramePr/>
          <p:nvPr/>
        </p:nvGraphicFramePr>
        <p:xfrm>
          <a:off x="324000" y="3819600"/>
          <a:ext cx="5171760" cy="30384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4000" y="3819600"/>
                    <a:ext cx="5171760" cy="30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343640" y="2997360"/>
            <a:ext cx="1800360" cy="1800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-324000" y="1413000"/>
            <a:ext cx="2448000" cy="24476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476360" y="3429000"/>
            <a:ext cx="5904000" cy="431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-468360" y="-171360"/>
            <a:ext cx="1763640" cy="17636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971640" y="189000"/>
            <a:ext cx="3816360" cy="647640"/>
          </a:xfrm>
          <a:prstGeom prst="wedgeRoundRectCallout">
            <a:avLst>
              <a:gd name="adj1" fmla="val -58527"/>
              <a:gd name="adj2" fmla="val -2230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おじいちゃんは農業をしています。おばあちゃんも手伝ってい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0" y="4410000"/>
            <a:ext cx="2448000" cy="2448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476360" y="1773360"/>
            <a:ext cx="431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レンコンを栽培しているよ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土浦のレンコンは収穫量日本一じゃ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763640" y="5157720"/>
            <a:ext cx="67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私たち２人とももう年をとってしまって、収穫などの作業はつらいので、忙しい時期は息子たちにも手伝ってもらっていま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後を継いでくれるのかしら・・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5608800" y="0"/>
            <a:ext cx="3535200" cy="26510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7612200" y="0"/>
            <a:ext cx="153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c0c0"/>
                </a:solidFill>
                <a:latin typeface="Arial"/>
                <a:ea typeface="HGP創英角ｺﾞｼｯｸUB"/>
              </a:rPr>
              <a:t>農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1763640" y="2781360"/>
            <a:ext cx="5184720" cy="20890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7846920" y="3500280"/>
            <a:ext cx="129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わたしのことね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5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732720" y="4221000"/>
            <a:ext cx="2906640" cy="29070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08000" cy="1908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332000" y="260280"/>
            <a:ext cx="69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土浦市のほかの農業がどうなっているかって？では教えよ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612200" y="0"/>
            <a:ext cx="153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c0c0"/>
                </a:solidFill>
                <a:latin typeface="Arial"/>
                <a:ea typeface="HGP創英角ｺﾞｼｯｸUB"/>
              </a:rPr>
              <a:t>農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1692360" y="907920"/>
            <a:ext cx="4824360" cy="21607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1403280" y="3429000"/>
            <a:ext cx="4969080" cy="32274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6732720" y="3284640"/>
            <a:ext cx="2233440" cy="1512720"/>
          </a:xfrm>
          <a:prstGeom prst="wedgeRoundRectCallout">
            <a:avLst>
              <a:gd name="adj1" fmla="val 3731"/>
              <a:gd name="adj2" fmla="val 79694"/>
              <a:gd name="adj3" fmla="val 16667"/>
            </a:avLst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農地を放棄する人がいる一方で、耕地面積を拡大する農家が増えているよう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-601560" y="549360"/>
            <a:ext cx="2303280" cy="23032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7612200" y="0"/>
            <a:ext cx="153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c0c0"/>
                </a:solidFill>
                <a:latin typeface="Arial"/>
                <a:ea typeface="HGP創英角ｺﾞｼｯｸUB"/>
              </a:rPr>
              <a:t>医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76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おばあちゃんは週に１度、協同病院へ通院しています。持病の薬をもらっているそう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00000" y="907920"/>
            <a:ext cx="439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創英角ﾎﾟｯﾌﾟ体"/>
                <a:ea typeface="HGP創英角ｺﾞｼｯｸUB"/>
              </a:rPr>
              <a:t>家が僻地だから仕方ないんだけど、いつも行くのが大変でねえ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創英角ﾎﾟｯﾌﾟ体"/>
                <a:ea typeface="HGP創英角ｺﾞｼｯｸUB"/>
              </a:rPr>
              <a:t>バスもいつも走っている訳じゃあないし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創英角ﾎﾟｯﾌﾟ体"/>
                <a:ea typeface="HGP創英角ｺﾞｼｯｸUB"/>
              </a:rPr>
              <a:t>息子夫婦は共働きだから送ってもらうこともできないし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34800" y="2924280"/>
            <a:ext cx="387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創英角ﾎﾟｯﾌﾟ体"/>
                <a:ea typeface="HGP創英角ｺﾞｼｯｸUB"/>
              </a:rPr>
              <a:t>市内路線バスの利用者推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79280" y="3141720"/>
            <a:ext cx="4464000" cy="30304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77840" y="6237360"/>
            <a:ext cx="4895640" cy="433440"/>
          </a:xfrm>
          <a:prstGeom prst="roundRect">
            <a:avLst>
              <a:gd name="adj" fmla="val 16667"/>
            </a:avLst>
          </a:prstGeom>
          <a:solidFill>
            <a:srgbClr val="66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車が運転できないと移動しづらいみたい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5003640" y="907920"/>
            <a:ext cx="4140360" cy="40338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5580000" y="4941720"/>
            <a:ext cx="3132360" cy="43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高齢化が本格化してき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484360" y="476280"/>
            <a:ext cx="4095720" cy="57880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900000" y="260280"/>
            <a:ext cx="64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土浦市の病院分布とゾーンごとの診療所数のようす</a:t>
            </a: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0920" y="422100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もっと駅前に住んだ方が便利なのかねえ･･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612200" y="0"/>
            <a:ext cx="153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c0c0"/>
                </a:solidFill>
                <a:latin typeface="Arial"/>
                <a:ea typeface="HGP創英角ｺﾞｼｯｸUB"/>
              </a:rPr>
              <a:t>医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7927920" y="5578560"/>
            <a:ext cx="1403280" cy="14032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211640" y="6165720"/>
            <a:ext cx="3889440" cy="576360"/>
          </a:xfrm>
          <a:prstGeom prst="wedgeRoundRectCallout">
            <a:avLst>
              <a:gd name="adj1" fmla="val 55101"/>
              <a:gd name="adj2" fmla="val -7617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お医者さんがないと困るよね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病院は田中医院が一番だよ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588000" y="2276640"/>
            <a:ext cx="2305080" cy="16570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郊外部には診療所・病院ともに少ない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179280" y="2276640"/>
            <a:ext cx="1979640" cy="19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020000" y="4653000"/>
            <a:ext cx="2547720" cy="25480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-181080" y="-100080"/>
            <a:ext cx="1979640" cy="19796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7612200" y="0"/>
            <a:ext cx="153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c0c0"/>
                </a:solidFill>
                <a:latin typeface="Arial"/>
                <a:ea typeface="HGP創英角ｺﾞｼｯｸUB"/>
              </a:rPr>
              <a:t>学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258920" y="2133720"/>
            <a:ext cx="720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そうそう、近所のおばさんが、昔はもっと子どもの数が多くて、登校班ももっとあったのよと言っていまし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今は子どもの数が少なくてさびしいそうで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1763640" y="3141720"/>
            <a:ext cx="4319640" cy="334476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940360" y="3573360"/>
            <a:ext cx="3059280" cy="1008000"/>
          </a:xfrm>
          <a:prstGeom prst="wedgeRoundRectCallout">
            <a:avLst>
              <a:gd name="adj1" fmla="val -4435"/>
              <a:gd name="adj2" fmla="val 112833"/>
              <a:gd name="adj3" fmla="val 16667"/>
            </a:avLst>
          </a:prstGeom>
          <a:solidFill>
            <a:srgbClr val="cc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子どもの人数は減少傾向にあり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学校施設の余剰も問題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79280" y="3716280"/>
            <a:ext cx="1727280" cy="180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土浦市の</a:t>
            </a: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14</a:t>
            </a:r>
            <a:r>
              <a:rPr b="0" lang="zh-CN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歳人口の推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332000" y="189000"/>
            <a:ext cx="619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ぼくは毎朝近所の友達と集団登校で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この間知らないおじさんがぼくたちのことをずっとみてまし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ぶっそうな世の中です。こわいなあ･･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68360" y="4292640"/>
            <a:ext cx="2835360" cy="28353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-324000" y="-171360"/>
            <a:ext cx="1979640" cy="19796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116000" y="189000"/>
            <a:ext cx="3816360" cy="360360"/>
          </a:xfrm>
          <a:prstGeom prst="wedgeRoundRectCallout">
            <a:avLst>
              <a:gd name="adj1" fmla="val -56365"/>
              <a:gd name="adj2" fmla="val -3546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お母さんはパートで働いてい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6659640" y="765000"/>
            <a:ext cx="2700360" cy="27003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187280" y="836640"/>
            <a:ext cx="648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近所のスーパーで昼間だけ働いていま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その間は下の子を保育所に預けています。最近は保育所がどこもいっぱいで、申し込むのが大変だった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働くお母さんは多いのにね。</a:t>
            </a: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64000" y="242100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土浦市の保育所の現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732720" y="4653000"/>
            <a:ext cx="3238200" cy="32385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7308720" y="5157720"/>
            <a:ext cx="1366920" cy="504720"/>
          </a:xfrm>
          <a:prstGeom prst="wedgeRoundRectCallout">
            <a:avLst>
              <a:gd name="adj1" fmla="val -7259"/>
              <a:gd name="adj2" fmla="val 8805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銀行！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それはバンク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2340000" y="2637000"/>
            <a:ext cx="5040360" cy="34225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7612200" y="0"/>
            <a:ext cx="153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c0c0"/>
                </a:solidFill>
                <a:latin typeface="Arial"/>
                <a:ea typeface="HGP創英角ｺﾞｼｯｸUB"/>
              </a:rPr>
              <a:t>育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0920" y="3429000"/>
            <a:ext cx="2087640" cy="1512720"/>
          </a:xfrm>
          <a:prstGeom prst="wedgeRoundRectCallout">
            <a:avLst>
              <a:gd name="adj1" fmla="val 17606"/>
              <a:gd name="adj2" fmla="val 82949"/>
              <a:gd name="adj3" fmla="val 16667"/>
            </a:avLst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最近は保育児童数が定員を上回り、保育園はパンク状態といっていいでしょ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050920" cy="20509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547640" y="620640"/>
            <a:ext cx="25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女性就業者数の推移</a:t>
            </a: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612200" y="0"/>
            <a:ext cx="153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c0c0"/>
                </a:solidFill>
                <a:latin typeface="HGP創英角ｺﾞｼｯｸUB"/>
                <a:ea typeface="HGP創英角ｺﾞｼｯｸUB"/>
              </a:rPr>
              <a:t>育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2124000" y="549360"/>
            <a:ext cx="5929560" cy="40273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826920" y="422100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土浦市の子育て支援策</a:t>
            </a: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332000" y="4653000"/>
            <a:ext cx="6912000" cy="1739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産前・産後休暇：合計</a:t>
            </a: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14</a:t>
            </a:r>
            <a:r>
              <a:rPr b="0" lang="zh-CN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週間</a:t>
            </a: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3</a:t>
            </a:r>
            <a:r>
              <a:rPr b="0" lang="zh-CN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ヶ月半</a:t>
            </a: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母親はもちろん、父親の育児休業の支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→</a:t>
            </a:r>
            <a:r>
              <a:rPr b="0" lang="zh-CN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平成</a:t>
            </a: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1</a:t>
            </a:r>
            <a:r>
              <a:rPr b="0" lang="zh-CN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年までに育児休業・休暇等の取得率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　　　男性　</a:t>
            </a: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％</a:t>
            </a: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育児休業の場合</a:t>
            </a: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　　　　　　</a:t>
            </a: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50</a:t>
            </a:r>
            <a:r>
              <a:rPr b="0" lang="zh-CN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％（出生時における休暇の取得率を含む場合</a:t>
            </a: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　　　女性　</a:t>
            </a: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100</a:t>
            </a:r>
            <a:r>
              <a:rPr b="0" lang="zh-CN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％を目指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-396720" y="-171360"/>
            <a:ext cx="2016000" cy="20160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7612200" y="0"/>
            <a:ext cx="153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c0c0"/>
                </a:solidFill>
                <a:latin typeface="Arial"/>
                <a:ea typeface="HGP創英角ｺﾞｼｯｸUB"/>
              </a:rPr>
              <a:t>交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539640" y="2133720"/>
            <a:ext cx="3887640" cy="4392360"/>
            <a:chOff x="539640" y="2133720"/>
            <a:chExt cx="3887640" cy="4392360"/>
          </a:xfrm>
        </p:grpSpPr>
        <p:sp>
          <p:nvSpPr>
            <p:cNvPr id="203" name=""/>
            <p:cNvSpPr/>
            <p:nvPr/>
          </p:nvSpPr>
          <p:spPr>
            <a:xfrm>
              <a:off x="903960" y="6126120"/>
              <a:ext cx="3523320" cy="399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000000"/>
                  </a:solidFill>
                  <a:latin typeface="ＭＳ Ｐゴシック"/>
                </a:rPr>
                <a:t>図　土浦中心市街地からの自動車交通発生量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4" name="" descr=""/>
            <p:cNvPicPr/>
            <p:nvPr/>
          </p:nvPicPr>
          <p:blipFill>
            <a:blip r:embed="rId2"/>
            <a:stretch/>
          </p:blipFill>
          <p:spPr>
            <a:xfrm>
              <a:off x="539640" y="2133720"/>
              <a:ext cx="3881520" cy="3985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5" name=""/>
          <p:cNvSpPr/>
          <p:nvPr/>
        </p:nvSpPr>
        <p:spPr>
          <a:xfrm>
            <a:off x="468360" y="16286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中心市街地からの自動車交通発生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003640" y="2133720"/>
            <a:ext cx="34560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土浦中心部からは、市内各地およびつくば市と自動車利用での結びつきが強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187280" y="189000"/>
            <a:ext cx="5472360" cy="647640"/>
          </a:xfrm>
          <a:prstGeom prst="wedgeRoundRectCallout">
            <a:avLst>
              <a:gd name="adj1" fmla="val -54643"/>
              <a:gd name="adj2" fmla="val -23527"/>
              <a:gd name="adj3" fmla="val 16667"/>
            </a:avLst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普段車で移動することが多いから、道路のことも調べてみようっと！あ、無免許だった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987800" y="3789360"/>
            <a:ext cx="3456000" cy="398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中心部から鉄道を利用した移動では、東京都や千葉県など常磐線沿線へ向かう移動に使われてい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7612200" y="0"/>
            <a:ext cx="153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c0c0"/>
                </a:solidFill>
                <a:latin typeface="HGP創英角ｺﾞｼｯｸUB"/>
                <a:ea typeface="HGP創英角ｺﾞｼｯｸUB"/>
              </a:rPr>
              <a:t>交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-181080" y="-171360"/>
            <a:ext cx="1943280" cy="19429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1116000" y="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そうね、国道６号線は混むので有名かし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059280" y="105264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土浦市の道路の状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539640" y="1700280"/>
            <a:ext cx="3427560" cy="38876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4427640" y="1557360"/>
            <a:ext cx="4392360" cy="2663640"/>
          </a:xfrm>
          <a:prstGeom prst="roundRect">
            <a:avLst>
              <a:gd name="adj" fmla="val 8523"/>
            </a:avLst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・土浦市中心部で走行速度が低く、交　　　　　　　　　　　　通が集中してい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・中心部の区間では通行量が容量を越えている区間が多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・混雑している国道</a:t>
            </a: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号線と平行している常磐自動車道では、交通量が道路容量の</a:t>
            </a: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1/2</a:t>
            </a:r>
            <a:r>
              <a:rPr b="0" lang="zh-CN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も満たしていな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・国道</a:t>
            </a: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号線と常磐自動車道がうまく連携できていないことがわかる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427640" y="5373720"/>
            <a:ext cx="4319640" cy="1268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・周辺部から土浦市中心部を起終点とした移動が多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・中心部の幹線道路の整備が遅れているため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427640" y="4437000"/>
            <a:ext cx="4392360" cy="7923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・中心部の区間では通行量が容量を越えている区間が多い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79280" y="115920"/>
            <a:ext cx="2374920" cy="52056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現在の土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9280" y="692280"/>
            <a:ext cx="4392720" cy="223776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・東京から約</a:t>
            </a: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60km</a:t>
            </a:r>
            <a:r>
              <a:rPr b="0" lang="zh-CN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に位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・常磐線の荒川沖駅、土浦駅、神立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・常磐自動車道の桜土浦ＩＣ、土浦北Ｉ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・新東京国際空港に約</a:t>
            </a: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40k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・</a:t>
            </a:r>
            <a:r>
              <a:rPr b="0" lang="zh-CN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つくば研究学園都市に隣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9280" y="3933720"/>
            <a:ext cx="3240360" cy="52056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首都圏業務核都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9280" y="4797360"/>
            <a:ext cx="3816360" cy="45972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霞ヶ浦などの多くの自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0920" y="6093000"/>
            <a:ext cx="7199280" cy="58140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平成</a:t>
            </a:r>
            <a:r>
              <a:rPr b="0" lang="en-US" sz="3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18</a:t>
            </a:r>
            <a:r>
              <a:rPr b="0" lang="zh-CN" sz="3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月に新治村と合併予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649760" y="981000"/>
            <a:ext cx="4384800" cy="45370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7612200" y="0"/>
            <a:ext cx="153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c0c0"/>
                </a:solidFill>
                <a:latin typeface="HGP創英角ｺﾞｼｯｸUB"/>
                <a:ea typeface="HGP創英角ｺﾞｼｯｸUB"/>
              </a:rPr>
              <a:t>概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4768920"/>
            <a:ext cx="2089080" cy="20890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5796000" y="0"/>
            <a:ext cx="334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c0c0"/>
                </a:solidFill>
                <a:latin typeface="Arial"/>
                <a:ea typeface="HGP創英角ｺﾞｼｯｸUB"/>
              </a:rPr>
              <a:t>観光・祭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-181080" y="0"/>
            <a:ext cx="1763640" cy="17636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042920" y="115920"/>
            <a:ext cx="61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明日は霞ヶ浦マラソンの日です！お父さんがはりきっています。応援してるからね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5724360" y="1341360"/>
            <a:ext cx="2919600" cy="21956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79280" y="1628640"/>
            <a:ext cx="554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ぼくはやっぱり花火大会がいちばんすきだな！！うちから見えるんだよ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4"/>
          <a:stretch/>
        </p:blipFill>
        <p:spPr>
          <a:xfrm>
            <a:off x="5580000" y="1844640"/>
            <a:ext cx="2849760" cy="43927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116000" y="1125360"/>
            <a:ext cx="38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ぼくも来年は出てみようかな･･･腰痛が心配だなあ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5"/>
          <a:stretch/>
        </p:blipFill>
        <p:spPr>
          <a:xfrm>
            <a:off x="5508720" y="2852640"/>
            <a:ext cx="3062160" cy="2176560"/>
          </a:xfrm>
          <a:prstGeom prst="rect">
            <a:avLst/>
          </a:prstGeom>
          <a:ln w="0">
            <a:noFill/>
          </a:ln>
        </p:spPr>
      </p:pic>
      <p:grpSp>
        <p:nvGrpSpPr>
          <p:cNvPr id="226" name=""/>
          <p:cNvGrpSpPr/>
          <p:nvPr/>
        </p:nvGrpSpPr>
        <p:grpSpPr>
          <a:xfrm>
            <a:off x="395280" y="4005360"/>
            <a:ext cx="1872720" cy="1152360"/>
            <a:chOff x="395280" y="4005360"/>
            <a:chExt cx="1872720" cy="1152360"/>
          </a:xfrm>
        </p:grpSpPr>
        <p:sp>
          <p:nvSpPr>
            <p:cNvPr id="227" name=""/>
            <p:cNvSpPr/>
            <p:nvPr/>
          </p:nvSpPr>
          <p:spPr>
            <a:xfrm>
              <a:off x="395280" y="4005360"/>
              <a:ext cx="1872720" cy="1152360"/>
            </a:xfrm>
            <a:prstGeom prst="wedgeRoundRectCallout">
              <a:avLst>
                <a:gd name="adj1" fmla="val -41976"/>
                <a:gd name="adj2" fmla="val 80027"/>
                <a:gd name="adj3" fmla="val 1666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71240" y="4149360"/>
              <a:ext cx="1796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HGP創英角ｺﾞｼｯｸUB"/>
                  <a:ea typeface="HGP創英角ｺﾞｼｯｸUB"/>
                </a:rPr>
                <a:t>他にも土浦にはたくさんのお祭りがあります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29" name=""/>
          <p:cNvGraphicFramePr/>
          <p:nvPr/>
        </p:nvGraphicFramePr>
        <p:xfrm>
          <a:off x="2340000" y="2637000"/>
          <a:ext cx="2808360" cy="3624120"/>
        </p:xfrm>
        <a:graphic>
          <a:graphicData uri="http://schemas.openxmlformats.org/drawingml/2006/table">
            <a:tbl>
              <a:tblPr/>
              <a:tblGrid>
                <a:gridCol w="1639800"/>
                <a:gridCol w="1168560"/>
              </a:tblGrid>
              <a:tr h="270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主なイベント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開催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土浦の雛まつり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2/19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～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3/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土浦桜まつり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3/20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～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4/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霞ヶ浦マラソ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4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7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土浦さつきまつり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5/20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～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5/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土浦祇園まつり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7/22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～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7/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観光帆曳船運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7/21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～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0/16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　　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土浦キララまつり２００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8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月上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土浦全国花火競技大会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0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月第１土曜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土浦薪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土浦市産業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0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5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6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土浦菊まつり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１１月上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土浦藩關流炮術公開演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１１月６日（日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-252360" y="-171360"/>
            <a:ext cx="1763640" cy="17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547640" y="836640"/>
            <a:ext cx="56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土浦の良いところ・まと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7740720" y="4383000"/>
            <a:ext cx="2475000" cy="2475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508720" y="5589720"/>
            <a:ext cx="2158920" cy="718920"/>
          </a:xfrm>
          <a:prstGeom prst="wedgeRoundRectCallout">
            <a:avLst>
              <a:gd name="adj1" fmla="val 68675"/>
              <a:gd name="adj2" fmla="val -30134"/>
              <a:gd name="adj3" fmla="val 16667"/>
            </a:avLst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そう、土浦にはいいところがいっぱいなのよ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84360" y="1484280"/>
            <a:ext cx="7272360" cy="3600360"/>
          </a:xfrm>
          <a:custGeom>
            <a:avLst/>
            <a:gdLst>
              <a:gd name="textAreaLeft" fmla="*/ 909000 w 7272360"/>
              <a:gd name="textAreaRight" fmla="*/ 6363360 w 7272360"/>
              <a:gd name="textAreaTop" fmla="*/ 0 h 3600360"/>
              <a:gd name="textAreaBottom" fmla="*/ 3294360 h 3600360"/>
            </a:gdLst>
            <a:ahLst/>
            <a:rect l="textAreaLeft" t="textAreaTop" r="textAreaRight" b="textAreaBottom"/>
            <a:pathLst>
              <a:path w="21600" h="21600">
                <a:moveTo>
                  <a:pt x="5400" y="19764"/>
                </a:moveTo>
                <a:lnTo>
                  <a:pt x="5400" y="21141"/>
                </a:lnTo>
                <a:cubicBezTo>
                  <a:pt x="5400" y="21371"/>
                  <a:pt x="4980" y="21600"/>
                  <a:pt x="4560" y="21600"/>
                </a:cubicBezTo>
                <a:lnTo>
                  <a:pt x="0" y="21600"/>
                </a:lnTo>
                <a:lnTo>
                  <a:pt x="2750" y="11718"/>
                </a:lnTo>
                <a:lnTo>
                  <a:pt x="0" y="1836"/>
                </a:lnTo>
                <a:lnTo>
                  <a:pt x="2700" y="1836"/>
                </a:lnTo>
                <a:lnTo>
                  <a:pt x="2700" y="459"/>
                </a:lnTo>
                <a:cubicBezTo>
                  <a:pt x="2700" y="230"/>
                  <a:pt x="3120" y="0"/>
                  <a:pt x="3540" y="0"/>
                </a:cubicBezTo>
                <a:lnTo>
                  <a:pt x="18060" y="0"/>
                </a:lnTo>
                <a:cubicBezTo>
                  <a:pt x="18480" y="0"/>
                  <a:pt x="18900" y="230"/>
                  <a:pt x="18900" y="459"/>
                </a:cubicBezTo>
                <a:lnTo>
                  <a:pt x="18900" y="1836"/>
                </a:lnTo>
                <a:lnTo>
                  <a:pt x="21600" y="1836"/>
                </a:lnTo>
                <a:lnTo>
                  <a:pt x="18850" y="11718"/>
                </a:lnTo>
                <a:lnTo>
                  <a:pt x="21600" y="21600"/>
                </a:lnTo>
                <a:lnTo>
                  <a:pt x="17040" y="21600"/>
                </a:lnTo>
                <a:cubicBezTo>
                  <a:pt x="16620" y="21600"/>
                  <a:pt x="16200" y="21371"/>
                  <a:pt x="16200" y="21141"/>
                </a:cubicBezTo>
                <a:lnTo>
                  <a:pt x="16200" y="19764"/>
                </a:lnTo>
                <a:close/>
              </a:path>
              <a:path fill="darkenLess" w="21600" h="21600">
                <a:moveTo>
                  <a:pt x="5400" y="19764"/>
                </a:moveTo>
                <a:lnTo>
                  <a:pt x="5400" y="21141"/>
                </a:lnTo>
                <a:cubicBezTo>
                  <a:pt x="5400" y="20912"/>
                  <a:pt x="4980" y="20682"/>
                  <a:pt x="4560" y="20682"/>
                </a:cubicBezTo>
                <a:lnTo>
                  <a:pt x="3540" y="20682"/>
                </a:lnTo>
                <a:cubicBezTo>
                  <a:pt x="3120" y="20682"/>
                  <a:pt x="2700" y="20453"/>
                  <a:pt x="2700" y="20223"/>
                </a:cubicBezTo>
                <a:cubicBezTo>
                  <a:pt x="2700" y="19994"/>
                  <a:pt x="3120" y="19764"/>
                  <a:pt x="3540" y="19764"/>
                </a:cubicBezTo>
                <a:close/>
              </a:path>
              <a:path fill="darkenLess" w="21600" h="21600">
                <a:moveTo>
                  <a:pt x="16200" y="19764"/>
                </a:moveTo>
                <a:lnTo>
                  <a:pt x="16200" y="21141"/>
                </a:lnTo>
                <a:cubicBezTo>
                  <a:pt x="16200" y="20912"/>
                  <a:pt x="16620" y="20682"/>
                  <a:pt x="17040" y="20682"/>
                </a:cubicBezTo>
                <a:lnTo>
                  <a:pt x="18060" y="20682"/>
                </a:lnTo>
                <a:cubicBezTo>
                  <a:pt x="18480" y="20682"/>
                  <a:pt x="18900" y="20453"/>
                  <a:pt x="18900" y="20223"/>
                </a:cubicBezTo>
                <a:cubicBezTo>
                  <a:pt x="18900" y="19994"/>
                  <a:pt x="18480" y="19764"/>
                  <a:pt x="18060" y="19764"/>
                </a:cubicBezTo>
                <a:close/>
              </a:path>
              <a:path fill="darkenLess" w="21600" h="21600">
                <a:moveTo>
                  <a:pt x="2700" y="20223"/>
                </a:moveTo>
                <a:lnTo>
                  <a:pt x="2700" y="1836"/>
                </a:lnTo>
              </a:path>
              <a:path fill="darkenLess" w="21600" h="21600">
                <a:moveTo>
                  <a:pt x="18900" y="20223"/>
                </a:moveTo>
                <a:lnTo>
                  <a:pt x="18900" y="1836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・東京から約</a:t>
            </a:r>
            <a:r>
              <a:rPr b="0" i="1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60</a:t>
            </a:r>
            <a:r>
              <a:rPr b="0" i="1" lang="zh-CN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ｋｍと比較的近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・駅が</a:t>
            </a:r>
            <a:r>
              <a:rPr b="0" i="1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3</a:t>
            </a:r>
            <a:r>
              <a:rPr b="0" i="1" lang="zh-CN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つ、ＩＣが</a:t>
            </a:r>
            <a:r>
              <a:rPr b="0" i="1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</a:t>
            </a:r>
            <a:r>
              <a:rPr b="0" i="1" lang="zh-CN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つ立地しているの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で交通の便がい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・霞ヶ浦、筑波山など自然が豊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・レンコンの生産量が日本１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・お祭りなどイベントが多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187280" y="189000"/>
            <a:ext cx="5329440" cy="360360"/>
          </a:xfrm>
          <a:prstGeom prst="wedgeRoundRectCallout">
            <a:avLst>
              <a:gd name="adj1" fmla="val -54763"/>
              <a:gd name="adj2" fmla="val -2421"/>
              <a:gd name="adj3" fmla="val 16667"/>
            </a:avLst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へえ～、土浦っていいところがたくさんあるんだ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539640" y="1628640"/>
            <a:ext cx="8064720" cy="2448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HGS創英角ｺﾞｼｯｸUB"/>
                <a:ea typeface="HGS創英角ｺﾞｼｯｸUB"/>
              </a:rPr>
              <a:t>社会的背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a</a:t>
            </a:r>
            <a:r>
              <a:rPr b="0" lang="zh-CN" sz="40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）自動車社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b</a:t>
            </a:r>
            <a:r>
              <a:rPr b="0" lang="zh-CN" sz="40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）少子高齢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140360" y="4292640"/>
            <a:ext cx="865080" cy="79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556000" y="5157720"/>
            <a:ext cx="151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42920" y="5229360"/>
            <a:ext cx="8893080" cy="1295280"/>
          </a:xfrm>
          <a:prstGeom prst="roundRect">
            <a:avLst>
              <a:gd name="adj" fmla="val 16667"/>
            </a:avLst>
          </a:prstGeom>
          <a:solidFill>
            <a:srgbClr val="280e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社会基盤整備の遅れ</a:t>
            </a:r>
            <a:r>
              <a:rPr b="0" lang="en-US" sz="3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(</a:t>
            </a:r>
            <a:r>
              <a:rPr b="0" lang="zh-CN" sz="3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政策・道路・福祉</a:t>
            </a:r>
            <a:r>
              <a:rPr b="0" lang="en-US" sz="3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260280"/>
            <a:ext cx="53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土浦の問題点のまと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0360" y="274680"/>
            <a:ext cx="89647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社会基盤整備の遅れが引き起こす問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4000" y="1628640"/>
            <a:ext cx="8353440" cy="1440000"/>
          </a:xfrm>
          <a:prstGeom prst="roundRect">
            <a:avLst>
              <a:gd name="adj" fmla="val 16667"/>
            </a:avLst>
          </a:prstGeom>
          <a:solidFill>
            <a:srgbClr val="280e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HG創英角ｺﾞｼｯｸUB"/>
              </a:rPr>
              <a:t>公共交通の利用者の減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HG創英角ｺﾞｼｯｸUB"/>
              </a:rPr>
              <a:t>　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G創英角ｺﾞｼｯｸUB"/>
              </a:rPr>
              <a:t>市内バスの利用者、駅の乗客数の減少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24000" y="5157720"/>
            <a:ext cx="8353440" cy="1440000"/>
          </a:xfrm>
          <a:prstGeom prst="roundRect">
            <a:avLst>
              <a:gd name="adj" fmla="val 16667"/>
            </a:avLst>
          </a:prstGeom>
          <a:solidFill>
            <a:srgbClr val="280e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HG創英角ｺﾞｼｯｸUB"/>
              </a:rPr>
              <a:t>都市の郊外化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HG創英角ｺﾞｼｯｸUB"/>
              </a:rPr>
              <a:t>　　ロードサイドショップの増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4000" y="3284640"/>
            <a:ext cx="8353440" cy="1655640"/>
          </a:xfrm>
          <a:prstGeom prst="roundRect">
            <a:avLst>
              <a:gd name="adj" fmla="val 16667"/>
            </a:avLst>
          </a:prstGeom>
          <a:solidFill>
            <a:srgbClr val="280e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HG創英角ｺﾞｼｯｸUB"/>
              </a:rPr>
              <a:t>中心市街地の衰退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HG創英角ｺﾞｼｯｸUB"/>
              </a:rPr>
              <a:t>　　西友、小網屋、丸井などの撤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HG創英角ｺﾞｼｯｸUB"/>
              </a:rPr>
              <a:t>　　シャッター通りの増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49417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162000" y="836640"/>
            <a:ext cx="8820000" cy="10810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HGP創英角ｺﾞｼｯｸUB"/>
                <a:ea typeface="HGP創英角ｺﾞｼｯｸUB"/>
              </a:rPr>
              <a:t>住民みんなと祭り気分で活気あるまちをつくってい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rot="20992200">
            <a:off x="2916000" y="188640"/>
            <a:ext cx="1873080" cy="720720"/>
          </a:xfrm>
          <a:prstGeom prst="wedgeEllipseCallout">
            <a:avLst>
              <a:gd name="adj1" fmla="val 19458"/>
              <a:gd name="adj2" fmla="val 98791"/>
            </a:avLst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楽し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01480" y="5516640"/>
            <a:ext cx="810108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HGP創英角ｺﾞｼｯｸUB"/>
              </a:rPr>
              <a:t>～だてに待たせたわけじゃない～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HGP創英角ｺﾞｼｯｸUB"/>
              <a:ea typeface="HGP創英角ｺﾞｼｯｸUB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1114560" y="3789360"/>
            <a:ext cx="6913440" cy="1584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ff9933"/>
                    </a:gs>
                  </a:gsLst>
                  <a:lin ang="8100000"/>
                </a:gradFill>
                <a:latin typeface="HGP創英角ｺﾞｼｯｸUB"/>
              </a:rPr>
              <a:t>わっしょい　土浦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3300"/>
                  </a:gs>
                  <a:gs pos="100000">
                    <a:srgbClr val="ff9933"/>
                  </a:gs>
                </a:gsLst>
                <a:lin ang="8100000"/>
              </a:gradFill>
              <a:latin typeface="HGP創英角ｺﾞｼｯｸUB"/>
              <a:ea typeface="HGP創英角ｺﾞｼｯｸU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1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animClr clrSpc="rgb">
                                      <p:cBhvr>
                                        <p:cTn id="209" dur="1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210" dur="1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500"/>
                            </p:stCondLst>
                            <p:childTnLst>
                              <p:par>
                                <p:cTn id="21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今後の作業・展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005360"/>
            <a:ext cx="1368360" cy="1008000"/>
          </a:xfrm>
          <a:prstGeom prst="downArrow">
            <a:avLst>
              <a:gd name="adj1" fmla="val 51741"/>
              <a:gd name="adj2" fmla="val 5260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11280" y="5013360"/>
            <a:ext cx="8136000" cy="1584360"/>
          </a:xfrm>
          <a:prstGeom prst="roundRect">
            <a:avLst>
              <a:gd name="adj" fmla="val 16667"/>
            </a:avLst>
          </a:prstGeom>
          <a:solidFill>
            <a:srgbClr val="280e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ff00"/>
                </a:solidFill>
                <a:latin typeface="Arial"/>
                <a:ea typeface="HGP創英角ｺﾞｼｯｸUB"/>
              </a:rPr>
              <a:t>わっしょい</a:t>
            </a:r>
            <a:r>
              <a:rPr b="1" lang="ja-JP" sz="4400" spc="-1" strike="noStrike">
                <a:solidFill>
                  <a:srgbClr val="ffffff"/>
                </a:solidFill>
                <a:latin typeface="Arial"/>
                <a:ea typeface="HGP創英角ｺﾞｼｯｸUB"/>
              </a:rPr>
              <a:t>土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50920" y="1630440"/>
            <a:ext cx="8569080" cy="20876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22200" y="1639800"/>
            <a:ext cx="8856720" cy="21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①</a:t>
            </a:r>
            <a:r>
              <a:rPr b="0" lang="en-US" sz="3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CUET</a:t>
            </a:r>
            <a:r>
              <a:rPr b="0" lang="zh-CN" sz="3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・</a:t>
            </a:r>
            <a:r>
              <a:rPr b="0" lang="en-US" sz="3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JICA</a:t>
            </a:r>
            <a:r>
              <a:rPr b="0" lang="zh-CN" sz="3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の未来推定からの課題と対策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地区の特性をさらに把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③</a:t>
            </a:r>
            <a:r>
              <a:rPr b="0" lang="zh-CN" sz="3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土浦市外との関連性を把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④</a:t>
            </a:r>
            <a:r>
              <a:rPr b="0" lang="zh-CN" sz="3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問題の改善とまちを盛り上げる方策の検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423160" y="5786280"/>
            <a:ext cx="429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～だてに待たせたわけじゃない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905280" y="1144440"/>
            <a:ext cx="183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1449360" y="-316080"/>
            <a:ext cx="5715000" cy="4029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2987640" y="549360"/>
            <a:ext cx="2016000" cy="2016000"/>
          </a:xfrm>
          <a:prstGeom prst="ellipse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559320" y="69228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HG行書体"/>
                <a:ea typeface="HG行書体"/>
              </a:rPr>
              <a:t>心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755640" y="4365720"/>
            <a:ext cx="2016000" cy="2016000"/>
            <a:chOff x="755640" y="4365720"/>
            <a:chExt cx="2016000" cy="2016000"/>
          </a:xfrm>
        </p:grpSpPr>
        <p:sp>
          <p:nvSpPr>
            <p:cNvPr id="261" name=""/>
            <p:cNvSpPr/>
            <p:nvPr/>
          </p:nvSpPr>
          <p:spPr>
            <a:xfrm>
              <a:off x="755640" y="4365720"/>
              <a:ext cx="2016000" cy="2016000"/>
            </a:xfrm>
            <a:prstGeom prst="ellipse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292040" y="4538520"/>
              <a:ext cx="9122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600" spc="-1" strike="noStrike">
                  <a:solidFill>
                    <a:srgbClr val="ffffff"/>
                  </a:solidFill>
                  <a:latin typeface="HG行書体"/>
                  <a:ea typeface="HG行書体"/>
                </a:rPr>
                <a:t>技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5211720" y="4365720"/>
            <a:ext cx="2016000" cy="2016000"/>
            <a:chOff x="5211720" y="4365720"/>
            <a:chExt cx="2016000" cy="2016000"/>
          </a:xfrm>
        </p:grpSpPr>
        <p:sp>
          <p:nvSpPr>
            <p:cNvPr id="264" name=""/>
            <p:cNvSpPr/>
            <p:nvPr/>
          </p:nvSpPr>
          <p:spPr>
            <a:xfrm>
              <a:off x="5211720" y="4365720"/>
              <a:ext cx="2016000" cy="2016000"/>
            </a:xfrm>
            <a:prstGeom prst="ellipse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745240" y="4498920"/>
              <a:ext cx="9122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600" spc="-1" strike="noStrike">
                  <a:solidFill>
                    <a:srgbClr val="ffffff"/>
                  </a:solidFill>
                  <a:latin typeface="HG行書体"/>
                  <a:ea typeface="HG行書体"/>
                </a:rPr>
                <a:t>体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2782440" y="573408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方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384680" y="566100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都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301720" y="162864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住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150080" y="2781360"/>
            <a:ext cx="3167640" cy="10360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土浦を知ってもらいた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土浦を好きになってもらいた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rot="1807800">
            <a:off x="2266560" y="1989000"/>
            <a:ext cx="720720" cy="2735280"/>
          </a:xfrm>
          <a:prstGeom prst="upDownArrow">
            <a:avLst>
              <a:gd name="adj1" fmla="val 50000"/>
              <a:gd name="adj2" fmla="val 75553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rot="19746000">
            <a:off x="4858920" y="1988640"/>
            <a:ext cx="720720" cy="2735280"/>
          </a:xfrm>
          <a:prstGeom prst="upDownArrow">
            <a:avLst>
              <a:gd name="adj1" fmla="val 50000"/>
              <a:gd name="adj2" fmla="val 75553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rot="5400000">
            <a:off x="3635640" y="4150440"/>
            <a:ext cx="720720" cy="2734920"/>
          </a:xfrm>
          <a:prstGeom prst="upDownArrow">
            <a:avLst>
              <a:gd name="adj1" fmla="val 50000"/>
              <a:gd name="adj2" fmla="val 75543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今後の方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539640" y="2819520"/>
            <a:ext cx="4038840" cy="403848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6156360" y="263700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684360" y="476280"/>
            <a:ext cx="795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わっしょい土浦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763640" y="3068640"/>
            <a:ext cx="50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第一章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556000" y="4365720"/>
            <a:ext cx="374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完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548800" y="2205000"/>
            <a:ext cx="38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～だてに待たせたわけじゃない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0" dur="1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21" dur="1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22" dur="1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2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2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1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32" dur="1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33" dur="1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3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3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843280" y="1052640"/>
            <a:ext cx="3238560" cy="32382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0"/>
            <a:ext cx="43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土浦市民の日常：田中家のいちに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11280" y="3619440"/>
            <a:ext cx="3238560" cy="3238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5905440" y="3357720"/>
            <a:ext cx="3238560" cy="3238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5905440" y="620640"/>
            <a:ext cx="3238560" cy="32385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3276720" y="3789360"/>
            <a:ext cx="3238560" cy="32385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11280" y="4941720"/>
            <a:ext cx="122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お母さ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651640" y="2852640"/>
            <a:ext cx="15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おばあちゃ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5877000"/>
            <a:ext cx="122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いもう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372360" y="616572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おじいちゃ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-181080" y="692280"/>
            <a:ext cx="3238560" cy="32382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763640" y="2852640"/>
            <a:ext cx="122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お父さ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92360" y="1197000"/>
            <a:ext cx="19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主人公：圭く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95640" y="404640"/>
            <a:ext cx="5689440" cy="398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圭くんはビールがだいすきな小学５年生。さて今日はなにをするのかな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74800" y="1600200"/>
            <a:ext cx="3201840" cy="4525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-181080" y="-243000"/>
            <a:ext cx="1728720" cy="17290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116000" y="189000"/>
            <a:ext cx="6192720" cy="647640"/>
          </a:xfrm>
          <a:prstGeom prst="wedgeRoundRectCallout">
            <a:avLst>
              <a:gd name="adj1" fmla="val -53921"/>
              <a:gd name="adj2" fmla="val -41912"/>
              <a:gd name="adj3" fmla="val 16667"/>
            </a:avLst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ぼくたちの住んでるまちってどんなまちなんだろう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よく知らないから調べてみようかな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84720" y="0"/>
            <a:ext cx="305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c0c0"/>
                </a:solidFill>
                <a:latin typeface="Arial"/>
                <a:ea typeface="HGP創英角ｺﾞｼｯｸUB"/>
              </a:rPr>
              <a:t>人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00720" y="1773360"/>
            <a:ext cx="4174920" cy="398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人口はここ</a:t>
            </a: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年間ほぼ横ばいで推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00720" y="2349360"/>
            <a:ext cx="4174920" cy="398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土浦駅のある市中心部よりも周囲の地区に人口が多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00720" y="4005360"/>
            <a:ext cx="417492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夜間人口より昼間人口の方が多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00720" y="4581360"/>
            <a:ext cx="417492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市外から来る人数の方が市外へ行く人数より多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427640" y="35733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また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84720" y="5373720"/>
            <a:ext cx="1079640" cy="431640"/>
          </a:xfrm>
          <a:prstGeom prst="downArrow">
            <a:avLst>
              <a:gd name="adj1" fmla="val 50000"/>
              <a:gd name="adj2" fmla="val 55148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6960" y="5905440"/>
            <a:ext cx="4824360" cy="64764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土浦市は周辺市町村の通勤・通学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0" y="2133720"/>
          <a:ext cx="4608360" cy="30286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133720"/>
                    <a:ext cx="4608360" cy="30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556000" y="907920"/>
            <a:ext cx="4025880" cy="568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084720" y="0"/>
            <a:ext cx="305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c0c0"/>
                </a:solidFill>
                <a:latin typeface="Arial"/>
                <a:ea typeface="HGP創英角ｺﾞｼｯｸUB"/>
              </a:rPr>
              <a:t>産業全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-324000" y="-171360"/>
            <a:ext cx="1979640" cy="1979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116000" y="189000"/>
            <a:ext cx="4680000" cy="576000"/>
          </a:xfrm>
          <a:prstGeom prst="wedgeRoundRectCallout">
            <a:avLst>
              <a:gd name="adj1" fmla="val -55189"/>
              <a:gd name="adj2" fmla="val -40907"/>
              <a:gd name="adj3" fmla="val 16667"/>
            </a:avLst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次は産業について調べてみました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カレーについてるやつ？それはラッキョウ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9640" y="4797360"/>
            <a:ext cx="1943280" cy="1224000"/>
          </a:xfrm>
          <a:prstGeom prst="borderCallout1">
            <a:avLst>
              <a:gd name="adj1" fmla="val 18750"/>
              <a:gd name="adj2" fmla="val -8333"/>
              <a:gd name="adj3" fmla="val -71726"/>
              <a:gd name="adj4" fmla="val 192810"/>
            </a:avLst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南中心部は土浦駅があるので第</a:t>
            </a: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次産業の就業者数が多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659640" y="4076640"/>
            <a:ext cx="2157480" cy="979560"/>
          </a:xfrm>
          <a:prstGeom prst="borderCallout1">
            <a:avLst>
              <a:gd name="adj1" fmla="val 18750"/>
              <a:gd name="adj2" fmla="val -8333"/>
              <a:gd name="adj3" fmla="val -50569"/>
              <a:gd name="adj4" fmla="val -61513"/>
            </a:avLst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東西部は農業が盛んなので第１次産業の就業者数が多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659640" y="1484280"/>
            <a:ext cx="2233440" cy="977760"/>
          </a:xfrm>
          <a:prstGeom prst="borderCallout1">
            <a:avLst>
              <a:gd name="adj1" fmla="val 18750"/>
              <a:gd name="adj2" fmla="val -8333"/>
              <a:gd name="adj3" fmla="val 106495"/>
              <a:gd name="adj4" fmla="val -86569"/>
            </a:avLst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北部には工業団地があるので第</a:t>
            </a: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次産業の就業者数が多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0" y="2914560"/>
            <a:ext cx="1763640" cy="17636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826920" y="1700280"/>
            <a:ext cx="1800360" cy="1079280"/>
          </a:xfrm>
          <a:prstGeom prst="wedgeRoundRectCallout">
            <a:avLst>
              <a:gd name="adj1" fmla="val -39768"/>
              <a:gd name="adj2" fmla="val 68384"/>
              <a:gd name="adj3" fmla="val 16667"/>
            </a:avLst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よし。じゃあまずは産業全体についてだ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877080" y="3517920"/>
            <a:ext cx="3340080" cy="33400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-252360" y="0"/>
            <a:ext cx="1393920" cy="13939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826920" y="0"/>
            <a:ext cx="69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次に土浦の工業がどうなっているか知っておこ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12200" y="0"/>
            <a:ext cx="153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c0c0"/>
                </a:solidFill>
                <a:latin typeface="Arial"/>
                <a:ea typeface="HGP創英角ｺﾞｼｯｸUB"/>
              </a:rPr>
              <a:t>工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68360" y="5373720"/>
            <a:ext cx="4608720" cy="1295280"/>
          </a:xfrm>
          <a:prstGeom prst="wedgeRoundRectCallout">
            <a:avLst>
              <a:gd name="adj1" fmla="val 61092"/>
              <a:gd name="adj2" fmla="val -50981"/>
              <a:gd name="adj3" fmla="val 16667"/>
            </a:avLst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全体の出荷額は年々減少傾向にあります。しかし一事業所当たりの出荷額は増加しているので、大規模な工場が少数立地しはじめた傾向といえ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826920" y="1628640"/>
            <a:ext cx="5364360" cy="3687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39640" y="148428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工業の出荷額等の推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8172360" y="2997360"/>
            <a:ext cx="790560" cy="790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877080" y="3068640"/>
            <a:ext cx="18716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あっ！サンタさん？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なんだ、レンコンちゃんか・・・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179280" y="5516640"/>
            <a:ext cx="1297080" cy="11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8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お母さんはいつもどこで買い物をするんだろう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181080" y="404640"/>
            <a:ext cx="2484720" cy="2484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692360" y="62064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普段は土浦ピアタウンに行っています。近いし、一気にいろいろ買えるから便利なのよ。駐車場が広いから車を停めやすいし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77080" y="0"/>
            <a:ext cx="226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c0c0"/>
                </a:solidFill>
                <a:latin typeface="Arial"/>
                <a:ea typeface="HGP創英角ｺﾞｼｯｸUB"/>
              </a:rPr>
              <a:t>買い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364000" y="1413000"/>
            <a:ext cx="3564000" cy="2673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7596360" y="4430880"/>
            <a:ext cx="2427120" cy="2427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324000" y="2852640"/>
            <a:ext cx="4752720" cy="31003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003640" y="4724280"/>
            <a:ext cx="2448000" cy="1800360"/>
          </a:xfrm>
          <a:prstGeom prst="wedgeRoundRectCallout">
            <a:avLst>
              <a:gd name="adj1" fmla="val 71662"/>
              <a:gd name="adj2" fmla="val 6347"/>
              <a:gd name="adj3" fmla="val 16667"/>
            </a:avLst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商店数の減少に対し、売り場面積は増加しています。商業店舗が少数・大規模化してきているのでしょ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172360" y="5295960"/>
            <a:ext cx="1562040" cy="15620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877080" y="0"/>
            <a:ext cx="226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c0c0"/>
                </a:solidFill>
                <a:latin typeface="Arial"/>
                <a:ea typeface="HGP創英角ｺﾞｼｯｸUB"/>
              </a:rPr>
              <a:t>買い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-468360" y="0"/>
            <a:ext cx="2484360" cy="24843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403280" y="189000"/>
            <a:ext cx="67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そうそう！今度高津の方にイオンの大きなショッピングセンターができるんですって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うちからだとちょっと遠いけど、どんなお店が入るのかしら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ドッキドキね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5724360" y="1197000"/>
            <a:ext cx="3168720" cy="21366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324000" y="3141720"/>
            <a:ext cx="3744720" cy="33116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24000" y="242100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市内の大型店舗</a:t>
            </a: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水色はロードサイドショップ</a:t>
            </a: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4572000" y="4076640"/>
            <a:ext cx="4248000" cy="11606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500720" y="3429000"/>
            <a:ext cx="424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大型店が小売業全体に占める割合</a:t>
            </a: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平成</a:t>
            </a: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14</a:t>
            </a:r>
            <a:r>
              <a:rPr b="0" lang="zh-CN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年</a:t>
            </a: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日現在</a:t>
            </a: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140360" y="5373720"/>
            <a:ext cx="4248000" cy="7920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HGP創英角ｺﾞｼｯｸUB"/>
                <a:ea typeface="HGP創英角ｺﾞｼｯｸUB"/>
              </a:rPr>
              <a:t>店舗の大型化・郊外化が進んでいる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859280" y="5229360"/>
            <a:ext cx="1763640" cy="1763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546960" y="4910040"/>
            <a:ext cx="2597040" cy="19479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796000" y="0"/>
            <a:ext cx="334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c0c0"/>
                </a:solidFill>
                <a:latin typeface="Arial"/>
                <a:ea typeface="HGP創英角ｺﾞｼｯｸUB"/>
              </a:rPr>
              <a:t>駅前の商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-324000" y="-243000"/>
            <a:ext cx="1764000" cy="1764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042920" y="11592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今日は休日です。家族で土浦セントラルシネマに映画をみにいくことになりまし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9280" y="1413000"/>
            <a:ext cx="439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せっかくなのでＷＩＮＧとウララにも行くことになりました。車はＷＩＮＧの駐車場に停めました。最近は前より駐車場がすいていて停めやすくなったそうで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ＷＩＮＧのなかは人がたくさんいまし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-252360" y="3789360"/>
            <a:ext cx="1692360" cy="16923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900000" y="458136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天気もいいし、映画を見た後ちょっと散歩していこう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5280" y="5661000"/>
            <a:ext cx="489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えぇ～ん、高校生にカツアゲされちゃったよ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覚えてろよ！お父さんどこ行ったの！！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4535640" y="981000"/>
            <a:ext cx="4608360" cy="3240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148360" y="4076640"/>
            <a:ext cx="39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創英角ﾎﾟｯﾌﾟ体"/>
                <a:ea typeface="HGP創英角ｺﾞｼｯｸUB"/>
              </a:rPr>
              <a:t>土浦駅周辺の市営駐車場の利用台数推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9T11:59:38Z</dcterms:created>
  <dc:creator>arai40</dc:creator>
  <dc:description/>
  <dc:language>en-US</dc:language>
  <cp:lastModifiedBy> azami</cp:lastModifiedBy>
  <dcterms:modified xsi:type="dcterms:W3CDTF">2005-12-22T02:44:33Z</dcterms:modified>
  <cp:revision>58</cp:revision>
  <dc:subject/>
  <dc:title>スライド 1</dc:title>
</cp:coreProperties>
</file>